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41F-A847-4ECB-8EE2-67DDFC9C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549-00A2-4F81-8B1B-4EE88506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1C8-F18C-40D0-ACA9-2C38FC37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044-E732-4870-A798-88A24937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EE17-78C5-4202-A750-8CE1E1B3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81F6-909A-4339-A3E9-F94D61A1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A2CE-5BA3-4980-BAA8-FE838C30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44E4-201F-4D7A-83F1-BA04F7C9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F9E8-B550-475B-BDEE-1BC50B47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E321-BC74-4B94-8663-B6CEAFFD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EAAF-1A69-496D-B8C7-3AF40BD8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4B9-5FF4-42EF-85AA-D6C892F2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F20B-D9AB-4DEF-A9D0-907EFB54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F86A-70C3-41B5-9F32-E7132BAE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88EA-5A71-4B8B-A4DE-DE711698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CC6A-7325-400F-BB47-69F30681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FA8B-EAD8-4A2C-BECB-7D1B0FA0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8B0-AF8E-4DDD-BE58-7E18F4FF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FE0-A793-45FA-9146-134F5949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68C-C731-43F9-A585-BDA421B3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C2C-8BC0-4134-946B-CA8CD3C2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631-2FFA-4DEB-B00D-5EA05D94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771-B994-48D3-9BF5-44B8E3EC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F3A-0C78-4136-B012-6860F7A0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EB8D-AB81-4B47-BEC0-1A02112AE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1DA1-EE7C-4D1E-B317-B94E94E17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Monday, November 17th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Simplify: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</a:t>
            </a:r>
            <a:r>
              <a:rPr b="0" lang="en-US" sz="5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(Sec</a:t>
            </a:r>
            <a:r>
              <a:rPr b="0" lang="en-US" sz="5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– 1)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3840" y="3894120"/>
            <a:ext cx="287280" cy="392040"/>
          </a:xfrm>
          <a:custGeom>
            <a:avLst/>
            <a:gdLst/>
            <a:ahLst/>
            <a:rect l="l" t="t" r="r" b="b"/>
            <a:pathLst>
              <a:path w="795" h="1092">
                <a:moveTo>
                  <a:pt x="13692" y="10864"/>
                </a:moveTo>
                <a:cubicBezTo>
                  <a:pt x="13726" y="10853"/>
                  <a:pt x="13722" y="10825"/>
                  <a:pt x="13742" y="10815"/>
                </a:cubicBezTo>
                <a:cubicBezTo>
                  <a:pt x="13750" y="10815"/>
                  <a:pt x="13759" y="10815"/>
                  <a:pt x="13767" y="10815"/>
                </a:cubicBezTo>
                <a:cubicBezTo>
                  <a:pt x="13767" y="10898"/>
                  <a:pt x="13756" y="10961"/>
                  <a:pt x="13742" y="11038"/>
                </a:cubicBezTo>
                <a:cubicBezTo>
                  <a:pt x="13729" y="11112"/>
                  <a:pt x="13756" y="11170"/>
                  <a:pt x="13767" y="11237"/>
                </a:cubicBezTo>
                <a:cubicBezTo>
                  <a:pt x="13789" y="11369"/>
                  <a:pt x="13761" y="11510"/>
                  <a:pt x="13791" y="11633"/>
                </a:cubicBezTo>
                <a:cubicBezTo>
                  <a:pt x="13801" y="11673"/>
                  <a:pt x="13804" y="11697"/>
                  <a:pt x="13816" y="11733"/>
                </a:cubicBezTo>
                <a:cubicBezTo>
                  <a:pt x="13816" y="11757"/>
                  <a:pt x="13816" y="11765"/>
                  <a:pt x="13791" y="11757"/>
                </a:cubicBezTo>
              </a:path>
              <a:path w="795" h="1092">
                <a:moveTo>
                  <a:pt x="13395" y="11435"/>
                </a:moveTo>
                <a:cubicBezTo>
                  <a:pt x="13354" y="11455"/>
                  <a:pt x="13338" y="11453"/>
                  <a:pt x="13345" y="11485"/>
                </a:cubicBezTo>
                <a:cubicBezTo>
                  <a:pt x="13404" y="11542"/>
                  <a:pt x="13379" y="11557"/>
                  <a:pt x="13419" y="11633"/>
                </a:cubicBezTo>
                <a:cubicBezTo>
                  <a:pt x="13444" y="11680"/>
                  <a:pt x="13487" y="11738"/>
                  <a:pt x="13519" y="11782"/>
                </a:cubicBezTo>
                <a:cubicBezTo>
                  <a:pt x="13530" y="11797"/>
                  <a:pt x="13588" y="11878"/>
                  <a:pt x="13593" y="11881"/>
                </a:cubicBezTo>
                <a:cubicBezTo>
                  <a:pt x="13620" y="11899"/>
                  <a:pt x="13656" y="11906"/>
                  <a:pt x="13692" y="11906"/>
                </a:cubicBezTo>
                <a:cubicBezTo>
                  <a:pt x="13732" y="11906"/>
                  <a:pt x="13721" y="11867"/>
                  <a:pt x="13742" y="11857"/>
                </a:cubicBezTo>
                <a:cubicBezTo>
                  <a:pt x="13777" y="11840"/>
                  <a:pt x="13796" y="11795"/>
                  <a:pt x="13816" y="11782"/>
                </a:cubicBezTo>
                <a:cubicBezTo>
                  <a:pt x="13857" y="11755"/>
                  <a:pt x="13920" y="11717"/>
                  <a:pt x="13965" y="11683"/>
                </a:cubicBezTo>
                <a:cubicBezTo>
                  <a:pt x="14002" y="11655"/>
                  <a:pt x="14014" y="11652"/>
                  <a:pt x="14039" y="11633"/>
                </a:cubicBezTo>
                <a:cubicBezTo>
                  <a:pt x="14076" y="11606"/>
                  <a:pt x="14089" y="11603"/>
                  <a:pt x="14114" y="11584"/>
                </a:cubicBezTo>
                <a:cubicBezTo>
                  <a:pt x="14162" y="11548"/>
                  <a:pt x="14141" y="11575"/>
                  <a:pt x="14114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43160" y="3803760"/>
            <a:ext cx="1206720" cy="992160"/>
          </a:xfrm>
          <a:custGeom>
            <a:avLst/>
            <a:gdLst/>
            <a:ahLst/>
            <a:rect l="l" t="t" r="r" b="b"/>
            <a:pathLst>
              <a:path w="3350" h="2754">
                <a:moveTo>
                  <a:pt x="9054" y="12378"/>
                </a:moveTo>
                <a:cubicBezTo>
                  <a:pt x="9061" y="12429"/>
                  <a:pt x="9062" y="12463"/>
                  <a:pt x="9103" y="12477"/>
                </a:cubicBezTo>
                <a:cubicBezTo>
                  <a:pt x="9103" y="12427"/>
                  <a:pt x="9089" y="12422"/>
                  <a:pt x="9079" y="12402"/>
                </a:cubicBezTo>
                <a:cubicBezTo>
                  <a:pt x="9055" y="12353"/>
                  <a:pt x="9035" y="12389"/>
                  <a:pt x="8979" y="12402"/>
                </a:cubicBezTo>
                <a:cubicBezTo>
                  <a:pt x="8940" y="12411"/>
                  <a:pt x="8907" y="12441"/>
                  <a:pt x="8880" y="12477"/>
                </a:cubicBezTo>
                <a:cubicBezTo>
                  <a:pt x="8836" y="12537"/>
                  <a:pt x="8769" y="12600"/>
                  <a:pt x="8756" y="12675"/>
                </a:cubicBezTo>
                <a:cubicBezTo>
                  <a:pt x="8740" y="12766"/>
                  <a:pt x="8742" y="12813"/>
                  <a:pt x="8756" y="12898"/>
                </a:cubicBezTo>
                <a:cubicBezTo>
                  <a:pt x="8774" y="13005"/>
                  <a:pt x="8796" y="13023"/>
                  <a:pt x="8855" y="13097"/>
                </a:cubicBezTo>
                <a:cubicBezTo>
                  <a:pt x="8895" y="13146"/>
                  <a:pt x="8932" y="13174"/>
                  <a:pt x="9004" y="13196"/>
                </a:cubicBezTo>
                <a:cubicBezTo>
                  <a:pt x="9041" y="13207"/>
                  <a:pt x="9143" y="13161"/>
                  <a:pt x="9178" y="13146"/>
                </a:cubicBezTo>
                <a:cubicBezTo>
                  <a:pt x="9194" y="13138"/>
                  <a:pt x="9211" y="13130"/>
                  <a:pt x="9227" y="13122"/>
                </a:cubicBezTo>
              </a:path>
              <a:path w="3350" h="2754">
                <a:moveTo>
                  <a:pt x="9451" y="12601"/>
                </a:moveTo>
                <a:cubicBezTo>
                  <a:pt x="9402" y="12681"/>
                  <a:pt x="9398" y="12714"/>
                  <a:pt x="9376" y="12799"/>
                </a:cubicBezTo>
                <a:cubicBezTo>
                  <a:pt x="9355" y="12879"/>
                  <a:pt x="9329" y="12946"/>
                  <a:pt x="9376" y="13022"/>
                </a:cubicBezTo>
                <a:cubicBezTo>
                  <a:pt x="9403" y="13066"/>
                  <a:pt x="9441" y="13137"/>
                  <a:pt x="9500" y="13146"/>
                </a:cubicBezTo>
                <a:cubicBezTo>
                  <a:pt x="9588" y="13159"/>
                  <a:pt x="9675" y="13148"/>
                  <a:pt x="9748" y="13097"/>
                </a:cubicBezTo>
                <a:cubicBezTo>
                  <a:pt x="9814" y="13051"/>
                  <a:pt x="9843" y="12999"/>
                  <a:pt x="9847" y="12923"/>
                </a:cubicBezTo>
                <a:cubicBezTo>
                  <a:pt x="9851" y="12841"/>
                  <a:pt x="9834" y="12797"/>
                  <a:pt x="9798" y="12725"/>
                </a:cubicBezTo>
                <a:cubicBezTo>
                  <a:pt x="9757" y="12644"/>
                  <a:pt x="9666" y="12611"/>
                  <a:pt x="9575" y="12601"/>
                </a:cubicBezTo>
                <a:cubicBezTo>
                  <a:pt x="9515" y="12594"/>
                  <a:pt x="9496" y="12622"/>
                  <a:pt x="9475" y="12650"/>
                </a:cubicBezTo>
                <a:cubicBezTo>
                  <a:pt x="9449" y="12685"/>
                  <a:pt x="9451" y="12682"/>
                  <a:pt x="9451" y="12725"/>
                </a:cubicBezTo>
              </a:path>
              <a:path w="3350" h="2754">
                <a:moveTo>
                  <a:pt x="10393" y="12328"/>
                </a:moveTo>
                <a:cubicBezTo>
                  <a:pt x="10393" y="12467"/>
                  <a:pt x="10401" y="12594"/>
                  <a:pt x="10418" y="12725"/>
                </a:cubicBezTo>
                <a:cubicBezTo>
                  <a:pt x="10430" y="12818"/>
                  <a:pt x="10428" y="12909"/>
                  <a:pt x="10443" y="12998"/>
                </a:cubicBezTo>
                <a:cubicBezTo>
                  <a:pt x="10453" y="13056"/>
                  <a:pt x="10476" y="13072"/>
                  <a:pt x="10492" y="13122"/>
                </a:cubicBezTo>
                <a:cubicBezTo>
                  <a:pt x="10508" y="13172"/>
                  <a:pt x="10492" y="13117"/>
                  <a:pt x="10492" y="13097"/>
                </a:cubicBezTo>
              </a:path>
              <a:path w="3350" h="2754">
                <a:moveTo>
                  <a:pt x="10120" y="12725"/>
                </a:moveTo>
                <a:cubicBezTo>
                  <a:pt x="10170" y="12738"/>
                  <a:pt x="10184" y="12750"/>
                  <a:pt x="10244" y="12750"/>
                </a:cubicBezTo>
                <a:cubicBezTo>
                  <a:pt x="10307" y="12750"/>
                  <a:pt x="10349" y="12792"/>
                  <a:pt x="10418" y="12774"/>
                </a:cubicBezTo>
                <a:cubicBezTo>
                  <a:pt x="10466" y="12751"/>
                  <a:pt x="10481" y="12743"/>
                  <a:pt x="10517" y="12750"/>
                </a:cubicBezTo>
              </a:path>
              <a:path w="3350" h="2754">
                <a:moveTo>
                  <a:pt x="10765" y="12105"/>
                </a:moveTo>
                <a:cubicBezTo>
                  <a:pt x="10898" y="12043"/>
                  <a:pt x="10847" y="12049"/>
                  <a:pt x="10939" y="12080"/>
                </a:cubicBezTo>
                <a:cubicBezTo>
                  <a:pt x="10979" y="12093"/>
                  <a:pt x="10964" y="12128"/>
                  <a:pt x="10964" y="12179"/>
                </a:cubicBezTo>
                <a:cubicBezTo>
                  <a:pt x="10964" y="12233"/>
                  <a:pt x="10956" y="12281"/>
                  <a:pt x="10939" y="12328"/>
                </a:cubicBezTo>
                <a:cubicBezTo>
                  <a:pt x="10924" y="12369"/>
                  <a:pt x="10884" y="12442"/>
                  <a:pt x="10864" y="12477"/>
                </a:cubicBezTo>
                <a:cubicBezTo>
                  <a:pt x="10832" y="12532"/>
                  <a:pt x="10827" y="12589"/>
                  <a:pt x="10864" y="12650"/>
                </a:cubicBezTo>
                <a:cubicBezTo>
                  <a:pt x="10883" y="12680"/>
                  <a:pt x="10956" y="12706"/>
                  <a:pt x="10988" y="12725"/>
                </a:cubicBezTo>
              </a:path>
              <a:path w="3350" h="2754">
                <a:moveTo>
                  <a:pt x="11559" y="12650"/>
                </a:moveTo>
                <a:cubicBezTo>
                  <a:pt x="11597" y="12758"/>
                  <a:pt x="11643" y="12924"/>
                  <a:pt x="11708" y="13022"/>
                </a:cubicBezTo>
                <a:cubicBezTo>
                  <a:pt x="11756" y="13094"/>
                  <a:pt x="11868" y="13217"/>
                  <a:pt x="11931" y="13271"/>
                </a:cubicBezTo>
                <a:cubicBezTo>
                  <a:pt x="11991" y="13322"/>
                  <a:pt x="12013" y="13324"/>
                  <a:pt x="12080" y="13295"/>
                </a:cubicBezTo>
              </a:path>
              <a:path w="3350" h="2754">
                <a:moveTo>
                  <a:pt x="11981" y="12700"/>
                </a:moveTo>
                <a:cubicBezTo>
                  <a:pt x="11894" y="12739"/>
                  <a:pt x="11828" y="12782"/>
                  <a:pt x="11757" y="12849"/>
                </a:cubicBezTo>
                <a:cubicBezTo>
                  <a:pt x="11682" y="12920"/>
                  <a:pt x="11614" y="13009"/>
                  <a:pt x="11534" y="13072"/>
                </a:cubicBezTo>
                <a:cubicBezTo>
                  <a:pt x="11493" y="13104"/>
                  <a:pt x="11410" y="13183"/>
                  <a:pt x="11361" y="13196"/>
                </a:cubicBezTo>
                <a:cubicBezTo>
                  <a:pt x="11316" y="13196"/>
                  <a:pt x="11303" y="13199"/>
                  <a:pt x="11286" y="13171"/>
                </a:cubicBezTo>
              </a:path>
              <a:path w="3350" h="2754">
                <a:moveTo>
                  <a:pt x="9475" y="10567"/>
                </a:moveTo>
                <a:cubicBezTo>
                  <a:pt x="9475" y="10671"/>
                  <a:pt x="9488" y="10767"/>
                  <a:pt x="9500" y="10864"/>
                </a:cubicBezTo>
                <a:cubicBezTo>
                  <a:pt x="9517" y="11001"/>
                  <a:pt x="9521" y="11148"/>
                  <a:pt x="9525" y="11286"/>
                </a:cubicBezTo>
                <a:cubicBezTo>
                  <a:pt x="9527" y="11359"/>
                  <a:pt x="9506" y="11984"/>
                  <a:pt x="9500" y="11981"/>
                </a:cubicBezTo>
                <a:cubicBezTo>
                  <a:pt x="9475" y="11956"/>
                  <a:pt x="9467" y="11948"/>
                  <a:pt x="9451" y="11931"/>
                </a:cubicBezTo>
              </a:path>
              <a:path w="3350" h="2754">
                <a:moveTo>
                  <a:pt x="9227" y="11733"/>
                </a:moveTo>
                <a:cubicBezTo>
                  <a:pt x="9235" y="11789"/>
                  <a:pt x="9256" y="11810"/>
                  <a:pt x="9277" y="11857"/>
                </a:cubicBezTo>
                <a:cubicBezTo>
                  <a:pt x="9301" y="11912"/>
                  <a:pt x="9342" y="11981"/>
                  <a:pt x="9376" y="12030"/>
                </a:cubicBezTo>
                <a:cubicBezTo>
                  <a:pt x="9409" y="12077"/>
                  <a:pt x="9480" y="12096"/>
                  <a:pt x="9525" y="12129"/>
                </a:cubicBezTo>
                <a:cubicBezTo>
                  <a:pt x="9567" y="12160"/>
                  <a:pt x="9582" y="12166"/>
                  <a:pt x="9624" y="12129"/>
                </a:cubicBezTo>
                <a:cubicBezTo>
                  <a:pt x="9663" y="12095"/>
                  <a:pt x="9689" y="12034"/>
                  <a:pt x="9723" y="12005"/>
                </a:cubicBezTo>
                <a:cubicBezTo>
                  <a:pt x="9782" y="11954"/>
                  <a:pt x="9841" y="11906"/>
                  <a:pt x="9897" y="11857"/>
                </a:cubicBezTo>
                <a:cubicBezTo>
                  <a:pt x="9951" y="11803"/>
                  <a:pt x="9971" y="11781"/>
                  <a:pt x="9996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54360" y="4438800"/>
            <a:ext cx="1214640" cy="473040"/>
          </a:xfrm>
          <a:custGeom>
            <a:avLst/>
            <a:gdLst/>
            <a:ahLst/>
            <a:rect l="l" t="t" r="r" b="b"/>
            <a:pathLst>
              <a:path w="3375" h="1316">
                <a:moveTo>
                  <a:pt x="13072" y="12328"/>
                </a:moveTo>
                <a:cubicBezTo>
                  <a:pt x="13072" y="12456"/>
                  <a:pt x="13064" y="12578"/>
                  <a:pt x="13047" y="12700"/>
                </a:cubicBezTo>
                <a:cubicBezTo>
                  <a:pt x="13035" y="12783"/>
                  <a:pt x="13026" y="12866"/>
                  <a:pt x="13022" y="12948"/>
                </a:cubicBezTo>
                <a:cubicBezTo>
                  <a:pt x="13019" y="13018"/>
                  <a:pt x="13002" y="13081"/>
                  <a:pt x="12998" y="13146"/>
                </a:cubicBezTo>
                <a:cubicBezTo>
                  <a:pt x="12994" y="13209"/>
                  <a:pt x="13009" y="13244"/>
                  <a:pt x="13022" y="13271"/>
                </a:cubicBezTo>
                <a:cubicBezTo>
                  <a:pt x="13022" y="13279"/>
                  <a:pt x="13022" y="13287"/>
                  <a:pt x="13022" y="13295"/>
                </a:cubicBezTo>
              </a:path>
              <a:path w="3375" h="1316">
                <a:moveTo>
                  <a:pt x="12650" y="12774"/>
                </a:moveTo>
                <a:cubicBezTo>
                  <a:pt x="12782" y="12797"/>
                  <a:pt x="12920" y="12820"/>
                  <a:pt x="13047" y="12849"/>
                </a:cubicBezTo>
                <a:cubicBezTo>
                  <a:pt x="13142" y="12871"/>
                  <a:pt x="13221" y="12874"/>
                  <a:pt x="13320" y="12874"/>
                </a:cubicBezTo>
              </a:path>
              <a:path w="3375" h="1316">
                <a:moveTo>
                  <a:pt x="13791" y="12998"/>
                </a:moveTo>
                <a:cubicBezTo>
                  <a:pt x="13791" y="12948"/>
                  <a:pt x="13800" y="12912"/>
                  <a:pt x="13767" y="12874"/>
                </a:cubicBezTo>
                <a:cubicBezTo>
                  <a:pt x="13734" y="12836"/>
                  <a:pt x="13691" y="12849"/>
                  <a:pt x="13643" y="12849"/>
                </a:cubicBezTo>
                <a:cubicBezTo>
                  <a:pt x="13620" y="12849"/>
                  <a:pt x="13555" y="12875"/>
                  <a:pt x="13543" y="12898"/>
                </a:cubicBezTo>
                <a:cubicBezTo>
                  <a:pt x="13526" y="12932"/>
                  <a:pt x="13478" y="13008"/>
                  <a:pt x="13469" y="13047"/>
                </a:cubicBezTo>
                <a:cubicBezTo>
                  <a:pt x="13458" y="13093"/>
                  <a:pt x="13424" y="13169"/>
                  <a:pt x="13444" y="13221"/>
                </a:cubicBezTo>
                <a:cubicBezTo>
                  <a:pt x="13458" y="13258"/>
                  <a:pt x="13489" y="13289"/>
                  <a:pt x="13519" y="13320"/>
                </a:cubicBezTo>
                <a:cubicBezTo>
                  <a:pt x="13549" y="13350"/>
                  <a:pt x="13596" y="13387"/>
                  <a:pt x="13643" y="13370"/>
                </a:cubicBezTo>
                <a:cubicBezTo>
                  <a:pt x="13699" y="13350"/>
                  <a:pt x="13725" y="13337"/>
                  <a:pt x="13767" y="13295"/>
                </a:cubicBezTo>
                <a:cubicBezTo>
                  <a:pt x="13808" y="13254"/>
                  <a:pt x="13821" y="13220"/>
                  <a:pt x="13841" y="13171"/>
                </a:cubicBezTo>
                <a:cubicBezTo>
                  <a:pt x="13868" y="13105"/>
                  <a:pt x="13866" y="13066"/>
                  <a:pt x="13866" y="12998"/>
                </a:cubicBezTo>
                <a:cubicBezTo>
                  <a:pt x="13866" y="12973"/>
                  <a:pt x="13866" y="12965"/>
                  <a:pt x="13866" y="12948"/>
                </a:cubicBezTo>
                <a:cubicBezTo>
                  <a:pt x="13866" y="13007"/>
                  <a:pt x="13881" y="13051"/>
                  <a:pt x="13891" y="13097"/>
                </a:cubicBezTo>
                <a:cubicBezTo>
                  <a:pt x="13908" y="13176"/>
                  <a:pt x="13897" y="13180"/>
                  <a:pt x="13940" y="13246"/>
                </a:cubicBezTo>
                <a:cubicBezTo>
                  <a:pt x="13984" y="13313"/>
                  <a:pt x="13970" y="13333"/>
                  <a:pt x="14039" y="13345"/>
                </a:cubicBezTo>
              </a:path>
              <a:path w="3375" h="1316">
                <a:moveTo>
                  <a:pt x="14163" y="12998"/>
                </a:moveTo>
                <a:cubicBezTo>
                  <a:pt x="14141" y="13073"/>
                  <a:pt x="14139" y="13118"/>
                  <a:pt x="14139" y="13196"/>
                </a:cubicBezTo>
                <a:cubicBezTo>
                  <a:pt x="14139" y="13254"/>
                  <a:pt x="14149" y="13275"/>
                  <a:pt x="14163" y="13320"/>
                </a:cubicBezTo>
                <a:cubicBezTo>
                  <a:pt x="14163" y="13345"/>
                  <a:pt x="14163" y="13353"/>
                  <a:pt x="14163" y="13370"/>
                </a:cubicBezTo>
                <a:cubicBezTo>
                  <a:pt x="14176" y="13339"/>
                  <a:pt x="14207" y="13275"/>
                  <a:pt x="14213" y="13246"/>
                </a:cubicBezTo>
                <a:cubicBezTo>
                  <a:pt x="14225" y="13191"/>
                  <a:pt x="14234" y="13127"/>
                  <a:pt x="14238" y="13072"/>
                </a:cubicBezTo>
                <a:cubicBezTo>
                  <a:pt x="14242" y="13019"/>
                  <a:pt x="14279" y="12967"/>
                  <a:pt x="14288" y="12923"/>
                </a:cubicBezTo>
                <a:cubicBezTo>
                  <a:pt x="14297" y="12877"/>
                  <a:pt x="14308" y="12823"/>
                  <a:pt x="14362" y="12799"/>
                </a:cubicBezTo>
                <a:cubicBezTo>
                  <a:pt x="14390" y="12787"/>
                  <a:pt x="14444" y="12812"/>
                  <a:pt x="14461" y="12824"/>
                </a:cubicBezTo>
                <a:cubicBezTo>
                  <a:pt x="14517" y="12861"/>
                  <a:pt x="14519" y="12923"/>
                  <a:pt x="14536" y="12973"/>
                </a:cubicBezTo>
                <a:cubicBezTo>
                  <a:pt x="14565" y="13058"/>
                  <a:pt x="14603" y="13130"/>
                  <a:pt x="14610" y="13221"/>
                </a:cubicBezTo>
                <a:cubicBezTo>
                  <a:pt x="14614" y="13281"/>
                  <a:pt x="14635" y="13329"/>
                  <a:pt x="14635" y="13395"/>
                </a:cubicBezTo>
                <a:cubicBezTo>
                  <a:pt x="14635" y="13419"/>
                  <a:pt x="14635" y="13428"/>
                  <a:pt x="14635" y="13444"/>
                </a:cubicBezTo>
                <a:cubicBezTo>
                  <a:pt x="14675" y="13431"/>
                  <a:pt x="14660" y="13426"/>
                  <a:pt x="14660" y="13370"/>
                </a:cubicBezTo>
              </a:path>
              <a:path w="3375" h="1316">
                <a:moveTo>
                  <a:pt x="14709" y="12378"/>
                </a:moveTo>
                <a:cubicBezTo>
                  <a:pt x="14718" y="12351"/>
                  <a:pt x="14727" y="12332"/>
                  <a:pt x="14759" y="12328"/>
                </a:cubicBezTo>
                <a:cubicBezTo>
                  <a:pt x="14815" y="12321"/>
                  <a:pt x="14839" y="12338"/>
                  <a:pt x="14883" y="12353"/>
                </a:cubicBezTo>
                <a:cubicBezTo>
                  <a:pt x="14907" y="12361"/>
                  <a:pt x="14994" y="12383"/>
                  <a:pt x="15007" y="12402"/>
                </a:cubicBezTo>
                <a:cubicBezTo>
                  <a:pt x="15020" y="12422"/>
                  <a:pt x="14990" y="12497"/>
                  <a:pt x="14982" y="12502"/>
                </a:cubicBezTo>
                <a:cubicBezTo>
                  <a:pt x="14957" y="12518"/>
                  <a:pt x="14941" y="12543"/>
                  <a:pt x="14908" y="12576"/>
                </a:cubicBezTo>
                <a:cubicBezTo>
                  <a:pt x="14875" y="12610"/>
                  <a:pt x="14854" y="12643"/>
                  <a:pt x="14833" y="12675"/>
                </a:cubicBezTo>
                <a:cubicBezTo>
                  <a:pt x="14825" y="12683"/>
                  <a:pt x="14816" y="12692"/>
                  <a:pt x="14808" y="12700"/>
                </a:cubicBezTo>
                <a:cubicBezTo>
                  <a:pt x="14833" y="12734"/>
                  <a:pt x="14840" y="12760"/>
                  <a:pt x="14883" y="12774"/>
                </a:cubicBezTo>
                <a:cubicBezTo>
                  <a:pt x="14913" y="12784"/>
                  <a:pt x="14953" y="12797"/>
                  <a:pt x="14982" y="12799"/>
                </a:cubicBezTo>
                <a:cubicBezTo>
                  <a:pt x="15023" y="12799"/>
                  <a:pt x="15031" y="12799"/>
                  <a:pt x="15056" y="12799"/>
                </a:cubicBezTo>
              </a:path>
              <a:path w="3375" h="1316">
                <a:moveTo>
                  <a:pt x="15429" y="12874"/>
                </a:moveTo>
                <a:cubicBezTo>
                  <a:pt x="15435" y="12965"/>
                  <a:pt x="15437" y="13047"/>
                  <a:pt x="15478" y="13122"/>
                </a:cubicBezTo>
                <a:cubicBezTo>
                  <a:pt x="15518" y="13196"/>
                  <a:pt x="15545" y="13258"/>
                  <a:pt x="15602" y="13320"/>
                </a:cubicBezTo>
                <a:cubicBezTo>
                  <a:pt x="15656" y="13378"/>
                  <a:pt x="15708" y="13431"/>
                  <a:pt x="15776" y="13469"/>
                </a:cubicBezTo>
                <a:cubicBezTo>
                  <a:pt x="15828" y="13498"/>
                  <a:pt x="15897" y="13547"/>
                  <a:pt x="15949" y="13568"/>
                </a:cubicBezTo>
                <a:cubicBezTo>
                  <a:pt x="15983" y="13582"/>
                  <a:pt x="16001" y="13560"/>
                  <a:pt x="16024" y="13543"/>
                </a:cubicBezTo>
              </a:path>
              <a:path w="3375" h="1316">
                <a:moveTo>
                  <a:pt x="15825" y="12898"/>
                </a:moveTo>
                <a:cubicBezTo>
                  <a:pt x="15764" y="12965"/>
                  <a:pt x="15716" y="13033"/>
                  <a:pt x="15652" y="13097"/>
                </a:cubicBezTo>
                <a:cubicBezTo>
                  <a:pt x="15594" y="13154"/>
                  <a:pt x="15525" y="13228"/>
                  <a:pt x="15478" y="13295"/>
                </a:cubicBezTo>
                <a:cubicBezTo>
                  <a:pt x="15406" y="13397"/>
                  <a:pt x="15370" y="13495"/>
                  <a:pt x="15280" y="13593"/>
                </a:cubicBezTo>
                <a:cubicBezTo>
                  <a:pt x="15255" y="13618"/>
                  <a:pt x="15247" y="13626"/>
                  <a:pt x="15230" y="136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7720" y="4983120"/>
            <a:ext cx="2259000" cy="1857240"/>
          </a:xfrm>
          <a:custGeom>
            <a:avLst/>
            <a:gdLst/>
            <a:ahLst/>
            <a:rect l="l" t="t" r="r" b="b"/>
            <a:pathLst>
              <a:path w="6276" h="5160">
                <a:moveTo>
                  <a:pt x="9699" y="14288"/>
                </a:moveTo>
                <a:cubicBezTo>
                  <a:pt x="9699" y="14321"/>
                  <a:pt x="9709" y="14391"/>
                  <a:pt x="9723" y="14362"/>
                </a:cubicBezTo>
                <a:cubicBezTo>
                  <a:pt x="9748" y="14311"/>
                  <a:pt x="9707" y="14231"/>
                  <a:pt x="9699" y="14213"/>
                </a:cubicBezTo>
                <a:cubicBezTo>
                  <a:pt x="9687" y="14188"/>
                  <a:pt x="9645" y="14168"/>
                  <a:pt x="9599" y="14188"/>
                </a:cubicBezTo>
                <a:cubicBezTo>
                  <a:pt x="9569" y="14201"/>
                  <a:pt x="9473" y="14262"/>
                  <a:pt x="9451" y="14288"/>
                </a:cubicBezTo>
                <a:cubicBezTo>
                  <a:pt x="9400" y="14347"/>
                  <a:pt x="9347" y="14464"/>
                  <a:pt x="9327" y="14536"/>
                </a:cubicBezTo>
                <a:cubicBezTo>
                  <a:pt x="9307" y="14607"/>
                  <a:pt x="9328" y="14694"/>
                  <a:pt x="9351" y="14759"/>
                </a:cubicBezTo>
                <a:cubicBezTo>
                  <a:pt x="9375" y="14830"/>
                  <a:pt x="9409" y="14888"/>
                  <a:pt x="9475" y="14932"/>
                </a:cubicBezTo>
                <a:cubicBezTo>
                  <a:pt x="9548" y="14980"/>
                  <a:pt x="9626" y="14959"/>
                  <a:pt x="9699" y="14932"/>
                </a:cubicBezTo>
              </a:path>
              <a:path w="6276" h="5160">
                <a:moveTo>
                  <a:pt x="9947" y="14436"/>
                </a:moveTo>
                <a:cubicBezTo>
                  <a:pt x="9937" y="14486"/>
                  <a:pt x="9913" y="14540"/>
                  <a:pt x="9897" y="14585"/>
                </a:cubicBezTo>
                <a:cubicBezTo>
                  <a:pt x="9870" y="14662"/>
                  <a:pt x="9862" y="14757"/>
                  <a:pt x="9897" y="14833"/>
                </a:cubicBezTo>
                <a:cubicBezTo>
                  <a:pt x="9920" y="14881"/>
                  <a:pt x="10002" y="14905"/>
                  <a:pt x="10046" y="14908"/>
                </a:cubicBezTo>
                <a:cubicBezTo>
                  <a:pt x="10108" y="14912"/>
                  <a:pt x="10159" y="14859"/>
                  <a:pt x="10195" y="14808"/>
                </a:cubicBezTo>
                <a:cubicBezTo>
                  <a:pt x="10241" y="14743"/>
                  <a:pt x="10244" y="14686"/>
                  <a:pt x="10244" y="14610"/>
                </a:cubicBezTo>
                <a:cubicBezTo>
                  <a:pt x="10244" y="14491"/>
                  <a:pt x="10200" y="14448"/>
                  <a:pt x="10120" y="14362"/>
                </a:cubicBezTo>
                <a:cubicBezTo>
                  <a:pt x="10097" y="14338"/>
                  <a:pt x="10062" y="14289"/>
                  <a:pt x="10021" y="14312"/>
                </a:cubicBezTo>
                <a:cubicBezTo>
                  <a:pt x="9971" y="14340"/>
                  <a:pt x="9950" y="14385"/>
                  <a:pt x="9947" y="14436"/>
                </a:cubicBezTo>
                <a:cubicBezTo>
                  <a:pt x="9942" y="14518"/>
                  <a:pt x="9960" y="14562"/>
                  <a:pt x="9996" y="14635"/>
                </a:cubicBezTo>
              </a:path>
              <a:path w="6276" h="5160">
                <a:moveTo>
                  <a:pt x="10592" y="14039"/>
                </a:moveTo>
                <a:cubicBezTo>
                  <a:pt x="10646" y="14077"/>
                  <a:pt x="10600" y="14125"/>
                  <a:pt x="10592" y="14188"/>
                </a:cubicBezTo>
                <a:cubicBezTo>
                  <a:pt x="10569" y="14374"/>
                  <a:pt x="10594" y="14581"/>
                  <a:pt x="10616" y="14759"/>
                </a:cubicBezTo>
                <a:cubicBezTo>
                  <a:pt x="10625" y="14837"/>
                  <a:pt x="10623" y="14885"/>
                  <a:pt x="10641" y="14957"/>
                </a:cubicBezTo>
                <a:cubicBezTo>
                  <a:pt x="10641" y="14965"/>
                  <a:pt x="10641" y="14974"/>
                  <a:pt x="10641" y="14982"/>
                </a:cubicBezTo>
              </a:path>
              <a:path w="6276" h="5160">
                <a:moveTo>
                  <a:pt x="10418" y="14486"/>
                </a:moveTo>
                <a:cubicBezTo>
                  <a:pt x="10470" y="14496"/>
                  <a:pt x="10518" y="14513"/>
                  <a:pt x="10567" y="14536"/>
                </a:cubicBezTo>
                <a:cubicBezTo>
                  <a:pt x="10634" y="14567"/>
                  <a:pt x="10692" y="14560"/>
                  <a:pt x="10765" y="14560"/>
                </a:cubicBezTo>
              </a:path>
              <a:path w="6276" h="5160">
                <a:moveTo>
                  <a:pt x="10939" y="13940"/>
                </a:moveTo>
                <a:cubicBezTo>
                  <a:pt x="10979" y="13900"/>
                  <a:pt x="11023" y="13826"/>
                  <a:pt x="11088" y="13841"/>
                </a:cubicBezTo>
                <a:cubicBezTo>
                  <a:pt x="11186" y="13864"/>
                  <a:pt x="11204" y="13962"/>
                  <a:pt x="11237" y="14039"/>
                </a:cubicBezTo>
                <a:cubicBezTo>
                  <a:pt x="11269" y="14116"/>
                  <a:pt x="11242" y="14231"/>
                  <a:pt x="11212" y="14312"/>
                </a:cubicBezTo>
                <a:cubicBezTo>
                  <a:pt x="11192" y="14367"/>
                  <a:pt x="11129" y="14416"/>
                  <a:pt x="11088" y="14461"/>
                </a:cubicBezTo>
                <a:cubicBezTo>
                  <a:pt x="11070" y="14482"/>
                  <a:pt x="11018" y="14503"/>
                  <a:pt x="10988" y="14486"/>
                </a:cubicBezTo>
                <a:cubicBezTo>
                  <a:pt x="10980" y="14478"/>
                  <a:pt x="10972" y="14469"/>
                  <a:pt x="10964" y="14461"/>
                </a:cubicBezTo>
                <a:cubicBezTo>
                  <a:pt x="10973" y="14434"/>
                  <a:pt x="10981" y="14416"/>
                  <a:pt x="11013" y="14412"/>
                </a:cubicBezTo>
                <a:cubicBezTo>
                  <a:pt x="11066" y="14406"/>
                  <a:pt x="11099" y="14427"/>
                  <a:pt x="11137" y="14461"/>
                </a:cubicBezTo>
                <a:cubicBezTo>
                  <a:pt x="11181" y="14501"/>
                  <a:pt x="11209" y="14531"/>
                  <a:pt x="11261" y="14560"/>
                </a:cubicBezTo>
              </a:path>
              <a:path w="6276" h="5160">
                <a:moveTo>
                  <a:pt x="11584" y="14709"/>
                </a:moveTo>
                <a:cubicBezTo>
                  <a:pt x="11667" y="14828"/>
                  <a:pt x="11747" y="14942"/>
                  <a:pt x="11832" y="15056"/>
                </a:cubicBezTo>
                <a:cubicBezTo>
                  <a:pt x="11869" y="15105"/>
                  <a:pt x="11941" y="15233"/>
                  <a:pt x="12005" y="15255"/>
                </a:cubicBezTo>
                <a:cubicBezTo>
                  <a:pt x="12022" y="15255"/>
                  <a:pt x="12038" y="15255"/>
                  <a:pt x="12055" y="15255"/>
                </a:cubicBezTo>
              </a:path>
              <a:path w="6276" h="5160">
                <a:moveTo>
                  <a:pt x="11981" y="14610"/>
                </a:moveTo>
                <a:cubicBezTo>
                  <a:pt x="11882" y="14686"/>
                  <a:pt x="11836" y="14740"/>
                  <a:pt x="11757" y="14833"/>
                </a:cubicBezTo>
                <a:cubicBezTo>
                  <a:pt x="11703" y="14897"/>
                  <a:pt x="11643" y="14946"/>
                  <a:pt x="11584" y="15007"/>
                </a:cubicBezTo>
                <a:cubicBezTo>
                  <a:pt x="11519" y="15075"/>
                  <a:pt x="11476" y="15121"/>
                  <a:pt x="11410" y="15180"/>
                </a:cubicBezTo>
                <a:cubicBezTo>
                  <a:pt x="11397" y="15191"/>
                  <a:pt x="11361" y="15261"/>
                  <a:pt x="11385" y="15280"/>
                </a:cubicBezTo>
                <a:cubicBezTo>
                  <a:pt x="11393" y="15280"/>
                  <a:pt x="11402" y="15280"/>
                  <a:pt x="11410" y="15280"/>
                </a:cubicBezTo>
              </a:path>
              <a:path w="6276" h="5160">
                <a:moveTo>
                  <a:pt x="12378" y="15280"/>
                </a:moveTo>
                <a:cubicBezTo>
                  <a:pt x="12414" y="15271"/>
                  <a:pt x="12440" y="15251"/>
                  <a:pt x="12477" y="15230"/>
                </a:cubicBezTo>
              </a:path>
              <a:path w="6276" h="5160">
                <a:moveTo>
                  <a:pt x="13667" y="14412"/>
                </a:moveTo>
                <a:cubicBezTo>
                  <a:pt x="13714" y="14472"/>
                  <a:pt x="13676" y="14491"/>
                  <a:pt x="13667" y="14560"/>
                </a:cubicBezTo>
                <a:cubicBezTo>
                  <a:pt x="13634" y="14815"/>
                  <a:pt x="13667" y="15096"/>
                  <a:pt x="13667" y="15354"/>
                </a:cubicBezTo>
              </a:path>
              <a:path w="6276" h="5160">
                <a:moveTo>
                  <a:pt x="13196" y="15354"/>
                </a:moveTo>
                <a:cubicBezTo>
                  <a:pt x="13318" y="15354"/>
                  <a:pt x="13425" y="15369"/>
                  <a:pt x="13543" y="15379"/>
                </a:cubicBezTo>
                <a:cubicBezTo>
                  <a:pt x="13724" y="15395"/>
                  <a:pt x="13910" y="15416"/>
                  <a:pt x="14089" y="15429"/>
                </a:cubicBezTo>
                <a:cubicBezTo>
                  <a:pt x="14247" y="15440"/>
                  <a:pt x="14404" y="15465"/>
                  <a:pt x="14560" y="15478"/>
                </a:cubicBezTo>
                <a:cubicBezTo>
                  <a:pt x="14686" y="15488"/>
                  <a:pt x="14809" y="15514"/>
                  <a:pt x="14932" y="15528"/>
                </a:cubicBezTo>
                <a:cubicBezTo>
                  <a:pt x="15026" y="15538"/>
                  <a:pt x="14997" y="15529"/>
                  <a:pt x="15056" y="15503"/>
                </a:cubicBezTo>
              </a:path>
              <a:path w="6276" h="5160">
                <a:moveTo>
                  <a:pt x="13494" y="16173"/>
                </a:moveTo>
                <a:cubicBezTo>
                  <a:pt x="13534" y="16193"/>
                  <a:pt x="13541" y="16201"/>
                  <a:pt x="13568" y="16197"/>
                </a:cubicBezTo>
                <a:cubicBezTo>
                  <a:pt x="13587" y="16165"/>
                  <a:pt x="13632" y="16091"/>
                  <a:pt x="13618" y="16049"/>
                </a:cubicBezTo>
                <a:cubicBezTo>
                  <a:pt x="13606" y="16014"/>
                  <a:pt x="13547" y="15981"/>
                  <a:pt x="13519" y="15974"/>
                </a:cubicBezTo>
                <a:cubicBezTo>
                  <a:pt x="13395" y="15943"/>
                  <a:pt x="13394" y="15946"/>
                  <a:pt x="13295" y="15999"/>
                </a:cubicBezTo>
                <a:cubicBezTo>
                  <a:pt x="13200" y="16050"/>
                  <a:pt x="13201" y="16085"/>
                  <a:pt x="13171" y="16173"/>
                </a:cubicBezTo>
                <a:cubicBezTo>
                  <a:pt x="13139" y="16267"/>
                  <a:pt x="13141" y="16325"/>
                  <a:pt x="13171" y="16421"/>
                </a:cubicBezTo>
                <a:cubicBezTo>
                  <a:pt x="13197" y="16503"/>
                  <a:pt x="13289" y="16635"/>
                  <a:pt x="13370" y="16669"/>
                </a:cubicBezTo>
                <a:cubicBezTo>
                  <a:pt x="13432" y="16695"/>
                  <a:pt x="13538" y="16622"/>
                  <a:pt x="13593" y="16594"/>
                </a:cubicBezTo>
              </a:path>
              <a:path w="6276" h="5160">
                <a:moveTo>
                  <a:pt x="13816" y="16272"/>
                </a:moveTo>
                <a:cubicBezTo>
                  <a:pt x="13756" y="16332"/>
                  <a:pt x="13722" y="16359"/>
                  <a:pt x="13717" y="16446"/>
                </a:cubicBezTo>
                <a:cubicBezTo>
                  <a:pt x="13712" y="16529"/>
                  <a:pt x="13731" y="16549"/>
                  <a:pt x="13767" y="16619"/>
                </a:cubicBezTo>
                <a:cubicBezTo>
                  <a:pt x="13803" y="16689"/>
                  <a:pt x="13879" y="16750"/>
                  <a:pt x="13965" y="16718"/>
                </a:cubicBezTo>
                <a:cubicBezTo>
                  <a:pt x="14016" y="16699"/>
                  <a:pt x="14078" y="16596"/>
                  <a:pt x="14089" y="16545"/>
                </a:cubicBezTo>
                <a:cubicBezTo>
                  <a:pt x="14108" y="16460"/>
                  <a:pt x="14075" y="16394"/>
                  <a:pt x="14039" y="16321"/>
                </a:cubicBezTo>
                <a:cubicBezTo>
                  <a:pt x="14020" y="16282"/>
                  <a:pt x="13990" y="16187"/>
                  <a:pt x="13940" y="16173"/>
                </a:cubicBezTo>
                <a:cubicBezTo>
                  <a:pt x="13889" y="16159"/>
                  <a:pt x="13847" y="16171"/>
                  <a:pt x="13841" y="16222"/>
                </a:cubicBezTo>
                <a:cubicBezTo>
                  <a:pt x="13835" y="16276"/>
                  <a:pt x="13863" y="16300"/>
                  <a:pt x="13891" y="16321"/>
                </a:cubicBezTo>
              </a:path>
              <a:path w="6276" h="5160">
                <a:moveTo>
                  <a:pt x="14362" y="15949"/>
                </a:moveTo>
                <a:cubicBezTo>
                  <a:pt x="14362" y="16005"/>
                  <a:pt x="14344" y="16047"/>
                  <a:pt x="14337" y="16098"/>
                </a:cubicBezTo>
                <a:cubicBezTo>
                  <a:pt x="14314" y="16275"/>
                  <a:pt x="14338" y="16472"/>
                  <a:pt x="14362" y="16644"/>
                </a:cubicBezTo>
                <a:cubicBezTo>
                  <a:pt x="14370" y="16700"/>
                  <a:pt x="14362" y="16762"/>
                  <a:pt x="14362" y="16818"/>
                </a:cubicBezTo>
              </a:path>
              <a:path w="6276" h="5160">
                <a:moveTo>
                  <a:pt x="14139" y="16297"/>
                </a:moveTo>
                <a:cubicBezTo>
                  <a:pt x="14192" y="16282"/>
                  <a:pt x="14307" y="16313"/>
                  <a:pt x="14337" y="16297"/>
                </a:cubicBezTo>
                <a:cubicBezTo>
                  <a:pt x="14354" y="16280"/>
                  <a:pt x="14370" y="16264"/>
                  <a:pt x="14387" y="16247"/>
                </a:cubicBezTo>
              </a:path>
              <a:path w="6276" h="5160">
                <a:moveTo>
                  <a:pt x="14560" y="15850"/>
                </a:moveTo>
                <a:cubicBezTo>
                  <a:pt x="14685" y="15757"/>
                  <a:pt x="14685" y="15717"/>
                  <a:pt x="14808" y="15801"/>
                </a:cubicBezTo>
                <a:cubicBezTo>
                  <a:pt x="14869" y="15843"/>
                  <a:pt x="14858" y="15911"/>
                  <a:pt x="14858" y="15974"/>
                </a:cubicBezTo>
                <a:cubicBezTo>
                  <a:pt x="14858" y="16030"/>
                  <a:pt x="14841" y="16044"/>
                  <a:pt x="14833" y="16098"/>
                </a:cubicBezTo>
                <a:cubicBezTo>
                  <a:pt x="14796" y="16104"/>
                  <a:pt x="14753" y="16145"/>
                  <a:pt x="14709" y="16123"/>
                </a:cubicBezTo>
                <a:cubicBezTo>
                  <a:pt x="14665" y="16101"/>
                  <a:pt x="14660" y="16096"/>
                  <a:pt x="14660" y="16049"/>
                </a:cubicBezTo>
                <a:cubicBezTo>
                  <a:pt x="14660" y="16041"/>
                  <a:pt x="14660" y="16032"/>
                  <a:pt x="14660" y="16024"/>
                </a:cubicBezTo>
                <a:cubicBezTo>
                  <a:pt x="14701" y="16024"/>
                  <a:pt x="14752" y="16014"/>
                  <a:pt x="14784" y="16049"/>
                </a:cubicBezTo>
                <a:cubicBezTo>
                  <a:pt x="14829" y="16098"/>
                  <a:pt x="14870" y="16136"/>
                  <a:pt x="14932" y="16173"/>
                </a:cubicBezTo>
                <a:cubicBezTo>
                  <a:pt x="14949" y="16181"/>
                  <a:pt x="14965" y="16189"/>
                  <a:pt x="14982" y="16197"/>
                </a:cubicBezTo>
              </a:path>
              <a:path w="6276" h="5160">
                <a:moveTo>
                  <a:pt x="15180" y="16173"/>
                </a:moveTo>
                <a:cubicBezTo>
                  <a:pt x="15235" y="16306"/>
                  <a:pt x="15292" y="16417"/>
                  <a:pt x="15354" y="16545"/>
                </a:cubicBezTo>
                <a:cubicBezTo>
                  <a:pt x="15409" y="16658"/>
                  <a:pt x="15458" y="16761"/>
                  <a:pt x="15528" y="16867"/>
                </a:cubicBezTo>
                <a:cubicBezTo>
                  <a:pt x="15567" y="16927"/>
                  <a:pt x="15570" y="16939"/>
                  <a:pt x="15602" y="16966"/>
                </a:cubicBezTo>
              </a:path>
              <a:path w="6276" h="5160">
                <a:moveTo>
                  <a:pt x="15577" y="16297"/>
                </a:moveTo>
                <a:cubicBezTo>
                  <a:pt x="15453" y="16409"/>
                  <a:pt x="15360" y="16516"/>
                  <a:pt x="15255" y="16644"/>
                </a:cubicBezTo>
                <a:cubicBezTo>
                  <a:pt x="15132" y="16794"/>
                  <a:pt x="15004" y="16939"/>
                  <a:pt x="14883" y="17090"/>
                </a:cubicBezTo>
              </a:path>
              <a:path w="6276" h="5160">
                <a:moveTo>
                  <a:pt x="12477" y="17711"/>
                </a:moveTo>
                <a:cubicBezTo>
                  <a:pt x="12516" y="17774"/>
                  <a:pt x="12505" y="17837"/>
                  <a:pt x="12526" y="17909"/>
                </a:cubicBezTo>
                <a:cubicBezTo>
                  <a:pt x="12552" y="18001"/>
                  <a:pt x="12551" y="18083"/>
                  <a:pt x="12551" y="18182"/>
                </a:cubicBezTo>
                <a:cubicBezTo>
                  <a:pt x="12551" y="18321"/>
                  <a:pt x="12551" y="18809"/>
                  <a:pt x="12551" y="18777"/>
                </a:cubicBezTo>
              </a:path>
              <a:path w="6276" h="5160">
                <a:moveTo>
                  <a:pt x="11906" y="17587"/>
                </a:moveTo>
                <a:cubicBezTo>
                  <a:pt x="11892" y="17628"/>
                  <a:pt x="11886" y="17618"/>
                  <a:pt x="11881" y="17661"/>
                </a:cubicBezTo>
                <a:cubicBezTo>
                  <a:pt x="11853" y="17924"/>
                  <a:pt x="11874" y="18225"/>
                  <a:pt x="11906" y="18479"/>
                </a:cubicBezTo>
                <a:cubicBezTo>
                  <a:pt x="11913" y="18534"/>
                  <a:pt x="11906" y="18597"/>
                  <a:pt x="11906" y="18653"/>
                </a:cubicBezTo>
                <a:cubicBezTo>
                  <a:pt x="11862" y="18675"/>
                  <a:pt x="11898" y="18685"/>
                  <a:pt x="11906" y="18628"/>
                </a:cubicBezTo>
                <a:cubicBezTo>
                  <a:pt x="11922" y="18507"/>
                  <a:pt x="11918" y="18376"/>
                  <a:pt x="11931" y="18256"/>
                </a:cubicBezTo>
                <a:cubicBezTo>
                  <a:pt x="11941" y="18166"/>
                  <a:pt x="11952" y="18071"/>
                  <a:pt x="11956" y="17983"/>
                </a:cubicBezTo>
                <a:cubicBezTo>
                  <a:pt x="11961" y="17873"/>
                  <a:pt x="11981" y="17772"/>
                  <a:pt x="11981" y="17661"/>
                </a:cubicBezTo>
                <a:cubicBezTo>
                  <a:pt x="11981" y="17571"/>
                  <a:pt x="11993" y="17499"/>
                  <a:pt x="12005" y="17413"/>
                </a:cubicBezTo>
                <a:cubicBezTo>
                  <a:pt x="12013" y="17357"/>
                  <a:pt x="12005" y="17295"/>
                  <a:pt x="12005" y="17239"/>
                </a:cubicBezTo>
                <a:cubicBezTo>
                  <a:pt x="12078" y="17227"/>
                  <a:pt x="12084" y="17239"/>
                  <a:pt x="12154" y="17239"/>
                </a:cubicBezTo>
                <a:cubicBezTo>
                  <a:pt x="12232" y="17239"/>
                  <a:pt x="12327" y="17272"/>
                  <a:pt x="12402" y="17289"/>
                </a:cubicBezTo>
                <a:cubicBezTo>
                  <a:pt x="12524" y="17317"/>
                  <a:pt x="12610" y="17307"/>
                  <a:pt x="12725" y="17289"/>
                </a:cubicBezTo>
                <a:cubicBezTo>
                  <a:pt x="12797" y="17278"/>
                  <a:pt x="12866" y="17306"/>
                  <a:pt x="12923" y="17314"/>
                </a:cubicBezTo>
                <a:cubicBezTo>
                  <a:pt x="13004" y="17326"/>
                  <a:pt x="12981" y="17325"/>
                  <a:pt x="13047" y="17363"/>
                </a:cubicBezTo>
                <a:cubicBezTo>
                  <a:pt x="13090" y="17388"/>
                  <a:pt x="13114" y="17413"/>
                  <a:pt x="13146" y="17462"/>
                </a:cubicBezTo>
                <a:cubicBezTo>
                  <a:pt x="13189" y="17528"/>
                  <a:pt x="13177" y="17591"/>
                  <a:pt x="13196" y="17661"/>
                </a:cubicBezTo>
                <a:cubicBezTo>
                  <a:pt x="13221" y="17753"/>
                  <a:pt x="13221" y="17835"/>
                  <a:pt x="13221" y="17934"/>
                </a:cubicBezTo>
                <a:cubicBezTo>
                  <a:pt x="13221" y="18281"/>
                  <a:pt x="13221" y="18629"/>
                  <a:pt x="13221" y="18976"/>
                </a:cubicBezTo>
                <a:cubicBezTo>
                  <a:pt x="13165" y="18998"/>
                  <a:pt x="13209" y="18983"/>
                  <a:pt x="13146" y="18976"/>
                </a:cubicBezTo>
                <a:cubicBezTo>
                  <a:pt x="13094" y="18970"/>
                  <a:pt x="13039" y="18958"/>
                  <a:pt x="12998" y="18951"/>
                </a:cubicBezTo>
                <a:cubicBezTo>
                  <a:pt x="12892" y="18933"/>
                  <a:pt x="12778" y="18943"/>
                  <a:pt x="12675" y="18926"/>
                </a:cubicBezTo>
                <a:cubicBezTo>
                  <a:pt x="12437" y="18886"/>
                  <a:pt x="12082" y="18902"/>
                  <a:pt x="11857" y="18951"/>
                </a:cubicBezTo>
                <a:cubicBezTo>
                  <a:pt x="11849" y="18951"/>
                  <a:pt x="11840" y="18951"/>
                  <a:pt x="11832" y="189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49800" y="6384960"/>
            <a:ext cx="936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1807" y="17785"/>
                </a:moveTo>
                <a:cubicBezTo>
                  <a:pt x="11807" y="17744"/>
                  <a:pt x="11820" y="17772"/>
                  <a:pt x="11832" y="177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More Advanced Simplifying Trig Identities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may involve factoring, fractions, and other algebraic concep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1.  sec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 + tan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 sec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33760" y="2357280"/>
            <a:ext cx="4403520" cy="696960"/>
          </a:xfrm>
          <a:custGeom>
            <a:avLst/>
            <a:gdLst/>
            <a:ahLst/>
            <a:rect l="l" t="t" r="r" b="b"/>
            <a:pathLst>
              <a:path w="12230" h="1936">
                <a:moveTo>
                  <a:pt x="7367" y="6648"/>
                </a:moveTo>
                <a:cubicBezTo>
                  <a:pt x="7358" y="6686"/>
                  <a:pt x="7347" y="6705"/>
                  <a:pt x="7342" y="6747"/>
                </a:cubicBezTo>
                <a:cubicBezTo>
                  <a:pt x="7333" y="6818"/>
                  <a:pt x="7315" y="7016"/>
                  <a:pt x="7317" y="7045"/>
                </a:cubicBezTo>
                <a:cubicBezTo>
                  <a:pt x="7320" y="7075"/>
                  <a:pt x="7322" y="7126"/>
                  <a:pt x="7342" y="7144"/>
                </a:cubicBezTo>
                <a:cubicBezTo>
                  <a:pt x="7370" y="7171"/>
                  <a:pt x="7426" y="7166"/>
                  <a:pt x="7466" y="7169"/>
                </a:cubicBezTo>
                <a:cubicBezTo>
                  <a:pt x="7594" y="7179"/>
                  <a:pt x="7713" y="7157"/>
                  <a:pt x="7838" y="7144"/>
                </a:cubicBezTo>
                <a:cubicBezTo>
                  <a:pt x="8607" y="7067"/>
                  <a:pt x="9403" y="7189"/>
                  <a:pt x="10170" y="7119"/>
                </a:cubicBezTo>
                <a:cubicBezTo>
                  <a:pt x="10288" y="7108"/>
                  <a:pt x="10398" y="7166"/>
                  <a:pt x="10517" y="7144"/>
                </a:cubicBezTo>
                <a:cubicBezTo>
                  <a:pt x="10598" y="7129"/>
                  <a:pt x="10657" y="7122"/>
                  <a:pt x="10740" y="7119"/>
                </a:cubicBezTo>
                <a:cubicBezTo>
                  <a:pt x="10796" y="7117"/>
                  <a:pt x="10838" y="7113"/>
                  <a:pt x="10889" y="7094"/>
                </a:cubicBezTo>
                <a:cubicBezTo>
                  <a:pt x="10919" y="7083"/>
                  <a:pt x="10929" y="7076"/>
                  <a:pt x="10939" y="7045"/>
                </a:cubicBezTo>
                <a:cubicBezTo>
                  <a:pt x="10945" y="7025"/>
                  <a:pt x="10962" y="6958"/>
                  <a:pt x="10964" y="6945"/>
                </a:cubicBezTo>
                <a:cubicBezTo>
                  <a:pt x="10969" y="6912"/>
                  <a:pt x="10985" y="6870"/>
                  <a:pt x="10988" y="6846"/>
                </a:cubicBezTo>
                <a:cubicBezTo>
                  <a:pt x="10994" y="6805"/>
                  <a:pt x="11009" y="6752"/>
                  <a:pt x="11013" y="6722"/>
                </a:cubicBezTo>
                <a:cubicBezTo>
                  <a:pt x="11017" y="6690"/>
                  <a:pt x="11031" y="6699"/>
                  <a:pt x="11013" y="6672"/>
                </a:cubicBezTo>
                <a:cubicBezTo>
                  <a:pt x="11005" y="6672"/>
                  <a:pt x="10996" y="6672"/>
                  <a:pt x="10988" y="6672"/>
                </a:cubicBezTo>
              </a:path>
              <a:path w="12230" h="1936">
                <a:moveTo>
                  <a:pt x="12402" y="6548"/>
                </a:moveTo>
                <a:cubicBezTo>
                  <a:pt x="12400" y="6606"/>
                  <a:pt x="12381" y="6678"/>
                  <a:pt x="12378" y="6722"/>
                </a:cubicBezTo>
                <a:cubicBezTo>
                  <a:pt x="12372" y="6815"/>
                  <a:pt x="12349" y="6969"/>
                  <a:pt x="12353" y="7045"/>
                </a:cubicBezTo>
                <a:cubicBezTo>
                  <a:pt x="12354" y="7075"/>
                  <a:pt x="12378" y="7129"/>
                  <a:pt x="12378" y="7144"/>
                </a:cubicBezTo>
                <a:cubicBezTo>
                  <a:pt x="12411" y="7138"/>
                  <a:pt x="12460" y="7127"/>
                  <a:pt x="12502" y="7119"/>
                </a:cubicBezTo>
                <a:cubicBezTo>
                  <a:pt x="12571" y="7107"/>
                  <a:pt x="12624" y="7088"/>
                  <a:pt x="12700" y="7094"/>
                </a:cubicBezTo>
                <a:cubicBezTo>
                  <a:pt x="12797" y="7102"/>
                  <a:pt x="12872" y="7117"/>
                  <a:pt x="12973" y="7119"/>
                </a:cubicBezTo>
                <a:cubicBezTo>
                  <a:pt x="13141" y="7122"/>
                  <a:pt x="13303" y="7135"/>
                  <a:pt x="13469" y="7144"/>
                </a:cubicBezTo>
                <a:cubicBezTo>
                  <a:pt x="13650" y="7154"/>
                  <a:pt x="13837" y="7160"/>
                  <a:pt x="14015" y="7169"/>
                </a:cubicBezTo>
                <a:cubicBezTo>
                  <a:pt x="14675" y="7202"/>
                  <a:pt x="15340" y="7153"/>
                  <a:pt x="15999" y="7193"/>
                </a:cubicBezTo>
                <a:cubicBezTo>
                  <a:pt x="16172" y="7203"/>
                  <a:pt x="16347" y="7215"/>
                  <a:pt x="16520" y="7218"/>
                </a:cubicBezTo>
                <a:cubicBezTo>
                  <a:pt x="16705" y="7222"/>
                  <a:pt x="16883" y="7256"/>
                  <a:pt x="17066" y="7268"/>
                </a:cubicBezTo>
                <a:cubicBezTo>
                  <a:pt x="17240" y="7279"/>
                  <a:pt x="17414" y="7271"/>
                  <a:pt x="17587" y="7293"/>
                </a:cubicBezTo>
                <a:cubicBezTo>
                  <a:pt x="17752" y="7314"/>
                  <a:pt x="17919" y="7320"/>
                  <a:pt x="18083" y="7342"/>
                </a:cubicBezTo>
                <a:cubicBezTo>
                  <a:pt x="18249" y="7364"/>
                  <a:pt x="18411" y="7383"/>
                  <a:pt x="18579" y="7392"/>
                </a:cubicBezTo>
                <a:cubicBezTo>
                  <a:pt x="18735" y="7400"/>
                  <a:pt x="18876" y="7377"/>
                  <a:pt x="19025" y="7367"/>
                </a:cubicBezTo>
                <a:cubicBezTo>
                  <a:pt x="19093" y="7363"/>
                  <a:pt x="19163" y="7374"/>
                  <a:pt x="19224" y="7342"/>
                </a:cubicBezTo>
                <a:cubicBezTo>
                  <a:pt x="19253" y="7327"/>
                  <a:pt x="19285" y="7306"/>
                  <a:pt x="19298" y="7293"/>
                </a:cubicBezTo>
                <a:cubicBezTo>
                  <a:pt x="19315" y="7276"/>
                  <a:pt x="19329" y="7218"/>
                  <a:pt x="19348" y="7193"/>
                </a:cubicBezTo>
                <a:cubicBezTo>
                  <a:pt x="19376" y="7154"/>
                  <a:pt x="19425" y="7111"/>
                  <a:pt x="19447" y="7069"/>
                </a:cubicBezTo>
                <a:cubicBezTo>
                  <a:pt x="19475" y="7017"/>
                  <a:pt x="19514" y="6948"/>
                  <a:pt x="19521" y="6896"/>
                </a:cubicBezTo>
                <a:cubicBezTo>
                  <a:pt x="19533" y="6809"/>
                  <a:pt x="19496" y="6929"/>
                  <a:pt x="19496" y="6846"/>
                </a:cubicBezTo>
              </a:path>
              <a:path w="12230" h="1936">
                <a:moveTo>
                  <a:pt x="8310" y="8359"/>
                </a:moveTo>
                <a:cubicBezTo>
                  <a:pt x="8346" y="8309"/>
                  <a:pt x="8361" y="8277"/>
                  <a:pt x="8409" y="8235"/>
                </a:cubicBezTo>
                <a:cubicBezTo>
                  <a:pt x="8460" y="8190"/>
                  <a:pt x="8525" y="8122"/>
                  <a:pt x="8582" y="8086"/>
                </a:cubicBezTo>
                <a:cubicBezTo>
                  <a:pt x="8671" y="8029"/>
                  <a:pt x="8804" y="7950"/>
                  <a:pt x="8905" y="7913"/>
                </a:cubicBezTo>
                <a:cubicBezTo>
                  <a:pt x="9101" y="7842"/>
                  <a:pt x="9321" y="7764"/>
                  <a:pt x="9525" y="7714"/>
                </a:cubicBezTo>
                <a:cubicBezTo>
                  <a:pt x="9735" y="7662"/>
                  <a:pt x="9957" y="7603"/>
                  <a:pt x="10170" y="7565"/>
                </a:cubicBezTo>
                <a:cubicBezTo>
                  <a:pt x="10442" y="7517"/>
                  <a:pt x="10715" y="7513"/>
                  <a:pt x="10988" y="7491"/>
                </a:cubicBezTo>
                <a:cubicBezTo>
                  <a:pt x="11270" y="7468"/>
                  <a:pt x="11548" y="7466"/>
                  <a:pt x="11832" y="7466"/>
                </a:cubicBezTo>
                <a:cubicBezTo>
                  <a:pt x="12116" y="7466"/>
                  <a:pt x="12393" y="7509"/>
                  <a:pt x="12675" y="7541"/>
                </a:cubicBezTo>
                <a:cubicBezTo>
                  <a:pt x="12955" y="7573"/>
                  <a:pt x="13221" y="7646"/>
                  <a:pt x="13494" y="7714"/>
                </a:cubicBezTo>
                <a:cubicBezTo>
                  <a:pt x="13775" y="7784"/>
                  <a:pt x="14024" y="7878"/>
                  <a:pt x="14288" y="7987"/>
                </a:cubicBezTo>
                <a:cubicBezTo>
                  <a:pt x="14462" y="8059"/>
                  <a:pt x="14639" y="8132"/>
                  <a:pt x="14808" y="8210"/>
                </a:cubicBezTo>
                <a:cubicBezTo>
                  <a:pt x="14846" y="8228"/>
                  <a:pt x="14915" y="8303"/>
                  <a:pt x="14957" y="8310"/>
                </a:cubicBezTo>
                <a:cubicBezTo>
                  <a:pt x="14990" y="8316"/>
                  <a:pt x="14950" y="8276"/>
                  <a:pt x="14982" y="8285"/>
                </a:cubicBezTo>
              </a:path>
              <a:path w="12230" h="1936">
                <a:moveTo>
                  <a:pt x="15007" y="8037"/>
                </a:moveTo>
                <a:cubicBezTo>
                  <a:pt x="15037" y="8047"/>
                  <a:pt x="15049" y="8079"/>
                  <a:pt x="15081" y="8111"/>
                </a:cubicBezTo>
                <a:cubicBezTo>
                  <a:pt x="15127" y="8157"/>
                  <a:pt x="15173" y="8205"/>
                  <a:pt x="15205" y="8260"/>
                </a:cubicBezTo>
                <a:cubicBezTo>
                  <a:pt x="15243" y="8324"/>
                  <a:pt x="15255" y="8335"/>
                  <a:pt x="15255" y="8409"/>
                </a:cubicBezTo>
                <a:cubicBezTo>
                  <a:pt x="15202" y="8409"/>
                  <a:pt x="15185" y="8429"/>
                  <a:pt x="15131" y="8434"/>
                </a:cubicBezTo>
                <a:cubicBezTo>
                  <a:pt x="14968" y="8448"/>
                  <a:pt x="14856" y="8441"/>
                  <a:pt x="14709" y="8483"/>
                </a:cubicBezTo>
                <a:cubicBezTo>
                  <a:pt x="14693" y="8483"/>
                  <a:pt x="14676" y="8483"/>
                  <a:pt x="14660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3640" y="2830680"/>
            <a:ext cx="1750680" cy="822240"/>
          </a:xfrm>
          <a:custGeom>
            <a:avLst/>
            <a:gdLst/>
            <a:ahLst/>
            <a:rect l="l" t="t" r="r" b="b"/>
            <a:pathLst>
              <a:path w="4862" h="2283">
                <a:moveTo>
                  <a:pt x="7045" y="9004"/>
                </a:moveTo>
                <a:cubicBezTo>
                  <a:pt x="6976" y="9004"/>
                  <a:pt x="7111" y="9027"/>
                  <a:pt x="7020" y="9004"/>
                </a:cubicBezTo>
                <a:cubicBezTo>
                  <a:pt x="6969" y="8991"/>
                  <a:pt x="7018" y="8935"/>
                  <a:pt x="6945" y="8930"/>
                </a:cubicBezTo>
                <a:cubicBezTo>
                  <a:pt x="6869" y="8925"/>
                  <a:pt x="6816" y="8937"/>
                  <a:pt x="6747" y="8954"/>
                </a:cubicBezTo>
                <a:cubicBezTo>
                  <a:pt x="6681" y="8970"/>
                  <a:pt x="6710" y="9004"/>
                  <a:pt x="6623" y="9004"/>
                </a:cubicBezTo>
                <a:cubicBezTo>
                  <a:pt x="6581" y="9004"/>
                  <a:pt x="6549" y="9073"/>
                  <a:pt x="6548" y="9079"/>
                </a:cubicBezTo>
                <a:cubicBezTo>
                  <a:pt x="6548" y="9112"/>
                  <a:pt x="6548" y="9128"/>
                  <a:pt x="6548" y="9153"/>
                </a:cubicBezTo>
                <a:cubicBezTo>
                  <a:pt x="6590" y="9153"/>
                  <a:pt x="6601" y="9159"/>
                  <a:pt x="6623" y="9178"/>
                </a:cubicBezTo>
                <a:cubicBezTo>
                  <a:pt x="6657" y="9207"/>
                  <a:pt x="6705" y="9243"/>
                  <a:pt x="6747" y="9252"/>
                </a:cubicBezTo>
                <a:cubicBezTo>
                  <a:pt x="6854" y="9275"/>
                  <a:pt x="6837" y="9331"/>
                  <a:pt x="6921" y="9376"/>
                </a:cubicBezTo>
                <a:cubicBezTo>
                  <a:pt x="6993" y="9414"/>
                  <a:pt x="7010" y="9424"/>
                  <a:pt x="7069" y="9500"/>
                </a:cubicBezTo>
                <a:cubicBezTo>
                  <a:pt x="7114" y="9558"/>
                  <a:pt x="7119" y="9603"/>
                  <a:pt x="7119" y="9674"/>
                </a:cubicBezTo>
                <a:cubicBezTo>
                  <a:pt x="7119" y="9803"/>
                  <a:pt x="7096" y="9723"/>
                  <a:pt x="7020" y="9773"/>
                </a:cubicBezTo>
                <a:cubicBezTo>
                  <a:pt x="6965" y="9809"/>
                  <a:pt x="6876" y="9861"/>
                  <a:pt x="6796" y="9823"/>
                </a:cubicBezTo>
                <a:cubicBezTo>
                  <a:pt x="6728" y="9790"/>
                  <a:pt x="6680" y="9762"/>
                  <a:pt x="6598" y="9748"/>
                </a:cubicBezTo>
                <a:cubicBezTo>
                  <a:pt x="6518" y="9735"/>
                  <a:pt x="6505" y="9743"/>
                  <a:pt x="6449" y="9699"/>
                </a:cubicBezTo>
                <a:cubicBezTo>
                  <a:pt x="6427" y="9682"/>
                  <a:pt x="6444" y="9694"/>
                  <a:pt x="6424" y="9674"/>
                </a:cubicBezTo>
              </a:path>
              <a:path w="4862" h="2283">
                <a:moveTo>
                  <a:pt x="7268" y="9401"/>
                </a:moveTo>
                <a:cubicBezTo>
                  <a:pt x="7399" y="9462"/>
                  <a:pt x="7381" y="9458"/>
                  <a:pt x="7516" y="9401"/>
                </a:cubicBezTo>
                <a:cubicBezTo>
                  <a:pt x="7591" y="9370"/>
                  <a:pt x="7614" y="9384"/>
                  <a:pt x="7665" y="9327"/>
                </a:cubicBezTo>
                <a:cubicBezTo>
                  <a:pt x="7687" y="9302"/>
                  <a:pt x="7726" y="9214"/>
                  <a:pt x="7714" y="9178"/>
                </a:cubicBezTo>
                <a:cubicBezTo>
                  <a:pt x="7697" y="9127"/>
                  <a:pt x="7666" y="9103"/>
                  <a:pt x="7615" y="9103"/>
                </a:cubicBezTo>
                <a:cubicBezTo>
                  <a:pt x="7533" y="9103"/>
                  <a:pt x="7578" y="9111"/>
                  <a:pt x="7516" y="9153"/>
                </a:cubicBezTo>
                <a:cubicBezTo>
                  <a:pt x="7477" y="9179"/>
                  <a:pt x="7428" y="9251"/>
                  <a:pt x="7392" y="9302"/>
                </a:cubicBezTo>
                <a:cubicBezTo>
                  <a:pt x="7357" y="9352"/>
                  <a:pt x="7321" y="9413"/>
                  <a:pt x="7317" y="9475"/>
                </a:cubicBezTo>
                <a:cubicBezTo>
                  <a:pt x="7310" y="9577"/>
                  <a:pt x="7325" y="9620"/>
                  <a:pt x="7392" y="9699"/>
                </a:cubicBezTo>
                <a:cubicBezTo>
                  <a:pt x="7447" y="9764"/>
                  <a:pt x="7489" y="9748"/>
                  <a:pt x="7565" y="9748"/>
                </a:cubicBezTo>
                <a:cubicBezTo>
                  <a:pt x="7615" y="9748"/>
                  <a:pt x="7632" y="9748"/>
                  <a:pt x="7665" y="9748"/>
                </a:cubicBezTo>
              </a:path>
              <a:path w="4862" h="2283">
                <a:moveTo>
                  <a:pt x="8235" y="9178"/>
                </a:moveTo>
                <a:cubicBezTo>
                  <a:pt x="8197" y="9165"/>
                  <a:pt x="8215" y="9153"/>
                  <a:pt x="8161" y="9153"/>
                </a:cubicBezTo>
                <a:cubicBezTo>
                  <a:pt x="8077" y="9153"/>
                  <a:pt x="8146" y="9174"/>
                  <a:pt x="8086" y="9227"/>
                </a:cubicBezTo>
                <a:cubicBezTo>
                  <a:pt x="8036" y="9271"/>
                  <a:pt x="8027" y="9314"/>
                  <a:pt x="7987" y="9376"/>
                </a:cubicBezTo>
                <a:cubicBezTo>
                  <a:pt x="7955" y="9425"/>
                  <a:pt x="7941" y="9488"/>
                  <a:pt x="7938" y="9550"/>
                </a:cubicBezTo>
                <a:cubicBezTo>
                  <a:pt x="7934" y="9622"/>
                  <a:pt x="7952" y="9641"/>
                  <a:pt x="7987" y="9699"/>
                </a:cubicBezTo>
                <a:cubicBezTo>
                  <a:pt x="8026" y="9764"/>
                  <a:pt x="8035" y="9748"/>
                  <a:pt x="8111" y="9748"/>
                </a:cubicBezTo>
                <a:cubicBezTo>
                  <a:pt x="8213" y="9748"/>
                  <a:pt x="8261" y="9766"/>
                  <a:pt x="8334" y="9699"/>
                </a:cubicBezTo>
                <a:cubicBezTo>
                  <a:pt x="8342" y="9691"/>
                  <a:pt x="8351" y="9682"/>
                  <a:pt x="8359" y="9674"/>
                </a:cubicBezTo>
              </a:path>
              <a:path w="4862" h="2283">
                <a:moveTo>
                  <a:pt x="8384" y="8706"/>
                </a:moveTo>
                <a:cubicBezTo>
                  <a:pt x="8412" y="8693"/>
                  <a:pt x="8437" y="8633"/>
                  <a:pt x="8483" y="8657"/>
                </a:cubicBezTo>
                <a:cubicBezTo>
                  <a:pt x="8529" y="8681"/>
                  <a:pt x="8613" y="8714"/>
                  <a:pt x="8607" y="8781"/>
                </a:cubicBezTo>
                <a:cubicBezTo>
                  <a:pt x="8606" y="8797"/>
                  <a:pt x="8551" y="8914"/>
                  <a:pt x="8533" y="8930"/>
                </a:cubicBezTo>
                <a:cubicBezTo>
                  <a:pt x="8500" y="8959"/>
                  <a:pt x="8508" y="8928"/>
                  <a:pt x="8508" y="9004"/>
                </a:cubicBezTo>
                <a:cubicBezTo>
                  <a:pt x="8591" y="9004"/>
                  <a:pt x="8673" y="9004"/>
                  <a:pt x="8756" y="9004"/>
                </a:cubicBezTo>
              </a:path>
              <a:path w="4862" h="2283">
                <a:moveTo>
                  <a:pt x="8954" y="9153"/>
                </a:moveTo>
                <a:cubicBezTo>
                  <a:pt x="8978" y="9242"/>
                  <a:pt x="9012" y="9375"/>
                  <a:pt x="9079" y="9451"/>
                </a:cubicBezTo>
                <a:cubicBezTo>
                  <a:pt x="9140" y="9520"/>
                  <a:pt x="9177" y="9588"/>
                  <a:pt x="9227" y="9674"/>
                </a:cubicBezTo>
                <a:cubicBezTo>
                  <a:pt x="9260" y="9730"/>
                  <a:pt x="9323" y="9856"/>
                  <a:pt x="9376" y="9897"/>
                </a:cubicBezTo>
                <a:cubicBezTo>
                  <a:pt x="9431" y="9940"/>
                  <a:pt x="9426" y="9850"/>
                  <a:pt x="9426" y="9823"/>
                </a:cubicBezTo>
              </a:path>
              <a:path w="4862" h="2283">
                <a:moveTo>
                  <a:pt x="9376" y="9178"/>
                </a:moveTo>
                <a:cubicBezTo>
                  <a:pt x="9347" y="9265"/>
                  <a:pt x="9341" y="9373"/>
                  <a:pt x="9277" y="9451"/>
                </a:cubicBezTo>
                <a:cubicBezTo>
                  <a:pt x="9226" y="9513"/>
                  <a:pt x="9162" y="9614"/>
                  <a:pt x="9103" y="9674"/>
                </a:cubicBezTo>
                <a:cubicBezTo>
                  <a:pt x="9058" y="9719"/>
                  <a:pt x="8956" y="9777"/>
                  <a:pt x="8930" y="9823"/>
                </a:cubicBezTo>
                <a:cubicBezTo>
                  <a:pt x="8900" y="9878"/>
                  <a:pt x="8889" y="9905"/>
                  <a:pt x="8855" y="9922"/>
                </a:cubicBezTo>
                <a:cubicBezTo>
                  <a:pt x="8830" y="9922"/>
                  <a:pt x="8822" y="9922"/>
                  <a:pt x="8830" y="9897"/>
                </a:cubicBezTo>
              </a:path>
              <a:path w="4862" h="2283">
                <a:moveTo>
                  <a:pt x="10294" y="8483"/>
                </a:moveTo>
                <a:cubicBezTo>
                  <a:pt x="10267" y="8517"/>
                  <a:pt x="10250" y="8576"/>
                  <a:pt x="10220" y="8632"/>
                </a:cubicBezTo>
                <a:cubicBezTo>
                  <a:pt x="10172" y="8720"/>
                  <a:pt x="10089" y="8791"/>
                  <a:pt x="10046" y="8880"/>
                </a:cubicBezTo>
                <a:cubicBezTo>
                  <a:pt x="9983" y="9011"/>
                  <a:pt x="9972" y="9087"/>
                  <a:pt x="9947" y="9227"/>
                </a:cubicBezTo>
                <a:cubicBezTo>
                  <a:pt x="9926" y="9345"/>
                  <a:pt x="9902" y="9476"/>
                  <a:pt x="9922" y="9599"/>
                </a:cubicBezTo>
                <a:cubicBezTo>
                  <a:pt x="9938" y="9698"/>
                  <a:pt x="9998" y="9812"/>
                  <a:pt x="10046" y="9897"/>
                </a:cubicBezTo>
                <a:cubicBezTo>
                  <a:pt x="10087" y="9970"/>
                  <a:pt x="10169" y="10084"/>
                  <a:pt x="10220" y="10120"/>
                </a:cubicBezTo>
                <a:cubicBezTo>
                  <a:pt x="10255" y="10145"/>
                  <a:pt x="10230" y="10139"/>
                  <a:pt x="10269" y="10120"/>
                </a:cubicBezTo>
                <a:cubicBezTo>
                  <a:pt x="10277" y="10120"/>
                  <a:pt x="10286" y="10120"/>
                  <a:pt x="10294" y="10120"/>
                </a:cubicBezTo>
              </a:path>
              <a:path w="4862" h="2283">
                <a:moveTo>
                  <a:pt x="7962" y="8582"/>
                </a:moveTo>
                <a:cubicBezTo>
                  <a:pt x="7954" y="8549"/>
                  <a:pt x="7914" y="8479"/>
                  <a:pt x="7938" y="8434"/>
                </a:cubicBezTo>
                <a:cubicBezTo>
                  <a:pt x="7949" y="8412"/>
                  <a:pt x="8014" y="8349"/>
                  <a:pt x="8037" y="8334"/>
                </a:cubicBezTo>
                <a:cubicBezTo>
                  <a:pt x="8129" y="8274"/>
                  <a:pt x="8240" y="8238"/>
                  <a:pt x="8334" y="8186"/>
                </a:cubicBezTo>
                <a:cubicBezTo>
                  <a:pt x="8446" y="8124"/>
                  <a:pt x="8559" y="8072"/>
                  <a:pt x="8682" y="8037"/>
                </a:cubicBezTo>
                <a:cubicBezTo>
                  <a:pt x="8832" y="7994"/>
                  <a:pt x="8968" y="7927"/>
                  <a:pt x="9128" y="7913"/>
                </a:cubicBezTo>
                <a:cubicBezTo>
                  <a:pt x="9349" y="7893"/>
                  <a:pt x="9574" y="7840"/>
                  <a:pt x="9798" y="7863"/>
                </a:cubicBezTo>
                <a:cubicBezTo>
                  <a:pt x="9963" y="7880"/>
                  <a:pt x="10131" y="7903"/>
                  <a:pt x="10294" y="7938"/>
                </a:cubicBezTo>
                <a:cubicBezTo>
                  <a:pt x="10437" y="7969"/>
                  <a:pt x="10556" y="8017"/>
                  <a:pt x="10691" y="8062"/>
                </a:cubicBezTo>
                <a:cubicBezTo>
                  <a:pt x="10773" y="8089"/>
                  <a:pt x="10922" y="8153"/>
                  <a:pt x="10988" y="8210"/>
                </a:cubicBezTo>
                <a:cubicBezTo>
                  <a:pt x="11040" y="8255"/>
                  <a:pt x="11029" y="8232"/>
                  <a:pt x="11038" y="8235"/>
                </a:cubicBezTo>
              </a:path>
              <a:path w="4862" h="2283">
                <a:moveTo>
                  <a:pt x="11038" y="8012"/>
                </a:moveTo>
                <a:cubicBezTo>
                  <a:pt x="11069" y="8084"/>
                  <a:pt x="11079" y="8102"/>
                  <a:pt x="11137" y="8161"/>
                </a:cubicBezTo>
                <a:cubicBezTo>
                  <a:pt x="11181" y="8205"/>
                  <a:pt x="11215" y="8276"/>
                  <a:pt x="11237" y="8334"/>
                </a:cubicBezTo>
                <a:cubicBezTo>
                  <a:pt x="11273" y="8428"/>
                  <a:pt x="11237" y="8390"/>
                  <a:pt x="11237" y="8483"/>
                </a:cubicBezTo>
                <a:cubicBezTo>
                  <a:pt x="11132" y="8483"/>
                  <a:pt x="11030" y="8478"/>
                  <a:pt x="10939" y="8508"/>
                </a:cubicBezTo>
                <a:cubicBezTo>
                  <a:pt x="10931" y="8508"/>
                  <a:pt x="10922" y="8508"/>
                  <a:pt x="10914" y="8508"/>
                </a:cubicBezTo>
              </a:path>
              <a:path w="4862" h="2283">
                <a:moveTo>
                  <a:pt x="11261" y="8880"/>
                </a:moveTo>
                <a:cubicBezTo>
                  <a:pt x="11261" y="9171"/>
                  <a:pt x="11268" y="9463"/>
                  <a:pt x="11237" y="9748"/>
                </a:cubicBezTo>
                <a:cubicBezTo>
                  <a:pt x="11229" y="9820"/>
                  <a:pt x="11228" y="9901"/>
                  <a:pt x="11212" y="9971"/>
                </a:cubicBezTo>
                <a:cubicBezTo>
                  <a:pt x="11199" y="10029"/>
                  <a:pt x="11187" y="10204"/>
                  <a:pt x="11187" y="10145"/>
                </a:cubicBezTo>
                <a:cubicBezTo>
                  <a:pt x="11187" y="10120"/>
                  <a:pt x="11187" y="10112"/>
                  <a:pt x="11212" y="101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53000" y="3241800"/>
            <a:ext cx="196920" cy="295200"/>
          </a:xfrm>
          <a:custGeom>
            <a:avLst/>
            <a:gdLst/>
            <a:ahLst/>
            <a:rect l="l" t="t" r="r" b="b"/>
            <a:pathLst>
              <a:path w="547" h="820">
                <a:moveTo>
                  <a:pt x="13196" y="9004"/>
                </a:moveTo>
                <a:cubicBezTo>
                  <a:pt x="13196" y="9210"/>
                  <a:pt x="13207" y="9434"/>
                  <a:pt x="13171" y="9624"/>
                </a:cubicBezTo>
                <a:cubicBezTo>
                  <a:pt x="13165" y="9659"/>
                  <a:pt x="13171" y="9895"/>
                  <a:pt x="13171" y="9773"/>
                </a:cubicBezTo>
              </a:path>
              <a:path w="547" h="820">
                <a:moveTo>
                  <a:pt x="12923" y="9451"/>
                </a:moveTo>
                <a:cubicBezTo>
                  <a:pt x="13030" y="9451"/>
                  <a:pt x="13118" y="9461"/>
                  <a:pt x="13221" y="9475"/>
                </a:cubicBezTo>
                <a:cubicBezTo>
                  <a:pt x="13279" y="9483"/>
                  <a:pt x="13453" y="9496"/>
                  <a:pt x="13469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70320" y="2938320"/>
            <a:ext cx="1625760" cy="812880"/>
          </a:xfrm>
          <a:custGeom>
            <a:avLst/>
            <a:gdLst/>
            <a:ahLst/>
            <a:rect l="l" t="t" r="r" b="b"/>
            <a:pathLst>
              <a:path w="4515" h="2258">
                <a:moveTo>
                  <a:pt x="18256" y="8161"/>
                </a:moveTo>
                <a:cubicBezTo>
                  <a:pt x="18262" y="8211"/>
                  <a:pt x="18262" y="8217"/>
                  <a:pt x="18281" y="8260"/>
                </a:cubicBezTo>
                <a:cubicBezTo>
                  <a:pt x="18316" y="8338"/>
                  <a:pt x="18403" y="8405"/>
                  <a:pt x="18455" y="8483"/>
                </a:cubicBezTo>
                <a:cubicBezTo>
                  <a:pt x="18567" y="8652"/>
                  <a:pt x="18692" y="8849"/>
                  <a:pt x="18777" y="9029"/>
                </a:cubicBezTo>
                <a:cubicBezTo>
                  <a:pt x="18858" y="9201"/>
                  <a:pt x="18872" y="9412"/>
                  <a:pt x="18876" y="9599"/>
                </a:cubicBezTo>
                <a:cubicBezTo>
                  <a:pt x="18879" y="9738"/>
                  <a:pt x="18855" y="9926"/>
                  <a:pt x="18777" y="10046"/>
                </a:cubicBezTo>
                <a:cubicBezTo>
                  <a:pt x="18706" y="10156"/>
                  <a:pt x="18615" y="10209"/>
                  <a:pt x="18504" y="10269"/>
                </a:cubicBezTo>
                <a:cubicBezTo>
                  <a:pt x="18445" y="10301"/>
                  <a:pt x="18324" y="10325"/>
                  <a:pt x="18281" y="10368"/>
                </a:cubicBezTo>
                <a:cubicBezTo>
                  <a:pt x="18215" y="10434"/>
                  <a:pt x="18261" y="10398"/>
                  <a:pt x="18182" y="10418"/>
                </a:cubicBezTo>
              </a:path>
              <a:path w="4515" h="2258">
                <a:moveTo>
                  <a:pt x="14858" y="9178"/>
                </a:moveTo>
                <a:cubicBezTo>
                  <a:pt x="14837" y="9301"/>
                  <a:pt x="14820" y="9427"/>
                  <a:pt x="14808" y="9550"/>
                </a:cubicBezTo>
                <a:cubicBezTo>
                  <a:pt x="14793" y="9700"/>
                  <a:pt x="14814" y="9851"/>
                  <a:pt x="14833" y="9996"/>
                </a:cubicBezTo>
                <a:cubicBezTo>
                  <a:pt x="14834" y="10003"/>
                  <a:pt x="14824" y="10163"/>
                  <a:pt x="14808" y="10120"/>
                </a:cubicBezTo>
                <a:cubicBezTo>
                  <a:pt x="14808" y="10104"/>
                  <a:pt x="14808" y="10087"/>
                  <a:pt x="14808" y="10071"/>
                </a:cubicBezTo>
              </a:path>
              <a:path w="4515" h="2258">
                <a:moveTo>
                  <a:pt x="14362" y="9599"/>
                </a:moveTo>
                <a:cubicBezTo>
                  <a:pt x="14588" y="9599"/>
                  <a:pt x="14808" y="9597"/>
                  <a:pt x="15032" y="9624"/>
                </a:cubicBezTo>
              </a:path>
              <a:path w="4515" h="2258">
                <a:moveTo>
                  <a:pt x="15478" y="9550"/>
                </a:moveTo>
                <a:cubicBezTo>
                  <a:pt x="15355" y="9572"/>
                  <a:pt x="15323" y="9605"/>
                  <a:pt x="15230" y="9674"/>
                </a:cubicBezTo>
                <a:cubicBezTo>
                  <a:pt x="15152" y="9732"/>
                  <a:pt x="15078" y="9779"/>
                  <a:pt x="15106" y="9897"/>
                </a:cubicBezTo>
                <a:cubicBezTo>
                  <a:pt x="15118" y="9948"/>
                  <a:pt x="15221" y="10024"/>
                  <a:pt x="15255" y="10046"/>
                </a:cubicBezTo>
                <a:cubicBezTo>
                  <a:pt x="15263" y="10046"/>
                  <a:pt x="15272" y="10046"/>
                  <a:pt x="15280" y="10046"/>
                </a:cubicBezTo>
                <a:cubicBezTo>
                  <a:pt x="15319" y="10035"/>
                  <a:pt x="15378" y="10002"/>
                  <a:pt x="15404" y="9971"/>
                </a:cubicBezTo>
                <a:cubicBezTo>
                  <a:pt x="15451" y="9914"/>
                  <a:pt x="15433" y="9883"/>
                  <a:pt x="15453" y="9823"/>
                </a:cubicBezTo>
                <a:cubicBezTo>
                  <a:pt x="15475" y="9759"/>
                  <a:pt x="15478" y="9767"/>
                  <a:pt x="15478" y="9699"/>
                </a:cubicBezTo>
                <a:cubicBezTo>
                  <a:pt x="15478" y="9636"/>
                  <a:pt x="15478" y="9753"/>
                  <a:pt x="15478" y="9773"/>
                </a:cubicBezTo>
                <a:cubicBezTo>
                  <a:pt x="15478" y="9850"/>
                  <a:pt x="15508" y="9911"/>
                  <a:pt x="15553" y="9971"/>
                </a:cubicBezTo>
                <a:cubicBezTo>
                  <a:pt x="15594" y="10026"/>
                  <a:pt x="15607" y="10053"/>
                  <a:pt x="15677" y="10071"/>
                </a:cubicBezTo>
                <a:cubicBezTo>
                  <a:pt x="15719" y="10082"/>
                  <a:pt x="15746" y="10069"/>
                  <a:pt x="15776" y="10046"/>
                </a:cubicBezTo>
              </a:path>
              <a:path w="4515" h="2258">
                <a:moveTo>
                  <a:pt x="15776" y="9674"/>
                </a:moveTo>
                <a:cubicBezTo>
                  <a:pt x="15776" y="9788"/>
                  <a:pt x="15736" y="10020"/>
                  <a:pt x="15801" y="10120"/>
                </a:cubicBezTo>
                <a:cubicBezTo>
                  <a:pt x="15815" y="10141"/>
                  <a:pt x="15828" y="10144"/>
                  <a:pt x="15850" y="10195"/>
                </a:cubicBezTo>
                <a:cubicBezTo>
                  <a:pt x="15850" y="10118"/>
                  <a:pt x="15857" y="10067"/>
                  <a:pt x="15875" y="9996"/>
                </a:cubicBezTo>
                <a:cubicBezTo>
                  <a:pt x="15887" y="9949"/>
                  <a:pt x="15894" y="9863"/>
                  <a:pt x="15900" y="9823"/>
                </a:cubicBezTo>
                <a:cubicBezTo>
                  <a:pt x="15909" y="9766"/>
                  <a:pt x="15910" y="9695"/>
                  <a:pt x="15974" y="9674"/>
                </a:cubicBezTo>
                <a:cubicBezTo>
                  <a:pt x="16010" y="9662"/>
                  <a:pt x="16017" y="9640"/>
                  <a:pt x="16049" y="9624"/>
                </a:cubicBezTo>
                <a:cubicBezTo>
                  <a:pt x="16095" y="9648"/>
                  <a:pt x="16150" y="9628"/>
                  <a:pt x="16173" y="9674"/>
                </a:cubicBezTo>
                <a:cubicBezTo>
                  <a:pt x="16199" y="9727"/>
                  <a:pt x="16243" y="9861"/>
                  <a:pt x="16247" y="9922"/>
                </a:cubicBezTo>
                <a:cubicBezTo>
                  <a:pt x="16253" y="10023"/>
                  <a:pt x="16291" y="10116"/>
                  <a:pt x="16297" y="10220"/>
                </a:cubicBezTo>
                <a:cubicBezTo>
                  <a:pt x="16304" y="10357"/>
                  <a:pt x="16313" y="10203"/>
                  <a:pt x="16321" y="10195"/>
                </a:cubicBezTo>
                <a:cubicBezTo>
                  <a:pt x="16329" y="10195"/>
                  <a:pt x="16338" y="10195"/>
                  <a:pt x="16346" y="10195"/>
                </a:cubicBezTo>
              </a:path>
              <a:path w="4515" h="2258">
                <a:moveTo>
                  <a:pt x="16346" y="9004"/>
                </a:moveTo>
                <a:cubicBezTo>
                  <a:pt x="16478" y="8925"/>
                  <a:pt x="16426" y="8964"/>
                  <a:pt x="16545" y="9004"/>
                </a:cubicBezTo>
                <a:cubicBezTo>
                  <a:pt x="16582" y="9017"/>
                  <a:pt x="16682" y="8989"/>
                  <a:pt x="16669" y="9079"/>
                </a:cubicBezTo>
                <a:cubicBezTo>
                  <a:pt x="16666" y="9103"/>
                  <a:pt x="16629" y="9145"/>
                  <a:pt x="16594" y="9178"/>
                </a:cubicBezTo>
                <a:cubicBezTo>
                  <a:pt x="16533" y="9235"/>
                  <a:pt x="16536" y="9254"/>
                  <a:pt x="16495" y="9302"/>
                </a:cubicBezTo>
                <a:cubicBezTo>
                  <a:pt x="16471" y="9330"/>
                  <a:pt x="16453" y="9340"/>
                  <a:pt x="16495" y="9376"/>
                </a:cubicBezTo>
                <a:cubicBezTo>
                  <a:pt x="16576" y="9447"/>
                  <a:pt x="16544" y="9451"/>
                  <a:pt x="16669" y="9451"/>
                </a:cubicBezTo>
                <a:cubicBezTo>
                  <a:pt x="16702" y="9451"/>
                  <a:pt x="16735" y="9451"/>
                  <a:pt x="16768" y="9451"/>
                </a:cubicBezTo>
              </a:path>
              <a:path w="4515" h="2258">
                <a:moveTo>
                  <a:pt x="17066" y="9475"/>
                </a:moveTo>
                <a:cubicBezTo>
                  <a:pt x="17112" y="9558"/>
                  <a:pt x="17152" y="9702"/>
                  <a:pt x="17214" y="9773"/>
                </a:cubicBezTo>
                <a:cubicBezTo>
                  <a:pt x="17277" y="9845"/>
                  <a:pt x="17307" y="9992"/>
                  <a:pt x="17388" y="10046"/>
                </a:cubicBezTo>
                <a:cubicBezTo>
                  <a:pt x="17441" y="10082"/>
                  <a:pt x="17517" y="10157"/>
                  <a:pt x="17587" y="10195"/>
                </a:cubicBezTo>
                <a:cubicBezTo>
                  <a:pt x="17623" y="10215"/>
                  <a:pt x="17649" y="10238"/>
                  <a:pt x="17686" y="10220"/>
                </a:cubicBezTo>
                <a:cubicBezTo>
                  <a:pt x="17694" y="10212"/>
                  <a:pt x="17703" y="10203"/>
                  <a:pt x="17711" y="10195"/>
                </a:cubicBezTo>
              </a:path>
              <a:path w="4515" h="2258">
                <a:moveTo>
                  <a:pt x="17537" y="9550"/>
                </a:moveTo>
                <a:cubicBezTo>
                  <a:pt x="17427" y="9632"/>
                  <a:pt x="17354" y="9722"/>
                  <a:pt x="17264" y="9823"/>
                </a:cubicBezTo>
                <a:cubicBezTo>
                  <a:pt x="17168" y="9931"/>
                  <a:pt x="17085" y="10042"/>
                  <a:pt x="16991" y="10145"/>
                </a:cubicBezTo>
                <a:cubicBezTo>
                  <a:pt x="16928" y="10214"/>
                  <a:pt x="16859" y="10278"/>
                  <a:pt x="16793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86040" y="3911760"/>
            <a:ext cx="2295720" cy="1589040"/>
          </a:xfrm>
          <a:custGeom>
            <a:avLst/>
            <a:gdLst/>
            <a:ahLst/>
            <a:rect l="l" t="t" r="r" b="b"/>
            <a:pathLst>
              <a:path w="6376" h="4417">
                <a:moveTo>
                  <a:pt x="8210" y="10964"/>
                </a:moveTo>
                <a:cubicBezTo>
                  <a:pt x="8121" y="10973"/>
                  <a:pt x="8096" y="11005"/>
                  <a:pt x="8012" y="11038"/>
                </a:cubicBezTo>
                <a:cubicBezTo>
                  <a:pt x="7962" y="11058"/>
                  <a:pt x="7851" y="11096"/>
                  <a:pt x="7813" y="11137"/>
                </a:cubicBezTo>
                <a:cubicBezTo>
                  <a:pt x="7796" y="11156"/>
                  <a:pt x="7746" y="11229"/>
                  <a:pt x="7764" y="11261"/>
                </a:cubicBezTo>
                <a:cubicBezTo>
                  <a:pt x="7799" y="11323"/>
                  <a:pt x="7968" y="11420"/>
                  <a:pt x="8012" y="11460"/>
                </a:cubicBezTo>
                <a:cubicBezTo>
                  <a:pt x="8088" y="11529"/>
                  <a:pt x="8244" y="11633"/>
                  <a:pt x="8210" y="11757"/>
                </a:cubicBezTo>
                <a:cubicBezTo>
                  <a:pt x="8192" y="11821"/>
                  <a:pt x="8089" y="11863"/>
                  <a:pt x="8037" y="11881"/>
                </a:cubicBezTo>
                <a:cubicBezTo>
                  <a:pt x="7958" y="11909"/>
                  <a:pt x="7895" y="11906"/>
                  <a:pt x="7813" y="11906"/>
                </a:cubicBezTo>
                <a:cubicBezTo>
                  <a:pt x="7769" y="11906"/>
                  <a:pt x="7755" y="11909"/>
                  <a:pt x="7739" y="11881"/>
                </a:cubicBezTo>
                <a:cubicBezTo>
                  <a:pt x="7771" y="11826"/>
                  <a:pt x="7792" y="11804"/>
                  <a:pt x="7838" y="11757"/>
                </a:cubicBezTo>
              </a:path>
              <a:path w="6376" h="4417">
                <a:moveTo>
                  <a:pt x="8359" y="11559"/>
                </a:moveTo>
                <a:cubicBezTo>
                  <a:pt x="8517" y="11515"/>
                  <a:pt x="8556" y="11499"/>
                  <a:pt x="8682" y="11435"/>
                </a:cubicBezTo>
                <a:cubicBezTo>
                  <a:pt x="8734" y="11409"/>
                  <a:pt x="8784" y="11366"/>
                  <a:pt x="8806" y="11311"/>
                </a:cubicBezTo>
                <a:cubicBezTo>
                  <a:pt x="8817" y="11285"/>
                  <a:pt x="8806" y="11241"/>
                  <a:pt x="8806" y="11212"/>
                </a:cubicBezTo>
                <a:cubicBezTo>
                  <a:pt x="8753" y="11212"/>
                  <a:pt x="8702" y="11202"/>
                  <a:pt x="8657" y="11237"/>
                </a:cubicBezTo>
                <a:cubicBezTo>
                  <a:pt x="8589" y="11289"/>
                  <a:pt x="8547" y="11361"/>
                  <a:pt x="8508" y="11435"/>
                </a:cubicBezTo>
                <a:cubicBezTo>
                  <a:pt x="8470" y="11508"/>
                  <a:pt x="8438" y="11599"/>
                  <a:pt x="8458" y="11683"/>
                </a:cubicBezTo>
                <a:cubicBezTo>
                  <a:pt x="8475" y="11753"/>
                  <a:pt x="8524" y="11823"/>
                  <a:pt x="8582" y="11857"/>
                </a:cubicBezTo>
                <a:cubicBezTo>
                  <a:pt x="8692" y="11921"/>
                  <a:pt x="8712" y="11907"/>
                  <a:pt x="8830" y="11857"/>
                </a:cubicBezTo>
              </a:path>
              <a:path w="6376" h="4417">
                <a:moveTo>
                  <a:pt x="9302" y="11410"/>
                </a:moveTo>
                <a:cubicBezTo>
                  <a:pt x="9318" y="11427"/>
                  <a:pt x="9335" y="11443"/>
                  <a:pt x="9351" y="11460"/>
                </a:cubicBezTo>
                <a:cubicBezTo>
                  <a:pt x="9336" y="11412"/>
                  <a:pt x="9298" y="11432"/>
                  <a:pt x="9277" y="11435"/>
                </a:cubicBezTo>
                <a:cubicBezTo>
                  <a:pt x="9197" y="11447"/>
                  <a:pt x="9219" y="11444"/>
                  <a:pt x="9153" y="11485"/>
                </a:cubicBezTo>
                <a:cubicBezTo>
                  <a:pt x="9071" y="11536"/>
                  <a:pt x="9082" y="11575"/>
                  <a:pt x="9054" y="11658"/>
                </a:cubicBezTo>
                <a:cubicBezTo>
                  <a:pt x="9034" y="11717"/>
                  <a:pt x="8997" y="11807"/>
                  <a:pt x="9054" y="11857"/>
                </a:cubicBezTo>
                <a:cubicBezTo>
                  <a:pt x="9158" y="11947"/>
                  <a:pt x="9200" y="11956"/>
                  <a:pt x="9327" y="11956"/>
                </a:cubicBezTo>
                <a:cubicBezTo>
                  <a:pt x="9382" y="11956"/>
                  <a:pt x="9472" y="11905"/>
                  <a:pt x="9500" y="11857"/>
                </a:cubicBezTo>
                <a:cubicBezTo>
                  <a:pt x="9508" y="11832"/>
                  <a:pt x="9517" y="11807"/>
                  <a:pt x="9525" y="11782"/>
                </a:cubicBezTo>
              </a:path>
              <a:path w="6376" h="4417">
                <a:moveTo>
                  <a:pt x="9550" y="10864"/>
                </a:moveTo>
                <a:cubicBezTo>
                  <a:pt x="9651" y="10868"/>
                  <a:pt x="9830" y="10838"/>
                  <a:pt x="9823" y="10939"/>
                </a:cubicBezTo>
                <a:cubicBezTo>
                  <a:pt x="9820" y="10985"/>
                  <a:pt x="9778" y="11056"/>
                  <a:pt x="9748" y="11088"/>
                </a:cubicBezTo>
                <a:cubicBezTo>
                  <a:pt x="9716" y="11122"/>
                  <a:pt x="9673" y="11157"/>
                  <a:pt x="9699" y="11212"/>
                </a:cubicBezTo>
                <a:cubicBezTo>
                  <a:pt x="9709" y="11233"/>
                  <a:pt x="9802" y="11281"/>
                  <a:pt x="9823" y="11286"/>
                </a:cubicBezTo>
                <a:cubicBezTo>
                  <a:pt x="9889" y="11286"/>
                  <a:pt x="9922" y="11286"/>
                  <a:pt x="9971" y="11286"/>
                </a:cubicBezTo>
              </a:path>
              <a:path w="6376" h="4417">
                <a:moveTo>
                  <a:pt x="10244" y="11435"/>
                </a:moveTo>
                <a:cubicBezTo>
                  <a:pt x="10306" y="11549"/>
                  <a:pt x="10360" y="11703"/>
                  <a:pt x="10443" y="11807"/>
                </a:cubicBezTo>
                <a:cubicBezTo>
                  <a:pt x="10504" y="11883"/>
                  <a:pt x="10581" y="11937"/>
                  <a:pt x="10666" y="11981"/>
                </a:cubicBezTo>
                <a:cubicBezTo>
                  <a:pt x="10719" y="12008"/>
                  <a:pt x="10758" y="12005"/>
                  <a:pt x="10815" y="12005"/>
                </a:cubicBezTo>
              </a:path>
              <a:path w="6376" h="4417">
                <a:moveTo>
                  <a:pt x="10666" y="11336"/>
                </a:moveTo>
                <a:cubicBezTo>
                  <a:pt x="10567" y="11346"/>
                  <a:pt x="10537" y="11379"/>
                  <a:pt x="10468" y="11460"/>
                </a:cubicBezTo>
                <a:cubicBezTo>
                  <a:pt x="10364" y="11582"/>
                  <a:pt x="10282" y="11716"/>
                  <a:pt x="10170" y="11832"/>
                </a:cubicBezTo>
                <a:cubicBezTo>
                  <a:pt x="10100" y="11905"/>
                  <a:pt x="10034" y="11953"/>
                  <a:pt x="9971" y="12030"/>
                </a:cubicBezTo>
              </a:path>
              <a:path w="6376" h="4417">
                <a:moveTo>
                  <a:pt x="10939" y="13618"/>
                </a:moveTo>
                <a:cubicBezTo>
                  <a:pt x="10939" y="13581"/>
                  <a:pt x="10955" y="13514"/>
                  <a:pt x="10914" y="13494"/>
                </a:cubicBezTo>
                <a:cubicBezTo>
                  <a:pt x="10882" y="13478"/>
                  <a:pt x="10855" y="13469"/>
                  <a:pt x="10815" y="13469"/>
                </a:cubicBezTo>
                <a:cubicBezTo>
                  <a:pt x="10758" y="13469"/>
                  <a:pt x="10716" y="13461"/>
                  <a:pt x="10666" y="13494"/>
                </a:cubicBezTo>
                <a:cubicBezTo>
                  <a:pt x="10622" y="13523"/>
                  <a:pt x="10597" y="13568"/>
                  <a:pt x="10592" y="13618"/>
                </a:cubicBezTo>
                <a:cubicBezTo>
                  <a:pt x="10588" y="13661"/>
                  <a:pt x="10639" y="13735"/>
                  <a:pt x="10666" y="13767"/>
                </a:cubicBezTo>
                <a:cubicBezTo>
                  <a:pt x="10738" y="13853"/>
                  <a:pt x="10807" y="13916"/>
                  <a:pt x="10864" y="14015"/>
                </a:cubicBezTo>
                <a:cubicBezTo>
                  <a:pt x="10892" y="14064"/>
                  <a:pt x="10934" y="14129"/>
                  <a:pt x="10914" y="14188"/>
                </a:cubicBezTo>
                <a:cubicBezTo>
                  <a:pt x="10889" y="14263"/>
                  <a:pt x="10834" y="14272"/>
                  <a:pt x="10765" y="14288"/>
                </a:cubicBezTo>
                <a:cubicBezTo>
                  <a:pt x="10693" y="14305"/>
                  <a:pt x="10654" y="14257"/>
                  <a:pt x="10592" y="14238"/>
                </a:cubicBezTo>
                <a:cubicBezTo>
                  <a:pt x="10553" y="14226"/>
                  <a:pt x="10520" y="14211"/>
                  <a:pt x="10517" y="14163"/>
                </a:cubicBezTo>
                <a:cubicBezTo>
                  <a:pt x="10517" y="14122"/>
                  <a:pt x="10517" y="14114"/>
                  <a:pt x="10517" y="14089"/>
                </a:cubicBezTo>
              </a:path>
              <a:path w="6376" h="4417">
                <a:moveTo>
                  <a:pt x="11137" y="13891"/>
                </a:moveTo>
                <a:cubicBezTo>
                  <a:pt x="11234" y="13916"/>
                  <a:pt x="11269" y="13917"/>
                  <a:pt x="11361" y="13891"/>
                </a:cubicBezTo>
                <a:cubicBezTo>
                  <a:pt x="11448" y="13866"/>
                  <a:pt x="11525" y="13815"/>
                  <a:pt x="11559" y="13717"/>
                </a:cubicBezTo>
                <a:cubicBezTo>
                  <a:pt x="11571" y="13683"/>
                  <a:pt x="11537" y="13612"/>
                  <a:pt x="11509" y="13593"/>
                </a:cubicBezTo>
                <a:cubicBezTo>
                  <a:pt x="11459" y="13558"/>
                  <a:pt x="11411" y="13559"/>
                  <a:pt x="11361" y="13593"/>
                </a:cubicBezTo>
                <a:cubicBezTo>
                  <a:pt x="11303" y="13632"/>
                  <a:pt x="11238" y="13703"/>
                  <a:pt x="11212" y="13767"/>
                </a:cubicBezTo>
                <a:cubicBezTo>
                  <a:pt x="11174" y="13860"/>
                  <a:pt x="11162" y="13916"/>
                  <a:pt x="11162" y="14015"/>
                </a:cubicBezTo>
                <a:cubicBezTo>
                  <a:pt x="11162" y="14092"/>
                  <a:pt x="11193" y="14173"/>
                  <a:pt x="11237" y="14238"/>
                </a:cubicBezTo>
                <a:cubicBezTo>
                  <a:pt x="11267" y="14283"/>
                  <a:pt x="11357" y="14323"/>
                  <a:pt x="11410" y="14312"/>
                </a:cubicBezTo>
                <a:cubicBezTo>
                  <a:pt x="11427" y="14304"/>
                  <a:pt x="11443" y="14296"/>
                  <a:pt x="11460" y="14288"/>
                </a:cubicBezTo>
              </a:path>
              <a:path w="6376" h="4417">
                <a:moveTo>
                  <a:pt x="12005" y="13742"/>
                </a:moveTo>
                <a:cubicBezTo>
                  <a:pt x="12005" y="13717"/>
                  <a:pt x="11999" y="13654"/>
                  <a:pt x="11981" y="13643"/>
                </a:cubicBezTo>
                <a:cubicBezTo>
                  <a:pt x="11944" y="13619"/>
                  <a:pt x="11807" y="13634"/>
                  <a:pt x="11782" y="13667"/>
                </a:cubicBezTo>
                <a:cubicBezTo>
                  <a:pt x="11735" y="13728"/>
                  <a:pt x="11695" y="13767"/>
                  <a:pt x="11658" y="13841"/>
                </a:cubicBezTo>
                <a:cubicBezTo>
                  <a:pt x="11627" y="13904"/>
                  <a:pt x="11618" y="13994"/>
                  <a:pt x="11633" y="14064"/>
                </a:cubicBezTo>
                <a:cubicBezTo>
                  <a:pt x="11651" y="14151"/>
                  <a:pt x="11698" y="14225"/>
                  <a:pt x="11757" y="14288"/>
                </a:cubicBezTo>
                <a:cubicBezTo>
                  <a:pt x="11801" y="14335"/>
                  <a:pt x="11938" y="14414"/>
                  <a:pt x="12005" y="14412"/>
                </a:cubicBezTo>
                <a:cubicBezTo>
                  <a:pt x="12089" y="14391"/>
                  <a:pt x="12109" y="14390"/>
                  <a:pt x="12154" y="14362"/>
                </a:cubicBezTo>
              </a:path>
              <a:path w="6376" h="4417">
                <a:moveTo>
                  <a:pt x="12477" y="13146"/>
                </a:moveTo>
                <a:cubicBezTo>
                  <a:pt x="12448" y="13210"/>
                  <a:pt x="12403" y="13263"/>
                  <a:pt x="12378" y="13320"/>
                </a:cubicBezTo>
                <a:cubicBezTo>
                  <a:pt x="12363" y="13354"/>
                  <a:pt x="12353" y="13378"/>
                  <a:pt x="12353" y="13419"/>
                </a:cubicBezTo>
                <a:cubicBezTo>
                  <a:pt x="12422" y="13419"/>
                  <a:pt x="12462" y="13428"/>
                  <a:pt x="12526" y="13444"/>
                </a:cubicBezTo>
                <a:cubicBezTo>
                  <a:pt x="12570" y="13455"/>
                  <a:pt x="12629" y="13444"/>
                  <a:pt x="12675" y="13444"/>
                </a:cubicBezTo>
              </a:path>
              <a:path w="6376" h="4417">
                <a:moveTo>
                  <a:pt x="12700" y="12973"/>
                </a:moveTo>
                <a:cubicBezTo>
                  <a:pt x="12680" y="13084"/>
                  <a:pt x="12650" y="13187"/>
                  <a:pt x="12626" y="13295"/>
                </a:cubicBezTo>
                <a:cubicBezTo>
                  <a:pt x="12598" y="13421"/>
                  <a:pt x="12601" y="13539"/>
                  <a:pt x="12601" y="13667"/>
                </a:cubicBezTo>
                <a:cubicBezTo>
                  <a:pt x="12601" y="13725"/>
                  <a:pt x="12598" y="13746"/>
                  <a:pt x="12626" y="13791"/>
                </a:cubicBezTo>
              </a:path>
              <a:path w="6376" h="4417">
                <a:moveTo>
                  <a:pt x="12998" y="13841"/>
                </a:moveTo>
                <a:cubicBezTo>
                  <a:pt x="13027" y="13947"/>
                  <a:pt x="13064" y="14021"/>
                  <a:pt x="13122" y="14114"/>
                </a:cubicBezTo>
                <a:cubicBezTo>
                  <a:pt x="13188" y="14219"/>
                  <a:pt x="13275" y="14308"/>
                  <a:pt x="13345" y="14412"/>
                </a:cubicBezTo>
                <a:cubicBezTo>
                  <a:pt x="13398" y="14491"/>
                  <a:pt x="13449" y="14556"/>
                  <a:pt x="13543" y="14585"/>
                </a:cubicBezTo>
                <a:cubicBezTo>
                  <a:pt x="13600" y="14602"/>
                  <a:pt x="13599" y="14555"/>
                  <a:pt x="13618" y="14511"/>
                </a:cubicBezTo>
              </a:path>
              <a:path w="6376" h="4417">
                <a:moveTo>
                  <a:pt x="13469" y="13791"/>
                </a:moveTo>
                <a:cubicBezTo>
                  <a:pt x="13385" y="13875"/>
                  <a:pt x="13301" y="13955"/>
                  <a:pt x="13221" y="14039"/>
                </a:cubicBezTo>
                <a:cubicBezTo>
                  <a:pt x="13120" y="14146"/>
                  <a:pt x="13011" y="14244"/>
                  <a:pt x="12923" y="14362"/>
                </a:cubicBezTo>
                <a:cubicBezTo>
                  <a:pt x="12868" y="14435"/>
                  <a:pt x="12815" y="14495"/>
                  <a:pt x="12750" y="14560"/>
                </a:cubicBezTo>
              </a:path>
              <a:path w="6376" h="4417">
                <a:moveTo>
                  <a:pt x="9897" y="12874"/>
                </a:moveTo>
                <a:cubicBezTo>
                  <a:pt x="9893" y="12979"/>
                  <a:pt x="9886" y="13069"/>
                  <a:pt x="9872" y="13171"/>
                </a:cubicBezTo>
                <a:cubicBezTo>
                  <a:pt x="9855" y="13297"/>
                  <a:pt x="9832" y="13415"/>
                  <a:pt x="9823" y="13543"/>
                </a:cubicBezTo>
                <a:cubicBezTo>
                  <a:pt x="9814" y="13677"/>
                  <a:pt x="9800" y="13805"/>
                  <a:pt x="9798" y="13940"/>
                </a:cubicBezTo>
                <a:cubicBezTo>
                  <a:pt x="9796" y="14031"/>
                  <a:pt x="9798" y="14072"/>
                  <a:pt x="9798" y="14163"/>
                </a:cubicBezTo>
                <a:cubicBezTo>
                  <a:pt x="9798" y="14147"/>
                  <a:pt x="9798" y="14130"/>
                  <a:pt x="9798" y="14114"/>
                </a:cubicBezTo>
                <a:cubicBezTo>
                  <a:pt x="9798" y="13852"/>
                  <a:pt x="9786" y="13601"/>
                  <a:pt x="9847" y="13345"/>
                </a:cubicBezTo>
                <a:cubicBezTo>
                  <a:pt x="9874" y="13232"/>
                  <a:pt x="9901" y="13105"/>
                  <a:pt x="9947" y="12998"/>
                </a:cubicBezTo>
                <a:cubicBezTo>
                  <a:pt x="9974" y="12936"/>
                  <a:pt x="10037" y="12838"/>
                  <a:pt x="10096" y="12799"/>
                </a:cubicBezTo>
                <a:cubicBezTo>
                  <a:pt x="10265" y="12688"/>
                  <a:pt x="10390" y="12725"/>
                  <a:pt x="10567" y="12700"/>
                </a:cubicBezTo>
                <a:cubicBezTo>
                  <a:pt x="10827" y="12664"/>
                  <a:pt x="11075" y="12689"/>
                  <a:pt x="11336" y="12700"/>
                </a:cubicBezTo>
                <a:cubicBezTo>
                  <a:pt x="11593" y="12711"/>
                  <a:pt x="11848" y="12722"/>
                  <a:pt x="12105" y="12750"/>
                </a:cubicBezTo>
                <a:cubicBezTo>
                  <a:pt x="12460" y="12789"/>
                  <a:pt x="12820" y="12824"/>
                  <a:pt x="13171" y="12874"/>
                </a:cubicBezTo>
                <a:cubicBezTo>
                  <a:pt x="13329" y="12897"/>
                  <a:pt x="13485" y="12914"/>
                  <a:pt x="13643" y="12923"/>
                </a:cubicBezTo>
                <a:cubicBezTo>
                  <a:pt x="13720" y="12927"/>
                  <a:pt x="13883" y="12890"/>
                  <a:pt x="13940" y="12948"/>
                </a:cubicBezTo>
                <a:cubicBezTo>
                  <a:pt x="13962" y="12970"/>
                  <a:pt x="13982" y="13063"/>
                  <a:pt x="13990" y="13097"/>
                </a:cubicBezTo>
                <a:cubicBezTo>
                  <a:pt x="14012" y="13191"/>
                  <a:pt x="14003" y="13344"/>
                  <a:pt x="14015" y="13444"/>
                </a:cubicBezTo>
                <a:cubicBezTo>
                  <a:pt x="14032" y="13585"/>
                  <a:pt x="14046" y="13725"/>
                  <a:pt x="14064" y="13866"/>
                </a:cubicBezTo>
                <a:cubicBezTo>
                  <a:pt x="14084" y="14022"/>
                  <a:pt x="14072" y="14181"/>
                  <a:pt x="14089" y="14337"/>
                </a:cubicBezTo>
                <a:cubicBezTo>
                  <a:pt x="14109" y="14512"/>
                  <a:pt x="14114" y="14681"/>
                  <a:pt x="14114" y="14858"/>
                </a:cubicBezTo>
                <a:cubicBezTo>
                  <a:pt x="14114" y="14950"/>
                  <a:pt x="14117" y="15046"/>
                  <a:pt x="14089" y="15131"/>
                </a:cubicBezTo>
                <a:cubicBezTo>
                  <a:pt x="14073" y="15179"/>
                  <a:pt x="14026" y="15240"/>
                  <a:pt x="13990" y="15255"/>
                </a:cubicBezTo>
                <a:cubicBezTo>
                  <a:pt x="13899" y="15295"/>
                  <a:pt x="13769" y="15288"/>
                  <a:pt x="13667" y="15280"/>
                </a:cubicBezTo>
                <a:cubicBezTo>
                  <a:pt x="13539" y="15270"/>
                  <a:pt x="13400" y="15246"/>
                  <a:pt x="13271" y="15230"/>
                </a:cubicBezTo>
                <a:cubicBezTo>
                  <a:pt x="12923" y="15186"/>
                  <a:pt x="12577" y="15127"/>
                  <a:pt x="12229" y="15081"/>
                </a:cubicBezTo>
                <a:cubicBezTo>
                  <a:pt x="11993" y="15050"/>
                  <a:pt x="11767" y="14973"/>
                  <a:pt x="11534" y="14932"/>
                </a:cubicBezTo>
                <a:cubicBezTo>
                  <a:pt x="11166" y="14868"/>
                  <a:pt x="10785" y="14824"/>
                  <a:pt x="10418" y="14784"/>
                </a:cubicBezTo>
                <a:cubicBezTo>
                  <a:pt x="10043" y="14743"/>
                  <a:pt x="9599" y="14678"/>
                  <a:pt x="9227" y="14759"/>
                </a:cubicBezTo>
                <a:cubicBezTo>
                  <a:pt x="9177" y="14770"/>
                  <a:pt x="9129" y="14797"/>
                  <a:pt x="9079" y="14808"/>
                </a:cubicBezTo>
                <a:cubicBezTo>
                  <a:pt x="9071" y="14808"/>
                  <a:pt x="9062" y="14808"/>
                  <a:pt x="9054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4880" y="4000680"/>
            <a:ext cx="1312920" cy="438120"/>
          </a:xfrm>
          <a:custGeom>
            <a:avLst/>
            <a:gdLst/>
            <a:ahLst/>
            <a:rect l="l" t="t" r="r" b="b"/>
            <a:pathLst>
              <a:path w="3647" h="1217">
                <a:moveTo>
                  <a:pt x="12774" y="11410"/>
                </a:moveTo>
                <a:cubicBezTo>
                  <a:pt x="12781" y="11431"/>
                  <a:pt x="12799" y="11478"/>
                  <a:pt x="12799" y="11435"/>
                </a:cubicBezTo>
                <a:cubicBezTo>
                  <a:pt x="12799" y="11362"/>
                  <a:pt x="12777" y="11415"/>
                  <a:pt x="12750" y="11361"/>
                </a:cubicBezTo>
                <a:cubicBezTo>
                  <a:pt x="12736" y="11333"/>
                  <a:pt x="12629" y="11296"/>
                  <a:pt x="12576" y="11311"/>
                </a:cubicBezTo>
                <a:cubicBezTo>
                  <a:pt x="12544" y="11320"/>
                  <a:pt x="12481" y="11343"/>
                  <a:pt x="12452" y="11361"/>
                </a:cubicBezTo>
                <a:cubicBezTo>
                  <a:pt x="12409" y="11389"/>
                  <a:pt x="12402" y="11413"/>
                  <a:pt x="12402" y="11460"/>
                </a:cubicBezTo>
                <a:cubicBezTo>
                  <a:pt x="12402" y="11545"/>
                  <a:pt x="12455" y="11554"/>
                  <a:pt x="12502" y="11609"/>
                </a:cubicBezTo>
                <a:cubicBezTo>
                  <a:pt x="12563" y="11681"/>
                  <a:pt x="12622" y="11780"/>
                  <a:pt x="12675" y="11857"/>
                </a:cubicBezTo>
                <a:cubicBezTo>
                  <a:pt x="12704" y="11900"/>
                  <a:pt x="12752" y="12002"/>
                  <a:pt x="12725" y="12055"/>
                </a:cubicBezTo>
                <a:cubicBezTo>
                  <a:pt x="12693" y="12119"/>
                  <a:pt x="12629" y="12111"/>
                  <a:pt x="12576" y="12129"/>
                </a:cubicBezTo>
                <a:cubicBezTo>
                  <a:pt x="12488" y="12158"/>
                  <a:pt x="12465" y="12149"/>
                  <a:pt x="12378" y="12129"/>
                </a:cubicBezTo>
                <a:cubicBezTo>
                  <a:pt x="12300" y="12111"/>
                  <a:pt x="12303" y="12108"/>
                  <a:pt x="12303" y="12030"/>
                </a:cubicBezTo>
              </a:path>
              <a:path w="3647" h="1217">
                <a:moveTo>
                  <a:pt x="12973" y="11733"/>
                </a:moveTo>
                <a:cubicBezTo>
                  <a:pt x="13076" y="11733"/>
                  <a:pt x="13174" y="11745"/>
                  <a:pt x="13271" y="11708"/>
                </a:cubicBezTo>
                <a:cubicBezTo>
                  <a:pt x="13329" y="11686"/>
                  <a:pt x="13349" y="11657"/>
                  <a:pt x="13370" y="11609"/>
                </a:cubicBezTo>
                <a:cubicBezTo>
                  <a:pt x="13397" y="11546"/>
                  <a:pt x="13409" y="11538"/>
                  <a:pt x="13370" y="11509"/>
                </a:cubicBezTo>
                <a:cubicBezTo>
                  <a:pt x="13340" y="11487"/>
                  <a:pt x="13288" y="11468"/>
                  <a:pt x="13246" y="11485"/>
                </a:cubicBezTo>
                <a:cubicBezTo>
                  <a:pt x="13198" y="11504"/>
                  <a:pt x="13127" y="11566"/>
                  <a:pt x="13097" y="11609"/>
                </a:cubicBezTo>
                <a:cubicBezTo>
                  <a:pt x="13049" y="11677"/>
                  <a:pt x="13002" y="11776"/>
                  <a:pt x="12998" y="11857"/>
                </a:cubicBezTo>
                <a:cubicBezTo>
                  <a:pt x="12993" y="11959"/>
                  <a:pt x="13005" y="12013"/>
                  <a:pt x="13072" y="12080"/>
                </a:cubicBezTo>
                <a:cubicBezTo>
                  <a:pt x="13131" y="12139"/>
                  <a:pt x="13152" y="12130"/>
                  <a:pt x="13221" y="12105"/>
                </a:cubicBezTo>
                <a:cubicBezTo>
                  <a:pt x="13288" y="12082"/>
                  <a:pt x="13306" y="12077"/>
                  <a:pt x="13345" y="12055"/>
                </a:cubicBezTo>
              </a:path>
              <a:path w="3647" h="1217">
                <a:moveTo>
                  <a:pt x="13891" y="11633"/>
                </a:moveTo>
                <a:cubicBezTo>
                  <a:pt x="13913" y="11600"/>
                  <a:pt x="13894" y="11590"/>
                  <a:pt x="13841" y="11584"/>
                </a:cubicBezTo>
                <a:cubicBezTo>
                  <a:pt x="13781" y="11577"/>
                  <a:pt x="13740" y="11597"/>
                  <a:pt x="13692" y="11633"/>
                </a:cubicBezTo>
                <a:cubicBezTo>
                  <a:pt x="13626" y="11681"/>
                  <a:pt x="13616" y="11719"/>
                  <a:pt x="13568" y="11782"/>
                </a:cubicBezTo>
                <a:cubicBezTo>
                  <a:pt x="13525" y="11838"/>
                  <a:pt x="13477" y="11924"/>
                  <a:pt x="13494" y="12005"/>
                </a:cubicBezTo>
                <a:cubicBezTo>
                  <a:pt x="13512" y="12090"/>
                  <a:pt x="13595" y="12166"/>
                  <a:pt x="13667" y="12204"/>
                </a:cubicBezTo>
                <a:cubicBezTo>
                  <a:pt x="13750" y="12249"/>
                  <a:pt x="13856" y="12236"/>
                  <a:pt x="13940" y="12204"/>
                </a:cubicBezTo>
                <a:cubicBezTo>
                  <a:pt x="13957" y="12196"/>
                  <a:pt x="13973" y="12187"/>
                  <a:pt x="13990" y="12179"/>
                </a:cubicBezTo>
              </a:path>
              <a:path w="3647" h="1217">
                <a:moveTo>
                  <a:pt x="14089" y="11162"/>
                </a:moveTo>
                <a:cubicBezTo>
                  <a:pt x="14171" y="11131"/>
                  <a:pt x="14247" y="11071"/>
                  <a:pt x="14312" y="11162"/>
                </a:cubicBezTo>
                <a:cubicBezTo>
                  <a:pt x="14348" y="11213"/>
                  <a:pt x="14348" y="11265"/>
                  <a:pt x="14312" y="11311"/>
                </a:cubicBezTo>
                <a:cubicBezTo>
                  <a:pt x="14281" y="11350"/>
                  <a:pt x="14261" y="11400"/>
                  <a:pt x="14238" y="11435"/>
                </a:cubicBezTo>
                <a:cubicBezTo>
                  <a:pt x="14230" y="11443"/>
                  <a:pt x="14221" y="11452"/>
                  <a:pt x="14213" y="11460"/>
                </a:cubicBezTo>
                <a:cubicBezTo>
                  <a:pt x="14249" y="11495"/>
                  <a:pt x="14285" y="11525"/>
                  <a:pt x="14337" y="11534"/>
                </a:cubicBezTo>
                <a:cubicBezTo>
                  <a:pt x="14354" y="11534"/>
                  <a:pt x="14370" y="11534"/>
                  <a:pt x="14387" y="11534"/>
                </a:cubicBezTo>
              </a:path>
              <a:path w="3647" h="1217">
                <a:moveTo>
                  <a:pt x="14709" y="11609"/>
                </a:moveTo>
                <a:cubicBezTo>
                  <a:pt x="14762" y="11747"/>
                  <a:pt x="14805" y="11881"/>
                  <a:pt x="14883" y="12005"/>
                </a:cubicBezTo>
                <a:cubicBezTo>
                  <a:pt x="14932" y="12083"/>
                  <a:pt x="15034" y="12206"/>
                  <a:pt x="15106" y="12254"/>
                </a:cubicBezTo>
                <a:cubicBezTo>
                  <a:pt x="15115" y="12260"/>
                  <a:pt x="15267" y="12334"/>
                  <a:pt x="15280" y="12328"/>
                </a:cubicBezTo>
                <a:cubicBezTo>
                  <a:pt x="15305" y="12311"/>
                  <a:pt x="15329" y="12295"/>
                  <a:pt x="15354" y="12278"/>
                </a:cubicBezTo>
              </a:path>
              <a:path w="3647" h="1217">
                <a:moveTo>
                  <a:pt x="15106" y="11683"/>
                </a:moveTo>
                <a:cubicBezTo>
                  <a:pt x="14930" y="11829"/>
                  <a:pt x="14763" y="11972"/>
                  <a:pt x="14585" y="12105"/>
                </a:cubicBezTo>
                <a:cubicBezTo>
                  <a:pt x="14436" y="12216"/>
                  <a:pt x="14384" y="12191"/>
                  <a:pt x="14188" y="12204"/>
                </a:cubicBezTo>
              </a:path>
              <a:path w="3647" h="1217">
                <a:moveTo>
                  <a:pt x="11733" y="11609"/>
                </a:moveTo>
                <a:cubicBezTo>
                  <a:pt x="11733" y="11633"/>
                  <a:pt x="11733" y="11641"/>
                  <a:pt x="11708" y="116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2.  1 – 2sin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 + sin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14720" y="2544840"/>
            <a:ext cx="357120" cy="723960"/>
          </a:xfrm>
          <a:custGeom>
            <a:avLst/>
            <a:gdLst/>
            <a:ahLst/>
            <a:rect l="l" t="t" r="r" b="b"/>
            <a:pathLst>
              <a:path w="993" h="2011">
                <a:moveTo>
                  <a:pt x="6672" y="7069"/>
                </a:moveTo>
                <a:cubicBezTo>
                  <a:pt x="6638" y="7131"/>
                  <a:pt x="6620" y="7186"/>
                  <a:pt x="6573" y="7243"/>
                </a:cubicBezTo>
                <a:cubicBezTo>
                  <a:pt x="6483" y="7353"/>
                  <a:pt x="6414" y="7438"/>
                  <a:pt x="6350" y="7565"/>
                </a:cubicBezTo>
                <a:cubicBezTo>
                  <a:pt x="6284" y="7696"/>
                  <a:pt x="6215" y="7820"/>
                  <a:pt x="6176" y="7962"/>
                </a:cubicBezTo>
                <a:cubicBezTo>
                  <a:pt x="6140" y="8094"/>
                  <a:pt x="6139" y="8229"/>
                  <a:pt x="6176" y="8359"/>
                </a:cubicBezTo>
                <a:cubicBezTo>
                  <a:pt x="6209" y="8476"/>
                  <a:pt x="6279" y="8591"/>
                  <a:pt x="6300" y="8706"/>
                </a:cubicBezTo>
                <a:cubicBezTo>
                  <a:pt x="6317" y="8801"/>
                  <a:pt x="6341" y="8845"/>
                  <a:pt x="6375" y="8930"/>
                </a:cubicBezTo>
                <a:cubicBezTo>
                  <a:pt x="6393" y="8974"/>
                  <a:pt x="6408" y="9033"/>
                  <a:pt x="6424" y="9079"/>
                </a:cubicBezTo>
              </a:path>
              <a:path w="993" h="2011">
                <a:moveTo>
                  <a:pt x="7144" y="7441"/>
                </a:moveTo>
                <a:cubicBezTo>
                  <a:pt x="7136" y="7529"/>
                  <a:pt x="7119" y="7598"/>
                  <a:pt x="7119" y="7689"/>
                </a:cubicBezTo>
                <a:cubicBezTo>
                  <a:pt x="7119" y="7956"/>
                  <a:pt x="7123" y="8222"/>
                  <a:pt x="7094" y="8483"/>
                </a:cubicBezTo>
                <a:cubicBezTo>
                  <a:pt x="7085" y="8563"/>
                  <a:pt x="7075" y="8633"/>
                  <a:pt x="7069" y="8706"/>
                </a:cubicBezTo>
                <a:cubicBezTo>
                  <a:pt x="7063" y="8772"/>
                  <a:pt x="7055" y="8762"/>
                  <a:pt x="7069" y="88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67040" y="3027240"/>
            <a:ext cx="295200" cy="1800"/>
          </a:xfrm>
          <a:custGeom>
            <a:avLst/>
            <a:gdLst/>
            <a:ahLst/>
            <a:rect l="l" t="t" r="r" b="b"/>
            <a:pathLst>
              <a:path w="820" h="1">
                <a:moveTo>
                  <a:pt x="7962" y="8409"/>
                </a:moveTo>
                <a:cubicBezTo>
                  <a:pt x="8243" y="8409"/>
                  <a:pt x="9037" y="8409"/>
                  <a:pt x="8756" y="8409"/>
                </a:cubicBezTo>
                <a:cubicBezTo>
                  <a:pt x="8748" y="8409"/>
                  <a:pt x="8739" y="8409"/>
                  <a:pt x="8731" y="84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60840" y="2616120"/>
            <a:ext cx="1430280" cy="758880"/>
          </a:xfrm>
          <a:custGeom>
            <a:avLst/>
            <a:gdLst/>
            <a:ahLst/>
            <a:rect l="l" t="t" r="r" b="b"/>
            <a:pathLst>
              <a:path w="3970" h="2109">
                <a:moveTo>
                  <a:pt x="12849" y="7268"/>
                </a:moveTo>
                <a:cubicBezTo>
                  <a:pt x="12895" y="7361"/>
                  <a:pt x="12936" y="7463"/>
                  <a:pt x="12973" y="7565"/>
                </a:cubicBezTo>
                <a:cubicBezTo>
                  <a:pt x="13029" y="7719"/>
                  <a:pt x="13101" y="7919"/>
                  <a:pt x="13097" y="8086"/>
                </a:cubicBezTo>
                <a:cubicBezTo>
                  <a:pt x="13094" y="8229"/>
                  <a:pt x="13026" y="8380"/>
                  <a:pt x="12973" y="8508"/>
                </a:cubicBezTo>
                <a:cubicBezTo>
                  <a:pt x="12919" y="8638"/>
                  <a:pt x="12831" y="8784"/>
                  <a:pt x="12725" y="8880"/>
                </a:cubicBezTo>
                <a:cubicBezTo>
                  <a:pt x="12624" y="8971"/>
                  <a:pt x="12511" y="9073"/>
                  <a:pt x="12402" y="9153"/>
                </a:cubicBezTo>
                <a:cubicBezTo>
                  <a:pt x="12343" y="9196"/>
                  <a:pt x="12306" y="9213"/>
                  <a:pt x="12254" y="9252"/>
                </a:cubicBezTo>
                <a:cubicBezTo>
                  <a:pt x="12219" y="9252"/>
                  <a:pt x="12206" y="9261"/>
                  <a:pt x="12204" y="9302"/>
                </a:cubicBezTo>
                <a:cubicBezTo>
                  <a:pt x="12227" y="9189"/>
                  <a:pt x="12286" y="9113"/>
                  <a:pt x="12353" y="9004"/>
                </a:cubicBezTo>
              </a:path>
              <a:path w="3970" h="2109">
                <a:moveTo>
                  <a:pt x="13543" y="7516"/>
                </a:moveTo>
                <a:cubicBezTo>
                  <a:pt x="13459" y="7630"/>
                  <a:pt x="13390" y="7741"/>
                  <a:pt x="13320" y="7863"/>
                </a:cubicBezTo>
                <a:cubicBezTo>
                  <a:pt x="13236" y="8009"/>
                  <a:pt x="13165" y="8139"/>
                  <a:pt x="13146" y="8310"/>
                </a:cubicBezTo>
                <a:cubicBezTo>
                  <a:pt x="13130" y="8460"/>
                  <a:pt x="13138" y="8634"/>
                  <a:pt x="13171" y="8781"/>
                </a:cubicBezTo>
                <a:cubicBezTo>
                  <a:pt x="13202" y="8919"/>
                  <a:pt x="13289" y="8998"/>
                  <a:pt x="13370" y="9103"/>
                </a:cubicBezTo>
                <a:cubicBezTo>
                  <a:pt x="13442" y="9196"/>
                  <a:pt x="13507" y="9320"/>
                  <a:pt x="13618" y="9376"/>
                </a:cubicBezTo>
                <a:cubicBezTo>
                  <a:pt x="13634" y="9376"/>
                  <a:pt x="13651" y="9376"/>
                  <a:pt x="13667" y="9376"/>
                </a:cubicBezTo>
              </a:path>
              <a:path w="3970" h="2109">
                <a:moveTo>
                  <a:pt x="14139" y="7689"/>
                </a:moveTo>
                <a:cubicBezTo>
                  <a:pt x="14126" y="7755"/>
                  <a:pt x="14127" y="7821"/>
                  <a:pt x="14114" y="7888"/>
                </a:cubicBezTo>
                <a:cubicBezTo>
                  <a:pt x="14092" y="7999"/>
                  <a:pt x="14089" y="8095"/>
                  <a:pt x="14089" y="8210"/>
                </a:cubicBezTo>
                <a:cubicBezTo>
                  <a:pt x="14089" y="8409"/>
                  <a:pt x="14200" y="8969"/>
                  <a:pt x="14064" y="9153"/>
                </a:cubicBezTo>
                <a:cubicBezTo>
                  <a:pt x="14056" y="9153"/>
                  <a:pt x="14047" y="9153"/>
                  <a:pt x="14039" y="9153"/>
                </a:cubicBezTo>
              </a:path>
              <a:path w="3970" h="2109">
                <a:moveTo>
                  <a:pt x="10567" y="8285"/>
                </a:moveTo>
                <a:cubicBezTo>
                  <a:pt x="10466" y="8300"/>
                  <a:pt x="10365" y="8318"/>
                  <a:pt x="10269" y="8334"/>
                </a:cubicBezTo>
                <a:cubicBezTo>
                  <a:pt x="10211" y="8343"/>
                  <a:pt x="10210" y="8314"/>
                  <a:pt x="10195" y="8359"/>
                </a:cubicBezTo>
                <a:cubicBezTo>
                  <a:pt x="10211" y="8455"/>
                  <a:pt x="10255" y="8379"/>
                  <a:pt x="10344" y="8434"/>
                </a:cubicBezTo>
                <a:cubicBezTo>
                  <a:pt x="10427" y="8485"/>
                  <a:pt x="10491" y="8585"/>
                  <a:pt x="10567" y="8632"/>
                </a:cubicBezTo>
                <a:cubicBezTo>
                  <a:pt x="10590" y="8646"/>
                  <a:pt x="10704" y="8715"/>
                  <a:pt x="10666" y="8781"/>
                </a:cubicBezTo>
                <a:cubicBezTo>
                  <a:pt x="10643" y="8821"/>
                  <a:pt x="10566" y="8851"/>
                  <a:pt x="10517" y="8855"/>
                </a:cubicBezTo>
                <a:cubicBezTo>
                  <a:pt x="10439" y="8861"/>
                  <a:pt x="10349" y="8901"/>
                  <a:pt x="10269" y="8880"/>
                </a:cubicBezTo>
                <a:cubicBezTo>
                  <a:pt x="10188" y="8858"/>
                  <a:pt x="10147" y="8860"/>
                  <a:pt x="10195" y="8781"/>
                </a:cubicBezTo>
              </a:path>
              <a:path w="3970" h="2109">
                <a:moveTo>
                  <a:pt x="10939" y="8334"/>
                </a:moveTo>
                <a:cubicBezTo>
                  <a:pt x="10919" y="8413"/>
                  <a:pt x="10893" y="8501"/>
                  <a:pt x="10889" y="8582"/>
                </a:cubicBezTo>
                <a:cubicBezTo>
                  <a:pt x="10887" y="8632"/>
                  <a:pt x="10889" y="8914"/>
                  <a:pt x="10889" y="8806"/>
                </a:cubicBezTo>
                <a:cubicBezTo>
                  <a:pt x="10889" y="8798"/>
                  <a:pt x="10889" y="8789"/>
                  <a:pt x="10889" y="8781"/>
                </a:cubicBezTo>
              </a:path>
              <a:path w="3970" h="2109">
                <a:moveTo>
                  <a:pt x="10964" y="8012"/>
                </a:moveTo>
                <a:cubicBezTo>
                  <a:pt x="10989" y="7995"/>
                  <a:pt x="11013" y="7979"/>
                  <a:pt x="11038" y="7962"/>
                </a:cubicBezTo>
              </a:path>
              <a:path w="3970" h="2109">
                <a:moveTo>
                  <a:pt x="11261" y="8508"/>
                </a:moveTo>
                <a:cubicBezTo>
                  <a:pt x="11261" y="8620"/>
                  <a:pt x="11254" y="8710"/>
                  <a:pt x="11237" y="8806"/>
                </a:cubicBezTo>
                <a:cubicBezTo>
                  <a:pt x="11237" y="8822"/>
                  <a:pt x="11237" y="8839"/>
                  <a:pt x="11237" y="8855"/>
                </a:cubicBezTo>
                <a:cubicBezTo>
                  <a:pt x="11210" y="8793"/>
                  <a:pt x="11213" y="8723"/>
                  <a:pt x="11237" y="8657"/>
                </a:cubicBezTo>
                <a:cubicBezTo>
                  <a:pt x="11261" y="8592"/>
                  <a:pt x="11272" y="8503"/>
                  <a:pt x="11311" y="8434"/>
                </a:cubicBezTo>
                <a:cubicBezTo>
                  <a:pt x="11343" y="8377"/>
                  <a:pt x="11405" y="8296"/>
                  <a:pt x="11460" y="8260"/>
                </a:cubicBezTo>
                <a:cubicBezTo>
                  <a:pt x="11508" y="8228"/>
                  <a:pt x="11555" y="8281"/>
                  <a:pt x="11584" y="8310"/>
                </a:cubicBezTo>
                <a:cubicBezTo>
                  <a:pt x="11622" y="8347"/>
                  <a:pt x="11661" y="8431"/>
                  <a:pt x="11683" y="8483"/>
                </a:cubicBezTo>
                <a:cubicBezTo>
                  <a:pt x="11715" y="8561"/>
                  <a:pt x="11729" y="8651"/>
                  <a:pt x="11733" y="8731"/>
                </a:cubicBezTo>
                <a:cubicBezTo>
                  <a:pt x="11736" y="8800"/>
                  <a:pt x="11750" y="8814"/>
                  <a:pt x="11733" y="8855"/>
                </a:cubicBezTo>
                <a:cubicBezTo>
                  <a:pt x="11721" y="8885"/>
                  <a:pt x="11716" y="8853"/>
                  <a:pt x="11708" y="8806"/>
                </a:cubicBezTo>
              </a:path>
              <a:path w="3970" h="2109">
                <a:moveTo>
                  <a:pt x="11857" y="7813"/>
                </a:moveTo>
                <a:cubicBezTo>
                  <a:pt x="11909" y="7794"/>
                  <a:pt x="12025" y="7732"/>
                  <a:pt x="12055" y="7838"/>
                </a:cubicBezTo>
                <a:cubicBezTo>
                  <a:pt x="12076" y="7911"/>
                  <a:pt x="12036" y="7975"/>
                  <a:pt x="12005" y="8037"/>
                </a:cubicBezTo>
                <a:cubicBezTo>
                  <a:pt x="11967" y="8114"/>
                  <a:pt x="11890" y="8223"/>
                  <a:pt x="11881" y="8310"/>
                </a:cubicBezTo>
                <a:cubicBezTo>
                  <a:pt x="11881" y="8311"/>
                  <a:pt x="11949" y="8405"/>
                  <a:pt x="11956" y="8409"/>
                </a:cubicBezTo>
                <a:cubicBezTo>
                  <a:pt x="12005" y="8409"/>
                  <a:pt x="12022" y="8409"/>
                  <a:pt x="12055" y="8409"/>
                </a:cubicBezTo>
              </a:path>
              <a:path w="3970" h="2109">
                <a:moveTo>
                  <a:pt x="12229" y="8409"/>
                </a:moveTo>
                <a:cubicBezTo>
                  <a:pt x="12259" y="8535"/>
                  <a:pt x="12278" y="8607"/>
                  <a:pt x="12353" y="8706"/>
                </a:cubicBezTo>
                <a:cubicBezTo>
                  <a:pt x="12379" y="8741"/>
                  <a:pt x="12395" y="8765"/>
                  <a:pt x="12427" y="8781"/>
                </a:cubicBezTo>
                <a:cubicBezTo>
                  <a:pt x="12454" y="8763"/>
                  <a:pt x="12454" y="8745"/>
                  <a:pt x="12477" y="8706"/>
                </a:cubicBezTo>
              </a:path>
              <a:path w="3970" h="2109">
                <a:moveTo>
                  <a:pt x="12477" y="8285"/>
                </a:moveTo>
                <a:cubicBezTo>
                  <a:pt x="12410" y="8360"/>
                  <a:pt x="12349" y="8415"/>
                  <a:pt x="12278" y="8483"/>
                </a:cubicBezTo>
                <a:cubicBezTo>
                  <a:pt x="12188" y="8569"/>
                  <a:pt x="12045" y="8681"/>
                  <a:pt x="11981" y="8781"/>
                </a:cubicBezTo>
                <a:cubicBezTo>
                  <a:pt x="11941" y="8843"/>
                  <a:pt x="11935" y="8890"/>
                  <a:pt x="11881" y="89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29160" y="3081240"/>
            <a:ext cx="374760" cy="54000"/>
          </a:xfrm>
          <a:custGeom>
            <a:avLst/>
            <a:gdLst/>
            <a:ahLst/>
            <a:rect l="l" t="t" r="r" b="b"/>
            <a:pathLst>
              <a:path w="1043" h="149">
                <a:moveTo>
                  <a:pt x="15081" y="8558"/>
                </a:moveTo>
                <a:cubicBezTo>
                  <a:pt x="15135" y="8558"/>
                  <a:pt x="15153" y="8561"/>
                  <a:pt x="15205" y="8582"/>
                </a:cubicBezTo>
                <a:cubicBezTo>
                  <a:pt x="15354" y="8643"/>
                  <a:pt x="15450" y="8607"/>
                  <a:pt x="15602" y="8632"/>
                </a:cubicBezTo>
                <a:cubicBezTo>
                  <a:pt x="15717" y="8651"/>
                  <a:pt x="15813" y="8698"/>
                  <a:pt x="15925" y="8706"/>
                </a:cubicBezTo>
                <a:cubicBezTo>
                  <a:pt x="15950" y="8708"/>
                  <a:pt x="16148" y="8706"/>
                  <a:pt x="16098" y="8706"/>
                </a:cubicBezTo>
                <a:cubicBezTo>
                  <a:pt x="16082" y="8706"/>
                  <a:pt x="16065" y="8706"/>
                  <a:pt x="16049" y="87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57960" y="2419200"/>
            <a:ext cx="1411200" cy="1063800"/>
          </a:xfrm>
          <a:custGeom>
            <a:avLst/>
            <a:gdLst/>
            <a:ahLst/>
            <a:rect l="l" t="t" r="r" b="b"/>
            <a:pathLst>
              <a:path w="3920" h="2953">
                <a:moveTo>
                  <a:pt x="20712" y="6722"/>
                </a:moveTo>
                <a:cubicBezTo>
                  <a:pt x="20776" y="6745"/>
                  <a:pt x="20805" y="6731"/>
                  <a:pt x="20861" y="6796"/>
                </a:cubicBezTo>
                <a:cubicBezTo>
                  <a:pt x="20973" y="6926"/>
                  <a:pt x="21066" y="7049"/>
                  <a:pt x="21158" y="7193"/>
                </a:cubicBezTo>
                <a:cubicBezTo>
                  <a:pt x="21291" y="7403"/>
                  <a:pt x="21405" y="7625"/>
                  <a:pt x="21481" y="7863"/>
                </a:cubicBezTo>
                <a:cubicBezTo>
                  <a:pt x="21570" y="8143"/>
                  <a:pt x="21572" y="8375"/>
                  <a:pt x="21530" y="8657"/>
                </a:cubicBezTo>
                <a:cubicBezTo>
                  <a:pt x="21500" y="8855"/>
                  <a:pt x="21437" y="9000"/>
                  <a:pt x="21307" y="9153"/>
                </a:cubicBezTo>
                <a:cubicBezTo>
                  <a:pt x="21221" y="9254"/>
                  <a:pt x="21076" y="9385"/>
                  <a:pt x="20960" y="9451"/>
                </a:cubicBezTo>
                <a:cubicBezTo>
                  <a:pt x="20863" y="9506"/>
                  <a:pt x="20778" y="9558"/>
                  <a:pt x="20687" y="9624"/>
                </a:cubicBezTo>
                <a:cubicBezTo>
                  <a:pt x="20662" y="9641"/>
                  <a:pt x="20638" y="9657"/>
                  <a:pt x="20613" y="9674"/>
                </a:cubicBezTo>
              </a:path>
              <a:path w="3920" h="2953">
                <a:moveTo>
                  <a:pt x="18331" y="8334"/>
                </a:moveTo>
                <a:cubicBezTo>
                  <a:pt x="18311" y="8348"/>
                  <a:pt x="18294" y="8354"/>
                  <a:pt x="18256" y="8334"/>
                </a:cubicBezTo>
                <a:cubicBezTo>
                  <a:pt x="18204" y="8306"/>
                  <a:pt x="18125" y="8272"/>
                  <a:pt x="18058" y="8285"/>
                </a:cubicBezTo>
                <a:cubicBezTo>
                  <a:pt x="17998" y="8297"/>
                  <a:pt x="17889" y="8311"/>
                  <a:pt x="17835" y="8334"/>
                </a:cubicBezTo>
                <a:cubicBezTo>
                  <a:pt x="17798" y="8350"/>
                  <a:pt x="17764" y="8405"/>
                  <a:pt x="17735" y="8434"/>
                </a:cubicBezTo>
                <a:cubicBezTo>
                  <a:pt x="17775" y="8503"/>
                  <a:pt x="17821" y="8520"/>
                  <a:pt x="17859" y="8558"/>
                </a:cubicBezTo>
                <a:cubicBezTo>
                  <a:pt x="17936" y="8635"/>
                  <a:pt x="17997" y="8654"/>
                  <a:pt x="18083" y="8731"/>
                </a:cubicBezTo>
                <a:cubicBezTo>
                  <a:pt x="18129" y="8772"/>
                  <a:pt x="18186" y="8862"/>
                  <a:pt x="18157" y="8930"/>
                </a:cubicBezTo>
                <a:cubicBezTo>
                  <a:pt x="18118" y="9021"/>
                  <a:pt x="18054" y="8990"/>
                  <a:pt x="17983" y="9004"/>
                </a:cubicBezTo>
                <a:cubicBezTo>
                  <a:pt x="17881" y="9025"/>
                  <a:pt x="17838" y="9009"/>
                  <a:pt x="17735" y="9004"/>
                </a:cubicBezTo>
                <a:cubicBezTo>
                  <a:pt x="17705" y="9002"/>
                  <a:pt x="17602" y="8916"/>
                  <a:pt x="17661" y="8880"/>
                </a:cubicBezTo>
                <a:cubicBezTo>
                  <a:pt x="17694" y="8872"/>
                  <a:pt x="17727" y="8863"/>
                  <a:pt x="17760" y="8855"/>
                </a:cubicBezTo>
              </a:path>
              <a:path w="3920" h="2953">
                <a:moveTo>
                  <a:pt x="18529" y="8483"/>
                </a:moveTo>
                <a:cubicBezTo>
                  <a:pt x="18546" y="8584"/>
                  <a:pt x="18529" y="8672"/>
                  <a:pt x="18529" y="8781"/>
                </a:cubicBezTo>
                <a:cubicBezTo>
                  <a:pt x="18529" y="8831"/>
                  <a:pt x="18520" y="8906"/>
                  <a:pt x="18504" y="8954"/>
                </a:cubicBezTo>
                <a:cubicBezTo>
                  <a:pt x="18457" y="9094"/>
                  <a:pt x="18479" y="8870"/>
                  <a:pt x="18479" y="8855"/>
                </a:cubicBezTo>
              </a:path>
              <a:path w="3920" h="2953">
                <a:moveTo>
                  <a:pt x="18604" y="8086"/>
                </a:moveTo>
                <a:lnTo>
                  <a:pt x="18604" y="8086"/>
                </a:lnTo>
              </a:path>
              <a:path w="3920" h="2953">
                <a:moveTo>
                  <a:pt x="18827" y="8632"/>
                </a:moveTo>
                <a:cubicBezTo>
                  <a:pt x="18827" y="8756"/>
                  <a:pt x="18827" y="8880"/>
                  <a:pt x="18827" y="9004"/>
                </a:cubicBezTo>
                <a:cubicBezTo>
                  <a:pt x="18863" y="8980"/>
                  <a:pt x="18852" y="8937"/>
                  <a:pt x="18852" y="8880"/>
                </a:cubicBezTo>
                <a:cubicBezTo>
                  <a:pt x="18852" y="8793"/>
                  <a:pt x="18866" y="8706"/>
                  <a:pt x="18876" y="8632"/>
                </a:cubicBezTo>
                <a:cubicBezTo>
                  <a:pt x="18890" y="8529"/>
                  <a:pt x="18902" y="8474"/>
                  <a:pt x="19000" y="8409"/>
                </a:cubicBezTo>
                <a:cubicBezTo>
                  <a:pt x="19035" y="8385"/>
                  <a:pt x="19144" y="8412"/>
                  <a:pt x="19174" y="8434"/>
                </a:cubicBezTo>
                <a:cubicBezTo>
                  <a:pt x="19267" y="8500"/>
                  <a:pt x="19252" y="8610"/>
                  <a:pt x="19273" y="8706"/>
                </a:cubicBezTo>
                <a:cubicBezTo>
                  <a:pt x="19286" y="8766"/>
                  <a:pt x="19275" y="8875"/>
                  <a:pt x="19298" y="8930"/>
                </a:cubicBezTo>
                <a:cubicBezTo>
                  <a:pt x="19346" y="9043"/>
                  <a:pt x="19323" y="8969"/>
                  <a:pt x="19323" y="8880"/>
                </a:cubicBezTo>
              </a:path>
              <a:path w="3920" h="2953">
                <a:moveTo>
                  <a:pt x="19472" y="8037"/>
                </a:moveTo>
                <a:cubicBezTo>
                  <a:pt x="19512" y="7979"/>
                  <a:pt x="19562" y="7904"/>
                  <a:pt x="19645" y="7913"/>
                </a:cubicBezTo>
                <a:cubicBezTo>
                  <a:pt x="19674" y="7916"/>
                  <a:pt x="19759" y="7952"/>
                  <a:pt x="19769" y="7987"/>
                </a:cubicBezTo>
                <a:cubicBezTo>
                  <a:pt x="19795" y="8082"/>
                  <a:pt x="19676" y="8176"/>
                  <a:pt x="19621" y="8235"/>
                </a:cubicBezTo>
                <a:cubicBezTo>
                  <a:pt x="19591" y="8267"/>
                  <a:pt x="19532" y="8307"/>
                  <a:pt x="19546" y="8359"/>
                </a:cubicBezTo>
                <a:cubicBezTo>
                  <a:pt x="19560" y="8410"/>
                  <a:pt x="19628" y="8428"/>
                  <a:pt x="19670" y="8434"/>
                </a:cubicBezTo>
                <a:cubicBezTo>
                  <a:pt x="19746" y="8445"/>
                  <a:pt x="19796" y="8467"/>
                  <a:pt x="19869" y="8483"/>
                </a:cubicBezTo>
              </a:path>
              <a:path w="3920" h="2953">
                <a:moveTo>
                  <a:pt x="20092" y="8632"/>
                </a:moveTo>
                <a:cubicBezTo>
                  <a:pt x="20125" y="8730"/>
                  <a:pt x="20153" y="8796"/>
                  <a:pt x="20216" y="8855"/>
                </a:cubicBezTo>
                <a:cubicBezTo>
                  <a:pt x="20280" y="8915"/>
                  <a:pt x="20347" y="8910"/>
                  <a:pt x="20414" y="8954"/>
                </a:cubicBezTo>
                <a:cubicBezTo>
                  <a:pt x="20452" y="8979"/>
                  <a:pt x="20527" y="9040"/>
                  <a:pt x="20588" y="9004"/>
                </a:cubicBezTo>
                <a:cubicBezTo>
                  <a:pt x="20629" y="8963"/>
                  <a:pt x="20637" y="8955"/>
                  <a:pt x="20662" y="8930"/>
                </a:cubicBezTo>
              </a:path>
              <a:path w="3920" h="2953">
                <a:moveTo>
                  <a:pt x="20588" y="8483"/>
                </a:moveTo>
                <a:cubicBezTo>
                  <a:pt x="20472" y="8570"/>
                  <a:pt x="20343" y="8634"/>
                  <a:pt x="20241" y="8731"/>
                </a:cubicBezTo>
                <a:cubicBezTo>
                  <a:pt x="20115" y="8850"/>
                  <a:pt x="20064" y="8924"/>
                  <a:pt x="19918" y="9004"/>
                </a:cubicBezTo>
                <a:cubicBezTo>
                  <a:pt x="19902" y="9012"/>
                  <a:pt x="19885" y="9021"/>
                  <a:pt x="19869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4880" y="3562200"/>
            <a:ext cx="1305000" cy="563760"/>
          </a:xfrm>
          <a:custGeom>
            <a:avLst/>
            <a:gdLst/>
            <a:ahLst/>
            <a:rect l="l" t="t" r="r" b="b"/>
            <a:pathLst>
              <a:path w="3623" h="1564">
                <a:moveTo>
                  <a:pt x="9054" y="10294"/>
                </a:moveTo>
                <a:cubicBezTo>
                  <a:pt x="9034" y="10334"/>
                  <a:pt x="9025" y="10341"/>
                  <a:pt x="9029" y="10368"/>
                </a:cubicBezTo>
                <a:cubicBezTo>
                  <a:pt x="9018" y="10315"/>
                  <a:pt x="8995" y="10291"/>
                  <a:pt x="8979" y="10269"/>
                </a:cubicBezTo>
                <a:cubicBezTo>
                  <a:pt x="8938" y="10214"/>
                  <a:pt x="8950" y="10195"/>
                  <a:pt x="8880" y="10195"/>
                </a:cubicBezTo>
                <a:cubicBezTo>
                  <a:pt x="8816" y="10195"/>
                  <a:pt x="8730" y="10176"/>
                  <a:pt x="8682" y="10220"/>
                </a:cubicBezTo>
                <a:cubicBezTo>
                  <a:pt x="8629" y="10269"/>
                  <a:pt x="8562" y="10354"/>
                  <a:pt x="8533" y="10418"/>
                </a:cubicBezTo>
                <a:cubicBezTo>
                  <a:pt x="8494" y="10503"/>
                  <a:pt x="8505" y="10603"/>
                  <a:pt x="8483" y="10691"/>
                </a:cubicBezTo>
                <a:cubicBezTo>
                  <a:pt x="8460" y="10783"/>
                  <a:pt x="8480" y="10892"/>
                  <a:pt x="8508" y="10988"/>
                </a:cubicBezTo>
                <a:cubicBezTo>
                  <a:pt x="8525" y="11047"/>
                  <a:pt x="8607" y="11126"/>
                  <a:pt x="8657" y="11162"/>
                </a:cubicBezTo>
                <a:cubicBezTo>
                  <a:pt x="8702" y="11194"/>
                  <a:pt x="8802" y="11202"/>
                  <a:pt x="8855" y="11187"/>
                </a:cubicBezTo>
                <a:cubicBezTo>
                  <a:pt x="8904" y="11173"/>
                  <a:pt x="8958" y="11135"/>
                  <a:pt x="9004" y="11112"/>
                </a:cubicBezTo>
              </a:path>
              <a:path w="3623" h="1564">
                <a:moveTo>
                  <a:pt x="9351" y="10492"/>
                </a:moveTo>
                <a:cubicBezTo>
                  <a:pt x="9351" y="10572"/>
                  <a:pt x="9333" y="10641"/>
                  <a:pt x="9302" y="10716"/>
                </a:cubicBezTo>
                <a:cubicBezTo>
                  <a:pt x="9282" y="10765"/>
                  <a:pt x="9247" y="10888"/>
                  <a:pt x="9252" y="10939"/>
                </a:cubicBezTo>
                <a:cubicBezTo>
                  <a:pt x="9258" y="10998"/>
                  <a:pt x="9286" y="11047"/>
                  <a:pt x="9327" y="11088"/>
                </a:cubicBezTo>
                <a:cubicBezTo>
                  <a:pt x="9397" y="11158"/>
                  <a:pt x="9458" y="11146"/>
                  <a:pt x="9550" y="11112"/>
                </a:cubicBezTo>
                <a:cubicBezTo>
                  <a:pt x="9614" y="11088"/>
                  <a:pt x="9696" y="11024"/>
                  <a:pt x="9723" y="10964"/>
                </a:cubicBezTo>
                <a:cubicBezTo>
                  <a:pt x="9747" y="10911"/>
                  <a:pt x="9812" y="10800"/>
                  <a:pt x="9798" y="10740"/>
                </a:cubicBezTo>
                <a:cubicBezTo>
                  <a:pt x="9780" y="10658"/>
                  <a:pt x="9759" y="10556"/>
                  <a:pt x="9699" y="10492"/>
                </a:cubicBezTo>
                <a:cubicBezTo>
                  <a:pt x="9641" y="10430"/>
                  <a:pt x="9607" y="10418"/>
                  <a:pt x="9525" y="10418"/>
                </a:cubicBezTo>
                <a:cubicBezTo>
                  <a:pt x="9493" y="10418"/>
                  <a:pt x="9366" y="10396"/>
                  <a:pt x="9351" y="10443"/>
                </a:cubicBezTo>
                <a:cubicBezTo>
                  <a:pt x="9351" y="10487"/>
                  <a:pt x="9348" y="10501"/>
                  <a:pt x="9376" y="10517"/>
                </a:cubicBezTo>
              </a:path>
              <a:path w="3623" h="1564">
                <a:moveTo>
                  <a:pt x="10393" y="10418"/>
                </a:moveTo>
                <a:cubicBezTo>
                  <a:pt x="10306" y="10418"/>
                  <a:pt x="10250" y="10423"/>
                  <a:pt x="10170" y="10443"/>
                </a:cubicBezTo>
                <a:cubicBezTo>
                  <a:pt x="10130" y="10453"/>
                  <a:pt x="10088" y="10462"/>
                  <a:pt x="10071" y="10492"/>
                </a:cubicBezTo>
                <a:cubicBezTo>
                  <a:pt x="10071" y="10525"/>
                  <a:pt x="10071" y="10542"/>
                  <a:pt x="10071" y="10567"/>
                </a:cubicBezTo>
                <a:cubicBezTo>
                  <a:pt x="10121" y="10567"/>
                  <a:pt x="10129" y="10578"/>
                  <a:pt x="10170" y="10592"/>
                </a:cubicBezTo>
                <a:cubicBezTo>
                  <a:pt x="10219" y="10608"/>
                  <a:pt x="10208" y="10641"/>
                  <a:pt x="10269" y="10641"/>
                </a:cubicBezTo>
                <a:cubicBezTo>
                  <a:pt x="10342" y="10641"/>
                  <a:pt x="10345" y="10686"/>
                  <a:pt x="10368" y="10740"/>
                </a:cubicBezTo>
                <a:cubicBezTo>
                  <a:pt x="10401" y="10818"/>
                  <a:pt x="10449" y="10855"/>
                  <a:pt x="10468" y="10939"/>
                </a:cubicBezTo>
                <a:cubicBezTo>
                  <a:pt x="10480" y="10990"/>
                  <a:pt x="10474" y="11050"/>
                  <a:pt x="10443" y="11088"/>
                </a:cubicBezTo>
                <a:cubicBezTo>
                  <a:pt x="10384" y="11160"/>
                  <a:pt x="10327" y="11162"/>
                  <a:pt x="10244" y="11162"/>
                </a:cubicBezTo>
                <a:cubicBezTo>
                  <a:pt x="10151" y="11162"/>
                  <a:pt x="10104" y="11152"/>
                  <a:pt x="10021" y="11112"/>
                </a:cubicBezTo>
                <a:cubicBezTo>
                  <a:pt x="9984" y="11094"/>
                  <a:pt x="9916" y="11055"/>
                  <a:pt x="9897" y="11013"/>
                </a:cubicBezTo>
                <a:cubicBezTo>
                  <a:pt x="9883" y="10982"/>
                  <a:pt x="9930" y="10956"/>
                  <a:pt x="9947" y="10939"/>
                </a:cubicBezTo>
              </a:path>
              <a:path w="3623" h="1564">
                <a:moveTo>
                  <a:pt x="10691" y="10046"/>
                </a:moveTo>
                <a:cubicBezTo>
                  <a:pt x="10691" y="10086"/>
                  <a:pt x="10726" y="10034"/>
                  <a:pt x="10740" y="9996"/>
                </a:cubicBezTo>
                <a:cubicBezTo>
                  <a:pt x="10759" y="9943"/>
                  <a:pt x="10786" y="10001"/>
                  <a:pt x="10815" y="9922"/>
                </a:cubicBezTo>
                <a:cubicBezTo>
                  <a:pt x="10835" y="9867"/>
                  <a:pt x="10870" y="9909"/>
                  <a:pt x="10914" y="9922"/>
                </a:cubicBezTo>
                <a:cubicBezTo>
                  <a:pt x="10952" y="9933"/>
                  <a:pt x="10982" y="10000"/>
                  <a:pt x="10988" y="10046"/>
                </a:cubicBezTo>
                <a:cubicBezTo>
                  <a:pt x="10998" y="10123"/>
                  <a:pt x="10995" y="10232"/>
                  <a:pt x="10964" y="10294"/>
                </a:cubicBezTo>
                <a:cubicBezTo>
                  <a:pt x="10907" y="10409"/>
                  <a:pt x="10893" y="10415"/>
                  <a:pt x="10790" y="10492"/>
                </a:cubicBezTo>
                <a:cubicBezTo>
                  <a:pt x="10736" y="10532"/>
                  <a:pt x="10737" y="10511"/>
                  <a:pt x="10691" y="10567"/>
                </a:cubicBezTo>
                <a:cubicBezTo>
                  <a:pt x="10663" y="10553"/>
                  <a:pt x="10592" y="10513"/>
                  <a:pt x="10641" y="10492"/>
                </a:cubicBezTo>
                <a:cubicBezTo>
                  <a:pt x="10674" y="10478"/>
                  <a:pt x="10706" y="10457"/>
                  <a:pt x="10740" y="10443"/>
                </a:cubicBezTo>
                <a:cubicBezTo>
                  <a:pt x="10798" y="10512"/>
                  <a:pt x="10803" y="10457"/>
                  <a:pt x="10864" y="10492"/>
                </a:cubicBezTo>
                <a:cubicBezTo>
                  <a:pt x="10900" y="10512"/>
                  <a:pt x="10929" y="10570"/>
                  <a:pt x="10939" y="10592"/>
                </a:cubicBezTo>
                <a:cubicBezTo>
                  <a:pt x="10959" y="10632"/>
                  <a:pt x="10957" y="10648"/>
                  <a:pt x="10988" y="10641"/>
                </a:cubicBezTo>
              </a:path>
              <a:path w="3623" h="1564">
                <a:moveTo>
                  <a:pt x="11311" y="10641"/>
                </a:moveTo>
                <a:cubicBezTo>
                  <a:pt x="11336" y="10700"/>
                  <a:pt x="11342" y="10757"/>
                  <a:pt x="11361" y="10815"/>
                </a:cubicBezTo>
                <a:cubicBezTo>
                  <a:pt x="11393" y="10914"/>
                  <a:pt x="11473" y="10984"/>
                  <a:pt x="11534" y="11063"/>
                </a:cubicBezTo>
                <a:cubicBezTo>
                  <a:pt x="11611" y="11163"/>
                  <a:pt x="11654" y="11235"/>
                  <a:pt x="11757" y="11311"/>
                </a:cubicBezTo>
                <a:cubicBezTo>
                  <a:pt x="11834" y="11368"/>
                  <a:pt x="11899" y="11435"/>
                  <a:pt x="11981" y="11460"/>
                </a:cubicBezTo>
                <a:cubicBezTo>
                  <a:pt x="12033" y="11476"/>
                  <a:pt x="12040" y="11444"/>
                  <a:pt x="12055" y="11410"/>
                </a:cubicBezTo>
                <a:cubicBezTo>
                  <a:pt x="12063" y="11394"/>
                  <a:pt x="12072" y="11377"/>
                  <a:pt x="12080" y="11361"/>
                </a:cubicBezTo>
              </a:path>
              <a:path w="3623" h="1564">
                <a:moveTo>
                  <a:pt x="11881" y="10641"/>
                </a:moveTo>
                <a:cubicBezTo>
                  <a:pt x="11785" y="10723"/>
                  <a:pt x="11716" y="10796"/>
                  <a:pt x="11633" y="10889"/>
                </a:cubicBezTo>
                <a:cubicBezTo>
                  <a:pt x="11557" y="10974"/>
                  <a:pt x="11466" y="11035"/>
                  <a:pt x="11385" y="11112"/>
                </a:cubicBezTo>
                <a:cubicBezTo>
                  <a:pt x="11322" y="11172"/>
                  <a:pt x="11274" y="11234"/>
                  <a:pt x="11212" y="11286"/>
                </a:cubicBezTo>
                <a:cubicBezTo>
                  <a:pt x="11196" y="11300"/>
                  <a:pt x="11139" y="11383"/>
                  <a:pt x="11187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05200" y="3697200"/>
            <a:ext cx="1644840" cy="598680"/>
          </a:xfrm>
          <a:custGeom>
            <a:avLst/>
            <a:gdLst/>
            <a:ahLst/>
            <a:rect l="l" t="t" r="r" b="b"/>
            <a:pathLst>
              <a:path w="4565" h="1663">
                <a:moveTo>
                  <a:pt x="13146" y="10765"/>
                </a:moveTo>
                <a:cubicBezTo>
                  <a:pt x="13131" y="10765"/>
                  <a:pt x="13032" y="10775"/>
                  <a:pt x="13072" y="10815"/>
                </a:cubicBezTo>
                <a:cubicBezTo>
                  <a:pt x="13079" y="10822"/>
                  <a:pt x="13136" y="10815"/>
                  <a:pt x="13146" y="10815"/>
                </a:cubicBezTo>
                <a:cubicBezTo>
                  <a:pt x="13134" y="10777"/>
                  <a:pt x="13117" y="10790"/>
                  <a:pt x="13072" y="10790"/>
                </a:cubicBezTo>
              </a:path>
              <a:path w="4565" h="1663">
                <a:moveTo>
                  <a:pt x="14213" y="10840"/>
                </a:moveTo>
                <a:cubicBezTo>
                  <a:pt x="14213" y="10864"/>
                  <a:pt x="14213" y="10873"/>
                  <a:pt x="14213" y="10889"/>
                </a:cubicBezTo>
                <a:cubicBezTo>
                  <a:pt x="14213" y="10839"/>
                  <a:pt x="14202" y="10831"/>
                  <a:pt x="14188" y="10790"/>
                </a:cubicBezTo>
                <a:cubicBezTo>
                  <a:pt x="14175" y="10751"/>
                  <a:pt x="14149" y="10763"/>
                  <a:pt x="14114" y="10740"/>
                </a:cubicBezTo>
                <a:cubicBezTo>
                  <a:pt x="14067" y="10710"/>
                  <a:pt x="14043" y="10749"/>
                  <a:pt x="13990" y="10765"/>
                </a:cubicBezTo>
                <a:cubicBezTo>
                  <a:pt x="13927" y="10784"/>
                  <a:pt x="13834" y="10852"/>
                  <a:pt x="13791" y="10914"/>
                </a:cubicBezTo>
                <a:cubicBezTo>
                  <a:pt x="13743" y="10984"/>
                  <a:pt x="13683" y="11077"/>
                  <a:pt x="13667" y="11162"/>
                </a:cubicBezTo>
                <a:cubicBezTo>
                  <a:pt x="13653" y="11237"/>
                  <a:pt x="13669" y="11324"/>
                  <a:pt x="13717" y="11385"/>
                </a:cubicBezTo>
                <a:cubicBezTo>
                  <a:pt x="13767" y="11449"/>
                  <a:pt x="13840" y="11503"/>
                  <a:pt x="13915" y="11534"/>
                </a:cubicBezTo>
                <a:cubicBezTo>
                  <a:pt x="14035" y="11584"/>
                  <a:pt x="14093" y="11576"/>
                  <a:pt x="14213" y="11559"/>
                </a:cubicBezTo>
                <a:cubicBezTo>
                  <a:pt x="14276" y="11559"/>
                  <a:pt x="14304" y="11552"/>
                  <a:pt x="14337" y="11509"/>
                </a:cubicBezTo>
              </a:path>
              <a:path w="4565" h="1663">
                <a:moveTo>
                  <a:pt x="14833" y="10939"/>
                </a:moveTo>
                <a:cubicBezTo>
                  <a:pt x="14780" y="11047"/>
                  <a:pt x="14746" y="11151"/>
                  <a:pt x="14709" y="11261"/>
                </a:cubicBezTo>
                <a:cubicBezTo>
                  <a:pt x="14689" y="11320"/>
                  <a:pt x="14666" y="11395"/>
                  <a:pt x="14684" y="11460"/>
                </a:cubicBezTo>
                <a:cubicBezTo>
                  <a:pt x="14707" y="11540"/>
                  <a:pt x="14748" y="11565"/>
                  <a:pt x="14808" y="11609"/>
                </a:cubicBezTo>
                <a:cubicBezTo>
                  <a:pt x="14885" y="11666"/>
                  <a:pt x="14924" y="11662"/>
                  <a:pt x="15007" y="11633"/>
                </a:cubicBezTo>
                <a:cubicBezTo>
                  <a:pt x="15105" y="11599"/>
                  <a:pt x="15153" y="11578"/>
                  <a:pt x="15205" y="11485"/>
                </a:cubicBezTo>
                <a:cubicBezTo>
                  <a:pt x="15251" y="11402"/>
                  <a:pt x="15255" y="11355"/>
                  <a:pt x="15255" y="11261"/>
                </a:cubicBezTo>
                <a:cubicBezTo>
                  <a:pt x="15255" y="11160"/>
                  <a:pt x="15214" y="11089"/>
                  <a:pt x="15156" y="11013"/>
                </a:cubicBezTo>
                <a:cubicBezTo>
                  <a:pt x="15085" y="10919"/>
                  <a:pt x="15047" y="10873"/>
                  <a:pt x="14932" y="10864"/>
                </a:cubicBezTo>
                <a:cubicBezTo>
                  <a:pt x="14894" y="10861"/>
                  <a:pt x="14863" y="10851"/>
                  <a:pt x="14858" y="10889"/>
                </a:cubicBezTo>
                <a:cubicBezTo>
                  <a:pt x="14853" y="10930"/>
                  <a:pt x="14852" y="10929"/>
                  <a:pt x="14883" y="10939"/>
                </a:cubicBezTo>
              </a:path>
              <a:path w="4565" h="1663">
                <a:moveTo>
                  <a:pt x="15726" y="10914"/>
                </a:moveTo>
                <a:cubicBezTo>
                  <a:pt x="15655" y="10914"/>
                  <a:pt x="15618" y="10935"/>
                  <a:pt x="15553" y="10939"/>
                </a:cubicBezTo>
                <a:cubicBezTo>
                  <a:pt x="15499" y="10943"/>
                  <a:pt x="15460" y="10954"/>
                  <a:pt x="15453" y="11013"/>
                </a:cubicBezTo>
                <a:cubicBezTo>
                  <a:pt x="15449" y="11050"/>
                  <a:pt x="15445" y="11089"/>
                  <a:pt x="15478" y="11112"/>
                </a:cubicBezTo>
                <a:cubicBezTo>
                  <a:pt x="15541" y="11155"/>
                  <a:pt x="15593" y="11205"/>
                  <a:pt x="15652" y="11261"/>
                </a:cubicBezTo>
                <a:cubicBezTo>
                  <a:pt x="15709" y="11316"/>
                  <a:pt x="15802" y="11352"/>
                  <a:pt x="15825" y="11435"/>
                </a:cubicBezTo>
                <a:cubicBezTo>
                  <a:pt x="15840" y="11490"/>
                  <a:pt x="15866" y="11536"/>
                  <a:pt x="15825" y="11584"/>
                </a:cubicBezTo>
                <a:cubicBezTo>
                  <a:pt x="15774" y="11643"/>
                  <a:pt x="15727" y="11670"/>
                  <a:pt x="15652" y="11683"/>
                </a:cubicBezTo>
                <a:cubicBezTo>
                  <a:pt x="15591" y="11693"/>
                  <a:pt x="15559" y="11664"/>
                  <a:pt x="15503" y="11658"/>
                </a:cubicBezTo>
                <a:cubicBezTo>
                  <a:pt x="15487" y="11656"/>
                  <a:pt x="15442" y="11631"/>
                  <a:pt x="15453" y="11609"/>
                </a:cubicBezTo>
                <a:cubicBezTo>
                  <a:pt x="15476" y="11586"/>
                  <a:pt x="15484" y="11582"/>
                  <a:pt x="15478" y="11559"/>
                </a:cubicBezTo>
              </a:path>
              <a:path w="4565" h="1663">
                <a:moveTo>
                  <a:pt x="16098" y="10294"/>
                </a:moveTo>
                <a:cubicBezTo>
                  <a:pt x="16149" y="10282"/>
                  <a:pt x="16263" y="10247"/>
                  <a:pt x="16321" y="10269"/>
                </a:cubicBezTo>
                <a:cubicBezTo>
                  <a:pt x="16352" y="10281"/>
                  <a:pt x="16411" y="10387"/>
                  <a:pt x="16421" y="10418"/>
                </a:cubicBezTo>
                <a:cubicBezTo>
                  <a:pt x="16444" y="10487"/>
                  <a:pt x="16384" y="10540"/>
                  <a:pt x="16371" y="10592"/>
                </a:cubicBezTo>
                <a:cubicBezTo>
                  <a:pt x="16371" y="10608"/>
                  <a:pt x="16371" y="10625"/>
                  <a:pt x="16371" y="10641"/>
                </a:cubicBezTo>
                <a:cubicBezTo>
                  <a:pt x="16299" y="10662"/>
                  <a:pt x="16311" y="10699"/>
                  <a:pt x="16247" y="10740"/>
                </a:cubicBezTo>
                <a:cubicBezTo>
                  <a:pt x="16207" y="10760"/>
                  <a:pt x="16200" y="10769"/>
                  <a:pt x="16173" y="10765"/>
                </a:cubicBezTo>
                <a:cubicBezTo>
                  <a:pt x="16186" y="10805"/>
                  <a:pt x="16220" y="10812"/>
                  <a:pt x="16272" y="10815"/>
                </a:cubicBezTo>
                <a:cubicBezTo>
                  <a:pt x="16335" y="10819"/>
                  <a:pt x="16388" y="10836"/>
                  <a:pt x="16446" y="10840"/>
                </a:cubicBezTo>
                <a:cubicBezTo>
                  <a:pt x="16502" y="10844"/>
                  <a:pt x="16563" y="10840"/>
                  <a:pt x="16619" y="10840"/>
                </a:cubicBezTo>
              </a:path>
              <a:path w="4565" h="1663">
                <a:moveTo>
                  <a:pt x="16867" y="11162"/>
                </a:moveTo>
                <a:cubicBezTo>
                  <a:pt x="16913" y="11330"/>
                  <a:pt x="16955" y="11388"/>
                  <a:pt x="17016" y="11534"/>
                </a:cubicBezTo>
                <a:cubicBezTo>
                  <a:pt x="17056" y="11631"/>
                  <a:pt x="17116" y="11704"/>
                  <a:pt x="17190" y="11782"/>
                </a:cubicBezTo>
                <a:cubicBezTo>
                  <a:pt x="17235" y="11830"/>
                  <a:pt x="17320" y="11894"/>
                  <a:pt x="17388" y="11906"/>
                </a:cubicBezTo>
                <a:cubicBezTo>
                  <a:pt x="17436" y="11914"/>
                  <a:pt x="17546" y="11887"/>
                  <a:pt x="17587" y="11857"/>
                </a:cubicBezTo>
                <a:cubicBezTo>
                  <a:pt x="17603" y="11840"/>
                  <a:pt x="17620" y="11824"/>
                  <a:pt x="17636" y="11807"/>
                </a:cubicBezTo>
              </a:path>
              <a:path w="4565" h="1663">
                <a:moveTo>
                  <a:pt x="17462" y="11112"/>
                </a:moveTo>
                <a:cubicBezTo>
                  <a:pt x="17349" y="11200"/>
                  <a:pt x="17250" y="11296"/>
                  <a:pt x="17140" y="11385"/>
                </a:cubicBezTo>
                <a:cubicBezTo>
                  <a:pt x="17047" y="11461"/>
                  <a:pt x="16915" y="11538"/>
                  <a:pt x="16842" y="11633"/>
                </a:cubicBezTo>
                <a:cubicBezTo>
                  <a:pt x="16785" y="11707"/>
                  <a:pt x="16734" y="11787"/>
                  <a:pt x="16669" y="11857"/>
                </a:cubicBezTo>
                <a:cubicBezTo>
                  <a:pt x="16642" y="11886"/>
                  <a:pt x="16643" y="11899"/>
                  <a:pt x="16619" y="119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2240" y="4537080"/>
            <a:ext cx="1312920" cy="650880"/>
          </a:xfrm>
          <a:custGeom>
            <a:avLst/>
            <a:gdLst/>
            <a:ahLst/>
            <a:rect l="l" t="t" r="r" b="b"/>
            <a:pathLst>
              <a:path w="3647" h="1812">
                <a:moveTo>
                  <a:pt x="11683" y="13395"/>
                </a:moveTo>
                <a:cubicBezTo>
                  <a:pt x="11683" y="13423"/>
                  <a:pt x="11686" y="13433"/>
                  <a:pt x="11708" y="13444"/>
                </a:cubicBezTo>
                <a:cubicBezTo>
                  <a:pt x="11708" y="13389"/>
                  <a:pt x="11715" y="13369"/>
                  <a:pt x="11683" y="13345"/>
                </a:cubicBezTo>
                <a:cubicBezTo>
                  <a:pt x="11632" y="13306"/>
                  <a:pt x="11666" y="13295"/>
                  <a:pt x="11584" y="13295"/>
                </a:cubicBezTo>
                <a:cubicBezTo>
                  <a:pt x="11506" y="13295"/>
                  <a:pt x="11462" y="13322"/>
                  <a:pt x="11410" y="13370"/>
                </a:cubicBezTo>
                <a:cubicBezTo>
                  <a:pt x="11362" y="13414"/>
                  <a:pt x="11323" y="13505"/>
                  <a:pt x="11311" y="13568"/>
                </a:cubicBezTo>
                <a:cubicBezTo>
                  <a:pt x="11298" y="13636"/>
                  <a:pt x="11267" y="13719"/>
                  <a:pt x="11286" y="13791"/>
                </a:cubicBezTo>
                <a:cubicBezTo>
                  <a:pt x="11306" y="13867"/>
                  <a:pt x="11373" y="13992"/>
                  <a:pt x="11435" y="14039"/>
                </a:cubicBezTo>
                <a:cubicBezTo>
                  <a:pt x="11505" y="14092"/>
                  <a:pt x="11585" y="14071"/>
                  <a:pt x="11658" y="14064"/>
                </a:cubicBezTo>
                <a:cubicBezTo>
                  <a:pt x="11675" y="14064"/>
                  <a:pt x="11691" y="14064"/>
                  <a:pt x="11708" y="14064"/>
                </a:cubicBezTo>
              </a:path>
              <a:path w="3647" h="1812">
                <a:moveTo>
                  <a:pt x="12154" y="13543"/>
                </a:moveTo>
                <a:cubicBezTo>
                  <a:pt x="12154" y="13505"/>
                  <a:pt x="12125" y="13562"/>
                  <a:pt x="12105" y="13593"/>
                </a:cubicBezTo>
                <a:cubicBezTo>
                  <a:pt x="12061" y="13662"/>
                  <a:pt x="12034" y="13736"/>
                  <a:pt x="12030" y="13816"/>
                </a:cubicBezTo>
                <a:cubicBezTo>
                  <a:pt x="12026" y="13885"/>
                  <a:pt x="12012" y="13980"/>
                  <a:pt x="12055" y="14039"/>
                </a:cubicBezTo>
                <a:cubicBezTo>
                  <a:pt x="12083" y="14077"/>
                  <a:pt x="12178" y="14154"/>
                  <a:pt x="12229" y="14163"/>
                </a:cubicBezTo>
                <a:cubicBezTo>
                  <a:pt x="12298" y="14175"/>
                  <a:pt x="12409" y="14150"/>
                  <a:pt x="12452" y="14089"/>
                </a:cubicBezTo>
                <a:cubicBezTo>
                  <a:pt x="12506" y="14013"/>
                  <a:pt x="12502" y="13929"/>
                  <a:pt x="12502" y="13841"/>
                </a:cubicBezTo>
                <a:cubicBezTo>
                  <a:pt x="12502" y="13731"/>
                  <a:pt x="12457" y="13681"/>
                  <a:pt x="12402" y="13593"/>
                </a:cubicBezTo>
                <a:cubicBezTo>
                  <a:pt x="12365" y="13533"/>
                  <a:pt x="12327" y="13468"/>
                  <a:pt x="12254" y="13444"/>
                </a:cubicBezTo>
                <a:cubicBezTo>
                  <a:pt x="12194" y="13424"/>
                  <a:pt x="12209" y="13429"/>
                  <a:pt x="12179" y="13444"/>
                </a:cubicBezTo>
                <a:cubicBezTo>
                  <a:pt x="12147" y="13460"/>
                  <a:pt x="12154" y="13448"/>
                  <a:pt x="12154" y="13494"/>
                </a:cubicBezTo>
              </a:path>
              <a:path w="3647" h="1812">
                <a:moveTo>
                  <a:pt x="12948" y="13494"/>
                </a:moveTo>
                <a:cubicBezTo>
                  <a:pt x="12904" y="13461"/>
                  <a:pt x="12882" y="13469"/>
                  <a:pt x="12824" y="13469"/>
                </a:cubicBezTo>
                <a:cubicBezTo>
                  <a:pt x="12772" y="13469"/>
                  <a:pt x="12774" y="13501"/>
                  <a:pt x="12774" y="13543"/>
                </a:cubicBezTo>
                <a:cubicBezTo>
                  <a:pt x="12774" y="13624"/>
                  <a:pt x="12848" y="13673"/>
                  <a:pt x="12898" y="13717"/>
                </a:cubicBezTo>
                <a:cubicBezTo>
                  <a:pt x="12967" y="13778"/>
                  <a:pt x="13005" y="13882"/>
                  <a:pt x="13072" y="13940"/>
                </a:cubicBezTo>
                <a:cubicBezTo>
                  <a:pt x="13123" y="13985"/>
                  <a:pt x="13158" y="14022"/>
                  <a:pt x="13171" y="14089"/>
                </a:cubicBezTo>
                <a:cubicBezTo>
                  <a:pt x="13180" y="14132"/>
                  <a:pt x="13147" y="14207"/>
                  <a:pt x="13122" y="14238"/>
                </a:cubicBezTo>
                <a:cubicBezTo>
                  <a:pt x="13091" y="14278"/>
                  <a:pt x="13045" y="14263"/>
                  <a:pt x="12998" y="14263"/>
                </a:cubicBezTo>
                <a:cubicBezTo>
                  <a:pt x="12900" y="14263"/>
                  <a:pt x="12896" y="14213"/>
                  <a:pt x="12824" y="14163"/>
                </a:cubicBezTo>
                <a:cubicBezTo>
                  <a:pt x="12762" y="14120"/>
                  <a:pt x="12748" y="14074"/>
                  <a:pt x="12700" y="14015"/>
                </a:cubicBezTo>
              </a:path>
              <a:path w="3647" h="1812">
                <a:moveTo>
                  <a:pt x="13271" y="12824"/>
                </a:moveTo>
                <a:cubicBezTo>
                  <a:pt x="13253" y="12863"/>
                  <a:pt x="13221" y="12962"/>
                  <a:pt x="13196" y="12998"/>
                </a:cubicBezTo>
                <a:cubicBezTo>
                  <a:pt x="13170" y="13036"/>
                  <a:pt x="13156" y="13067"/>
                  <a:pt x="13221" y="13072"/>
                </a:cubicBezTo>
                <a:cubicBezTo>
                  <a:pt x="13285" y="13077"/>
                  <a:pt x="13310" y="13092"/>
                  <a:pt x="13370" y="13097"/>
                </a:cubicBezTo>
                <a:cubicBezTo>
                  <a:pt x="13430" y="13102"/>
                  <a:pt x="13472" y="13100"/>
                  <a:pt x="13519" y="13072"/>
                </a:cubicBezTo>
              </a:path>
              <a:path w="3647" h="1812">
                <a:moveTo>
                  <a:pt x="13469" y="12601"/>
                </a:moveTo>
                <a:cubicBezTo>
                  <a:pt x="13456" y="12675"/>
                  <a:pt x="13406" y="12821"/>
                  <a:pt x="13419" y="12898"/>
                </a:cubicBezTo>
                <a:cubicBezTo>
                  <a:pt x="13436" y="12999"/>
                  <a:pt x="13465" y="13092"/>
                  <a:pt x="13469" y="13196"/>
                </a:cubicBezTo>
                <a:cubicBezTo>
                  <a:pt x="13472" y="13281"/>
                  <a:pt x="13509" y="13337"/>
                  <a:pt x="13519" y="13419"/>
                </a:cubicBezTo>
              </a:path>
              <a:path w="3647" h="1812">
                <a:moveTo>
                  <a:pt x="14139" y="13692"/>
                </a:moveTo>
                <a:cubicBezTo>
                  <a:pt x="14189" y="13771"/>
                  <a:pt x="14234" y="13842"/>
                  <a:pt x="14288" y="13915"/>
                </a:cubicBezTo>
                <a:cubicBezTo>
                  <a:pt x="14359" y="14012"/>
                  <a:pt x="14425" y="14083"/>
                  <a:pt x="14511" y="14163"/>
                </a:cubicBezTo>
                <a:cubicBezTo>
                  <a:pt x="14592" y="14238"/>
                  <a:pt x="14684" y="14336"/>
                  <a:pt x="14784" y="14387"/>
                </a:cubicBezTo>
                <a:cubicBezTo>
                  <a:pt x="14885" y="14438"/>
                  <a:pt x="14879" y="14380"/>
                  <a:pt x="14932" y="14312"/>
                </a:cubicBezTo>
              </a:path>
              <a:path w="3647" h="1812">
                <a:moveTo>
                  <a:pt x="14709" y="13494"/>
                </a:moveTo>
                <a:cubicBezTo>
                  <a:pt x="14610" y="13530"/>
                  <a:pt x="14511" y="13585"/>
                  <a:pt x="14436" y="13667"/>
                </a:cubicBezTo>
                <a:cubicBezTo>
                  <a:pt x="14354" y="13757"/>
                  <a:pt x="14295" y="13873"/>
                  <a:pt x="14213" y="13965"/>
                </a:cubicBezTo>
                <a:cubicBezTo>
                  <a:pt x="14129" y="14060"/>
                  <a:pt x="14070" y="14166"/>
                  <a:pt x="13990" y="14263"/>
                </a:cubicBezTo>
                <a:cubicBezTo>
                  <a:pt x="13949" y="14313"/>
                  <a:pt x="13907" y="14362"/>
                  <a:pt x="13866" y="144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4340160"/>
            <a:ext cx="2260440" cy="1258920"/>
          </a:xfrm>
          <a:custGeom>
            <a:avLst/>
            <a:gdLst/>
            <a:ahLst/>
            <a:rect l="l" t="t" r="r" b="b"/>
            <a:pathLst>
              <a:path w="6276" h="3499">
                <a:moveTo>
                  <a:pt x="10517" y="12452"/>
                </a:moveTo>
                <a:cubicBezTo>
                  <a:pt x="10469" y="12689"/>
                  <a:pt x="10451" y="12928"/>
                  <a:pt x="10443" y="13171"/>
                </a:cubicBezTo>
                <a:cubicBezTo>
                  <a:pt x="10435" y="13404"/>
                  <a:pt x="10421" y="13634"/>
                  <a:pt x="10418" y="13866"/>
                </a:cubicBezTo>
                <a:cubicBezTo>
                  <a:pt x="10417" y="13957"/>
                  <a:pt x="10418" y="14048"/>
                  <a:pt x="10418" y="14139"/>
                </a:cubicBezTo>
                <a:cubicBezTo>
                  <a:pt x="10411" y="14060"/>
                  <a:pt x="10395" y="14002"/>
                  <a:pt x="10393" y="13915"/>
                </a:cubicBezTo>
                <a:cubicBezTo>
                  <a:pt x="10389" y="13697"/>
                  <a:pt x="10411" y="13486"/>
                  <a:pt x="10418" y="13271"/>
                </a:cubicBezTo>
                <a:cubicBezTo>
                  <a:pt x="10424" y="13103"/>
                  <a:pt x="10426" y="12940"/>
                  <a:pt x="10443" y="12774"/>
                </a:cubicBezTo>
                <a:cubicBezTo>
                  <a:pt x="10456" y="12647"/>
                  <a:pt x="10492" y="12527"/>
                  <a:pt x="10517" y="12402"/>
                </a:cubicBezTo>
                <a:cubicBezTo>
                  <a:pt x="10541" y="12284"/>
                  <a:pt x="10533" y="12202"/>
                  <a:pt x="10641" y="12129"/>
                </a:cubicBezTo>
                <a:cubicBezTo>
                  <a:pt x="10757" y="12050"/>
                  <a:pt x="10806" y="12063"/>
                  <a:pt x="10939" y="12055"/>
                </a:cubicBezTo>
                <a:cubicBezTo>
                  <a:pt x="11375" y="12027"/>
                  <a:pt x="11822" y="12061"/>
                  <a:pt x="12254" y="12105"/>
                </a:cubicBezTo>
                <a:cubicBezTo>
                  <a:pt x="12629" y="12143"/>
                  <a:pt x="12997" y="12209"/>
                  <a:pt x="13370" y="12254"/>
                </a:cubicBezTo>
                <a:cubicBezTo>
                  <a:pt x="14014" y="12333"/>
                  <a:pt x="14661" y="12433"/>
                  <a:pt x="15304" y="12502"/>
                </a:cubicBezTo>
                <a:cubicBezTo>
                  <a:pt x="15410" y="12513"/>
                  <a:pt x="15531" y="12502"/>
                  <a:pt x="15627" y="12551"/>
                </a:cubicBezTo>
                <a:cubicBezTo>
                  <a:pt x="15685" y="12581"/>
                  <a:pt x="15719" y="12618"/>
                  <a:pt x="15751" y="12675"/>
                </a:cubicBezTo>
                <a:cubicBezTo>
                  <a:pt x="15774" y="12716"/>
                  <a:pt x="15771" y="12850"/>
                  <a:pt x="15776" y="12898"/>
                </a:cubicBezTo>
                <a:cubicBezTo>
                  <a:pt x="15822" y="13377"/>
                  <a:pt x="15818" y="13857"/>
                  <a:pt x="15875" y="14337"/>
                </a:cubicBezTo>
                <a:cubicBezTo>
                  <a:pt x="15903" y="14572"/>
                  <a:pt x="15960" y="14796"/>
                  <a:pt x="15974" y="15032"/>
                </a:cubicBezTo>
                <a:cubicBezTo>
                  <a:pt x="15979" y="15122"/>
                  <a:pt x="16015" y="15431"/>
                  <a:pt x="15949" y="15503"/>
                </a:cubicBezTo>
                <a:cubicBezTo>
                  <a:pt x="15922" y="15533"/>
                  <a:pt x="15885" y="15542"/>
                  <a:pt x="15850" y="15553"/>
                </a:cubicBezTo>
                <a:cubicBezTo>
                  <a:pt x="15815" y="15564"/>
                  <a:pt x="15640" y="15511"/>
                  <a:pt x="15602" y="15503"/>
                </a:cubicBezTo>
                <a:cubicBezTo>
                  <a:pt x="15520" y="15486"/>
                  <a:pt x="15439" y="15467"/>
                  <a:pt x="15354" y="15453"/>
                </a:cubicBezTo>
                <a:cubicBezTo>
                  <a:pt x="15252" y="15436"/>
                  <a:pt x="15135" y="15410"/>
                  <a:pt x="15032" y="15404"/>
                </a:cubicBezTo>
                <a:cubicBezTo>
                  <a:pt x="14890" y="15396"/>
                  <a:pt x="14751" y="15393"/>
                  <a:pt x="14610" y="15379"/>
                </a:cubicBezTo>
                <a:cubicBezTo>
                  <a:pt x="14402" y="15358"/>
                  <a:pt x="14198" y="15312"/>
                  <a:pt x="13990" y="15280"/>
                </a:cubicBezTo>
                <a:cubicBezTo>
                  <a:pt x="13770" y="15246"/>
                  <a:pt x="13563" y="15173"/>
                  <a:pt x="13345" y="15131"/>
                </a:cubicBezTo>
                <a:cubicBezTo>
                  <a:pt x="13104" y="15085"/>
                  <a:pt x="12865" y="15039"/>
                  <a:pt x="12626" y="14982"/>
                </a:cubicBezTo>
                <a:cubicBezTo>
                  <a:pt x="12288" y="14901"/>
                  <a:pt x="11951" y="14816"/>
                  <a:pt x="11609" y="14759"/>
                </a:cubicBezTo>
                <a:cubicBezTo>
                  <a:pt x="11304" y="14708"/>
                  <a:pt x="10996" y="14690"/>
                  <a:pt x="10691" y="14660"/>
                </a:cubicBezTo>
                <a:cubicBezTo>
                  <a:pt x="10517" y="14643"/>
                  <a:pt x="10344" y="14608"/>
                  <a:pt x="10170" y="14610"/>
                </a:cubicBezTo>
                <a:cubicBezTo>
                  <a:pt x="10061" y="14611"/>
                  <a:pt x="9956" y="14629"/>
                  <a:pt x="9847" y="14635"/>
                </a:cubicBezTo>
                <a:cubicBezTo>
                  <a:pt x="9811" y="14637"/>
                  <a:pt x="9804" y="14703"/>
                  <a:pt x="9773" y="14684"/>
                </a:cubicBezTo>
                <a:cubicBezTo>
                  <a:pt x="9724" y="14654"/>
                  <a:pt x="9740" y="14577"/>
                  <a:pt x="9699" y="145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3.  (Cot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 + Csc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)(Cot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 – Csc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)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86240" y="1384200"/>
            <a:ext cx="304920" cy="179640"/>
          </a:xfrm>
          <a:custGeom>
            <a:avLst/>
            <a:gdLst/>
            <a:ahLst/>
            <a:rect l="l" t="t" r="r" b="b"/>
            <a:pathLst>
              <a:path w="845" h="497">
                <a:moveTo>
                  <a:pt x="14684" y="4093"/>
                </a:moveTo>
                <a:cubicBezTo>
                  <a:pt x="14692" y="4116"/>
                  <a:pt x="14726" y="4131"/>
                  <a:pt x="14759" y="4142"/>
                </a:cubicBezTo>
                <a:cubicBezTo>
                  <a:pt x="14809" y="4158"/>
                  <a:pt x="14862" y="4207"/>
                  <a:pt x="14908" y="4242"/>
                </a:cubicBezTo>
                <a:cubicBezTo>
                  <a:pt x="14946" y="4271"/>
                  <a:pt x="15029" y="4300"/>
                  <a:pt x="15081" y="4316"/>
                </a:cubicBezTo>
                <a:cubicBezTo>
                  <a:pt x="15122" y="4329"/>
                  <a:pt x="15188" y="4337"/>
                  <a:pt x="15230" y="4341"/>
                </a:cubicBezTo>
                <a:cubicBezTo>
                  <a:pt x="15256" y="4344"/>
                  <a:pt x="15318" y="4332"/>
                  <a:pt x="15329" y="4316"/>
                </a:cubicBezTo>
                <a:cubicBezTo>
                  <a:pt x="15346" y="4290"/>
                  <a:pt x="15396" y="4227"/>
                  <a:pt x="15404" y="4192"/>
                </a:cubicBezTo>
                <a:cubicBezTo>
                  <a:pt x="15420" y="4125"/>
                  <a:pt x="15448" y="4064"/>
                  <a:pt x="15478" y="3994"/>
                </a:cubicBezTo>
                <a:cubicBezTo>
                  <a:pt x="15500" y="3942"/>
                  <a:pt x="15516" y="3894"/>
                  <a:pt x="15528" y="38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25960" y="2035080"/>
            <a:ext cx="3062160" cy="420840"/>
          </a:xfrm>
          <a:custGeom>
            <a:avLst/>
            <a:gdLst/>
            <a:ahLst/>
            <a:rect l="l" t="t" r="r" b="b"/>
            <a:pathLst>
              <a:path w="8509" h="1167">
                <a:moveTo>
                  <a:pt x="11485" y="5730"/>
                </a:moveTo>
                <a:cubicBezTo>
                  <a:pt x="11525" y="5784"/>
                  <a:pt x="11561" y="5829"/>
                  <a:pt x="11609" y="5879"/>
                </a:cubicBezTo>
                <a:cubicBezTo>
                  <a:pt x="11664" y="5936"/>
                  <a:pt x="11718" y="5983"/>
                  <a:pt x="11782" y="6028"/>
                </a:cubicBezTo>
                <a:cubicBezTo>
                  <a:pt x="11862" y="6084"/>
                  <a:pt x="11947" y="6128"/>
                  <a:pt x="12030" y="6176"/>
                </a:cubicBezTo>
                <a:cubicBezTo>
                  <a:pt x="12156" y="6248"/>
                  <a:pt x="12296" y="6267"/>
                  <a:pt x="12427" y="6325"/>
                </a:cubicBezTo>
                <a:cubicBezTo>
                  <a:pt x="12567" y="6387"/>
                  <a:pt x="12677" y="6399"/>
                  <a:pt x="12824" y="6424"/>
                </a:cubicBezTo>
                <a:cubicBezTo>
                  <a:pt x="12960" y="6447"/>
                  <a:pt x="13085" y="6457"/>
                  <a:pt x="13221" y="6474"/>
                </a:cubicBezTo>
                <a:cubicBezTo>
                  <a:pt x="13388" y="6495"/>
                  <a:pt x="13524" y="6478"/>
                  <a:pt x="13692" y="6474"/>
                </a:cubicBezTo>
                <a:cubicBezTo>
                  <a:pt x="13883" y="6470"/>
                  <a:pt x="14033" y="6423"/>
                  <a:pt x="14213" y="6375"/>
                </a:cubicBezTo>
                <a:cubicBezTo>
                  <a:pt x="14420" y="6320"/>
                  <a:pt x="14633" y="6256"/>
                  <a:pt x="14833" y="6176"/>
                </a:cubicBezTo>
                <a:cubicBezTo>
                  <a:pt x="14971" y="6121"/>
                  <a:pt x="15132" y="6062"/>
                  <a:pt x="15255" y="5978"/>
                </a:cubicBezTo>
                <a:cubicBezTo>
                  <a:pt x="15330" y="5926"/>
                  <a:pt x="15416" y="5874"/>
                  <a:pt x="15478" y="5804"/>
                </a:cubicBezTo>
                <a:cubicBezTo>
                  <a:pt x="15511" y="5767"/>
                  <a:pt x="15524" y="5740"/>
                  <a:pt x="15553" y="5705"/>
                </a:cubicBezTo>
                <a:cubicBezTo>
                  <a:pt x="15571" y="5683"/>
                  <a:pt x="15559" y="5702"/>
                  <a:pt x="15577" y="5680"/>
                </a:cubicBezTo>
                <a:cubicBezTo>
                  <a:pt x="15569" y="5705"/>
                  <a:pt x="15560" y="5732"/>
                  <a:pt x="15553" y="5755"/>
                </a:cubicBezTo>
              </a:path>
              <a:path w="8509" h="1167">
                <a:moveTo>
                  <a:pt x="11460" y="5755"/>
                </a:moveTo>
                <a:cubicBezTo>
                  <a:pt x="11485" y="5786"/>
                  <a:pt x="11515" y="5829"/>
                  <a:pt x="11534" y="5854"/>
                </a:cubicBezTo>
                <a:cubicBezTo>
                  <a:pt x="11566" y="5894"/>
                  <a:pt x="11597" y="5943"/>
                  <a:pt x="11633" y="5978"/>
                </a:cubicBezTo>
                <a:cubicBezTo>
                  <a:pt x="11674" y="6018"/>
                  <a:pt x="11735" y="6067"/>
                  <a:pt x="11782" y="6102"/>
                </a:cubicBezTo>
                <a:cubicBezTo>
                  <a:pt x="11850" y="6153"/>
                  <a:pt x="11909" y="6209"/>
                  <a:pt x="11981" y="6251"/>
                </a:cubicBezTo>
                <a:cubicBezTo>
                  <a:pt x="12105" y="6323"/>
                  <a:pt x="12244" y="6393"/>
                  <a:pt x="12378" y="6449"/>
                </a:cubicBezTo>
                <a:cubicBezTo>
                  <a:pt x="12503" y="6501"/>
                  <a:pt x="12645" y="6561"/>
                  <a:pt x="12774" y="6598"/>
                </a:cubicBezTo>
                <a:cubicBezTo>
                  <a:pt x="12964" y="6652"/>
                  <a:pt x="13154" y="6665"/>
                  <a:pt x="13345" y="6697"/>
                </a:cubicBezTo>
                <a:cubicBezTo>
                  <a:pt x="13577" y="6736"/>
                  <a:pt x="13804" y="6784"/>
                  <a:pt x="14039" y="6796"/>
                </a:cubicBezTo>
                <a:cubicBezTo>
                  <a:pt x="14321" y="6810"/>
                  <a:pt x="14601" y="6821"/>
                  <a:pt x="14883" y="6821"/>
                </a:cubicBezTo>
                <a:cubicBezTo>
                  <a:pt x="15271" y="6821"/>
                  <a:pt x="15662" y="6820"/>
                  <a:pt x="16049" y="6796"/>
                </a:cubicBezTo>
                <a:cubicBezTo>
                  <a:pt x="16304" y="6780"/>
                  <a:pt x="16565" y="6752"/>
                  <a:pt x="16818" y="6722"/>
                </a:cubicBezTo>
                <a:cubicBezTo>
                  <a:pt x="17054" y="6694"/>
                  <a:pt x="17305" y="6650"/>
                  <a:pt x="17537" y="6598"/>
                </a:cubicBezTo>
                <a:cubicBezTo>
                  <a:pt x="17810" y="6537"/>
                  <a:pt x="18075" y="6438"/>
                  <a:pt x="18331" y="6350"/>
                </a:cubicBezTo>
                <a:cubicBezTo>
                  <a:pt x="18513" y="6287"/>
                  <a:pt x="18699" y="6246"/>
                  <a:pt x="18876" y="6176"/>
                </a:cubicBezTo>
                <a:cubicBezTo>
                  <a:pt x="19049" y="6108"/>
                  <a:pt x="19228" y="6028"/>
                  <a:pt x="19397" y="5953"/>
                </a:cubicBezTo>
                <a:cubicBezTo>
                  <a:pt x="19520" y="5898"/>
                  <a:pt x="19648" y="5843"/>
                  <a:pt x="19769" y="5779"/>
                </a:cubicBezTo>
                <a:cubicBezTo>
                  <a:pt x="19817" y="5753"/>
                  <a:pt x="19853" y="5734"/>
                  <a:pt x="19893" y="5705"/>
                </a:cubicBezTo>
                <a:cubicBezTo>
                  <a:pt x="19910" y="5693"/>
                  <a:pt x="19952" y="5695"/>
                  <a:pt x="19968" y="5680"/>
                </a:cubicBezTo>
                <a:cubicBezTo>
                  <a:pt x="19968" y="5655"/>
                  <a:pt x="19968" y="5647"/>
                  <a:pt x="19943" y="56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82840" y="2455920"/>
            <a:ext cx="3902040" cy="581040"/>
          </a:xfrm>
          <a:custGeom>
            <a:avLst/>
            <a:gdLst/>
            <a:ahLst/>
            <a:rect l="l" t="t" r="r" b="b"/>
            <a:pathLst>
              <a:path w="10840" h="1614">
                <a:moveTo>
                  <a:pt x="4539" y="7392"/>
                </a:moveTo>
                <a:cubicBezTo>
                  <a:pt x="4539" y="7443"/>
                  <a:pt x="4538" y="7462"/>
                  <a:pt x="4514" y="7491"/>
                </a:cubicBezTo>
                <a:cubicBezTo>
                  <a:pt x="4514" y="7447"/>
                  <a:pt x="4512" y="7401"/>
                  <a:pt x="4490" y="7367"/>
                </a:cubicBezTo>
                <a:cubicBezTo>
                  <a:pt x="4461" y="7323"/>
                  <a:pt x="4469" y="7317"/>
                  <a:pt x="4415" y="7317"/>
                </a:cubicBezTo>
                <a:cubicBezTo>
                  <a:pt x="4362" y="7317"/>
                  <a:pt x="4354" y="7329"/>
                  <a:pt x="4316" y="7367"/>
                </a:cubicBezTo>
                <a:cubicBezTo>
                  <a:pt x="4259" y="7424"/>
                  <a:pt x="4227" y="7471"/>
                  <a:pt x="4192" y="7541"/>
                </a:cubicBezTo>
                <a:cubicBezTo>
                  <a:pt x="4152" y="7620"/>
                  <a:pt x="4164" y="7706"/>
                  <a:pt x="4142" y="7789"/>
                </a:cubicBezTo>
                <a:cubicBezTo>
                  <a:pt x="4115" y="7889"/>
                  <a:pt x="4125" y="8013"/>
                  <a:pt x="4167" y="8111"/>
                </a:cubicBezTo>
                <a:cubicBezTo>
                  <a:pt x="4200" y="8188"/>
                  <a:pt x="4233" y="8208"/>
                  <a:pt x="4291" y="8260"/>
                </a:cubicBezTo>
                <a:cubicBezTo>
                  <a:pt x="4351" y="8315"/>
                  <a:pt x="4399" y="8271"/>
                  <a:pt x="4465" y="8260"/>
                </a:cubicBezTo>
                <a:cubicBezTo>
                  <a:pt x="4481" y="8260"/>
                  <a:pt x="4498" y="8260"/>
                  <a:pt x="4514" y="8260"/>
                </a:cubicBezTo>
              </a:path>
              <a:path w="10840" h="1614">
                <a:moveTo>
                  <a:pt x="4961" y="7615"/>
                </a:moveTo>
                <a:cubicBezTo>
                  <a:pt x="4952" y="7686"/>
                  <a:pt x="4930" y="7770"/>
                  <a:pt x="4911" y="7838"/>
                </a:cubicBezTo>
                <a:cubicBezTo>
                  <a:pt x="4890" y="7914"/>
                  <a:pt x="4870" y="8003"/>
                  <a:pt x="4887" y="8086"/>
                </a:cubicBezTo>
                <a:cubicBezTo>
                  <a:pt x="4902" y="8162"/>
                  <a:pt x="4924" y="8208"/>
                  <a:pt x="4986" y="8235"/>
                </a:cubicBezTo>
                <a:cubicBezTo>
                  <a:pt x="5072" y="8272"/>
                  <a:pt x="5163" y="8222"/>
                  <a:pt x="5234" y="8161"/>
                </a:cubicBezTo>
                <a:cubicBezTo>
                  <a:pt x="5328" y="8081"/>
                  <a:pt x="5328" y="8016"/>
                  <a:pt x="5358" y="7913"/>
                </a:cubicBezTo>
                <a:cubicBezTo>
                  <a:pt x="5382" y="7828"/>
                  <a:pt x="5402" y="7752"/>
                  <a:pt x="5358" y="7665"/>
                </a:cubicBezTo>
                <a:cubicBezTo>
                  <a:pt x="5328" y="7606"/>
                  <a:pt x="5290" y="7549"/>
                  <a:pt x="5234" y="7516"/>
                </a:cubicBezTo>
                <a:cubicBezTo>
                  <a:pt x="5178" y="7483"/>
                  <a:pt x="5104" y="7443"/>
                  <a:pt x="5035" y="7466"/>
                </a:cubicBezTo>
                <a:cubicBezTo>
                  <a:pt x="4982" y="7484"/>
                  <a:pt x="5019" y="7543"/>
                  <a:pt x="5035" y="7565"/>
                </a:cubicBezTo>
              </a:path>
              <a:path w="10840" h="1614">
                <a:moveTo>
                  <a:pt x="6003" y="7094"/>
                </a:moveTo>
                <a:cubicBezTo>
                  <a:pt x="5978" y="7178"/>
                  <a:pt x="5978" y="7229"/>
                  <a:pt x="5978" y="7317"/>
                </a:cubicBezTo>
                <a:cubicBezTo>
                  <a:pt x="5978" y="7473"/>
                  <a:pt x="5958" y="7639"/>
                  <a:pt x="6003" y="7789"/>
                </a:cubicBezTo>
                <a:cubicBezTo>
                  <a:pt x="6032" y="7885"/>
                  <a:pt x="6048" y="7986"/>
                  <a:pt x="6052" y="8086"/>
                </a:cubicBezTo>
                <a:cubicBezTo>
                  <a:pt x="6054" y="8138"/>
                  <a:pt x="6077" y="8287"/>
                  <a:pt x="6077" y="8235"/>
                </a:cubicBezTo>
                <a:cubicBezTo>
                  <a:pt x="6077" y="8188"/>
                  <a:pt x="6042" y="8114"/>
                  <a:pt x="6028" y="8062"/>
                </a:cubicBezTo>
              </a:path>
              <a:path w="10840" h="1614">
                <a:moveTo>
                  <a:pt x="5705" y="7789"/>
                </a:moveTo>
                <a:cubicBezTo>
                  <a:pt x="5775" y="7814"/>
                  <a:pt x="5828" y="7813"/>
                  <a:pt x="5904" y="7813"/>
                </a:cubicBezTo>
                <a:cubicBezTo>
                  <a:pt x="6031" y="7813"/>
                  <a:pt x="6154" y="7824"/>
                  <a:pt x="6276" y="7789"/>
                </a:cubicBezTo>
              </a:path>
              <a:path w="10840" h="1614">
                <a:moveTo>
                  <a:pt x="6474" y="6945"/>
                </a:moveTo>
                <a:cubicBezTo>
                  <a:pt x="6535" y="6890"/>
                  <a:pt x="6589" y="6836"/>
                  <a:pt x="6672" y="6821"/>
                </a:cubicBezTo>
                <a:cubicBezTo>
                  <a:pt x="6700" y="6816"/>
                  <a:pt x="6809" y="6807"/>
                  <a:pt x="6821" y="6846"/>
                </a:cubicBezTo>
                <a:cubicBezTo>
                  <a:pt x="6830" y="6876"/>
                  <a:pt x="6789" y="6941"/>
                  <a:pt x="6772" y="6970"/>
                </a:cubicBezTo>
                <a:cubicBezTo>
                  <a:pt x="6743" y="7018"/>
                  <a:pt x="6689" y="7038"/>
                  <a:pt x="6648" y="7069"/>
                </a:cubicBezTo>
                <a:cubicBezTo>
                  <a:pt x="6611" y="7097"/>
                  <a:pt x="6602" y="7151"/>
                  <a:pt x="6598" y="7193"/>
                </a:cubicBezTo>
                <a:cubicBezTo>
                  <a:pt x="6593" y="7257"/>
                  <a:pt x="6682" y="7243"/>
                  <a:pt x="6722" y="7243"/>
                </a:cubicBezTo>
                <a:cubicBezTo>
                  <a:pt x="6788" y="7243"/>
                  <a:pt x="6855" y="7243"/>
                  <a:pt x="6921" y="7243"/>
                </a:cubicBezTo>
              </a:path>
              <a:path w="10840" h="1614">
                <a:moveTo>
                  <a:pt x="7640" y="7268"/>
                </a:moveTo>
                <a:cubicBezTo>
                  <a:pt x="7620" y="7288"/>
                  <a:pt x="7587" y="7324"/>
                  <a:pt x="7565" y="7367"/>
                </a:cubicBezTo>
                <a:cubicBezTo>
                  <a:pt x="7538" y="7418"/>
                  <a:pt x="7508" y="7459"/>
                  <a:pt x="7491" y="7516"/>
                </a:cubicBezTo>
                <a:cubicBezTo>
                  <a:pt x="7463" y="7608"/>
                  <a:pt x="7420" y="7674"/>
                  <a:pt x="7392" y="7764"/>
                </a:cubicBezTo>
                <a:cubicBezTo>
                  <a:pt x="7353" y="7891"/>
                  <a:pt x="7342" y="7957"/>
                  <a:pt x="7342" y="8086"/>
                </a:cubicBezTo>
                <a:cubicBezTo>
                  <a:pt x="7342" y="8154"/>
                  <a:pt x="7378" y="8206"/>
                  <a:pt x="7417" y="8260"/>
                </a:cubicBezTo>
                <a:cubicBezTo>
                  <a:pt x="7442" y="8294"/>
                  <a:pt x="7524" y="8304"/>
                  <a:pt x="7565" y="8310"/>
                </a:cubicBezTo>
                <a:cubicBezTo>
                  <a:pt x="7637" y="8320"/>
                  <a:pt x="7708" y="8267"/>
                  <a:pt x="7764" y="8235"/>
                </a:cubicBezTo>
                <a:cubicBezTo>
                  <a:pt x="7840" y="8192"/>
                  <a:pt x="7896" y="8139"/>
                  <a:pt x="7938" y="8062"/>
                </a:cubicBezTo>
                <a:cubicBezTo>
                  <a:pt x="7988" y="7970"/>
                  <a:pt x="8008" y="7867"/>
                  <a:pt x="8012" y="7764"/>
                </a:cubicBezTo>
                <a:cubicBezTo>
                  <a:pt x="8016" y="7672"/>
                  <a:pt x="8024" y="7574"/>
                  <a:pt x="7987" y="7491"/>
                </a:cubicBezTo>
                <a:cubicBezTo>
                  <a:pt x="7969" y="7451"/>
                  <a:pt x="7948" y="7427"/>
                  <a:pt x="7913" y="7392"/>
                </a:cubicBezTo>
                <a:cubicBezTo>
                  <a:pt x="7894" y="7373"/>
                  <a:pt x="7869" y="7338"/>
                  <a:pt x="7813" y="7342"/>
                </a:cubicBezTo>
                <a:cubicBezTo>
                  <a:pt x="7789" y="7367"/>
                  <a:pt x="7781" y="7376"/>
                  <a:pt x="7764" y="7392"/>
                </a:cubicBezTo>
              </a:path>
              <a:path w="10840" h="1614">
                <a:moveTo>
                  <a:pt x="7193" y="7739"/>
                </a:moveTo>
                <a:cubicBezTo>
                  <a:pt x="7206" y="7779"/>
                  <a:pt x="7242" y="7764"/>
                  <a:pt x="7293" y="7764"/>
                </a:cubicBezTo>
                <a:cubicBezTo>
                  <a:pt x="7533" y="7764"/>
                  <a:pt x="7781" y="7752"/>
                  <a:pt x="8012" y="7789"/>
                </a:cubicBezTo>
                <a:cubicBezTo>
                  <a:pt x="8061" y="7797"/>
                  <a:pt x="8114" y="7720"/>
                  <a:pt x="8136" y="7764"/>
                </a:cubicBezTo>
                <a:cubicBezTo>
                  <a:pt x="8136" y="7772"/>
                  <a:pt x="8136" y="7781"/>
                  <a:pt x="8136" y="7789"/>
                </a:cubicBezTo>
              </a:path>
              <a:path w="10840" h="1614">
                <a:moveTo>
                  <a:pt x="8756" y="8012"/>
                </a:moveTo>
                <a:cubicBezTo>
                  <a:pt x="8831" y="8012"/>
                  <a:pt x="8943" y="8044"/>
                  <a:pt x="9004" y="8037"/>
                </a:cubicBezTo>
                <a:cubicBezTo>
                  <a:pt x="9093" y="8027"/>
                  <a:pt x="9181" y="8012"/>
                  <a:pt x="9277" y="8012"/>
                </a:cubicBezTo>
                <a:cubicBezTo>
                  <a:pt x="9443" y="8012"/>
                  <a:pt x="9624" y="8028"/>
                  <a:pt x="9773" y="7987"/>
                </a:cubicBezTo>
                <a:cubicBezTo>
                  <a:pt x="9790" y="7982"/>
                  <a:pt x="9928" y="7988"/>
                  <a:pt x="9897" y="8012"/>
                </a:cubicBezTo>
                <a:cubicBezTo>
                  <a:pt x="9889" y="8012"/>
                  <a:pt x="9880" y="8012"/>
                  <a:pt x="9872" y="8012"/>
                </a:cubicBezTo>
              </a:path>
              <a:path w="10840" h="1614">
                <a:moveTo>
                  <a:pt x="10790" y="7640"/>
                </a:moveTo>
                <a:cubicBezTo>
                  <a:pt x="10798" y="7665"/>
                  <a:pt x="10807" y="7689"/>
                  <a:pt x="10815" y="7714"/>
                </a:cubicBezTo>
                <a:cubicBezTo>
                  <a:pt x="10815" y="7658"/>
                  <a:pt x="10805" y="7636"/>
                  <a:pt x="10790" y="7590"/>
                </a:cubicBezTo>
                <a:cubicBezTo>
                  <a:pt x="10777" y="7550"/>
                  <a:pt x="10751" y="7496"/>
                  <a:pt x="10691" y="7516"/>
                </a:cubicBezTo>
                <a:cubicBezTo>
                  <a:pt x="10655" y="7528"/>
                  <a:pt x="10621" y="7561"/>
                  <a:pt x="10592" y="7590"/>
                </a:cubicBezTo>
                <a:cubicBezTo>
                  <a:pt x="10561" y="7621"/>
                  <a:pt x="10541" y="7675"/>
                  <a:pt x="10517" y="7714"/>
                </a:cubicBezTo>
                <a:cubicBezTo>
                  <a:pt x="10482" y="7772"/>
                  <a:pt x="10454" y="7849"/>
                  <a:pt x="10443" y="7913"/>
                </a:cubicBezTo>
                <a:cubicBezTo>
                  <a:pt x="10429" y="7998"/>
                  <a:pt x="10434" y="8109"/>
                  <a:pt x="10468" y="8186"/>
                </a:cubicBezTo>
                <a:cubicBezTo>
                  <a:pt x="10489" y="8234"/>
                  <a:pt x="10540" y="8296"/>
                  <a:pt x="10592" y="8310"/>
                </a:cubicBezTo>
                <a:cubicBezTo>
                  <a:pt x="10667" y="8330"/>
                  <a:pt x="10688" y="8322"/>
                  <a:pt x="10765" y="8310"/>
                </a:cubicBezTo>
                <a:cubicBezTo>
                  <a:pt x="10873" y="8293"/>
                  <a:pt x="10889" y="8277"/>
                  <a:pt x="10988" y="8210"/>
                </a:cubicBezTo>
              </a:path>
              <a:path w="10840" h="1614">
                <a:moveTo>
                  <a:pt x="11658" y="7615"/>
                </a:moveTo>
                <a:cubicBezTo>
                  <a:pt x="11666" y="7598"/>
                  <a:pt x="11675" y="7582"/>
                  <a:pt x="11683" y="7565"/>
                </a:cubicBezTo>
                <a:cubicBezTo>
                  <a:pt x="11646" y="7553"/>
                  <a:pt x="11661" y="7541"/>
                  <a:pt x="11609" y="7541"/>
                </a:cubicBezTo>
                <a:cubicBezTo>
                  <a:pt x="11541" y="7541"/>
                  <a:pt x="11498" y="7551"/>
                  <a:pt x="11435" y="7565"/>
                </a:cubicBezTo>
                <a:cubicBezTo>
                  <a:pt x="11393" y="7574"/>
                  <a:pt x="11321" y="7598"/>
                  <a:pt x="11286" y="7615"/>
                </a:cubicBezTo>
                <a:cubicBezTo>
                  <a:pt x="11278" y="7623"/>
                  <a:pt x="11269" y="7632"/>
                  <a:pt x="11261" y="7640"/>
                </a:cubicBezTo>
                <a:cubicBezTo>
                  <a:pt x="11261" y="7709"/>
                  <a:pt x="11276" y="7728"/>
                  <a:pt x="11336" y="7764"/>
                </a:cubicBezTo>
                <a:cubicBezTo>
                  <a:pt x="11401" y="7803"/>
                  <a:pt x="11468" y="7825"/>
                  <a:pt x="11534" y="7863"/>
                </a:cubicBezTo>
                <a:cubicBezTo>
                  <a:pt x="11618" y="7912"/>
                  <a:pt x="11686" y="7977"/>
                  <a:pt x="11733" y="8062"/>
                </a:cubicBezTo>
                <a:cubicBezTo>
                  <a:pt x="11773" y="8135"/>
                  <a:pt x="11793" y="8166"/>
                  <a:pt x="11757" y="8235"/>
                </a:cubicBezTo>
                <a:cubicBezTo>
                  <a:pt x="11720" y="8306"/>
                  <a:pt x="11657" y="8348"/>
                  <a:pt x="11584" y="8359"/>
                </a:cubicBezTo>
                <a:cubicBezTo>
                  <a:pt x="11541" y="8365"/>
                  <a:pt x="11388" y="8378"/>
                  <a:pt x="11361" y="8334"/>
                </a:cubicBezTo>
                <a:cubicBezTo>
                  <a:pt x="11345" y="8308"/>
                  <a:pt x="11378" y="8252"/>
                  <a:pt x="11385" y="8235"/>
                </a:cubicBezTo>
              </a:path>
              <a:path w="10840" h="1614">
                <a:moveTo>
                  <a:pt x="12402" y="7665"/>
                </a:moveTo>
                <a:cubicBezTo>
                  <a:pt x="12455" y="7665"/>
                  <a:pt x="12384" y="7653"/>
                  <a:pt x="12378" y="7640"/>
                </a:cubicBezTo>
                <a:cubicBezTo>
                  <a:pt x="12366" y="7615"/>
                  <a:pt x="12362" y="7593"/>
                  <a:pt x="12328" y="7590"/>
                </a:cubicBezTo>
                <a:cubicBezTo>
                  <a:pt x="12260" y="7585"/>
                  <a:pt x="12250" y="7594"/>
                  <a:pt x="12204" y="7640"/>
                </a:cubicBezTo>
                <a:cubicBezTo>
                  <a:pt x="12149" y="7695"/>
                  <a:pt x="12062" y="7793"/>
                  <a:pt x="12030" y="7863"/>
                </a:cubicBezTo>
                <a:cubicBezTo>
                  <a:pt x="11991" y="7948"/>
                  <a:pt x="11997" y="8031"/>
                  <a:pt x="12005" y="8111"/>
                </a:cubicBezTo>
                <a:cubicBezTo>
                  <a:pt x="12010" y="8164"/>
                  <a:pt x="12024" y="8255"/>
                  <a:pt x="12080" y="8285"/>
                </a:cubicBezTo>
                <a:cubicBezTo>
                  <a:pt x="12154" y="8324"/>
                  <a:pt x="12222" y="8334"/>
                  <a:pt x="12303" y="8334"/>
                </a:cubicBezTo>
                <a:cubicBezTo>
                  <a:pt x="12345" y="8334"/>
                  <a:pt x="12479" y="8356"/>
                  <a:pt x="12502" y="8310"/>
                </a:cubicBezTo>
                <a:cubicBezTo>
                  <a:pt x="12522" y="8249"/>
                  <a:pt x="12519" y="8234"/>
                  <a:pt x="12551" y="8210"/>
                </a:cubicBezTo>
              </a:path>
              <a:path w="10840" h="1614">
                <a:moveTo>
                  <a:pt x="12601" y="7243"/>
                </a:moveTo>
                <a:cubicBezTo>
                  <a:pt x="12653" y="7217"/>
                  <a:pt x="12717" y="7179"/>
                  <a:pt x="12774" y="7169"/>
                </a:cubicBezTo>
                <a:cubicBezTo>
                  <a:pt x="12834" y="7159"/>
                  <a:pt x="12876" y="7184"/>
                  <a:pt x="12923" y="7193"/>
                </a:cubicBezTo>
                <a:cubicBezTo>
                  <a:pt x="12979" y="7204"/>
                  <a:pt x="13003" y="7210"/>
                  <a:pt x="13022" y="7268"/>
                </a:cubicBezTo>
                <a:cubicBezTo>
                  <a:pt x="13031" y="7295"/>
                  <a:pt x="12990" y="7348"/>
                  <a:pt x="12973" y="7367"/>
                </a:cubicBezTo>
                <a:cubicBezTo>
                  <a:pt x="12920" y="7427"/>
                  <a:pt x="12865" y="7439"/>
                  <a:pt x="12824" y="7516"/>
                </a:cubicBezTo>
                <a:cubicBezTo>
                  <a:pt x="12824" y="7541"/>
                  <a:pt x="12824" y="7549"/>
                  <a:pt x="12824" y="7565"/>
                </a:cubicBezTo>
                <a:cubicBezTo>
                  <a:pt x="12889" y="7565"/>
                  <a:pt x="12914" y="7575"/>
                  <a:pt x="12973" y="7590"/>
                </a:cubicBezTo>
                <a:cubicBezTo>
                  <a:pt x="13038" y="7606"/>
                  <a:pt x="13129" y="7590"/>
                  <a:pt x="13196" y="7590"/>
                </a:cubicBezTo>
              </a:path>
              <a:path w="10840" h="1614">
                <a:moveTo>
                  <a:pt x="13990" y="7491"/>
                </a:moveTo>
                <a:cubicBezTo>
                  <a:pt x="13963" y="7507"/>
                  <a:pt x="13920" y="7503"/>
                  <a:pt x="13891" y="7541"/>
                </a:cubicBezTo>
                <a:cubicBezTo>
                  <a:pt x="13850" y="7594"/>
                  <a:pt x="13804" y="7659"/>
                  <a:pt x="13767" y="7714"/>
                </a:cubicBezTo>
                <a:cubicBezTo>
                  <a:pt x="13714" y="7794"/>
                  <a:pt x="13689" y="7879"/>
                  <a:pt x="13667" y="7962"/>
                </a:cubicBezTo>
                <a:cubicBezTo>
                  <a:pt x="13641" y="8060"/>
                  <a:pt x="13594" y="8155"/>
                  <a:pt x="13618" y="8260"/>
                </a:cubicBezTo>
                <a:cubicBezTo>
                  <a:pt x="13629" y="8306"/>
                  <a:pt x="13657" y="8424"/>
                  <a:pt x="13717" y="8434"/>
                </a:cubicBezTo>
                <a:cubicBezTo>
                  <a:pt x="13830" y="8453"/>
                  <a:pt x="13932" y="8421"/>
                  <a:pt x="14039" y="8409"/>
                </a:cubicBezTo>
                <a:cubicBezTo>
                  <a:pt x="14143" y="8397"/>
                  <a:pt x="14232" y="8357"/>
                  <a:pt x="14312" y="8285"/>
                </a:cubicBezTo>
                <a:cubicBezTo>
                  <a:pt x="14370" y="8233"/>
                  <a:pt x="14423" y="8139"/>
                  <a:pt x="14436" y="8062"/>
                </a:cubicBezTo>
                <a:cubicBezTo>
                  <a:pt x="14451" y="7970"/>
                  <a:pt x="14443" y="7851"/>
                  <a:pt x="14412" y="7764"/>
                </a:cubicBezTo>
                <a:cubicBezTo>
                  <a:pt x="14377" y="7666"/>
                  <a:pt x="14295" y="7620"/>
                  <a:pt x="14238" y="7541"/>
                </a:cubicBezTo>
                <a:cubicBezTo>
                  <a:pt x="14189" y="7473"/>
                  <a:pt x="14141" y="7456"/>
                  <a:pt x="14064" y="7417"/>
                </a:cubicBezTo>
                <a:cubicBezTo>
                  <a:pt x="14042" y="7406"/>
                  <a:pt x="13927" y="7365"/>
                  <a:pt x="13915" y="7367"/>
                </a:cubicBezTo>
                <a:cubicBezTo>
                  <a:pt x="13900" y="7370"/>
                  <a:pt x="13855" y="7406"/>
                  <a:pt x="13841" y="7417"/>
                </a:cubicBezTo>
              </a:path>
              <a:path w="10840" h="1614">
                <a:moveTo>
                  <a:pt x="13395" y="7888"/>
                </a:moveTo>
                <a:cubicBezTo>
                  <a:pt x="13678" y="7888"/>
                  <a:pt x="13958" y="7891"/>
                  <a:pt x="14238" y="7913"/>
                </a:cubicBezTo>
                <a:cubicBezTo>
                  <a:pt x="14380" y="7924"/>
                  <a:pt x="14520" y="7924"/>
                  <a:pt x="14660" y="7938"/>
                </a:cubicBezTo>
                <a:cubicBezTo>
                  <a:pt x="14744" y="7946"/>
                  <a:pt x="14807" y="7921"/>
                  <a:pt x="14883" y="7913"/>
                </a:cubicBezTo>
                <a:cubicBezTo>
                  <a:pt x="14914" y="7910"/>
                  <a:pt x="14948" y="7907"/>
                  <a:pt x="14957" y="7888"/>
                </a:cubicBezTo>
                <a:cubicBezTo>
                  <a:pt x="14957" y="7860"/>
                  <a:pt x="14955" y="7849"/>
                  <a:pt x="14932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56240" y="3867120"/>
            <a:ext cx="2009880" cy="642960"/>
          </a:xfrm>
          <a:custGeom>
            <a:avLst/>
            <a:gdLst/>
            <a:ahLst/>
            <a:rect l="l" t="t" r="r" b="b"/>
            <a:pathLst>
              <a:path w="5582" h="1787">
                <a:moveTo>
                  <a:pt x="18058" y="10740"/>
                </a:moveTo>
                <a:cubicBezTo>
                  <a:pt x="18058" y="10787"/>
                  <a:pt x="18041" y="10803"/>
                  <a:pt x="18033" y="10840"/>
                </a:cubicBezTo>
                <a:cubicBezTo>
                  <a:pt x="18020" y="10902"/>
                  <a:pt x="18014" y="11001"/>
                  <a:pt x="18008" y="11063"/>
                </a:cubicBezTo>
                <a:cubicBezTo>
                  <a:pt x="17996" y="11189"/>
                  <a:pt x="18010" y="11337"/>
                  <a:pt x="17983" y="11460"/>
                </a:cubicBezTo>
                <a:cubicBezTo>
                  <a:pt x="17966" y="11537"/>
                  <a:pt x="17959" y="11600"/>
                  <a:pt x="17959" y="11683"/>
                </a:cubicBezTo>
                <a:cubicBezTo>
                  <a:pt x="17959" y="11728"/>
                  <a:pt x="17934" y="11760"/>
                  <a:pt x="17934" y="11807"/>
                </a:cubicBezTo>
                <a:cubicBezTo>
                  <a:pt x="17934" y="11832"/>
                  <a:pt x="17934" y="11840"/>
                  <a:pt x="17934" y="11807"/>
                </a:cubicBezTo>
              </a:path>
              <a:path w="5582" h="1787">
                <a:moveTo>
                  <a:pt x="18678" y="11063"/>
                </a:moveTo>
                <a:cubicBezTo>
                  <a:pt x="18701" y="11146"/>
                  <a:pt x="18703" y="11200"/>
                  <a:pt x="18703" y="11286"/>
                </a:cubicBezTo>
                <a:cubicBezTo>
                  <a:pt x="18703" y="11368"/>
                  <a:pt x="18724" y="11429"/>
                  <a:pt x="18728" y="11509"/>
                </a:cubicBezTo>
                <a:cubicBezTo>
                  <a:pt x="18732" y="11600"/>
                  <a:pt x="18729" y="11678"/>
                  <a:pt x="18752" y="11757"/>
                </a:cubicBezTo>
                <a:cubicBezTo>
                  <a:pt x="18765" y="11803"/>
                  <a:pt x="18761" y="11805"/>
                  <a:pt x="18728" y="11782"/>
                </a:cubicBezTo>
              </a:path>
              <a:path w="5582" h="1787">
                <a:moveTo>
                  <a:pt x="18455" y="11435"/>
                </a:moveTo>
                <a:cubicBezTo>
                  <a:pt x="18553" y="11452"/>
                  <a:pt x="18657" y="11442"/>
                  <a:pt x="18752" y="11460"/>
                </a:cubicBezTo>
                <a:cubicBezTo>
                  <a:pt x="18821" y="11473"/>
                  <a:pt x="18856" y="11485"/>
                  <a:pt x="18926" y="11485"/>
                </a:cubicBezTo>
              </a:path>
              <a:path w="5582" h="1787">
                <a:moveTo>
                  <a:pt x="19447" y="11410"/>
                </a:moveTo>
                <a:cubicBezTo>
                  <a:pt x="19414" y="11385"/>
                  <a:pt x="19402" y="11365"/>
                  <a:pt x="19372" y="11361"/>
                </a:cubicBezTo>
                <a:cubicBezTo>
                  <a:pt x="19338" y="11357"/>
                  <a:pt x="19297" y="11369"/>
                  <a:pt x="19273" y="11385"/>
                </a:cubicBezTo>
                <a:cubicBezTo>
                  <a:pt x="19214" y="11424"/>
                  <a:pt x="19153" y="11494"/>
                  <a:pt x="19149" y="11559"/>
                </a:cubicBezTo>
                <a:cubicBezTo>
                  <a:pt x="19145" y="11620"/>
                  <a:pt x="19147" y="11659"/>
                  <a:pt x="19174" y="11708"/>
                </a:cubicBezTo>
                <a:cubicBezTo>
                  <a:pt x="19197" y="11751"/>
                  <a:pt x="19230" y="11804"/>
                  <a:pt x="19273" y="11832"/>
                </a:cubicBezTo>
                <a:cubicBezTo>
                  <a:pt x="19347" y="11880"/>
                  <a:pt x="19418" y="11853"/>
                  <a:pt x="19496" y="11832"/>
                </a:cubicBezTo>
              </a:path>
              <a:path w="5582" h="1787">
                <a:moveTo>
                  <a:pt x="19645" y="11509"/>
                </a:moveTo>
                <a:cubicBezTo>
                  <a:pt x="19635" y="11550"/>
                  <a:pt x="19603" y="11596"/>
                  <a:pt x="19596" y="11633"/>
                </a:cubicBezTo>
                <a:cubicBezTo>
                  <a:pt x="19588" y="11674"/>
                  <a:pt x="19605" y="11750"/>
                  <a:pt x="19621" y="11782"/>
                </a:cubicBezTo>
                <a:cubicBezTo>
                  <a:pt x="19638" y="11816"/>
                  <a:pt x="19686" y="11853"/>
                  <a:pt x="19720" y="11857"/>
                </a:cubicBezTo>
                <a:cubicBezTo>
                  <a:pt x="19756" y="11861"/>
                  <a:pt x="19847" y="11857"/>
                  <a:pt x="19869" y="11832"/>
                </a:cubicBezTo>
                <a:cubicBezTo>
                  <a:pt x="19915" y="11781"/>
                  <a:pt x="19936" y="11700"/>
                  <a:pt x="19918" y="11633"/>
                </a:cubicBezTo>
                <a:cubicBezTo>
                  <a:pt x="19898" y="11559"/>
                  <a:pt x="19858" y="11519"/>
                  <a:pt x="19794" y="11485"/>
                </a:cubicBezTo>
                <a:cubicBezTo>
                  <a:pt x="19750" y="11462"/>
                  <a:pt x="19689" y="11440"/>
                  <a:pt x="19645" y="11435"/>
                </a:cubicBezTo>
                <a:cubicBezTo>
                  <a:pt x="19637" y="11435"/>
                  <a:pt x="19629" y="11435"/>
                  <a:pt x="19621" y="11435"/>
                </a:cubicBezTo>
              </a:path>
              <a:path w="5582" h="1787">
                <a:moveTo>
                  <a:pt x="20141" y="11187"/>
                </a:moveTo>
                <a:cubicBezTo>
                  <a:pt x="20141" y="11278"/>
                  <a:pt x="20109" y="11407"/>
                  <a:pt x="20117" y="11485"/>
                </a:cubicBezTo>
                <a:cubicBezTo>
                  <a:pt x="20124" y="11548"/>
                  <a:pt x="20127" y="11642"/>
                  <a:pt x="20141" y="11708"/>
                </a:cubicBezTo>
                <a:cubicBezTo>
                  <a:pt x="20156" y="11777"/>
                  <a:pt x="20163" y="11842"/>
                  <a:pt x="20191" y="11906"/>
                </a:cubicBezTo>
              </a:path>
              <a:path w="5582" h="1787">
                <a:moveTo>
                  <a:pt x="19869" y="11485"/>
                </a:moveTo>
                <a:cubicBezTo>
                  <a:pt x="19986" y="11485"/>
                  <a:pt x="20108" y="11501"/>
                  <a:pt x="20216" y="11460"/>
                </a:cubicBezTo>
              </a:path>
              <a:path w="5582" h="1787">
                <a:moveTo>
                  <a:pt x="20315" y="11013"/>
                </a:moveTo>
                <a:cubicBezTo>
                  <a:pt x="20375" y="10936"/>
                  <a:pt x="20410" y="10889"/>
                  <a:pt x="20513" y="10889"/>
                </a:cubicBezTo>
                <a:cubicBezTo>
                  <a:pt x="20564" y="10889"/>
                  <a:pt x="20626" y="10913"/>
                  <a:pt x="20638" y="10964"/>
                </a:cubicBezTo>
                <a:cubicBezTo>
                  <a:pt x="20649" y="11012"/>
                  <a:pt x="20625" y="11027"/>
                  <a:pt x="20613" y="11063"/>
                </a:cubicBezTo>
                <a:cubicBezTo>
                  <a:pt x="20601" y="11100"/>
                  <a:pt x="20588" y="11118"/>
                  <a:pt x="20588" y="11162"/>
                </a:cubicBezTo>
                <a:cubicBezTo>
                  <a:pt x="20588" y="11201"/>
                  <a:pt x="20594" y="11227"/>
                  <a:pt x="20638" y="11237"/>
                </a:cubicBezTo>
                <a:cubicBezTo>
                  <a:pt x="20720" y="11255"/>
                  <a:pt x="20826" y="11237"/>
                  <a:pt x="20910" y="11237"/>
                </a:cubicBezTo>
              </a:path>
              <a:path w="5582" h="1787">
                <a:moveTo>
                  <a:pt x="20985" y="11584"/>
                </a:moveTo>
                <a:cubicBezTo>
                  <a:pt x="21059" y="11584"/>
                  <a:pt x="21134" y="11584"/>
                  <a:pt x="21208" y="11584"/>
                </a:cubicBezTo>
              </a:path>
              <a:path w="5582" h="1787">
                <a:moveTo>
                  <a:pt x="20985" y="11757"/>
                </a:moveTo>
                <a:cubicBezTo>
                  <a:pt x="21033" y="11778"/>
                  <a:pt x="21082" y="11802"/>
                  <a:pt x="21134" y="11807"/>
                </a:cubicBezTo>
                <a:cubicBezTo>
                  <a:pt x="21158" y="11807"/>
                  <a:pt x="21167" y="11807"/>
                  <a:pt x="21183" y="11807"/>
                </a:cubicBezTo>
                <a:cubicBezTo>
                  <a:pt x="21194" y="11774"/>
                  <a:pt x="21197" y="11784"/>
                  <a:pt x="21233" y="11757"/>
                </a:cubicBezTo>
              </a:path>
              <a:path w="5582" h="1787">
                <a:moveTo>
                  <a:pt x="22076" y="11633"/>
                </a:moveTo>
                <a:cubicBezTo>
                  <a:pt x="22076" y="11650"/>
                  <a:pt x="22076" y="11666"/>
                  <a:pt x="22076" y="11683"/>
                </a:cubicBezTo>
                <a:cubicBezTo>
                  <a:pt x="22076" y="11636"/>
                  <a:pt x="22082" y="11620"/>
                  <a:pt x="22051" y="11584"/>
                </a:cubicBezTo>
                <a:cubicBezTo>
                  <a:pt x="22020" y="11549"/>
                  <a:pt x="21984" y="11581"/>
                  <a:pt x="21952" y="11609"/>
                </a:cubicBezTo>
                <a:cubicBezTo>
                  <a:pt x="21907" y="11648"/>
                  <a:pt x="21887" y="11688"/>
                  <a:pt x="21853" y="11733"/>
                </a:cubicBezTo>
                <a:cubicBezTo>
                  <a:pt x="21814" y="11784"/>
                  <a:pt x="21783" y="11836"/>
                  <a:pt x="21803" y="11906"/>
                </a:cubicBezTo>
                <a:cubicBezTo>
                  <a:pt x="21816" y="11954"/>
                  <a:pt x="21882" y="12018"/>
                  <a:pt x="21927" y="12030"/>
                </a:cubicBezTo>
                <a:cubicBezTo>
                  <a:pt x="21987" y="12046"/>
                  <a:pt x="22048" y="12028"/>
                  <a:pt x="22101" y="12005"/>
                </a:cubicBezTo>
              </a:path>
              <a:path w="5582" h="1787">
                <a:moveTo>
                  <a:pt x="22448" y="11534"/>
                </a:moveTo>
                <a:cubicBezTo>
                  <a:pt x="22366" y="11553"/>
                  <a:pt x="22335" y="11565"/>
                  <a:pt x="22299" y="11584"/>
                </a:cubicBezTo>
                <a:cubicBezTo>
                  <a:pt x="22267" y="11600"/>
                  <a:pt x="22275" y="11621"/>
                  <a:pt x="22299" y="11658"/>
                </a:cubicBezTo>
                <a:cubicBezTo>
                  <a:pt x="22340" y="11720"/>
                  <a:pt x="22423" y="11794"/>
                  <a:pt x="22473" y="11857"/>
                </a:cubicBezTo>
                <a:cubicBezTo>
                  <a:pt x="22509" y="11902"/>
                  <a:pt x="22498" y="11946"/>
                  <a:pt x="22498" y="12005"/>
                </a:cubicBezTo>
                <a:cubicBezTo>
                  <a:pt x="22498" y="12046"/>
                  <a:pt x="22462" y="12078"/>
                  <a:pt x="22423" y="12080"/>
                </a:cubicBezTo>
                <a:cubicBezTo>
                  <a:pt x="22318" y="12086"/>
                  <a:pt x="22341" y="12056"/>
                  <a:pt x="22374" y="11981"/>
                </a:cubicBezTo>
              </a:path>
              <a:path w="5582" h="1787">
                <a:moveTo>
                  <a:pt x="23019" y="11683"/>
                </a:moveTo>
                <a:cubicBezTo>
                  <a:pt x="23031" y="11679"/>
                  <a:pt x="23074" y="11632"/>
                  <a:pt x="23044" y="11609"/>
                </a:cubicBezTo>
                <a:cubicBezTo>
                  <a:pt x="22998" y="11574"/>
                  <a:pt x="22944" y="11599"/>
                  <a:pt x="22895" y="11633"/>
                </a:cubicBezTo>
                <a:cubicBezTo>
                  <a:pt x="22840" y="11671"/>
                  <a:pt x="22787" y="11709"/>
                  <a:pt x="22771" y="11782"/>
                </a:cubicBezTo>
                <a:cubicBezTo>
                  <a:pt x="22759" y="11836"/>
                  <a:pt x="22766" y="11910"/>
                  <a:pt x="22796" y="11956"/>
                </a:cubicBezTo>
                <a:cubicBezTo>
                  <a:pt x="22846" y="12033"/>
                  <a:pt x="22865" y="12029"/>
                  <a:pt x="22944" y="12055"/>
                </a:cubicBezTo>
                <a:cubicBezTo>
                  <a:pt x="23014" y="12079"/>
                  <a:pt x="23011" y="12077"/>
                  <a:pt x="23068" y="12030"/>
                </a:cubicBezTo>
              </a:path>
              <a:path w="5582" h="1787">
                <a:moveTo>
                  <a:pt x="23143" y="11187"/>
                </a:moveTo>
                <a:cubicBezTo>
                  <a:pt x="23229" y="11167"/>
                  <a:pt x="23258" y="11140"/>
                  <a:pt x="23292" y="11187"/>
                </a:cubicBezTo>
                <a:cubicBezTo>
                  <a:pt x="23300" y="11195"/>
                  <a:pt x="23308" y="11204"/>
                  <a:pt x="23316" y="11212"/>
                </a:cubicBezTo>
                <a:cubicBezTo>
                  <a:pt x="23279" y="11260"/>
                  <a:pt x="23279" y="11286"/>
                  <a:pt x="23217" y="11286"/>
                </a:cubicBezTo>
                <a:cubicBezTo>
                  <a:pt x="23230" y="11337"/>
                  <a:pt x="23259" y="11355"/>
                  <a:pt x="23316" y="11361"/>
                </a:cubicBezTo>
                <a:cubicBezTo>
                  <a:pt x="23377" y="11367"/>
                  <a:pt x="23431" y="11396"/>
                  <a:pt x="23490" y="11410"/>
                </a:cubicBezTo>
                <a:cubicBezTo>
                  <a:pt x="23498" y="11410"/>
                  <a:pt x="23507" y="11410"/>
                  <a:pt x="23515" y="11410"/>
                </a:cubicBezTo>
              </a:path>
              <a:path w="5582" h="1787">
                <a:moveTo>
                  <a:pt x="22547" y="12129"/>
                </a:moveTo>
                <a:cubicBezTo>
                  <a:pt x="22569" y="12113"/>
                  <a:pt x="22575" y="12121"/>
                  <a:pt x="22597" y="12105"/>
                </a:cubicBezTo>
                <a:cubicBezTo>
                  <a:pt x="22574" y="12142"/>
                  <a:pt x="22556" y="12169"/>
                  <a:pt x="22523" y="12204"/>
                </a:cubicBezTo>
                <a:cubicBezTo>
                  <a:pt x="22483" y="12247"/>
                  <a:pt x="22447" y="12271"/>
                  <a:pt x="22399" y="12303"/>
                </a:cubicBezTo>
                <a:cubicBezTo>
                  <a:pt x="22329" y="12349"/>
                  <a:pt x="22276" y="12391"/>
                  <a:pt x="22200" y="12427"/>
                </a:cubicBezTo>
                <a:cubicBezTo>
                  <a:pt x="22122" y="12465"/>
                  <a:pt x="22060" y="12477"/>
                  <a:pt x="21977" y="12502"/>
                </a:cubicBezTo>
                <a:cubicBezTo>
                  <a:pt x="21863" y="12537"/>
                  <a:pt x="21749" y="12526"/>
                  <a:pt x="21630" y="12526"/>
                </a:cubicBezTo>
                <a:cubicBezTo>
                  <a:pt x="21496" y="12526"/>
                  <a:pt x="21363" y="12526"/>
                  <a:pt x="21233" y="12502"/>
                </a:cubicBezTo>
                <a:cubicBezTo>
                  <a:pt x="21132" y="12483"/>
                  <a:pt x="21027" y="12476"/>
                  <a:pt x="20935" y="12427"/>
                </a:cubicBezTo>
                <a:cubicBezTo>
                  <a:pt x="20899" y="12407"/>
                  <a:pt x="20814" y="12358"/>
                  <a:pt x="20786" y="12328"/>
                </a:cubicBezTo>
                <a:cubicBezTo>
                  <a:pt x="20735" y="12273"/>
                  <a:pt x="20706" y="12188"/>
                  <a:pt x="20662" y="12129"/>
                </a:cubicBezTo>
                <a:cubicBezTo>
                  <a:pt x="20636" y="12094"/>
                  <a:pt x="20629" y="12095"/>
                  <a:pt x="20613" y="12055"/>
                </a:cubicBezTo>
              </a:path>
              <a:path w="5582" h="1787">
                <a:moveTo>
                  <a:pt x="20464" y="12328"/>
                </a:moveTo>
                <a:cubicBezTo>
                  <a:pt x="20442" y="12321"/>
                  <a:pt x="20425" y="12286"/>
                  <a:pt x="20414" y="12254"/>
                </a:cubicBezTo>
                <a:cubicBezTo>
                  <a:pt x="20400" y="12214"/>
                  <a:pt x="20402" y="12166"/>
                  <a:pt x="20389" y="12129"/>
                </a:cubicBezTo>
                <a:cubicBezTo>
                  <a:pt x="20373" y="12083"/>
                  <a:pt x="20385" y="12014"/>
                  <a:pt x="20414" y="11981"/>
                </a:cubicBezTo>
                <a:cubicBezTo>
                  <a:pt x="20461" y="11929"/>
                  <a:pt x="20491" y="11972"/>
                  <a:pt x="20538" y="11981"/>
                </a:cubicBezTo>
                <a:cubicBezTo>
                  <a:pt x="20621" y="11998"/>
                  <a:pt x="20684" y="12016"/>
                  <a:pt x="20762" y="12055"/>
                </a:cubicBezTo>
                <a:cubicBezTo>
                  <a:pt x="20805" y="12077"/>
                  <a:pt x="20817" y="12081"/>
                  <a:pt x="20836" y="121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6880" y="4276800"/>
            <a:ext cx="2090520" cy="858600"/>
          </a:xfrm>
          <a:custGeom>
            <a:avLst/>
            <a:gdLst/>
            <a:ahLst/>
            <a:rect l="l" t="t" r="r" b="b"/>
            <a:pathLst>
              <a:path w="5805" h="2383">
                <a:moveTo>
                  <a:pt x="17909" y="11906"/>
                </a:moveTo>
                <a:cubicBezTo>
                  <a:pt x="17940" y="11918"/>
                  <a:pt x="17905" y="11915"/>
                  <a:pt x="17934" y="11931"/>
                </a:cubicBezTo>
                <a:cubicBezTo>
                  <a:pt x="17965" y="11948"/>
                  <a:pt x="18000" y="11962"/>
                  <a:pt x="18033" y="11981"/>
                </a:cubicBezTo>
                <a:cubicBezTo>
                  <a:pt x="18065" y="11999"/>
                  <a:pt x="18066" y="11990"/>
                  <a:pt x="18107" y="12005"/>
                </a:cubicBezTo>
                <a:cubicBezTo>
                  <a:pt x="18155" y="12023"/>
                  <a:pt x="18207" y="12039"/>
                  <a:pt x="18256" y="12055"/>
                </a:cubicBezTo>
                <a:cubicBezTo>
                  <a:pt x="18310" y="12073"/>
                  <a:pt x="18380" y="12085"/>
                  <a:pt x="18430" y="12105"/>
                </a:cubicBezTo>
                <a:cubicBezTo>
                  <a:pt x="18525" y="12143"/>
                  <a:pt x="18604" y="12169"/>
                  <a:pt x="18703" y="12204"/>
                </a:cubicBezTo>
                <a:cubicBezTo>
                  <a:pt x="18795" y="12237"/>
                  <a:pt x="18884" y="12250"/>
                  <a:pt x="18976" y="12278"/>
                </a:cubicBezTo>
                <a:cubicBezTo>
                  <a:pt x="19091" y="12314"/>
                  <a:pt x="19206" y="12348"/>
                  <a:pt x="19323" y="12378"/>
                </a:cubicBezTo>
                <a:cubicBezTo>
                  <a:pt x="19455" y="12412"/>
                  <a:pt x="19560" y="12447"/>
                  <a:pt x="19695" y="12477"/>
                </a:cubicBezTo>
                <a:cubicBezTo>
                  <a:pt x="19836" y="12509"/>
                  <a:pt x="19976" y="12545"/>
                  <a:pt x="20117" y="12576"/>
                </a:cubicBezTo>
                <a:cubicBezTo>
                  <a:pt x="20258" y="12607"/>
                  <a:pt x="20395" y="12639"/>
                  <a:pt x="20538" y="12650"/>
                </a:cubicBezTo>
                <a:cubicBezTo>
                  <a:pt x="20659" y="12659"/>
                  <a:pt x="20770" y="12638"/>
                  <a:pt x="20886" y="12626"/>
                </a:cubicBezTo>
                <a:cubicBezTo>
                  <a:pt x="20974" y="12617"/>
                  <a:pt x="21051" y="12605"/>
                  <a:pt x="21134" y="12576"/>
                </a:cubicBezTo>
                <a:cubicBezTo>
                  <a:pt x="21204" y="12551"/>
                  <a:pt x="21295" y="12516"/>
                  <a:pt x="21357" y="12477"/>
                </a:cubicBezTo>
                <a:cubicBezTo>
                  <a:pt x="21395" y="12453"/>
                  <a:pt x="21421" y="12426"/>
                  <a:pt x="21456" y="12402"/>
                </a:cubicBezTo>
                <a:cubicBezTo>
                  <a:pt x="21487" y="12381"/>
                  <a:pt x="21529" y="12372"/>
                  <a:pt x="21555" y="12353"/>
                </a:cubicBezTo>
                <a:cubicBezTo>
                  <a:pt x="21568" y="12344"/>
                  <a:pt x="21590" y="12293"/>
                  <a:pt x="21605" y="12278"/>
                </a:cubicBezTo>
                <a:cubicBezTo>
                  <a:pt x="21630" y="12278"/>
                  <a:pt x="21638" y="12278"/>
                  <a:pt x="21630" y="12254"/>
                </a:cubicBezTo>
                <a:cubicBezTo>
                  <a:pt x="21575" y="12258"/>
                  <a:pt x="21533" y="12265"/>
                  <a:pt x="21481" y="12278"/>
                </a:cubicBezTo>
                <a:cubicBezTo>
                  <a:pt x="21423" y="12292"/>
                  <a:pt x="21368" y="12301"/>
                  <a:pt x="21307" y="12303"/>
                </a:cubicBezTo>
                <a:cubicBezTo>
                  <a:pt x="21282" y="12304"/>
                  <a:pt x="21258" y="12303"/>
                  <a:pt x="21233" y="12303"/>
                </a:cubicBezTo>
                <a:cubicBezTo>
                  <a:pt x="21278" y="12273"/>
                  <a:pt x="21272" y="12277"/>
                  <a:pt x="21357" y="12254"/>
                </a:cubicBezTo>
                <a:cubicBezTo>
                  <a:pt x="21418" y="12237"/>
                  <a:pt x="21427" y="12220"/>
                  <a:pt x="21481" y="12229"/>
                </a:cubicBezTo>
                <a:cubicBezTo>
                  <a:pt x="21523" y="12236"/>
                  <a:pt x="21542" y="12263"/>
                  <a:pt x="21580" y="12278"/>
                </a:cubicBezTo>
                <a:cubicBezTo>
                  <a:pt x="21622" y="12295"/>
                  <a:pt x="21699" y="12323"/>
                  <a:pt x="21729" y="12353"/>
                </a:cubicBezTo>
                <a:cubicBezTo>
                  <a:pt x="21758" y="12382"/>
                  <a:pt x="21753" y="12395"/>
                  <a:pt x="21779" y="12427"/>
                </a:cubicBezTo>
              </a:path>
              <a:path w="5805" h="2383">
                <a:moveTo>
                  <a:pt x="23143" y="13593"/>
                </a:moveTo>
                <a:cubicBezTo>
                  <a:pt x="23206" y="13593"/>
                  <a:pt x="23235" y="13608"/>
                  <a:pt x="23292" y="13618"/>
                </a:cubicBezTo>
                <a:cubicBezTo>
                  <a:pt x="23348" y="13628"/>
                  <a:pt x="23387" y="13609"/>
                  <a:pt x="23440" y="13593"/>
                </a:cubicBezTo>
              </a:path>
              <a:path w="5805" h="2383">
                <a:moveTo>
                  <a:pt x="23614" y="13320"/>
                </a:moveTo>
                <a:cubicBezTo>
                  <a:pt x="23637" y="13435"/>
                  <a:pt x="23676" y="13552"/>
                  <a:pt x="23688" y="13667"/>
                </a:cubicBezTo>
                <a:cubicBezTo>
                  <a:pt x="23700" y="13776"/>
                  <a:pt x="23713" y="13878"/>
                  <a:pt x="23713" y="13990"/>
                </a:cubicBezTo>
                <a:cubicBezTo>
                  <a:pt x="23713" y="14081"/>
                  <a:pt x="23713" y="14172"/>
                  <a:pt x="23713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15080" y="4545000"/>
            <a:ext cx="1278000" cy="403200"/>
          </a:xfrm>
          <a:custGeom>
            <a:avLst/>
            <a:gdLst/>
            <a:ahLst/>
            <a:rect l="l" t="t" r="r" b="b"/>
            <a:pathLst>
              <a:path w="3548" h="1117">
                <a:moveTo>
                  <a:pt x="18976" y="13097"/>
                </a:moveTo>
                <a:cubicBezTo>
                  <a:pt x="18976" y="13122"/>
                  <a:pt x="18976" y="13130"/>
                  <a:pt x="18976" y="13146"/>
                </a:cubicBezTo>
                <a:cubicBezTo>
                  <a:pt x="19047" y="13128"/>
                  <a:pt x="19015" y="13118"/>
                  <a:pt x="19000" y="13072"/>
                </a:cubicBezTo>
                <a:cubicBezTo>
                  <a:pt x="18983" y="13020"/>
                  <a:pt x="18965" y="13024"/>
                  <a:pt x="18926" y="12998"/>
                </a:cubicBezTo>
                <a:cubicBezTo>
                  <a:pt x="18889" y="12973"/>
                  <a:pt x="18865" y="12988"/>
                  <a:pt x="18827" y="13022"/>
                </a:cubicBezTo>
                <a:cubicBezTo>
                  <a:pt x="18773" y="13069"/>
                  <a:pt x="18746" y="13089"/>
                  <a:pt x="18703" y="13146"/>
                </a:cubicBezTo>
                <a:cubicBezTo>
                  <a:pt x="18652" y="13213"/>
                  <a:pt x="18668" y="13266"/>
                  <a:pt x="18678" y="13345"/>
                </a:cubicBezTo>
                <a:cubicBezTo>
                  <a:pt x="18689" y="13433"/>
                  <a:pt x="18738" y="13425"/>
                  <a:pt x="18802" y="13469"/>
                </a:cubicBezTo>
                <a:cubicBezTo>
                  <a:pt x="18846" y="13500"/>
                  <a:pt x="18869" y="13494"/>
                  <a:pt x="18926" y="13494"/>
                </a:cubicBezTo>
              </a:path>
              <a:path w="3548" h="1117">
                <a:moveTo>
                  <a:pt x="19248" y="13171"/>
                </a:moveTo>
                <a:cubicBezTo>
                  <a:pt x="19198" y="13251"/>
                  <a:pt x="19174" y="13280"/>
                  <a:pt x="19174" y="13370"/>
                </a:cubicBezTo>
                <a:cubicBezTo>
                  <a:pt x="19174" y="13412"/>
                  <a:pt x="19168" y="13478"/>
                  <a:pt x="19224" y="13494"/>
                </a:cubicBezTo>
                <a:cubicBezTo>
                  <a:pt x="19307" y="13518"/>
                  <a:pt x="19324" y="13531"/>
                  <a:pt x="19397" y="13469"/>
                </a:cubicBezTo>
                <a:cubicBezTo>
                  <a:pt x="19430" y="13441"/>
                  <a:pt x="19438" y="13361"/>
                  <a:pt x="19422" y="13320"/>
                </a:cubicBezTo>
                <a:cubicBezTo>
                  <a:pt x="19404" y="13273"/>
                  <a:pt x="19303" y="13220"/>
                  <a:pt x="19273" y="13196"/>
                </a:cubicBezTo>
                <a:cubicBezTo>
                  <a:pt x="19250" y="13173"/>
                  <a:pt x="19242" y="13169"/>
                  <a:pt x="19248" y="13146"/>
                </a:cubicBezTo>
              </a:path>
              <a:path w="3548" h="1117">
                <a:moveTo>
                  <a:pt x="19596" y="12898"/>
                </a:moveTo>
                <a:cubicBezTo>
                  <a:pt x="19596" y="13036"/>
                  <a:pt x="19606" y="13162"/>
                  <a:pt x="19621" y="13295"/>
                </a:cubicBezTo>
                <a:cubicBezTo>
                  <a:pt x="19629" y="13365"/>
                  <a:pt x="19633" y="13434"/>
                  <a:pt x="19645" y="13494"/>
                </a:cubicBezTo>
                <a:cubicBezTo>
                  <a:pt x="19645" y="13535"/>
                  <a:pt x="19653" y="13551"/>
                  <a:pt x="19621" y="13543"/>
                </a:cubicBezTo>
              </a:path>
              <a:path w="3548" h="1117">
                <a:moveTo>
                  <a:pt x="19422" y="13221"/>
                </a:moveTo>
                <a:cubicBezTo>
                  <a:pt x="19496" y="13221"/>
                  <a:pt x="19550" y="13242"/>
                  <a:pt x="19621" y="13246"/>
                </a:cubicBezTo>
                <a:cubicBezTo>
                  <a:pt x="19665" y="13246"/>
                  <a:pt x="19679" y="13249"/>
                  <a:pt x="19695" y="13221"/>
                </a:cubicBezTo>
              </a:path>
              <a:path w="3548" h="1117">
                <a:moveTo>
                  <a:pt x="19695" y="12700"/>
                </a:moveTo>
                <a:cubicBezTo>
                  <a:pt x="19795" y="12636"/>
                  <a:pt x="19849" y="12599"/>
                  <a:pt x="19968" y="12650"/>
                </a:cubicBezTo>
                <a:cubicBezTo>
                  <a:pt x="20012" y="12669"/>
                  <a:pt x="20017" y="12710"/>
                  <a:pt x="20017" y="12750"/>
                </a:cubicBezTo>
                <a:cubicBezTo>
                  <a:pt x="20017" y="12787"/>
                  <a:pt x="19981" y="12806"/>
                  <a:pt x="19968" y="12824"/>
                </a:cubicBezTo>
                <a:cubicBezTo>
                  <a:pt x="19943" y="12849"/>
                  <a:pt x="19935" y="12857"/>
                  <a:pt x="19918" y="12874"/>
                </a:cubicBezTo>
                <a:cubicBezTo>
                  <a:pt x="19955" y="12922"/>
                  <a:pt x="19955" y="12940"/>
                  <a:pt x="20017" y="12973"/>
                </a:cubicBezTo>
                <a:cubicBezTo>
                  <a:pt x="20061" y="12996"/>
                  <a:pt x="20096" y="13003"/>
                  <a:pt x="20141" y="13022"/>
                </a:cubicBezTo>
              </a:path>
              <a:path w="3548" h="1117">
                <a:moveTo>
                  <a:pt x="20290" y="13395"/>
                </a:moveTo>
                <a:cubicBezTo>
                  <a:pt x="20390" y="13395"/>
                  <a:pt x="20472" y="13382"/>
                  <a:pt x="20563" y="13370"/>
                </a:cubicBezTo>
                <a:cubicBezTo>
                  <a:pt x="20631" y="13370"/>
                  <a:pt x="20650" y="13373"/>
                  <a:pt x="20687" y="13345"/>
                </a:cubicBezTo>
              </a:path>
              <a:path w="3548" h="1117">
                <a:moveTo>
                  <a:pt x="21034" y="13271"/>
                </a:moveTo>
                <a:cubicBezTo>
                  <a:pt x="21057" y="13293"/>
                  <a:pt x="21062" y="13301"/>
                  <a:pt x="21084" y="13295"/>
                </a:cubicBezTo>
                <a:cubicBezTo>
                  <a:pt x="21071" y="13258"/>
                  <a:pt x="21061" y="13267"/>
                  <a:pt x="21034" y="13246"/>
                </a:cubicBezTo>
                <a:cubicBezTo>
                  <a:pt x="20977" y="13202"/>
                  <a:pt x="20977" y="13229"/>
                  <a:pt x="20910" y="13246"/>
                </a:cubicBezTo>
                <a:cubicBezTo>
                  <a:pt x="20831" y="13266"/>
                  <a:pt x="20818" y="13309"/>
                  <a:pt x="20762" y="13370"/>
                </a:cubicBezTo>
                <a:cubicBezTo>
                  <a:pt x="20723" y="13412"/>
                  <a:pt x="20737" y="13463"/>
                  <a:pt x="20737" y="13519"/>
                </a:cubicBezTo>
                <a:cubicBezTo>
                  <a:pt x="20737" y="13600"/>
                  <a:pt x="20790" y="13654"/>
                  <a:pt x="20861" y="13692"/>
                </a:cubicBezTo>
                <a:cubicBezTo>
                  <a:pt x="20911" y="13692"/>
                  <a:pt x="20944" y="13692"/>
                  <a:pt x="20985" y="13692"/>
                </a:cubicBezTo>
              </a:path>
              <a:path w="3548" h="1117">
                <a:moveTo>
                  <a:pt x="21431" y="13271"/>
                </a:moveTo>
                <a:cubicBezTo>
                  <a:pt x="21372" y="13259"/>
                  <a:pt x="21355" y="13229"/>
                  <a:pt x="21307" y="13271"/>
                </a:cubicBezTo>
                <a:cubicBezTo>
                  <a:pt x="21299" y="13279"/>
                  <a:pt x="21290" y="13287"/>
                  <a:pt x="21282" y="13295"/>
                </a:cubicBezTo>
                <a:cubicBezTo>
                  <a:pt x="21322" y="13308"/>
                  <a:pt x="21324" y="13352"/>
                  <a:pt x="21357" y="13395"/>
                </a:cubicBezTo>
                <a:cubicBezTo>
                  <a:pt x="21423" y="13481"/>
                  <a:pt x="21460" y="13474"/>
                  <a:pt x="21481" y="13593"/>
                </a:cubicBezTo>
                <a:cubicBezTo>
                  <a:pt x="21491" y="13649"/>
                  <a:pt x="21451" y="13677"/>
                  <a:pt x="21406" y="13692"/>
                </a:cubicBezTo>
                <a:cubicBezTo>
                  <a:pt x="21360" y="13708"/>
                  <a:pt x="21293" y="13700"/>
                  <a:pt x="21282" y="13667"/>
                </a:cubicBezTo>
              </a:path>
              <a:path w="3548" h="1117">
                <a:moveTo>
                  <a:pt x="21828" y="13444"/>
                </a:moveTo>
                <a:cubicBezTo>
                  <a:pt x="21819" y="13408"/>
                  <a:pt x="21791" y="13383"/>
                  <a:pt x="21754" y="13370"/>
                </a:cubicBezTo>
                <a:cubicBezTo>
                  <a:pt x="21738" y="13365"/>
                  <a:pt x="21644" y="13408"/>
                  <a:pt x="21630" y="13419"/>
                </a:cubicBezTo>
                <a:cubicBezTo>
                  <a:pt x="21565" y="13469"/>
                  <a:pt x="21555" y="13492"/>
                  <a:pt x="21555" y="13568"/>
                </a:cubicBezTo>
                <a:cubicBezTo>
                  <a:pt x="21555" y="13633"/>
                  <a:pt x="21591" y="13691"/>
                  <a:pt x="21654" y="13717"/>
                </a:cubicBezTo>
                <a:cubicBezTo>
                  <a:pt x="21753" y="13758"/>
                  <a:pt x="21805" y="13754"/>
                  <a:pt x="21878" y="13692"/>
                </a:cubicBezTo>
                <a:cubicBezTo>
                  <a:pt x="21913" y="13657"/>
                  <a:pt x="21926" y="13635"/>
                  <a:pt x="21927" y="13593"/>
                </a:cubicBezTo>
              </a:path>
              <a:path w="3548" h="1117">
                <a:moveTo>
                  <a:pt x="21927" y="12973"/>
                </a:moveTo>
                <a:cubicBezTo>
                  <a:pt x="21976" y="12911"/>
                  <a:pt x="21986" y="12865"/>
                  <a:pt x="22051" y="12923"/>
                </a:cubicBezTo>
                <a:cubicBezTo>
                  <a:pt x="22082" y="12951"/>
                  <a:pt x="22090" y="13006"/>
                  <a:pt x="22076" y="13047"/>
                </a:cubicBezTo>
                <a:cubicBezTo>
                  <a:pt x="22062" y="13089"/>
                  <a:pt x="22024" y="13114"/>
                  <a:pt x="22002" y="13146"/>
                </a:cubicBezTo>
                <a:cubicBezTo>
                  <a:pt x="21977" y="13171"/>
                  <a:pt x="21969" y="13179"/>
                  <a:pt x="21952" y="13196"/>
                </a:cubicBezTo>
                <a:cubicBezTo>
                  <a:pt x="21984" y="13220"/>
                  <a:pt x="21998" y="13244"/>
                  <a:pt x="22027" y="13246"/>
                </a:cubicBezTo>
                <a:cubicBezTo>
                  <a:pt x="22082" y="13250"/>
                  <a:pt x="22104" y="13266"/>
                  <a:pt x="22151" y="13271"/>
                </a:cubicBezTo>
                <a:cubicBezTo>
                  <a:pt x="22193" y="13276"/>
                  <a:pt x="22187" y="13258"/>
                  <a:pt x="22200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16920" y="4902120"/>
            <a:ext cx="81000" cy="90720"/>
          </a:xfrm>
          <a:custGeom>
            <a:avLst/>
            <a:gdLst/>
            <a:ahLst/>
            <a:rect l="l" t="t" r="r" b="b"/>
            <a:pathLst>
              <a:path w="225" h="249">
                <a:moveTo>
                  <a:pt x="22547" y="13618"/>
                </a:moveTo>
                <a:cubicBezTo>
                  <a:pt x="22617" y="13652"/>
                  <a:pt x="22670" y="13692"/>
                  <a:pt x="22746" y="13692"/>
                </a:cubicBezTo>
              </a:path>
              <a:path w="225" h="249">
                <a:moveTo>
                  <a:pt x="22572" y="13816"/>
                </a:moveTo>
                <a:cubicBezTo>
                  <a:pt x="22651" y="13841"/>
                  <a:pt x="22693" y="13866"/>
                  <a:pt x="22771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55920" y="3241800"/>
            <a:ext cx="1027080" cy="849240"/>
          </a:xfrm>
          <a:custGeom>
            <a:avLst/>
            <a:gdLst/>
            <a:ahLst/>
            <a:rect l="l" t="t" r="r" b="b"/>
            <a:pathLst>
              <a:path w="2854" h="2358">
                <a:moveTo>
                  <a:pt x="7268" y="9847"/>
                </a:moveTo>
                <a:cubicBezTo>
                  <a:pt x="7477" y="9847"/>
                  <a:pt x="7683" y="9845"/>
                  <a:pt x="7888" y="9823"/>
                </a:cubicBezTo>
                <a:cubicBezTo>
                  <a:pt x="7954" y="9823"/>
                  <a:pt x="7971" y="9823"/>
                  <a:pt x="8012" y="9823"/>
                </a:cubicBezTo>
              </a:path>
              <a:path w="2854" h="2358">
                <a:moveTo>
                  <a:pt x="8384" y="9500"/>
                </a:moveTo>
                <a:cubicBezTo>
                  <a:pt x="8363" y="9606"/>
                  <a:pt x="8346" y="9718"/>
                  <a:pt x="8334" y="9823"/>
                </a:cubicBezTo>
                <a:cubicBezTo>
                  <a:pt x="8323" y="9921"/>
                  <a:pt x="8313" y="10023"/>
                  <a:pt x="8310" y="10120"/>
                </a:cubicBezTo>
                <a:cubicBezTo>
                  <a:pt x="8306" y="10243"/>
                  <a:pt x="8263" y="10367"/>
                  <a:pt x="8285" y="10492"/>
                </a:cubicBezTo>
                <a:cubicBezTo>
                  <a:pt x="8297" y="10564"/>
                  <a:pt x="8325" y="10653"/>
                  <a:pt x="8334" y="10716"/>
                </a:cubicBezTo>
                <a:cubicBezTo>
                  <a:pt x="8334" y="10741"/>
                  <a:pt x="8334" y="10765"/>
                  <a:pt x="8334" y="10790"/>
                </a:cubicBezTo>
              </a:path>
              <a:path w="2854" h="2358">
                <a:moveTo>
                  <a:pt x="6921" y="9227"/>
                </a:moveTo>
                <a:cubicBezTo>
                  <a:pt x="6909" y="9326"/>
                  <a:pt x="6910" y="9426"/>
                  <a:pt x="6896" y="9525"/>
                </a:cubicBezTo>
                <a:cubicBezTo>
                  <a:pt x="6875" y="9674"/>
                  <a:pt x="6886" y="9821"/>
                  <a:pt x="6871" y="9971"/>
                </a:cubicBezTo>
                <a:cubicBezTo>
                  <a:pt x="6855" y="10128"/>
                  <a:pt x="6832" y="10288"/>
                  <a:pt x="6821" y="10443"/>
                </a:cubicBezTo>
                <a:cubicBezTo>
                  <a:pt x="6810" y="10598"/>
                  <a:pt x="6821" y="10758"/>
                  <a:pt x="6821" y="10914"/>
                </a:cubicBezTo>
                <a:cubicBezTo>
                  <a:pt x="6832" y="10859"/>
                  <a:pt x="6835" y="10781"/>
                  <a:pt x="6846" y="10716"/>
                </a:cubicBezTo>
                <a:cubicBezTo>
                  <a:pt x="6867" y="10592"/>
                  <a:pt x="6877" y="10472"/>
                  <a:pt x="6871" y="10344"/>
                </a:cubicBezTo>
                <a:cubicBezTo>
                  <a:pt x="6860" y="10085"/>
                  <a:pt x="6804" y="9720"/>
                  <a:pt x="6821" y="9451"/>
                </a:cubicBezTo>
                <a:cubicBezTo>
                  <a:pt x="6826" y="9367"/>
                  <a:pt x="6844" y="9257"/>
                  <a:pt x="6871" y="9178"/>
                </a:cubicBezTo>
                <a:cubicBezTo>
                  <a:pt x="6893" y="9113"/>
                  <a:pt x="6954" y="9051"/>
                  <a:pt x="7020" y="9029"/>
                </a:cubicBezTo>
                <a:cubicBezTo>
                  <a:pt x="7125" y="8993"/>
                  <a:pt x="7231" y="9004"/>
                  <a:pt x="7342" y="9004"/>
                </a:cubicBezTo>
                <a:cubicBezTo>
                  <a:pt x="7889" y="9004"/>
                  <a:pt x="8435" y="9000"/>
                  <a:pt x="8979" y="9029"/>
                </a:cubicBezTo>
                <a:cubicBezTo>
                  <a:pt x="9209" y="9041"/>
                  <a:pt x="9443" y="9029"/>
                  <a:pt x="9674" y="9029"/>
                </a:cubicBezTo>
                <a:cubicBezTo>
                  <a:pt x="9662" y="9082"/>
                  <a:pt x="9638" y="9119"/>
                  <a:pt x="9624" y="9178"/>
                </a:cubicBezTo>
                <a:cubicBezTo>
                  <a:pt x="9605" y="9261"/>
                  <a:pt x="9582" y="9366"/>
                  <a:pt x="9575" y="9451"/>
                </a:cubicBezTo>
                <a:cubicBezTo>
                  <a:pt x="9545" y="9835"/>
                  <a:pt x="9526" y="10315"/>
                  <a:pt x="9599" y="10691"/>
                </a:cubicBezTo>
                <a:cubicBezTo>
                  <a:pt x="9622" y="10811"/>
                  <a:pt x="9662" y="10941"/>
                  <a:pt x="9674" y="11063"/>
                </a:cubicBezTo>
                <a:cubicBezTo>
                  <a:pt x="9683" y="11153"/>
                  <a:pt x="9667" y="11236"/>
                  <a:pt x="9649" y="11311"/>
                </a:cubicBezTo>
                <a:cubicBezTo>
                  <a:pt x="9589" y="11308"/>
                  <a:pt x="9511" y="11305"/>
                  <a:pt x="9426" y="11286"/>
                </a:cubicBezTo>
                <a:cubicBezTo>
                  <a:pt x="9332" y="11265"/>
                  <a:pt x="9225" y="11247"/>
                  <a:pt x="9128" y="11237"/>
                </a:cubicBezTo>
                <a:cubicBezTo>
                  <a:pt x="8964" y="11220"/>
                  <a:pt x="8796" y="11229"/>
                  <a:pt x="8632" y="11212"/>
                </a:cubicBezTo>
                <a:cubicBezTo>
                  <a:pt x="8425" y="11190"/>
                  <a:pt x="8222" y="11187"/>
                  <a:pt x="8012" y="11187"/>
                </a:cubicBezTo>
                <a:cubicBezTo>
                  <a:pt x="7836" y="11187"/>
                  <a:pt x="7642" y="11192"/>
                  <a:pt x="7466" y="11212"/>
                </a:cubicBezTo>
                <a:cubicBezTo>
                  <a:pt x="7373" y="11222"/>
                  <a:pt x="7205" y="11228"/>
                  <a:pt x="7119" y="11261"/>
                </a:cubicBezTo>
                <a:cubicBezTo>
                  <a:pt x="7064" y="11282"/>
                  <a:pt x="7093" y="11319"/>
                  <a:pt x="7069" y="11336"/>
                </a:cubicBezTo>
                <a:cubicBezTo>
                  <a:pt x="7069" y="11369"/>
                  <a:pt x="7061" y="11377"/>
                  <a:pt x="7020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1880" y="866880"/>
            <a:ext cx="3652920" cy="660240"/>
          </a:xfrm>
          <a:custGeom>
            <a:avLst/>
            <a:gdLst/>
            <a:ahLst/>
            <a:rect l="l" t="t" r="r" b="b"/>
            <a:pathLst>
              <a:path w="10147" h="1837">
                <a:moveTo>
                  <a:pt x="5283" y="3894"/>
                </a:moveTo>
                <a:cubicBezTo>
                  <a:pt x="5321" y="3861"/>
                  <a:pt x="5319" y="3855"/>
                  <a:pt x="5358" y="3820"/>
                </a:cubicBezTo>
                <a:cubicBezTo>
                  <a:pt x="5416" y="3769"/>
                  <a:pt x="5469" y="3716"/>
                  <a:pt x="5531" y="3671"/>
                </a:cubicBezTo>
                <a:cubicBezTo>
                  <a:pt x="5682" y="3560"/>
                  <a:pt x="5860" y="3467"/>
                  <a:pt x="6028" y="3373"/>
                </a:cubicBezTo>
                <a:cubicBezTo>
                  <a:pt x="6180" y="3288"/>
                  <a:pt x="6339" y="3193"/>
                  <a:pt x="6499" y="3125"/>
                </a:cubicBezTo>
                <a:cubicBezTo>
                  <a:pt x="6686" y="3046"/>
                  <a:pt x="6879" y="2945"/>
                  <a:pt x="7069" y="2877"/>
                </a:cubicBezTo>
                <a:cubicBezTo>
                  <a:pt x="7351" y="2776"/>
                  <a:pt x="7648" y="2720"/>
                  <a:pt x="7938" y="2654"/>
                </a:cubicBezTo>
                <a:cubicBezTo>
                  <a:pt x="8446" y="2539"/>
                  <a:pt x="8934" y="2472"/>
                  <a:pt x="9451" y="2431"/>
                </a:cubicBezTo>
                <a:cubicBezTo>
                  <a:pt x="9951" y="2392"/>
                  <a:pt x="10464" y="2382"/>
                  <a:pt x="10964" y="2431"/>
                </a:cubicBezTo>
                <a:cubicBezTo>
                  <a:pt x="11270" y="2461"/>
                  <a:pt x="11577" y="2455"/>
                  <a:pt x="11881" y="2505"/>
                </a:cubicBezTo>
                <a:cubicBezTo>
                  <a:pt x="12193" y="2556"/>
                  <a:pt x="12495" y="2628"/>
                  <a:pt x="12799" y="2704"/>
                </a:cubicBezTo>
                <a:cubicBezTo>
                  <a:pt x="13071" y="2772"/>
                  <a:pt x="13328" y="2865"/>
                  <a:pt x="13593" y="2952"/>
                </a:cubicBezTo>
                <a:cubicBezTo>
                  <a:pt x="13849" y="3035"/>
                  <a:pt x="14085" y="3149"/>
                  <a:pt x="14312" y="3299"/>
                </a:cubicBezTo>
                <a:cubicBezTo>
                  <a:pt x="14452" y="3392"/>
                  <a:pt x="14580" y="3516"/>
                  <a:pt x="14709" y="3621"/>
                </a:cubicBezTo>
                <a:cubicBezTo>
                  <a:pt x="14807" y="3700"/>
                  <a:pt x="14890" y="3787"/>
                  <a:pt x="14982" y="3870"/>
                </a:cubicBezTo>
                <a:cubicBezTo>
                  <a:pt x="15068" y="3948"/>
                  <a:pt x="15165" y="4019"/>
                  <a:pt x="15255" y="4093"/>
                </a:cubicBezTo>
                <a:cubicBezTo>
                  <a:pt x="15316" y="4143"/>
                  <a:pt x="15376" y="4168"/>
                  <a:pt x="15404" y="4242"/>
                </a:cubicBezTo>
                <a:cubicBezTo>
                  <a:pt x="15420" y="4284"/>
                  <a:pt x="15409" y="4179"/>
                  <a:pt x="15404" y="4242"/>
                </a:cubicBezTo>
                <a:cubicBezTo>
                  <a:pt x="15371" y="4242"/>
                  <a:pt x="15354" y="4242"/>
                  <a:pt x="15329" y="42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12960" y="295200"/>
            <a:ext cx="5500800" cy="1160640"/>
          </a:xfrm>
          <a:custGeom>
            <a:avLst/>
            <a:gdLst/>
            <a:ahLst/>
            <a:rect l="l" t="t" r="r" b="b"/>
            <a:pathLst>
              <a:path w="15281" h="3225">
                <a:moveTo>
                  <a:pt x="5085" y="3820"/>
                </a:moveTo>
                <a:cubicBezTo>
                  <a:pt x="5075" y="3801"/>
                  <a:pt x="5038" y="3779"/>
                  <a:pt x="5035" y="3770"/>
                </a:cubicBezTo>
                <a:cubicBezTo>
                  <a:pt x="5035" y="3746"/>
                  <a:pt x="5035" y="3737"/>
                  <a:pt x="5035" y="3721"/>
                </a:cubicBezTo>
                <a:cubicBezTo>
                  <a:pt x="5048" y="3704"/>
                  <a:pt x="5092" y="3645"/>
                  <a:pt x="5110" y="3621"/>
                </a:cubicBezTo>
                <a:cubicBezTo>
                  <a:pt x="5161" y="3555"/>
                  <a:pt x="5209" y="3489"/>
                  <a:pt x="5259" y="3423"/>
                </a:cubicBezTo>
                <a:cubicBezTo>
                  <a:pt x="5353" y="3298"/>
                  <a:pt x="5448" y="3191"/>
                  <a:pt x="5556" y="3076"/>
                </a:cubicBezTo>
                <a:cubicBezTo>
                  <a:pt x="5662" y="2962"/>
                  <a:pt x="5762" y="2834"/>
                  <a:pt x="5879" y="2729"/>
                </a:cubicBezTo>
                <a:cubicBezTo>
                  <a:pt x="5981" y="2638"/>
                  <a:pt x="6092" y="2539"/>
                  <a:pt x="6201" y="2456"/>
                </a:cubicBezTo>
                <a:cubicBezTo>
                  <a:pt x="6329" y="2358"/>
                  <a:pt x="6462" y="2268"/>
                  <a:pt x="6598" y="2183"/>
                </a:cubicBezTo>
                <a:cubicBezTo>
                  <a:pt x="6792" y="2062"/>
                  <a:pt x="6991" y="1958"/>
                  <a:pt x="7193" y="1860"/>
                </a:cubicBezTo>
                <a:cubicBezTo>
                  <a:pt x="7558" y="1682"/>
                  <a:pt x="7914" y="1517"/>
                  <a:pt x="8310" y="1414"/>
                </a:cubicBezTo>
                <a:cubicBezTo>
                  <a:pt x="8533" y="1356"/>
                  <a:pt x="8755" y="1295"/>
                  <a:pt x="8979" y="1240"/>
                </a:cubicBezTo>
                <a:cubicBezTo>
                  <a:pt x="9284" y="1166"/>
                  <a:pt x="9588" y="1101"/>
                  <a:pt x="9897" y="1042"/>
                </a:cubicBezTo>
                <a:cubicBezTo>
                  <a:pt x="10159" y="992"/>
                  <a:pt x="10424" y="943"/>
                  <a:pt x="10691" y="918"/>
                </a:cubicBezTo>
                <a:cubicBezTo>
                  <a:pt x="10970" y="892"/>
                  <a:pt x="11254" y="857"/>
                  <a:pt x="11534" y="843"/>
                </a:cubicBezTo>
                <a:cubicBezTo>
                  <a:pt x="12033" y="819"/>
                  <a:pt x="12525" y="823"/>
                  <a:pt x="13022" y="843"/>
                </a:cubicBezTo>
                <a:cubicBezTo>
                  <a:pt x="13312" y="855"/>
                  <a:pt x="13602" y="887"/>
                  <a:pt x="13891" y="918"/>
                </a:cubicBezTo>
                <a:cubicBezTo>
                  <a:pt x="14180" y="949"/>
                  <a:pt x="14450" y="1013"/>
                  <a:pt x="14734" y="1067"/>
                </a:cubicBezTo>
                <a:cubicBezTo>
                  <a:pt x="15030" y="1123"/>
                  <a:pt x="15310" y="1187"/>
                  <a:pt x="15602" y="1265"/>
                </a:cubicBezTo>
                <a:cubicBezTo>
                  <a:pt x="16043" y="1383"/>
                  <a:pt x="16447" y="1543"/>
                  <a:pt x="16867" y="1712"/>
                </a:cubicBezTo>
                <a:cubicBezTo>
                  <a:pt x="17117" y="1812"/>
                  <a:pt x="17371" y="1911"/>
                  <a:pt x="17611" y="2034"/>
                </a:cubicBezTo>
                <a:cubicBezTo>
                  <a:pt x="17941" y="2204"/>
                  <a:pt x="18267" y="2406"/>
                  <a:pt x="18579" y="2604"/>
                </a:cubicBezTo>
                <a:cubicBezTo>
                  <a:pt x="18758" y="2718"/>
                  <a:pt x="18926" y="2852"/>
                  <a:pt x="19100" y="2977"/>
                </a:cubicBezTo>
                <a:cubicBezTo>
                  <a:pt x="19281" y="3107"/>
                  <a:pt x="19447" y="3237"/>
                  <a:pt x="19621" y="3373"/>
                </a:cubicBezTo>
                <a:cubicBezTo>
                  <a:pt x="19719" y="3450"/>
                  <a:pt x="19805" y="3543"/>
                  <a:pt x="19893" y="3621"/>
                </a:cubicBezTo>
                <a:cubicBezTo>
                  <a:pt x="19968" y="3688"/>
                  <a:pt x="20043" y="3749"/>
                  <a:pt x="20117" y="3820"/>
                </a:cubicBezTo>
                <a:cubicBezTo>
                  <a:pt x="20181" y="3880"/>
                  <a:pt x="20250" y="3935"/>
                  <a:pt x="20290" y="3994"/>
                </a:cubicBezTo>
                <a:cubicBezTo>
                  <a:pt x="20334" y="4059"/>
                  <a:pt x="20242" y="4011"/>
                  <a:pt x="20265" y="40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2286000" y="277920"/>
          <a:ext cx="4952880" cy="17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77920"/>
                    <a:ext cx="495288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17840" y="2874960"/>
            <a:ext cx="1027080" cy="455760"/>
          </a:xfrm>
          <a:custGeom>
            <a:avLst/>
            <a:gdLst/>
            <a:ahLst/>
            <a:rect l="l" t="t" r="r" b="b"/>
            <a:pathLst>
              <a:path w="2853" h="1266">
                <a:moveTo>
                  <a:pt x="7441" y="8706"/>
                </a:moveTo>
                <a:cubicBezTo>
                  <a:pt x="7463" y="8656"/>
                  <a:pt x="7491" y="8599"/>
                  <a:pt x="7417" y="8582"/>
                </a:cubicBezTo>
                <a:cubicBezTo>
                  <a:pt x="7322" y="8561"/>
                  <a:pt x="7266" y="8608"/>
                  <a:pt x="7193" y="8632"/>
                </a:cubicBezTo>
                <a:cubicBezTo>
                  <a:pt x="7121" y="8656"/>
                  <a:pt x="7102" y="8672"/>
                  <a:pt x="7045" y="8706"/>
                </a:cubicBezTo>
                <a:cubicBezTo>
                  <a:pt x="6994" y="8736"/>
                  <a:pt x="7006" y="8706"/>
                  <a:pt x="6995" y="8781"/>
                </a:cubicBezTo>
                <a:cubicBezTo>
                  <a:pt x="7047" y="8781"/>
                  <a:pt x="7076" y="8778"/>
                  <a:pt x="7119" y="8806"/>
                </a:cubicBezTo>
                <a:cubicBezTo>
                  <a:pt x="7204" y="8861"/>
                  <a:pt x="7265" y="8859"/>
                  <a:pt x="7342" y="8930"/>
                </a:cubicBezTo>
                <a:cubicBezTo>
                  <a:pt x="7414" y="8996"/>
                  <a:pt x="7457" y="9061"/>
                  <a:pt x="7417" y="9153"/>
                </a:cubicBezTo>
                <a:cubicBezTo>
                  <a:pt x="7382" y="9234"/>
                  <a:pt x="7359" y="9208"/>
                  <a:pt x="7293" y="9227"/>
                </a:cubicBezTo>
                <a:cubicBezTo>
                  <a:pt x="7238" y="9243"/>
                  <a:pt x="7155" y="9275"/>
                  <a:pt x="7094" y="9252"/>
                </a:cubicBezTo>
                <a:cubicBezTo>
                  <a:pt x="7067" y="9242"/>
                  <a:pt x="6991" y="9219"/>
                  <a:pt x="6995" y="9178"/>
                </a:cubicBezTo>
                <a:cubicBezTo>
                  <a:pt x="7003" y="9170"/>
                  <a:pt x="7012" y="9161"/>
                  <a:pt x="7020" y="9153"/>
                </a:cubicBezTo>
              </a:path>
              <a:path w="2853" h="1266">
                <a:moveTo>
                  <a:pt x="7739" y="8632"/>
                </a:moveTo>
                <a:cubicBezTo>
                  <a:pt x="7739" y="8768"/>
                  <a:pt x="7741" y="8908"/>
                  <a:pt x="7764" y="9029"/>
                </a:cubicBezTo>
                <a:cubicBezTo>
                  <a:pt x="7770" y="9063"/>
                  <a:pt x="7777" y="9232"/>
                  <a:pt x="7764" y="9153"/>
                </a:cubicBezTo>
                <a:cubicBezTo>
                  <a:pt x="7764" y="9112"/>
                  <a:pt x="7764" y="9104"/>
                  <a:pt x="7764" y="9079"/>
                </a:cubicBezTo>
              </a:path>
              <a:path w="2853" h="1266">
                <a:moveTo>
                  <a:pt x="7838" y="8260"/>
                </a:moveTo>
                <a:cubicBezTo>
                  <a:pt x="7838" y="8235"/>
                  <a:pt x="7838" y="8227"/>
                  <a:pt x="7863" y="8235"/>
                </a:cubicBezTo>
              </a:path>
              <a:path w="2853" h="1266">
                <a:moveTo>
                  <a:pt x="8012" y="8806"/>
                </a:moveTo>
                <a:cubicBezTo>
                  <a:pt x="8012" y="8915"/>
                  <a:pt x="8031" y="9016"/>
                  <a:pt x="7987" y="9103"/>
                </a:cubicBezTo>
                <a:cubicBezTo>
                  <a:pt x="7987" y="9033"/>
                  <a:pt x="8002" y="8998"/>
                  <a:pt x="8012" y="8930"/>
                </a:cubicBezTo>
                <a:cubicBezTo>
                  <a:pt x="8021" y="8868"/>
                  <a:pt x="8013" y="8788"/>
                  <a:pt x="8037" y="8731"/>
                </a:cubicBezTo>
                <a:cubicBezTo>
                  <a:pt x="8062" y="8673"/>
                  <a:pt x="8098" y="8627"/>
                  <a:pt x="8136" y="8582"/>
                </a:cubicBezTo>
                <a:cubicBezTo>
                  <a:pt x="8200" y="8505"/>
                  <a:pt x="8235" y="8603"/>
                  <a:pt x="8285" y="8632"/>
                </a:cubicBezTo>
                <a:cubicBezTo>
                  <a:pt x="8305" y="8644"/>
                  <a:pt x="8376" y="8737"/>
                  <a:pt x="8384" y="8781"/>
                </a:cubicBezTo>
                <a:cubicBezTo>
                  <a:pt x="8397" y="8853"/>
                  <a:pt x="8409" y="8929"/>
                  <a:pt x="8409" y="9004"/>
                </a:cubicBezTo>
                <a:cubicBezTo>
                  <a:pt x="8409" y="9049"/>
                  <a:pt x="8358" y="9253"/>
                  <a:pt x="8409" y="9079"/>
                </a:cubicBezTo>
              </a:path>
              <a:path w="2853" h="1266">
                <a:moveTo>
                  <a:pt x="8607" y="8062"/>
                </a:moveTo>
                <a:cubicBezTo>
                  <a:pt x="8726" y="7997"/>
                  <a:pt x="8707" y="7992"/>
                  <a:pt x="8806" y="8012"/>
                </a:cubicBezTo>
                <a:cubicBezTo>
                  <a:pt x="8861" y="8023"/>
                  <a:pt x="8925" y="8047"/>
                  <a:pt x="8880" y="8136"/>
                </a:cubicBezTo>
                <a:cubicBezTo>
                  <a:pt x="8851" y="8194"/>
                  <a:pt x="8779" y="8263"/>
                  <a:pt x="8731" y="8310"/>
                </a:cubicBezTo>
                <a:cubicBezTo>
                  <a:pt x="8658" y="8381"/>
                  <a:pt x="8695" y="8373"/>
                  <a:pt x="8756" y="8409"/>
                </a:cubicBezTo>
                <a:cubicBezTo>
                  <a:pt x="8826" y="8450"/>
                  <a:pt x="8919" y="8434"/>
                  <a:pt x="9004" y="8434"/>
                </a:cubicBezTo>
              </a:path>
              <a:path w="2853" h="1266">
                <a:moveTo>
                  <a:pt x="9327" y="8558"/>
                </a:moveTo>
                <a:cubicBezTo>
                  <a:pt x="9336" y="8669"/>
                  <a:pt x="9349" y="8732"/>
                  <a:pt x="9401" y="8806"/>
                </a:cubicBezTo>
                <a:cubicBezTo>
                  <a:pt x="9458" y="8887"/>
                  <a:pt x="9524" y="8953"/>
                  <a:pt x="9575" y="9004"/>
                </a:cubicBezTo>
                <a:cubicBezTo>
                  <a:pt x="9585" y="9014"/>
                  <a:pt x="9739" y="9154"/>
                  <a:pt x="9748" y="9153"/>
                </a:cubicBezTo>
                <a:cubicBezTo>
                  <a:pt x="9807" y="9113"/>
                  <a:pt x="9819" y="9110"/>
                  <a:pt x="9847" y="9079"/>
                </a:cubicBezTo>
              </a:path>
              <a:path w="2853" h="1266">
                <a:moveTo>
                  <a:pt x="9723" y="8508"/>
                </a:moveTo>
                <a:cubicBezTo>
                  <a:pt x="9591" y="8655"/>
                  <a:pt x="9492" y="8780"/>
                  <a:pt x="9376" y="8930"/>
                </a:cubicBezTo>
                <a:cubicBezTo>
                  <a:pt x="9323" y="8998"/>
                  <a:pt x="9261" y="9044"/>
                  <a:pt x="9203" y="9079"/>
                </a:cubicBezTo>
                <a:cubicBezTo>
                  <a:pt x="9166" y="9101"/>
                  <a:pt x="9147" y="9168"/>
                  <a:pt x="9128" y="9178"/>
                </a:cubicBezTo>
                <a:cubicBezTo>
                  <a:pt x="9120" y="9178"/>
                  <a:pt x="9111" y="9178"/>
                  <a:pt x="9103" y="91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24200" y="2990880"/>
            <a:ext cx="249480" cy="196920"/>
          </a:xfrm>
          <a:custGeom>
            <a:avLst/>
            <a:gdLst/>
            <a:ahLst/>
            <a:rect l="l" t="t" r="r" b="b"/>
            <a:pathLst>
              <a:path w="695" h="546">
                <a:moveTo>
                  <a:pt x="10517" y="8310"/>
                </a:moveTo>
                <a:cubicBezTo>
                  <a:pt x="10517" y="8406"/>
                  <a:pt x="10535" y="8489"/>
                  <a:pt x="10542" y="8582"/>
                </a:cubicBezTo>
                <a:cubicBezTo>
                  <a:pt x="10548" y="8666"/>
                  <a:pt x="10527" y="8796"/>
                  <a:pt x="10567" y="8855"/>
                </a:cubicBezTo>
                <a:cubicBezTo>
                  <a:pt x="10592" y="8855"/>
                  <a:pt x="10600" y="8855"/>
                  <a:pt x="10567" y="8855"/>
                </a:cubicBezTo>
              </a:path>
              <a:path w="695" h="546">
                <a:moveTo>
                  <a:pt x="10344" y="8508"/>
                </a:moveTo>
                <a:cubicBezTo>
                  <a:pt x="10460" y="8558"/>
                  <a:pt x="10515" y="8558"/>
                  <a:pt x="10641" y="8558"/>
                </a:cubicBezTo>
                <a:cubicBezTo>
                  <a:pt x="10741" y="8558"/>
                  <a:pt x="11021" y="8607"/>
                  <a:pt x="11038" y="8508"/>
                </a:cubicBezTo>
                <a:cubicBezTo>
                  <a:pt x="11005" y="8508"/>
                  <a:pt x="10996" y="8516"/>
                  <a:pt x="11013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79960" y="3009960"/>
            <a:ext cx="981000" cy="258840"/>
          </a:xfrm>
          <a:custGeom>
            <a:avLst/>
            <a:gdLst/>
            <a:ahLst/>
            <a:rect l="l" t="t" r="r" b="b"/>
            <a:pathLst>
              <a:path w="2729" h="721">
                <a:moveTo>
                  <a:pt x="11906" y="8483"/>
                </a:moveTo>
                <a:cubicBezTo>
                  <a:pt x="11906" y="8375"/>
                  <a:pt x="11873" y="8451"/>
                  <a:pt x="11857" y="8409"/>
                </a:cubicBezTo>
                <a:cubicBezTo>
                  <a:pt x="11857" y="8392"/>
                  <a:pt x="11857" y="8376"/>
                  <a:pt x="11857" y="8359"/>
                </a:cubicBezTo>
                <a:cubicBezTo>
                  <a:pt x="11824" y="8376"/>
                  <a:pt x="11791" y="8390"/>
                  <a:pt x="11757" y="8409"/>
                </a:cubicBezTo>
                <a:cubicBezTo>
                  <a:pt x="11718" y="8431"/>
                  <a:pt x="11636" y="8545"/>
                  <a:pt x="11633" y="8558"/>
                </a:cubicBezTo>
                <a:cubicBezTo>
                  <a:pt x="11616" y="8635"/>
                  <a:pt x="11609" y="8697"/>
                  <a:pt x="11609" y="8781"/>
                </a:cubicBezTo>
                <a:cubicBezTo>
                  <a:pt x="11609" y="8850"/>
                  <a:pt x="11614" y="8892"/>
                  <a:pt x="11658" y="8930"/>
                </a:cubicBezTo>
                <a:cubicBezTo>
                  <a:pt x="11721" y="8985"/>
                  <a:pt x="11724" y="9004"/>
                  <a:pt x="11807" y="9004"/>
                </a:cubicBezTo>
                <a:cubicBezTo>
                  <a:pt x="11870" y="9004"/>
                  <a:pt x="11846" y="9006"/>
                  <a:pt x="11906" y="8954"/>
                </a:cubicBezTo>
              </a:path>
              <a:path w="2729" h="721">
                <a:moveTo>
                  <a:pt x="12154" y="8558"/>
                </a:moveTo>
                <a:cubicBezTo>
                  <a:pt x="12142" y="8619"/>
                  <a:pt x="12129" y="8665"/>
                  <a:pt x="12129" y="8731"/>
                </a:cubicBezTo>
                <a:cubicBezTo>
                  <a:pt x="12129" y="8784"/>
                  <a:pt x="12106" y="8888"/>
                  <a:pt x="12154" y="8930"/>
                </a:cubicBezTo>
                <a:cubicBezTo>
                  <a:pt x="12190" y="8962"/>
                  <a:pt x="12194" y="8944"/>
                  <a:pt x="12229" y="9004"/>
                </a:cubicBezTo>
                <a:cubicBezTo>
                  <a:pt x="12281" y="9004"/>
                  <a:pt x="12316" y="8979"/>
                  <a:pt x="12353" y="8954"/>
                </a:cubicBezTo>
                <a:cubicBezTo>
                  <a:pt x="12396" y="8925"/>
                  <a:pt x="12442" y="8829"/>
                  <a:pt x="12452" y="8781"/>
                </a:cubicBezTo>
                <a:cubicBezTo>
                  <a:pt x="12464" y="8719"/>
                  <a:pt x="12458" y="8635"/>
                  <a:pt x="12427" y="8582"/>
                </a:cubicBezTo>
                <a:cubicBezTo>
                  <a:pt x="12375" y="8493"/>
                  <a:pt x="12349" y="8483"/>
                  <a:pt x="12254" y="8483"/>
                </a:cubicBezTo>
                <a:cubicBezTo>
                  <a:pt x="12196" y="8483"/>
                  <a:pt x="12138" y="8483"/>
                  <a:pt x="12080" y="8483"/>
                </a:cubicBezTo>
              </a:path>
              <a:path w="2729" h="721">
                <a:moveTo>
                  <a:pt x="12824" y="8483"/>
                </a:moveTo>
                <a:cubicBezTo>
                  <a:pt x="12770" y="8552"/>
                  <a:pt x="12735" y="8531"/>
                  <a:pt x="12700" y="8582"/>
                </a:cubicBezTo>
                <a:cubicBezTo>
                  <a:pt x="12652" y="8650"/>
                  <a:pt x="12655" y="8613"/>
                  <a:pt x="12675" y="8657"/>
                </a:cubicBezTo>
                <a:cubicBezTo>
                  <a:pt x="12702" y="8715"/>
                  <a:pt x="12785" y="8735"/>
                  <a:pt x="12824" y="8781"/>
                </a:cubicBezTo>
                <a:cubicBezTo>
                  <a:pt x="12852" y="8814"/>
                  <a:pt x="12941" y="8877"/>
                  <a:pt x="12923" y="8930"/>
                </a:cubicBezTo>
                <a:cubicBezTo>
                  <a:pt x="12905" y="8982"/>
                  <a:pt x="12848" y="9004"/>
                  <a:pt x="12799" y="9004"/>
                </a:cubicBezTo>
                <a:cubicBezTo>
                  <a:pt x="12748" y="9004"/>
                  <a:pt x="12740" y="8967"/>
                  <a:pt x="12725" y="8930"/>
                </a:cubicBezTo>
              </a:path>
              <a:path w="2729" h="721">
                <a:moveTo>
                  <a:pt x="13097" y="8582"/>
                </a:moveTo>
                <a:cubicBezTo>
                  <a:pt x="13185" y="8705"/>
                  <a:pt x="13234" y="8787"/>
                  <a:pt x="13345" y="8880"/>
                </a:cubicBezTo>
                <a:cubicBezTo>
                  <a:pt x="13407" y="8932"/>
                  <a:pt x="13449" y="8992"/>
                  <a:pt x="13519" y="9004"/>
                </a:cubicBezTo>
                <a:cubicBezTo>
                  <a:pt x="13551" y="9009"/>
                  <a:pt x="13586" y="9004"/>
                  <a:pt x="13618" y="9004"/>
                </a:cubicBezTo>
              </a:path>
              <a:path w="2729" h="721">
                <a:moveTo>
                  <a:pt x="13519" y="8558"/>
                </a:moveTo>
                <a:cubicBezTo>
                  <a:pt x="13440" y="8581"/>
                  <a:pt x="13384" y="8627"/>
                  <a:pt x="13320" y="8706"/>
                </a:cubicBezTo>
                <a:cubicBezTo>
                  <a:pt x="13252" y="8790"/>
                  <a:pt x="13214" y="8870"/>
                  <a:pt x="13122" y="8930"/>
                </a:cubicBezTo>
                <a:cubicBezTo>
                  <a:pt x="13059" y="8971"/>
                  <a:pt x="13035" y="9012"/>
                  <a:pt x="12998" y="9079"/>
                </a:cubicBezTo>
              </a:path>
              <a:path w="2729" h="721">
                <a:moveTo>
                  <a:pt x="14163" y="8508"/>
                </a:moveTo>
                <a:cubicBezTo>
                  <a:pt x="14177" y="8630"/>
                  <a:pt x="14188" y="8736"/>
                  <a:pt x="14188" y="8855"/>
                </a:cubicBezTo>
                <a:cubicBezTo>
                  <a:pt x="14188" y="8938"/>
                  <a:pt x="14213" y="8938"/>
                  <a:pt x="14213" y="9029"/>
                </a:cubicBezTo>
              </a:path>
              <a:path w="2729" h="721">
                <a:moveTo>
                  <a:pt x="14015" y="8781"/>
                </a:moveTo>
                <a:cubicBezTo>
                  <a:pt x="14088" y="8718"/>
                  <a:pt x="14154" y="8731"/>
                  <a:pt x="14263" y="8731"/>
                </a:cubicBezTo>
                <a:cubicBezTo>
                  <a:pt x="14288" y="8731"/>
                  <a:pt x="14312" y="8731"/>
                  <a:pt x="14337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57880" y="2963880"/>
            <a:ext cx="893520" cy="393840"/>
          </a:xfrm>
          <a:custGeom>
            <a:avLst/>
            <a:gdLst/>
            <a:ahLst/>
            <a:rect l="l" t="t" r="r" b="b"/>
            <a:pathLst>
              <a:path w="2481" h="1093">
                <a:moveTo>
                  <a:pt x="15180" y="8632"/>
                </a:moveTo>
                <a:cubicBezTo>
                  <a:pt x="15188" y="8640"/>
                  <a:pt x="15197" y="8649"/>
                  <a:pt x="15205" y="8657"/>
                </a:cubicBezTo>
                <a:cubicBezTo>
                  <a:pt x="15222" y="8614"/>
                  <a:pt x="15224" y="8563"/>
                  <a:pt x="15156" y="8558"/>
                </a:cubicBezTo>
                <a:cubicBezTo>
                  <a:pt x="15032" y="8549"/>
                  <a:pt x="15081" y="8559"/>
                  <a:pt x="15007" y="8632"/>
                </a:cubicBezTo>
                <a:cubicBezTo>
                  <a:pt x="14954" y="8684"/>
                  <a:pt x="14928" y="8707"/>
                  <a:pt x="14908" y="8781"/>
                </a:cubicBezTo>
                <a:cubicBezTo>
                  <a:pt x="14892" y="8841"/>
                  <a:pt x="14859" y="8940"/>
                  <a:pt x="14883" y="9004"/>
                </a:cubicBezTo>
                <a:cubicBezTo>
                  <a:pt x="14911" y="9079"/>
                  <a:pt x="14982" y="9099"/>
                  <a:pt x="15056" y="9103"/>
                </a:cubicBezTo>
                <a:cubicBezTo>
                  <a:pt x="15123" y="9106"/>
                  <a:pt x="15167" y="9087"/>
                  <a:pt x="15230" y="9079"/>
                </a:cubicBezTo>
              </a:path>
              <a:path w="2481" h="1093">
                <a:moveTo>
                  <a:pt x="15453" y="8632"/>
                </a:moveTo>
                <a:cubicBezTo>
                  <a:pt x="15433" y="8700"/>
                  <a:pt x="15427" y="8794"/>
                  <a:pt x="15404" y="8855"/>
                </a:cubicBezTo>
                <a:cubicBezTo>
                  <a:pt x="15381" y="8917"/>
                  <a:pt x="15376" y="8955"/>
                  <a:pt x="15404" y="9029"/>
                </a:cubicBezTo>
                <a:cubicBezTo>
                  <a:pt x="15434" y="9110"/>
                  <a:pt x="15431" y="9123"/>
                  <a:pt x="15503" y="9153"/>
                </a:cubicBezTo>
                <a:cubicBezTo>
                  <a:pt x="15556" y="9175"/>
                  <a:pt x="15625" y="9185"/>
                  <a:pt x="15677" y="9153"/>
                </a:cubicBezTo>
                <a:cubicBezTo>
                  <a:pt x="15719" y="9127"/>
                  <a:pt x="15782" y="9047"/>
                  <a:pt x="15801" y="9004"/>
                </a:cubicBezTo>
                <a:cubicBezTo>
                  <a:pt x="15825" y="8949"/>
                  <a:pt x="15840" y="8842"/>
                  <a:pt x="15825" y="8781"/>
                </a:cubicBezTo>
                <a:cubicBezTo>
                  <a:pt x="15813" y="8732"/>
                  <a:pt x="15664" y="8648"/>
                  <a:pt x="15627" y="8632"/>
                </a:cubicBezTo>
                <a:cubicBezTo>
                  <a:pt x="15609" y="8624"/>
                  <a:pt x="15551" y="8632"/>
                  <a:pt x="15528" y="8632"/>
                </a:cubicBezTo>
              </a:path>
              <a:path w="2481" h="1093">
                <a:moveTo>
                  <a:pt x="16073" y="8582"/>
                </a:moveTo>
                <a:cubicBezTo>
                  <a:pt x="15969" y="8693"/>
                  <a:pt x="15913" y="8692"/>
                  <a:pt x="15974" y="8806"/>
                </a:cubicBezTo>
                <a:cubicBezTo>
                  <a:pt x="16014" y="8879"/>
                  <a:pt x="16086" y="8902"/>
                  <a:pt x="16148" y="8954"/>
                </a:cubicBezTo>
                <a:cubicBezTo>
                  <a:pt x="16178" y="8979"/>
                  <a:pt x="16235" y="9056"/>
                  <a:pt x="16222" y="9103"/>
                </a:cubicBezTo>
                <a:cubicBezTo>
                  <a:pt x="16205" y="9165"/>
                  <a:pt x="16128" y="9175"/>
                  <a:pt x="16073" y="9178"/>
                </a:cubicBezTo>
                <a:cubicBezTo>
                  <a:pt x="16050" y="9179"/>
                  <a:pt x="15957" y="9175"/>
                  <a:pt x="15949" y="9153"/>
                </a:cubicBezTo>
                <a:cubicBezTo>
                  <a:pt x="15949" y="9136"/>
                  <a:pt x="15949" y="9120"/>
                  <a:pt x="15949" y="9103"/>
                </a:cubicBezTo>
              </a:path>
              <a:path w="2481" h="1093">
                <a:moveTo>
                  <a:pt x="16247" y="8285"/>
                </a:moveTo>
                <a:cubicBezTo>
                  <a:pt x="16295" y="8267"/>
                  <a:pt x="16402" y="8207"/>
                  <a:pt x="16446" y="8260"/>
                </a:cubicBezTo>
                <a:cubicBezTo>
                  <a:pt x="16472" y="8291"/>
                  <a:pt x="16420" y="8390"/>
                  <a:pt x="16396" y="8409"/>
                </a:cubicBezTo>
                <a:cubicBezTo>
                  <a:pt x="16362" y="8435"/>
                  <a:pt x="16323" y="8439"/>
                  <a:pt x="16346" y="8508"/>
                </a:cubicBezTo>
                <a:cubicBezTo>
                  <a:pt x="16367" y="8572"/>
                  <a:pt x="16412" y="8574"/>
                  <a:pt x="16470" y="8582"/>
                </a:cubicBezTo>
              </a:path>
              <a:path w="2481" h="1093">
                <a:moveTo>
                  <a:pt x="16793" y="8706"/>
                </a:moveTo>
                <a:cubicBezTo>
                  <a:pt x="16847" y="8838"/>
                  <a:pt x="16862" y="8937"/>
                  <a:pt x="16966" y="9029"/>
                </a:cubicBezTo>
                <a:cubicBezTo>
                  <a:pt x="17027" y="9083"/>
                  <a:pt x="17083" y="9202"/>
                  <a:pt x="17165" y="9227"/>
                </a:cubicBezTo>
                <a:cubicBezTo>
                  <a:pt x="17201" y="9238"/>
                  <a:pt x="17313" y="9272"/>
                  <a:pt x="17338" y="9227"/>
                </a:cubicBezTo>
                <a:cubicBezTo>
                  <a:pt x="17346" y="9202"/>
                  <a:pt x="17355" y="9178"/>
                  <a:pt x="17363" y="9153"/>
                </a:cubicBezTo>
              </a:path>
              <a:path w="2481" h="1093">
                <a:moveTo>
                  <a:pt x="17140" y="8731"/>
                </a:moveTo>
                <a:cubicBezTo>
                  <a:pt x="16990" y="8925"/>
                  <a:pt x="16842" y="9079"/>
                  <a:pt x="16669" y="9252"/>
                </a:cubicBezTo>
                <a:cubicBezTo>
                  <a:pt x="16644" y="9277"/>
                  <a:pt x="16619" y="9302"/>
                  <a:pt x="16594" y="93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95760" y="3571920"/>
            <a:ext cx="268200" cy="625320"/>
          </a:xfrm>
          <a:custGeom>
            <a:avLst/>
            <a:gdLst/>
            <a:ahLst/>
            <a:rect l="l" t="t" r="r" b="b"/>
            <a:pathLst>
              <a:path w="745" h="1737">
                <a:moveTo>
                  <a:pt x="8508" y="9922"/>
                </a:moveTo>
                <a:cubicBezTo>
                  <a:pt x="8389" y="10009"/>
                  <a:pt x="8318" y="10101"/>
                  <a:pt x="8210" y="10195"/>
                </a:cubicBezTo>
                <a:cubicBezTo>
                  <a:pt x="8062" y="10323"/>
                  <a:pt x="8013" y="10397"/>
                  <a:pt x="7913" y="10567"/>
                </a:cubicBezTo>
                <a:cubicBezTo>
                  <a:pt x="7835" y="10700"/>
                  <a:pt x="7778" y="10856"/>
                  <a:pt x="7764" y="11013"/>
                </a:cubicBezTo>
                <a:cubicBezTo>
                  <a:pt x="7749" y="11173"/>
                  <a:pt x="7796" y="11380"/>
                  <a:pt x="7888" y="11509"/>
                </a:cubicBezTo>
                <a:cubicBezTo>
                  <a:pt x="7960" y="11609"/>
                  <a:pt x="8048" y="11648"/>
                  <a:pt x="8161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13080" y="3751200"/>
            <a:ext cx="44640" cy="436680"/>
          </a:xfrm>
          <a:custGeom>
            <a:avLst/>
            <a:gdLst/>
            <a:ahLst/>
            <a:rect l="l" t="t" r="r" b="b"/>
            <a:pathLst>
              <a:path w="125" h="1216">
                <a:moveTo>
                  <a:pt x="9327" y="10418"/>
                </a:moveTo>
                <a:cubicBezTo>
                  <a:pt x="9327" y="10628"/>
                  <a:pt x="9318" y="10830"/>
                  <a:pt x="9302" y="11038"/>
                </a:cubicBezTo>
                <a:cubicBezTo>
                  <a:pt x="9292" y="11162"/>
                  <a:pt x="9303" y="11288"/>
                  <a:pt x="9277" y="11410"/>
                </a:cubicBezTo>
                <a:cubicBezTo>
                  <a:pt x="9266" y="11462"/>
                  <a:pt x="9254" y="11564"/>
                  <a:pt x="9227" y="11609"/>
                </a:cubicBezTo>
                <a:cubicBezTo>
                  <a:pt x="9208" y="11642"/>
                  <a:pt x="9213" y="11594"/>
                  <a:pt x="9227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27280" y="3679920"/>
            <a:ext cx="2598840" cy="1079280"/>
          </a:xfrm>
          <a:custGeom>
            <a:avLst/>
            <a:gdLst/>
            <a:ahLst/>
            <a:rect l="l" t="t" r="r" b="b"/>
            <a:pathLst>
              <a:path w="7219" h="3002">
                <a:moveTo>
                  <a:pt x="10096" y="10691"/>
                </a:moveTo>
                <a:cubicBezTo>
                  <a:pt x="10096" y="10879"/>
                  <a:pt x="10103" y="11053"/>
                  <a:pt x="10120" y="11237"/>
                </a:cubicBezTo>
                <a:cubicBezTo>
                  <a:pt x="10127" y="11310"/>
                  <a:pt x="10120" y="11569"/>
                  <a:pt x="10120" y="11559"/>
                </a:cubicBezTo>
                <a:cubicBezTo>
                  <a:pt x="10120" y="11551"/>
                  <a:pt x="10120" y="11542"/>
                  <a:pt x="10120" y="11534"/>
                </a:cubicBezTo>
              </a:path>
              <a:path w="7219" h="3002">
                <a:moveTo>
                  <a:pt x="9798" y="11013"/>
                </a:moveTo>
                <a:cubicBezTo>
                  <a:pt x="9940" y="11038"/>
                  <a:pt x="10078" y="11094"/>
                  <a:pt x="10220" y="11112"/>
                </a:cubicBezTo>
                <a:cubicBezTo>
                  <a:pt x="10253" y="11112"/>
                  <a:pt x="10286" y="11112"/>
                  <a:pt x="10319" y="11112"/>
                </a:cubicBezTo>
              </a:path>
              <a:path w="7219" h="3002">
                <a:moveTo>
                  <a:pt x="11112" y="11088"/>
                </a:moveTo>
                <a:cubicBezTo>
                  <a:pt x="11120" y="11096"/>
                  <a:pt x="11129" y="11104"/>
                  <a:pt x="11137" y="11112"/>
                </a:cubicBezTo>
                <a:cubicBezTo>
                  <a:pt x="11137" y="11059"/>
                  <a:pt x="11142" y="11031"/>
                  <a:pt x="11088" y="11013"/>
                </a:cubicBezTo>
                <a:cubicBezTo>
                  <a:pt x="11050" y="11000"/>
                  <a:pt x="10994" y="11018"/>
                  <a:pt x="10964" y="11038"/>
                </a:cubicBezTo>
                <a:cubicBezTo>
                  <a:pt x="10889" y="11089"/>
                  <a:pt x="10808" y="11183"/>
                  <a:pt x="10765" y="11261"/>
                </a:cubicBezTo>
                <a:cubicBezTo>
                  <a:pt x="10735" y="11316"/>
                  <a:pt x="10692" y="11394"/>
                  <a:pt x="10716" y="11460"/>
                </a:cubicBezTo>
                <a:cubicBezTo>
                  <a:pt x="10737" y="11516"/>
                  <a:pt x="10805" y="11592"/>
                  <a:pt x="10864" y="11609"/>
                </a:cubicBezTo>
                <a:cubicBezTo>
                  <a:pt x="10949" y="11633"/>
                  <a:pt x="11024" y="11641"/>
                  <a:pt x="11112" y="11609"/>
                </a:cubicBezTo>
                <a:cubicBezTo>
                  <a:pt x="11189" y="11571"/>
                  <a:pt x="11231" y="11547"/>
                  <a:pt x="11286" y="11509"/>
                </a:cubicBezTo>
              </a:path>
              <a:path w="7219" h="3002">
                <a:moveTo>
                  <a:pt x="11534" y="11212"/>
                </a:moveTo>
                <a:cubicBezTo>
                  <a:pt x="11479" y="11275"/>
                  <a:pt x="11448" y="11335"/>
                  <a:pt x="11410" y="11410"/>
                </a:cubicBezTo>
                <a:cubicBezTo>
                  <a:pt x="11379" y="11472"/>
                  <a:pt x="11371" y="11521"/>
                  <a:pt x="11410" y="11584"/>
                </a:cubicBezTo>
                <a:cubicBezTo>
                  <a:pt x="11438" y="11629"/>
                  <a:pt x="11505" y="11674"/>
                  <a:pt x="11559" y="11658"/>
                </a:cubicBezTo>
                <a:cubicBezTo>
                  <a:pt x="11767" y="11598"/>
                  <a:pt x="11780" y="11592"/>
                  <a:pt x="11832" y="11435"/>
                </a:cubicBezTo>
                <a:cubicBezTo>
                  <a:pt x="11854" y="11370"/>
                  <a:pt x="11879" y="11312"/>
                  <a:pt x="11807" y="11261"/>
                </a:cubicBezTo>
                <a:cubicBezTo>
                  <a:pt x="11753" y="11223"/>
                  <a:pt x="11688" y="11200"/>
                  <a:pt x="11633" y="11162"/>
                </a:cubicBezTo>
                <a:cubicBezTo>
                  <a:pt x="11609" y="11137"/>
                  <a:pt x="11601" y="11128"/>
                  <a:pt x="11584" y="11112"/>
                </a:cubicBezTo>
              </a:path>
              <a:path w="7219" h="3002">
                <a:moveTo>
                  <a:pt x="12353" y="11162"/>
                </a:moveTo>
                <a:cubicBezTo>
                  <a:pt x="12291" y="11162"/>
                  <a:pt x="12208" y="11155"/>
                  <a:pt x="12154" y="11187"/>
                </a:cubicBezTo>
                <a:cubicBezTo>
                  <a:pt x="12111" y="11213"/>
                  <a:pt x="12105" y="11211"/>
                  <a:pt x="12105" y="11261"/>
                </a:cubicBezTo>
                <a:cubicBezTo>
                  <a:pt x="12105" y="11359"/>
                  <a:pt x="12197" y="11420"/>
                  <a:pt x="12254" y="11485"/>
                </a:cubicBezTo>
                <a:cubicBezTo>
                  <a:pt x="12284" y="11519"/>
                  <a:pt x="12362" y="11615"/>
                  <a:pt x="12353" y="11658"/>
                </a:cubicBezTo>
                <a:cubicBezTo>
                  <a:pt x="12346" y="11693"/>
                  <a:pt x="12230" y="11714"/>
                  <a:pt x="12204" y="11708"/>
                </a:cubicBezTo>
                <a:cubicBezTo>
                  <a:pt x="12142" y="11694"/>
                  <a:pt x="12079" y="11676"/>
                  <a:pt x="12030" y="11633"/>
                </a:cubicBezTo>
                <a:cubicBezTo>
                  <a:pt x="11999" y="11605"/>
                  <a:pt x="12005" y="11597"/>
                  <a:pt x="12005" y="11559"/>
                </a:cubicBezTo>
              </a:path>
              <a:path w="7219" h="3002">
                <a:moveTo>
                  <a:pt x="12675" y="11212"/>
                </a:moveTo>
                <a:cubicBezTo>
                  <a:pt x="12702" y="11300"/>
                  <a:pt x="12733" y="11353"/>
                  <a:pt x="12774" y="11435"/>
                </a:cubicBezTo>
                <a:cubicBezTo>
                  <a:pt x="12817" y="11522"/>
                  <a:pt x="12839" y="11597"/>
                  <a:pt x="12923" y="11658"/>
                </a:cubicBezTo>
                <a:cubicBezTo>
                  <a:pt x="12977" y="11697"/>
                  <a:pt x="13097" y="11767"/>
                  <a:pt x="13146" y="11733"/>
                </a:cubicBezTo>
                <a:cubicBezTo>
                  <a:pt x="13181" y="11698"/>
                  <a:pt x="13194" y="11676"/>
                  <a:pt x="13196" y="11633"/>
                </a:cubicBezTo>
              </a:path>
              <a:path w="7219" h="3002">
                <a:moveTo>
                  <a:pt x="12998" y="11187"/>
                </a:moveTo>
                <a:cubicBezTo>
                  <a:pt x="12874" y="11317"/>
                  <a:pt x="12760" y="11444"/>
                  <a:pt x="12626" y="11559"/>
                </a:cubicBezTo>
                <a:cubicBezTo>
                  <a:pt x="12588" y="11592"/>
                  <a:pt x="12506" y="11670"/>
                  <a:pt x="12477" y="11708"/>
                </a:cubicBezTo>
                <a:cubicBezTo>
                  <a:pt x="12477" y="11733"/>
                  <a:pt x="12477" y="11741"/>
                  <a:pt x="12452" y="11733"/>
                </a:cubicBezTo>
                <a:cubicBezTo>
                  <a:pt x="12489" y="11684"/>
                  <a:pt x="12468" y="11697"/>
                  <a:pt x="12526" y="11658"/>
                </a:cubicBezTo>
              </a:path>
              <a:path w="7219" h="3002">
                <a:moveTo>
                  <a:pt x="13146" y="10220"/>
                </a:moveTo>
                <a:cubicBezTo>
                  <a:pt x="13274" y="10296"/>
                  <a:pt x="13354" y="10372"/>
                  <a:pt x="13444" y="10492"/>
                </a:cubicBezTo>
                <a:cubicBezTo>
                  <a:pt x="13648" y="10764"/>
                  <a:pt x="13646" y="10962"/>
                  <a:pt x="13667" y="11311"/>
                </a:cubicBezTo>
                <a:cubicBezTo>
                  <a:pt x="13675" y="11446"/>
                  <a:pt x="13597" y="11596"/>
                  <a:pt x="13519" y="11708"/>
                </a:cubicBezTo>
                <a:cubicBezTo>
                  <a:pt x="13441" y="11820"/>
                  <a:pt x="13351" y="11862"/>
                  <a:pt x="13221" y="11881"/>
                </a:cubicBezTo>
                <a:cubicBezTo>
                  <a:pt x="13145" y="11892"/>
                  <a:pt x="13156" y="11886"/>
                  <a:pt x="13146" y="11832"/>
                </a:cubicBezTo>
                <a:cubicBezTo>
                  <a:pt x="13146" y="11815"/>
                  <a:pt x="13146" y="11799"/>
                  <a:pt x="13146" y="11782"/>
                </a:cubicBezTo>
              </a:path>
              <a:path w="7219" h="3002">
                <a:moveTo>
                  <a:pt x="14238" y="10418"/>
                </a:moveTo>
                <a:cubicBezTo>
                  <a:pt x="14185" y="10558"/>
                  <a:pt x="14131" y="10684"/>
                  <a:pt x="14064" y="10815"/>
                </a:cubicBezTo>
                <a:cubicBezTo>
                  <a:pt x="14004" y="10932"/>
                  <a:pt x="13951" y="11061"/>
                  <a:pt x="13915" y="11187"/>
                </a:cubicBezTo>
                <a:cubicBezTo>
                  <a:pt x="13886" y="11288"/>
                  <a:pt x="13891" y="11381"/>
                  <a:pt x="13891" y="11485"/>
                </a:cubicBezTo>
                <a:cubicBezTo>
                  <a:pt x="13891" y="11573"/>
                  <a:pt x="13908" y="11621"/>
                  <a:pt x="13990" y="11658"/>
                </a:cubicBezTo>
                <a:cubicBezTo>
                  <a:pt x="14055" y="11680"/>
                  <a:pt x="14070" y="11688"/>
                  <a:pt x="14114" y="11683"/>
                </a:cubicBezTo>
              </a:path>
              <a:path w="7219" h="3002">
                <a:moveTo>
                  <a:pt x="14734" y="11112"/>
                </a:moveTo>
                <a:cubicBezTo>
                  <a:pt x="14633" y="11091"/>
                  <a:pt x="14580" y="11075"/>
                  <a:pt x="14486" y="11112"/>
                </a:cubicBezTo>
                <a:cubicBezTo>
                  <a:pt x="14391" y="11149"/>
                  <a:pt x="14356" y="11137"/>
                  <a:pt x="14337" y="11212"/>
                </a:cubicBezTo>
                <a:cubicBezTo>
                  <a:pt x="14354" y="11277"/>
                  <a:pt x="14412" y="11294"/>
                  <a:pt x="14461" y="11336"/>
                </a:cubicBezTo>
                <a:cubicBezTo>
                  <a:pt x="14515" y="11383"/>
                  <a:pt x="14654" y="11492"/>
                  <a:pt x="14684" y="11559"/>
                </a:cubicBezTo>
                <a:cubicBezTo>
                  <a:pt x="14708" y="11614"/>
                  <a:pt x="14716" y="11672"/>
                  <a:pt x="14660" y="11708"/>
                </a:cubicBezTo>
                <a:cubicBezTo>
                  <a:pt x="14620" y="11734"/>
                  <a:pt x="14535" y="11747"/>
                  <a:pt x="14486" y="11733"/>
                </a:cubicBezTo>
                <a:cubicBezTo>
                  <a:pt x="14436" y="11718"/>
                  <a:pt x="14366" y="11717"/>
                  <a:pt x="14362" y="11658"/>
                </a:cubicBezTo>
                <a:cubicBezTo>
                  <a:pt x="14362" y="11599"/>
                  <a:pt x="14365" y="11573"/>
                  <a:pt x="14387" y="11534"/>
                </a:cubicBezTo>
              </a:path>
              <a:path w="7219" h="3002">
                <a:moveTo>
                  <a:pt x="15032" y="11212"/>
                </a:moveTo>
                <a:cubicBezTo>
                  <a:pt x="15032" y="11341"/>
                  <a:pt x="15038" y="11461"/>
                  <a:pt x="15007" y="11584"/>
                </a:cubicBezTo>
                <a:cubicBezTo>
                  <a:pt x="14991" y="11647"/>
                  <a:pt x="14983" y="11706"/>
                  <a:pt x="14957" y="11757"/>
                </a:cubicBezTo>
                <a:cubicBezTo>
                  <a:pt x="14941" y="11695"/>
                  <a:pt x="14936" y="11732"/>
                  <a:pt x="14957" y="11658"/>
                </a:cubicBezTo>
              </a:path>
              <a:path w="7219" h="3002">
                <a:moveTo>
                  <a:pt x="15081" y="10939"/>
                </a:moveTo>
                <a:cubicBezTo>
                  <a:pt x="15106" y="10914"/>
                  <a:pt x="15131" y="10889"/>
                  <a:pt x="15156" y="10864"/>
                </a:cubicBezTo>
              </a:path>
              <a:path w="7219" h="3002">
                <a:moveTo>
                  <a:pt x="15304" y="11435"/>
                </a:moveTo>
                <a:cubicBezTo>
                  <a:pt x="15290" y="11565"/>
                  <a:pt x="15271" y="11649"/>
                  <a:pt x="15255" y="11757"/>
                </a:cubicBezTo>
                <a:cubicBezTo>
                  <a:pt x="15265" y="11718"/>
                  <a:pt x="15299" y="11670"/>
                  <a:pt x="15304" y="11633"/>
                </a:cubicBezTo>
                <a:cubicBezTo>
                  <a:pt x="15318" y="11538"/>
                  <a:pt x="15309" y="11499"/>
                  <a:pt x="15354" y="11410"/>
                </a:cubicBezTo>
                <a:cubicBezTo>
                  <a:pt x="15384" y="11351"/>
                  <a:pt x="15405" y="11278"/>
                  <a:pt x="15478" y="11261"/>
                </a:cubicBezTo>
                <a:cubicBezTo>
                  <a:pt x="15557" y="11242"/>
                  <a:pt x="15596" y="11303"/>
                  <a:pt x="15627" y="11361"/>
                </a:cubicBezTo>
                <a:cubicBezTo>
                  <a:pt x="15670" y="11441"/>
                  <a:pt x="15656" y="11505"/>
                  <a:pt x="15677" y="11584"/>
                </a:cubicBezTo>
                <a:cubicBezTo>
                  <a:pt x="15686" y="11617"/>
                  <a:pt x="15691" y="11716"/>
                  <a:pt x="15726" y="11733"/>
                </a:cubicBezTo>
                <a:cubicBezTo>
                  <a:pt x="15781" y="11760"/>
                  <a:pt x="15804" y="11686"/>
                  <a:pt x="15825" y="11658"/>
                </a:cubicBezTo>
              </a:path>
              <a:path w="7219" h="3002">
                <a:moveTo>
                  <a:pt x="16049" y="11212"/>
                </a:moveTo>
                <a:cubicBezTo>
                  <a:pt x="16104" y="11317"/>
                  <a:pt x="16166" y="11467"/>
                  <a:pt x="16247" y="11559"/>
                </a:cubicBezTo>
                <a:cubicBezTo>
                  <a:pt x="16318" y="11640"/>
                  <a:pt x="16428" y="11742"/>
                  <a:pt x="16520" y="11807"/>
                </a:cubicBezTo>
                <a:cubicBezTo>
                  <a:pt x="16560" y="11827"/>
                  <a:pt x="16567" y="11836"/>
                  <a:pt x="16594" y="11832"/>
                </a:cubicBezTo>
                <a:cubicBezTo>
                  <a:pt x="16626" y="11789"/>
                  <a:pt x="16619" y="11792"/>
                  <a:pt x="16619" y="11733"/>
                </a:cubicBezTo>
              </a:path>
              <a:path w="7219" h="3002">
                <a:moveTo>
                  <a:pt x="16421" y="11336"/>
                </a:moveTo>
                <a:cubicBezTo>
                  <a:pt x="16317" y="11432"/>
                  <a:pt x="16206" y="11496"/>
                  <a:pt x="16098" y="11584"/>
                </a:cubicBezTo>
                <a:cubicBezTo>
                  <a:pt x="16047" y="11626"/>
                  <a:pt x="15990" y="11686"/>
                  <a:pt x="15925" y="11708"/>
                </a:cubicBezTo>
                <a:cubicBezTo>
                  <a:pt x="15864" y="11729"/>
                  <a:pt x="15923" y="11638"/>
                  <a:pt x="15925" y="11633"/>
                </a:cubicBezTo>
              </a:path>
              <a:path w="7219" h="3002">
                <a:moveTo>
                  <a:pt x="16694" y="10492"/>
                </a:moveTo>
                <a:cubicBezTo>
                  <a:pt x="16816" y="10705"/>
                  <a:pt x="16989" y="10955"/>
                  <a:pt x="17016" y="11212"/>
                </a:cubicBezTo>
                <a:cubicBezTo>
                  <a:pt x="17034" y="11383"/>
                  <a:pt x="17011" y="11551"/>
                  <a:pt x="16942" y="11708"/>
                </a:cubicBezTo>
                <a:cubicBezTo>
                  <a:pt x="16889" y="11830"/>
                  <a:pt x="16801" y="11906"/>
                  <a:pt x="16694" y="11981"/>
                </a:cubicBezTo>
                <a:cubicBezTo>
                  <a:pt x="16669" y="11997"/>
                  <a:pt x="16644" y="12014"/>
                  <a:pt x="16619" y="12030"/>
                </a:cubicBezTo>
              </a:path>
              <a:path w="7219" h="3002">
                <a:moveTo>
                  <a:pt x="10418" y="12353"/>
                </a:moveTo>
                <a:cubicBezTo>
                  <a:pt x="10443" y="12353"/>
                  <a:pt x="10451" y="12353"/>
                  <a:pt x="10468" y="12353"/>
                </a:cubicBezTo>
                <a:cubicBezTo>
                  <a:pt x="10419" y="12369"/>
                  <a:pt x="10459" y="12382"/>
                  <a:pt x="10443" y="12427"/>
                </a:cubicBezTo>
                <a:cubicBezTo>
                  <a:pt x="10424" y="12479"/>
                  <a:pt x="10434" y="12527"/>
                  <a:pt x="10418" y="12576"/>
                </a:cubicBezTo>
                <a:cubicBezTo>
                  <a:pt x="10391" y="12656"/>
                  <a:pt x="10374" y="12737"/>
                  <a:pt x="10368" y="12824"/>
                </a:cubicBezTo>
                <a:cubicBezTo>
                  <a:pt x="10365" y="12874"/>
                  <a:pt x="10335" y="13167"/>
                  <a:pt x="10393" y="13196"/>
                </a:cubicBezTo>
                <a:cubicBezTo>
                  <a:pt x="10418" y="13196"/>
                  <a:pt x="10426" y="13196"/>
                  <a:pt x="10418" y="132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70160" y="4867200"/>
            <a:ext cx="1490760" cy="517680"/>
          </a:xfrm>
          <a:custGeom>
            <a:avLst/>
            <a:gdLst/>
            <a:ahLst/>
            <a:rect l="l" t="t" r="r" b="b"/>
            <a:pathLst>
              <a:path w="4143" h="1439">
                <a:moveTo>
                  <a:pt x="8905" y="13519"/>
                </a:moveTo>
                <a:cubicBezTo>
                  <a:pt x="8905" y="13672"/>
                  <a:pt x="8913" y="13816"/>
                  <a:pt x="8930" y="13965"/>
                </a:cubicBezTo>
                <a:cubicBezTo>
                  <a:pt x="8944" y="14092"/>
                  <a:pt x="8922" y="14215"/>
                  <a:pt x="8905" y="14337"/>
                </a:cubicBezTo>
                <a:cubicBezTo>
                  <a:pt x="8895" y="14411"/>
                  <a:pt x="8902" y="14614"/>
                  <a:pt x="8905" y="14610"/>
                </a:cubicBezTo>
                <a:cubicBezTo>
                  <a:pt x="8913" y="14602"/>
                  <a:pt x="8922" y="14593"/>
                  <a:pt x="8930" y="14585"/>
                </a:cubicBezTo>
              </a:path>
              <a:path w="4143" h="1439">
                <a:moveTo>
                  <a:pt x="10195" y="13915"/>
                </a:moveTo>
                <a:cubicBezTo>
                  <a:pt x="10195" y="14070"/>
                  <a:pt x="10203" y="14174"/>
                  <a:pt x="10220" y="14312"/>
                </a:cubicBezTo>
                <a:cubicBezTo>
                  <a:pt x="10225" y="14352"/>
                  <a:pt x="10249" y="14503"/>
                  <a:pt x="10244" y="14536"/>
                </a:cubicBezTo>
                <a:cubicBezTo>
                  <a:pt x="10222" y="14558"/>
                  <a:pt x="10214" y="14563"/>
                  <a:pt x="10220" y="14585"/>
                </a:cubicBezTo>
              </a:path>
              <a:path w="4143" h="1439">
                <a:moveTo>
                  <a:pt x="9922" y="14139"/>
                </a:moveTo>
                <a:cubicBezTo>
                  <a:pt x="9986" y="14091"/>
                  <a:pt x="10018" y="14128"/>
                  <a:pt x="10096" y="14139"/>
                </a:cubicBezTo>
                <a:cubicBezTo>
                  <a:pt x="10191" y="14153"/>
                  <a:pt x="10267" y="14158"/>
                  <a:pt x="10368" y="14163"/>
                </a:cubicBezTo>
              </a:path>
              <a:path w="4143" h="1439">
                <a:moveTo>
                  <a:pt x="10939" y="14139"/>
                </a:moveTo>
                <a:cubicBezTo>
                  <a:pt x="10947" y="14147"/>
                  <a:pt x="10956" y="14155"/>
                  <a:pt x="10964" y="14163"/>
                </a:cubicBezTo>
                <a:cubicBezTo>
                  <a:pt x="10964" y="14117"/>
                  <a:pt x="10970" y="14099"/>
                  <a:pt x="10939" y="14064"/>
                </a:cubicBezTo>
                <a:cubicBezTo>
                  <a:pt x="10909" y="14030"/>
                  <a:pt x="10883" y="14039"/>
                  <a:pt x="10840" y="14039"/>
                </a:cubicBezTo>
                <a:cubicBezTo>
                  <a:pt x="10763" y="14039"/>
                  <a:pt x="10773" y="14077"/>
                  <a:pt x="10716" y="14114"/>
                </a:cubicBezTo>
                <a:cubicBezTo>
                  <a:pt x="10658" y="14151"/>
                  <a:pt x="10613" y="14282"/>
                  <a:pt x="10616" y="14362"/>
                </a:cubicBezTo>
                <a:cubicBezTo>
                  <a:pt x="10618" y="14413"/>
                  <a:pt x="10697" y="14515"/>
                  <a:pt x="10740" y="14536"/>
                </a:cubicBezTo>
                <a:cubicBezTo>
                  <a:pt x="10870" y="14601"/>
                  <a:pt x="10898" y="14593"/>
                  <a:pt x="11013" y="14536"/>
                </a:cubicBezTo>
              </a:path>
              <a:path w="4143" h="1439">
                <a:moveTo>
                  <a:pt x="11187" y="14114"/>
                </a:moveTo>
                <a:cubicBezTo>
                  <a:pt x="11153" y="14159"/>
                  <a:pt x="11142" y="14203"/>
                  <a:pt x="11137" y="14263"/>
                </a:cubicBezTo>
                <a:cubicBezTo>
                  <a:pt x="11134" y="14306"/>
                  <a:pt x="11164" y="14399"/>
                  <a:pt x="11187" y="14436"/>
                </a:cubicBezTo>
                <a:cubicBezTo>
                  <a:pt x="11229" y="14503"/>
                  <a:pt x="11287" y="14532"/>
                  <a:pt x="11361" y="14536"/>
                </a:cubicBezTo>
                <a:cubicBezTo>
                  <a:pt x="11424" y="14540"/>
                  <a:pt x="11493" y="14544"/>
                  <a:pt x="11534" y="14486"/>
                </a:cubicBezTo>
                <a:cubicBezTo>
                  <a:pt x="11588" y="14410"/>
                  <a:pt x="11545" y="14342"/>
                  <a:pt x="11534" y="14263"/>
                </a:cubicBezTo>
                <a:cubicBezTo>
                  <a:pt x="11515" y="14131"/>
                  <a:pt x="11461" y="14111"/>
                  <a:pt x="11361" y="14039"/>
                </a:cubicBezTo>
                <a:cubicBezTo>
                  <a:pt x="11335" y="14020"/>
                  <a:pt x="11273" y="13996"/>
                  <a:pt x="11237" y="14015"/>
                </a:cubicBezTo>
                <a:cubicBezTo>
                  <a:pt x="11167" y="14053"/>
                  <a:pt x="11202" y="14070"/>
                  <a:pt x="11212" y="14114"/>
                </a:cubicBezTo>
                <a:cubicBezTo>
                  <a:pt x="11212" y="14165"/>
                  <a:pt x="11214" y="14182"/>
                  <a:pt x="11261" y="14188"/>
                </a:cubicBezTo>
              </a:path>
              <a:path w="4143" h="1439">
                <a:moveTo>
                  <a:pt x="11881" y="14163"/>
                </a:moveTo>
                <a:cubicBezTo>
                  <a:pt x="11807" y="14145"/>
                  <a:pt x="11800" y="14137"/>
                  <a:pt x="11757" y="14139"/>
                </a:cubicBezTo>
                <a:cubicBezTo>
                  <a:pt x="11722" y="14198"/>
                  <a:pt x="11735" y="14252"/>
                  <a:pt x="11782" y="14312"/>
                </a:cubicBezTo>
                <a:cubicBezTo>
                  <a:pt x="11839" y="14386"/>
                  <a:pt x="11931" y="14465"/>
                  <a:pt x="11956" y="14560"/>
                </a:cubicBezTo>
                <a:cubicBezTo>
                  <a:pt x="11969" y="14611"/>
                  <a:pt x="11960" y="14685"/>
                  <a:pt x="11906" y="14709"/>
                </a:cubicBezTo>
                <a:cubicBezTo>
                  <a:pt x="11880" y="14721"/>
                  <a:pt x="11768" y="14702"/>
                  <a:pt x="11757" y="14684"/>
                </a:cubicBezTo>
                <a:cubicBezTo>
                  <a:pt x="11730" y="14640"/>
                  <a:pt x="11733" y="14605"/>
                  <a:pt x="11733" y="14560"/>
                </a:cubicBezTo>
              </a:path>
              <a:path w="4143" h="1439">
                <a:moveTo>
                  <a:pt x="12303" y="14163"/>
                </a:moveTo>
                <a:cubicBezTo>
                  <a:pt x="12391" y="14314"/>
                  <a:pt x="12470" y="14451"/>
                  <a:pt x="12576" y="14585"/>
                </a:cubicBezTo>
                <a:cubicBezTo>
                  <a:pt x="12657" y="14688"/>
                  <a:pt x="12752" y="14821"/>
                  <a:pt x="12849" y="14908"/>
                </a:cubicBezTo>
                <a:cubicBezTo>
                  <a:pt x="12896" y="14950"/>
                  <a:pt x="12910" y="14951"/>
                  <a:pt x="12948" y="14932"/>
                </a:cubicBezTo>
              </a:path>
              <a:path w="4143" h="1439">
                <a:moveTo>
                  <a:pt x="12774" y="14213"/>
                </a:moveTo>
                <a:cubicBezTo>
                  <a:pt x="12621" y="14310"/>
                  <a:pt x="12508" y="14414"/>
                  <a:pt x="12378" y="14536"/>
                </a:cubicBezTo>
                <a:cubicBezTo>
                  <a:pt x="12278" y="14630"/>
                  <a:pt x="12186" y="14722"/>
                  <a:pt x="12080" y="14808"/>
                </a:cubicBezTo>
              </a:path>
              <a:path w="4143" h="1439">
                <a:moveTo>
                  <a:pt x="8806" y="14461"/>
                </a:moveTo>
                <a:cubicBezTo>
                  <a:pt x="8829" y="14434"/>
                  <a:pt x="8816" y="14426"/>
                  <a:pt x="8855" y="14412"/>
                </a:cubicBezTo>
                <a:cubicBezTo>
                  <a:pt x="8897" y="14398"/>
                  <a:pt x="8938" y="14376"/>
                  <a:pt x="8979" y="14362"/>
                </a:cubicBezTo>
                <a:cubicBezTo>
                  <a:pt x="9069" y="14332"/>
                  <a:pt x="9160" y="14318"/>
                  <a:pt x="9252" y="14288"/>
                </a:cubicBezTo>
                <a:cubicBezTo>
                  <a:pt x="9404" y="14238"/>
                  <a:pt x="9565" y="14215"/>
                  <a:pt x="9723" y="14188"/>
                </a:cubicBezTo>
                <a:cubicBezTo>
                  <a:pt x="9940" y="14151"/>
                  <a:pt x="10151" y="14099"/>
                  <a:pt x="10368" y="14064"/>
                </a:cubicBezTo>
                <a:cubicBezTo>
                  <a:pt x="10618" y="14024"/>
                  <a:pt x="10865" y="13987"/>
                  <a:pt x="11112" y="13940"/>
                </a:cubicBezTo>
                <a:cubicBezTo>
                  <a:pt x="11395" y="13886"/>
                  <a:pt x="11695" y="13871"/>
                  <a:pt x="11981" y="13841"/>
                </a:cubicBezTo>
                <a:cubicBezTo>
                  <a:pt x="12201" y="13818"/>
                  <a:pt x="12430" y="13797"/>
                  <a:pt x="12650" y="13791"/>
                </a:cubicBezTo>
                <a:cubicBezTo>
                  <a:pt x="12742" y="13789"/>
                  <a:pt x="12821" y="13786"/>
                  <a:pt x="12898" y="13767"/>
                </a:cubicBezTo>
                <a:cubicBezTo>
                  <a:pt x="12988" y="13745"/>
                  <a:pt x="12900" y="13772"/>
                  <a:pt x="12849" y="137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24120" y="5473800"/>
            <a:ext cx="2340000" cy="635040"/>
          </a:xfrm>
          <a:custGeom>
            <a:avLst/>
            <a:gdLst/>
            <a:ahLst/>
            <a:rect l="l" t="t" r="r" b="b"/>
            <a:pathLst>
              <a:path w="6500" h="1762">
                <a:moveTo>
                  <a:pt x="8086" y="15205"/>
                </a:moveTo>
                <a:cubicBezTo>
                  <a:pt x="8004" y="15264"/>
                  <a:pt x="7943" y="15364"/>
                  <a:pt x="7863" y="15453"/>
                </a:cubicBezTo>
                <a:cubicBezTo>
                  <a:pt x="7776" y="15550"/>
                  <a:pt x="7686" y="15650"/>
                  <a:pt x="7640" y="15776"/>
                </a:cubicBezTo>
                <a:cubicBezTo>
                  <a:pt x="7573" y="15961"/>
                  <a:pt x="7561" y="16064"/>
                  <a:pt x="7615" y="16247"/>
                </a:cubicBezTo>
                <a:cubicBezTo>
                  <a:pt x="7640" y="16332"/>
                  <a:pt x="7720" y="16447"/>
                  <a:pt x="7813" y="16470"/>
                </a:cubicBezTo>
                <a:cubicBezTo>
                  <a:pt x="7838" y="16470"/>
                  <a:pt x="7863" y="16470"/>
                  <a:pt x="7888" y="16470"/>
                </a:cubicBezTo>
              </a:path>
              <a:path w="6500" h="1762">
                <a:moveTo>
                  <a:pt x="8483" y="15453"/>
                </a:moveTo>
                <a:cubicBezTo>
                  <a:pt x="8504" y="15580"/>
                  <a:pt x="8526" y="15720"/>
                  <a:pt x="8508" y="15850"/>
                </a:cubicBezTo>
                <a:cubicBezTo>
                  <a:pt x="8490" y="15975"/>
                  <a:pt x="8445" y="16098"/>
                  <a:pt x="8434" y="16222"/>
                </a:cubicBezTo>
                <a:cubicBezTo>
                  <a:pt x="8427" y="16298"/>
                  <a:pt x="8355" y="16500"/>
                  <a:pt x="8409" y="16446"/>
                </a:cubicBezTo>
                <a:cubicBezTo>
                  <a:pt x="8417" y="16429"/>
                  <a:pt x="8426" y="16413"/>
                  <a:pt x="8434" y="16396"/>
                </a:cubicBezTo>
              </a:path>
              <a:path w="6500" h="1762">
                <a:moveTo>
                  <a:pt x="8905" y="15850"/>
                </a:moveTo>
                <a:cubicBezTo>
                  <a:pt x="8902" y="15904"/>
                  <a:pt x="8818" y="16370"/>
                  <a:pt x="8930" y="16470"/>
                </a:cubicBezTo>
                <a:cubicBezTo>
                  <a:pt x="8938" y="16470"/>
                  <a:pt x="8946" y="16470"/>
                  <a:pt x="8954" y="16470"/>
                </a:cubicBezTo>
              </a:path>
              <a:path w="6500" h="1762">
                <a:moveTo>
                  <a:pt x="8706" y="15974"/>
                </a:moveTo>
                <a:cubicBezTo>
                  <a:pt x="8859" y="16025"/>
                  <a:pt x="8995" y="16068"/>
                  <a:pt x="9153" y="16098"/>
                </a:cubicBezTo>
              </a:path>
              <a:path w="6500" h="1762">
                <a:moveTo>
                  <a:pt x="9649" y="16098"/>
                </a:moveTo>
                <a:cubicBezTo>
                  <a:pt x="9649" y="16169"/>
                  <a:pt x="9653" y="16056"/>
                  <a:pt x="9649" y="16049"/>
                </a:cubicBezTo>
                <a:cubicBezTo>
                  <a:pt x="9632" y="16019"/>
                  <a:pt x="9555" y="16012"/>
                  <a:pt x="9525" y="16024"/>
                </a:cubicBezTo>
                <a:cubicBezTo>
                  <a:pt x="9484" y="16041"/>
                  <a:pt x="9367" y="16126"/>
                  <a:pt x="9351" y="16173"/>
                </a:cubicBezTo>
                <a:cubicBezTo>
                  <a:pt x="9333" y="16226"/>
                  <a:pt x="9348" y="16325"/>
                  <a:pt x="9376" y="16371"/>
                </a:cubicBezTo>
                <a:cubicBezTo>
                  <a:pt x="9417" y="16437"/>
                  <a:pt x="9511" y="16440"/>
                  <a:pt x="9575" y="16446"/>
                </a:cubicBezTo>
              </a:path>
              <a:path w="6500" h="1762">
                <a:moveTo>
                  <a:pt x="9872" y="16098"/>
                </a:moveTo>
                <a:cubicBezTo>
                  <a:pt x="9859" y="16151"/>
                  <a:pt x="9839" y="16216"/>
                  <a:pt x="9823" y="16272"/>
                </a:cubicBezTo>
                <a:cubicBezTo>
                  <a:pt x="9805" y="16335"/>
                  <a:pt x="9808" y="16405"/>
                  <a:pt x="9847" y="16470"/>
                </a:cubicBezTo>
                <a:cubicBezTo>
                  <a:pt x="9880" y="16524"/>
                  <a:pt x="9966" y="16542"/>
                  <a:pt x="10021" y="16545"/>
                </a:cubicBezTo>
                <a:cubicBezTo>
                  <a:pt x="10093" y="16549"/>
                  <a:pt x="10158" y="16442"/>
                  <a:pt x="10170" y="16371"/>
                </a:cubicBezTo>
                <a:cubicBezTo>
                  <a:pt x="10182" y="16302"/>
                  <a:pt x="10139" y="16203"/>
                  <a:pt x="10096" y="16148"/>
                </a:cubicBezTo>
                <a:cubicBezTo>
                  <a:pt x="10045" y="16083"/>
                  <a:pt x="9976" y="16055"/>
                  <a:pt x="9922" y="16024"/>
                </a:cubicBezTo>
                <a:cubicBezTo>
                  <a:pt x="9899" y="16001"/>
                  <a:pt x="9891" y="15997"/>
                  <a:pt x="9897" y="15974"/>
                </a:cubicBezTo>
              </a:path>
              <a:path w="6500" h="1762">
                <a:moveTo>
                  <a:pt x="10393" y="16049"/>
                </a:moveTo>
                <a:cubicBezTo>
                  <a:pt x="10320" y="16017"/>
                  <a:pt x="10324" y="16020"/>
                  <a:pt x="10269" y="16073"/>
                </a:cubicBezTo>
                <a:cubicBezTo>
                  <a:pt x="10312" y="16127"/>
                  <a:pt x="10332" y="16188"/>
                  <a:pt x="10368" y="16247"/>
                </a:cubicBezTo>
                <a:cubicBezTo>
                  <a:pt x="10420" y="16332"/>
                  <a:pt x="10487" y="16368"/>
                  <a:pt x="10492" y="16470"/>
                </a:cubicBezTo>
                <a:cubicBezTo>
                  <a:pt x="10496" y="16553"/>
                  <a:pt x="10462" y="16545"/>
                  <a:pt x="10393" y="16545"/>
                </a:cubicBezTo>
                <a:cubicBezTo>
                  <a:pt x="10354" y="16545"/>
                  <a:pt x="10305" y="16516"/>
                  <a:pt x="10294" y="16495"/>
                </a:cubicBezTo>
                <a:cubicBezTo>
                  <a:pt x="10269" y="16449"/>
                  <a:pt x="10269" y="16442"/>
                  <a:pt x="10269" y="16396"/>
                </a:cubicBezTo>
              </a:path>
              <a:path w="6500" h="1762">
                <a:moveTo>
                  <a:pt x="10765" y="16123"/>
                </a:moveTo>
                <a:cubicBezTo>
                  <a:pt x="10853" y="16243"/>
                  <a:pt x="10921" y="16379"/>
                  <a:pt x="11013" y="16495"/>
                </a:cubicBezTo>
                <a:cubicBezTo>
                  <a:pt x="11040" y="16530"/>
                  <a:pt x="11080" y="16562"/>
                  <a:pt x="11112" y="16594"/>
                </a:cubicBezTo>
              </a:path>
              <a:path w="6500" h="1762">
                <a:moveTo>
                  <a:pt x="10988" y="16049"/>
                </a:moveTo>
                <a:cubicBezTo>
                  <a:pt x="10850" y="16130"/>
                  <a:pt x="10751" y="16187"/>
                  <a:pt x="10641" y="16297"/>
                </a:cubicBezTo>
                <a:cubicBezTo>
                  <a:pt x="10612" y="16326"/>
                  <a:pt x="10561" y="16430"/>
                  <a:pt x="10542" y="16446"/>
                </a:cubicBezTo>
                <a:cubicBezTo>
                  <a:pt x="10517" y="16446"/>
                  <a:pt x="10509" y="16446"/>
                  <a:pt x="10542" y="16446"/>
                </a:cubicBezTo>
              </a:path>
              <a:path w="6500" h="1762">
                <a:moveTo>
                  <a:pt x="11088" y="15379"/>
                </a:moveTo>
                <a:cubicBezTo>
                  <a:pt x="11175" y="15499"/>
                  <a:pt x="11251" y="15615"/>
                  <a:pt x="11311" y="15751"/>
                </a:cubicBezTo>
                <a:cubicBezTo>
                  <a:pt x="11385" y="15918"/>
                  <a:pt x="11414" y="16137"/>
                  <a:pt x="11385" y="16321"/>
                </a:cubicBezTo>
                <a:cubicBezTo>
                  <a:pt x="11374" y="16393"/>
                  <a:pt x="11314" y="16499"/>
                  <a:pt x="11261" y="16545"/>
                </a:cubicBezTo>
                <a:cubicBezTo>
                  <a:pt x="11239" y="16564"/>
                  <a:pt x="11164" y="16592"/>
                  <a:pt x="11137" y="16594"/>
                </a:cubicBezTo>
                <a:cubicBezTo>
                  <a:pt x="11096" y="16594"/>
                  <a:pt x="11080" y="16602"/>
                  <a:pt x="11088" y="16570"/>
                </a:cubicBezTo>
              </a:path>
              <a:path w="6500" h="1762">
                <a:moveTo>
                  <a:pt x="11857" y="15577"/>
                </a:moveTo>
                <a:cubicBezTo>
                  <a:pt x="11812" y="15685"/>
                  <a:pt x="11770" y="15789"/>
                  <a:pt x="11733" y="15900"/>
                </a:cubicBezTo>
                <a:cubicBezTo>
                  <a:pt x="11709" y="15972"/>
                  <a:pt x="11652" y="16096"/>
                  <a:pt x="11658" y="16173"/>
                </a:cubicBezTo>
                <a:cubicBezTo>
                  <a:pt x="11665" y="16264"/>
                  <a:pt x="11690" y="16369"/>
                  <a:pt x="11733" y="16446"/>
                </a:cubicBezTo>
                <a:cubicBezTo>
                  <a:pt x="11781" y="16532"/>
                  <a:pt x="11756" y="16515"/>
                  <a:pt x="11857" y="16495"/>
                </a:cubicBezTo>
              </a:path>
              <a:path w="6500" h="1762">
                <a:moveTo>
                  <a:pt x="12254" y="15900"/>
                </a:moveTo>
                <a:cubicBezTo>
                  <a:pt x="12169" y="15900"/>
                  <a:pt x="12096" y="15885"/>
                  <a:pt x="12030" y="15925"/>
                </a:cubicBezTo>
                <a:cubicBezTo>
                  <a:pt x="12045" y="16040"/>
                  <a:pt x="12071" y="16084"/>
                  <a:pt x="12129" y="16173"/>
                </a:cubicBezTo>
                <a:cubicBezTo>
                  <a:pt x="12165" y="16229"/>
                  <a:pt x="12261" y="16306"/>
                  <a:pt x="12278" y="16371"/>
                </a:cubicBezTo>
                <a:cubicBezTo>
                  <a:pt x="12291" y="16422"/>
                  <a:pt x="12269" y="16477"/>
                  <a:pt x="12204" y="16470"/>
                </a:cubicBezTo>
                <a:cubicBezTo>
                  <a:pt x="12152" y="16464"/>
                  <a:pt x="12115" y="16431"/>
                  <a:pt x="12080" y="16396"/>
                </a:cubicBezTo>
                <a:cubicBezTo>
                  <a:pt x="12052" y="16368"/>
                  <a:pt x="12036" y="16369"/>
                  <a:pt x="12005" y="16346"/>
                </a:cubicBezTo>
              </a:path>
              <a:path w="6500" h="1762">
                <a:moveTo>
                  <a:pt x="12427" y="16073"/>
                </a:moveTo>
                <a:cubicBezTo>
                  <a:pt x="12427" y="16163"/>
                  <a:pt x="12415" y="16238"/>
                  <a:pt x="12402" y="16321"/>
                </a:cubicBezTo>
                <a:cubicBezTo>
                  <a:pt x="12402" y="16371"/>
                  <a:pt x="12402" y="16388"/>
                  <a:pt x="12402" y="16421"/>
                </a:cubicBezTo>
              </a:path>
              <a:path w="6500" h="1762">
                <a:moveTo>
                  <a:pt x="12502" y="15875"/>
                </a:moveTo>
                <a:cubicBezTo>
                  <a:pt x="12537" y="15848"/>
                  <a:pt x="12532" y="15850"/>
                  <a:pt x="12576" y="15850"/>
                </a:cubicBezTo>
              </a:path>
              <a:path w="6500" h="1762">
                <a:moveTo>
                  <a:pt x="12650" y="16247"/>
                </a:moveTo>
                <a:cubicBezTo>
                  <a:pt x="12650" y="16339"/>
                  <a:pt x="12648" y="16366"/>
                  <a:pt x="12675" y="16421"/>
                </a:cubicBezTo>
                <a:cubicBezTo>
                  <a:pt x="12685" y="16392"/>
                  <a:pt x="12708" y="16364"/>
                  <a:pt x="12725" y="16321"/>
                </a:cubicBezTo>
                <a:cubicBezTo>
                  <a:pt x="12751" y="16258"/>
                  <a:pt x="12785" y="16179"/>
                  <a:pt x="12824" y="16123"/>
                </a:cubicBezTo>
                <a:cubicBezTo>
                  <a:pt x="12842" y="16097"/>
                  <a:pt x="12886" y="16052"/>
                  <a:pt x="12923" y="16073"/>
                </a:cubicBezTo>
                <a:cubicBezTo>
                  <a:pt x="12986" y="16108"/>
                  <a:pt x="12997" y="16188"/>
                  <a:pt x="13022" y="16247"/>
                </a:cubicBezTo>
                <a:cubicBezTo>
                  <a:pt x="13055" y="16325"/>
                  <a:pt x="13113" y="16394"/>
                  <a:pt x="13146" y="16470"/>
                </a:cubicBezTo>
                <a:cubicBezTo>
                  <a:pt x="13146" y="16495"/>
                  <a:pt x="13146" y="16503"/>
                  <a:pt x="13171" y="16495"/>
                </a:cubicBezTo>
              </a:path>
              <a:path w="6500" h="1762">
                <a:moveTo>
                  <a:pt x="13419" y="16073"/>
                </a:moveTo>
                <a:cubicBezTo>
                  <a:pt x="13475" y="16199"/>
                  <a:pt x="13535" y="16358"/>
                  <a:pt x="13618" y="16470"/>
                </a:cubicBezTo>
                <a:cubicBezTo>
                  <a:pt x="13668" y="16538"/>
                  <a:pt x="13731" y="16608"/>
                  <a:pt x="13791" y="16669"/>
                </a:cubicBezTo>
              </a:path>
              <a:path w="6500" h="1762">
                <a:moveTo>
                  <a:pt x="13618" y="16098"/>
                </a:moveTo>
                <a:cubicBezTo>
                  <a:pt x="13521" y="16173"/>
                  <a:pt x="13388" y="16254"/>
                  <a:pt x="13345" y="16371"/>
                </a:cubicBezTo>
                <a:cubicBezTo>
                  <a:pt x="13326" y="16423"/>
                  <a:pt x="13329" y="16469"/>
                  <a:pt x="13295" y="16520"/>
                </a:cubicBezTo>
              </a:path>
              <a:path w="6500" h="1762">
                <a:moveTo>
                  <a:pt x="13891" y="15553"/>
                </a:moveTo>
                <a:cubicBezTo>
                  <a:pt x="13996" y="15932"/>
                  <a:pt x="14097" y="16229"/>
                  <a:pt x="14064" y="16619"/>
                </a:cubicBezTo>
                <a:cubicBezTo>
                  <a:pt x="14053" y="16751"/>
                  <a:pt x="14054" y="16940"/>
                  <a:pt x="13891" y="16966"/>
                </a:cubicBezTo>
                <a:cubicBezTo>
                  <a:pt x="13782" y="16983"/>
                  <a:pt x="13730" y="16943"/>
                  <a:pt x="13643" y="16892"/>
                </a:cubicBezTo>
              </a:path>
              <a:path w="6500" h="1762">
                <a:moveTo>
                  <a:pt x="10914" y="15404"/>
                </a:moveTo>
                <a:cubicBezTo>
                  <a:pt x="10858" y="15419"/>
                  <a:pt x="10800" y="15429"/>
                  <a:pt x="10740" y="15453"/>
                </a:cubicBezTo>
                <a:cubicBezTo>
                  <a:pt x="10637" y="15495"/>
                  <a:pt x="10540" y="15550"/>
                  <a:pt x="10443" y="15602"/>
                </a:cubicBezTo>
                <a:cubicBezTo>
                  <a:pt x="10301" y="15678"/>
                  <a:pt x="10127" y="15761"/>
                  <a:pt x="9971" y="15801"/>
                </a:cubicBezTo>
                <a:cubicBezTo>
                  <a:pt x="9731" y="15863"/>
                  <a:pt x="9489" y="15921"/>
                  <a:pt x="9252" y="15999"/>
                </a:cubicBezTo>
                <a:cubicBezTo>
                  <a:pt x="9077" y="16056"/>
                  <a:pt x="8902" y="16109"/>
                  <a:pt x="8731" y="16173"/>
                </a:cubicBezTo>
                <a:cubicBezTo>
                  <a:pt x="8595" y="16224"/>
                  <a:pt x="8439" y="16259"/>
                  <a:pt x="8310" y="16321"/>
                </a:cubicBezTo>
                <a:cubicBezTo>
                  <a:pt x="8217" y="16366"/>
                  <a:pt x="8130" y="16387"/>
                  <a:pt x="8037" y="16421"/>
                </a:cubicBezTo>
                <a:cubicBezTo>
                  <a:pt x="7984" y="16440"/>
                  <a:pt x="7939" y="16455"/>
                  <a:pt x="7888" y="16470"/>
                </a:cubicBezTo>
                <a:cubicBezTo>
                  <a:pt x="7849" y="16481"/>
                  <a:pt x="7878" y="16470"/>
                  <a:pt x="7838" y="164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3760" y="6099120"/>
            <a:ext cx="2081160" cy="652680"/>
          </a:xfrm>
          <a:custGeom>
            <a:avLst/>
            <a:gdLst/>
            <a:ahLst/>
            <a:rect l="l" t="t" r="r" b="b"/>
            <a:pathLst>
              <a:path w="5780" h="1811">
                <a:moveTo>
                  <a:pt x="11187" y="17140"/>
                </a:moveTo>
                <a:cubicBezTo>
                  <a:pt x="11187" y="17325"/>
                  <a:pt x="11192" y="17505"/>
                  <a:pt x="11162" y="17686"/>
                </a:cubicBezTo>
                <a:cubicBezTo>
                  <a:pt x="11162" y="17694"/>
                  <a:pt x="11162" y="17703"/>
                  <a:pt x="11162" y="17711"/>
                </a:cubicBezTo>
              </a:path>
              <a:path w="5780" h="1811">
                <a:moveTo>
                  <a:pt x="10567" y="17711"/>
                </a:moveTo>
                <a:cubicBezTo>
                  <a:pt x="10627" y="17718"/>
                  <a:pt x="10707" y="17719"/>
                  <a:pt x="10765" y="17735"/>
                </a:cubicBezTo>
                <a:cubicBezTo>
                  <a:pt x="10850" y="17759"/>
                  <a:pt x="10927" y="17743"/>
                  <a:pt x="11013" y="17760"/>
                </a:cubicBezTo>
                <a:cubicBezTo>
                  <a:pt x="11140" y="17785"/>
                  <a:pt x="11277" y="17831"/>
                  <a:pt x="11410" y="17810"/>
                </a:cubicBezTo>
                <a:cubicBezTo>
                  <a:pt x="11456" y="17803"/>
                  <a:pt x="11463" y="17785"/>
                  <a:pt x="11509" y="17785"/>
                </a:cubicBezTo>
              </a:path>
              <a:path w="5780" h="1811">
                <a:moveTo>
                  <a:pt x="10988" y="18058"/>
                </a:moveTo>
                <a:cubicBezTo>
                  <a:pt x="11002" y="18031"/>
                  <a:pt x="10996" y="17985"/>
                  <a:pt x="10964" y="17959"/>
                </a:cubicBezTo>
                <a:cubicBezTo>
                  <a:pt x="10919" y="17923"/>
                  <a:pt x="10867" y="17934"/>
                  <a:pt x="10815" y="17934"/>
                </a:cubicBezTo>
                <a:cubicBezTo>
                  <a:pt x="10807" y="17934"/>
                  <a:pt x="10798" y="17934"/>
                  <a:pt x="10790" y="17934"/>
                </a:cubicBezTo>
                <a:cubicBezTo>
                  <a:pt x="10790" y="17987"/>
                  <a:pt x="10791" y="18014"/>
                  <a:pt x="10815" y="18058"/>
                </a:cubicBezTo>
                <a:cubicBezTo>
                  <a:pt x="10847" y="18118"/>
                  <a:pt x="10882" y="18172"/>
                  <a:pt x="10914" y="18231"/>
                </a:cubicBezTo>
                <a:cubicBezTo>
                  <a:pt x="10942" y="18283"/>
                  <a:pt x="10978" y="18355"/>
                  <a:pt x="10988" y="18405"/>
                </a:cubicBezTo>
                <a:cubicBezTo>
                  <a:pt x="10999" y="18462"/>
                  <a:pt x="11003" y="18561"/>
                  <a:pt x="10964" y="18604"/>
                </a:cubicBezTo>
                <a:cubicBezTo>
                  <a:pt x="10943" y="18628"/>
                  <a:pt x="10903" y="18675"/>
                  <a:pt x="10864" y="18653"/>
                </a:cubicBezTo>
                <a:cubicBezTo>
                  <a:pt x="10824" y="18630"/>
                  <a:pt x="10764" y="18566"/>
                  <a:pt x="10740" y="18529"/>
                </a:cubicBezTo>
                <a:cubicBezTo>
                  <a:pt x="10693" y="18457"/>
                  <a:pt x="10666" y="18390"/>
                  <a:pt x="10666" y="18306"/>
                </a:cubicBezTo>
              </a:path>
              <a:path w="5780" h="1811">
                <a:moveTo>
                  <a:pt x="11237" y="18157"/>
                </a:moveTo>
                <a:cubicBezTo>
                  <a:pt x="11291" y="18293"/>
                  <a:pt x="11282" y="18341"/>
                  <a:pt x="11261" y="18479"/>
                </a:cubicBezTo>
                <a:cubicBezTo>
                  <a:pt x="11261" y="18482"/>
                  <a:pt x="11239" y="18615"/>
                  <a:pt x="11212" y="18579"/>
                </a:cubicBezTo>
                <a:cubicBezTo>
                  <a:pt x="11212" y="18571"/>
                  <a:pt x="11212" y="18562"/>
                  <a:pt x="11212" y="18554"/>
                </a:cubicBezTo>
              </a:path>
              <a:path w="5780" h="1811">
                <a:moveTo>
                  <a:pt x="11385" y="17959"/>
                </a:moveTo>
                <a:cubicBezTo>
                  <a:pt x="11435" y="17959"/>
                  <a:pt x="11452" y="17959"/>
                  <a:pt x="11485" y="17959"/>
                </a:cubicBezTo>
              </a:path>
              <a:path w="5780" h="1811">
                <a:moveTo>
                  <a:pt x="11509" y="18281"/>
                </a:moveTo>
                <a:cubicBezTo>
                  <a:pt x="11495" y="18378"/>
                  <a:pt x="11485" y="18472"/>
                  <a:pt x="11460" y="18554"/>
                </a:cubicBezTo>
                <a:cubicBezTo>
                  <a:pt x="11460" y="18562"/>
                  <a:pt x="11460" y="18571"/>
                  <a:pt x="11460" y="18579"/>
                </a:cubicBezTo>
                <a:cubicBezTo>
                  <a:pt x="11470" y="18528"/>
                  <a:pt x="11486" y="18478"/>
                  <a:pt x="11509" y="18430"/>
                </a:cubicBezTo>
                <a:cubicBezTo>
                  <a:pt x="11547" y="18348"/>
                  <a:pt x="11569" y="18264"/>
                  <a:pt x="11609" y="18182"/>
                </a:cubicBezTo>
                <a:cubicBezTo>
                  <a:pt x="11635" y="18129"/>
                  <a:pt x="11619" y="18120"/>
                  <a:pt x="11658" y="18107"/>
                </a:cubicBezTo>
                <a:cubicBezTo>
                  <a:pt x="11729" y="18125"/>
                  <a:pt x="11717" y="18169"/>
                  <a:pt x="11733" y="18231"/>
                </a:cubicBezTo>
                <a:cubicBezTo>
                  <a:pt x="11758" y="18328"/>
                  <a:pt x="11756" y="18434"/>
                  <a:pt x="11782" y="18529"/>
                </a:cubicBezTo>
                <a:cubicBezTo>
                  <a:pt x="11798" y="18588"/>
                  <a:pt x="11803" y="18654"/>
                  <a:pt x="11832" y="18703"/>
                </a:cubicBezTo>
              </a:path>
              <a:path w="5780" h="1811">
                <a:moveTo>
                  <a:pt x="11956" y="18182"/>
                </a:moveTo>
                <a:cubicBezTo>
                  <a:pt x="12031" y="18295"/>
                  <a:pt x="12070" y="18390"/>
                  <a:pt x="12129" y="18504"/>
                </a:cubicBezTo>
                <a:cubicBezTo>
                  <a:pt x="12169" y="18581"/>
                  <a:pt x="12210" y="18653"/>
                  <a:pt x="12254" y="18728"/>
                </a:cubicBezTo>
              </a:path>
              <a:path w="5780" h="1811">
                <a:moveTo>
                  <a:pt x="12303" y="18107"/>
                </a:moveTo>
                <a:cubicBezTo>
                  <a:pt x="12199" y="18174"/>
                  <a:pt x="12110" y="18255"/>
                  <a:pt x="12030" y="18355"/>
                </a:cubicBezTo>
                <a:cubicBezTo>
                  <a:pt x="11963" y="18439"/>
                  <a:pt x="11912" y="18541"/>
                  <a:pt x="11857" y="18628"/>
                </a:cubicBezTo>
                <a:cubicBezTo>
                  <a:pt x="11830" y="18671"/>
                  <a:pt x="11817" y="18693"/>
                  <a:pt x="11782" y="18728"/>
                </a:cubicBezTo>
              </a:path>
              <a:path w="5780" h="1811">
                <a:moveTo>
                  <a:pt x="12700" y="17735"/>
                </a:moveTo>
                <a:cubicBezTo>
                  <a:pt x="12802" y="17740"/>
                  <a:pt x="12877" y="17760"/>
                  <a:pt x="12973" y="17760"/>
                </a:cubicBezTo>
              </a:path>
              <a:path w="5780" h="1811">
                <a:moveTo>
                  <a:pt x="12725" y="17934"/>
                </a:moveTo>
                <a:cubicBezTo>
                  <a:pt x="12852" y="18001"/>
                  <a:pt x="12850" y="18008"/>
                  <a:pt x="12973" y="18008"/>
                </a:cubicBezTo>
                <a:cubicBezTo>
                  <a:pt x="13027" y="18008"/>
                  <a:pt x="13107" y="18028"/>
                  <a:pt x="13122" y="17983"/>
                </a:cubicBezTo>
              </a:path>
              <a:path w="5780" h="1811">
                <a:moveTo>
                  <a:pt x="14163" y="17636"/>
                </a:moveTo>
                <a:cubicBezTo>
                  <a:pt x="14163" y="17661"/>
                  <a:pt x="14163" y="17669"/>
                  <a:pt x="14139" y="17661"/>
                </a:cubicBezTo>
                <a:cubicBezTo>
                  <a:pt x="14139" y="17625"/>
                  <a:pt x="14132" y="17589"/>
                  <a:pt x="14114" y="17562"/>
                </a:cubicBezTo>
                <a:cubicBezTo>
                  <a:pt x="14079" y="17510"/>
                  <a:pt x="14047" y="17512"/>
                  <a:pt x="13990" y="17512"/>
                </a:cubicBezTo>
                <a:cubicBezTo>
                  <a:pt x="13917" y="17512"/>
                  <a:pt x="13814" y="17521"/>
                  <a:pt x="13767" y="17587"/>
                </a:cubicBezTo>
                <a:cubicBezTo>
                  <a:pt x="13718" y="17655"/>
                  <a:pt x="13654" y="17775"/>
                  <a:pt x="13667" y="17859"/>
                </a:cubicBezTo>
                <a:cubicBezTo>
                  <a:pt x="13689" y="18000"/>
                  <a:pt x="13740" y="18138"/>
                  <a:pt x="13866" y="18207"/>
                </a:cubicBezTo>
                <a:cubicBezTo>
                  <a:pt x="13933" y="18244"/>
                  <a:pt x="13970" y="18232"/>
                  <a:pt x="14039" y="18207"/>
                </a:cubicBezTo>
              </a:path>
              <a:path w="5780" h="1811">
                <a:moveTo>
                  <a:pt x="14585" y="17587"/>
                </a:moveTo>
                <a:cubicBezTo>
                  <a:pt x="14573" y="17539"/>
                  <a:pt x="14539" y="17525"/>
                  <a:pt x="14486" y="17512"/>
                </a:cubicBezTo>
                <a:cubicBezTo>
                  <a:pt x="14456" y="17504"/>
                  <a:pt x="14403" y="17506"/>
                  <a:pt x="14387" y="17537"/>
                </a:cubicBezTo>
                <a:cubicBezTo>
                  <a:pt x="14354" y="17604"/>
                  <a:pt x="14361" y="17620"/>
                  <a:pt x="14387" y="17711"/>
                </a:cubicBezTo>
                <a:cubicBezTo>
                  <a:pt x="14415" y="17808"/>
                  <a:pt x="14503" y="17872"/>
                  <a:pt x="14536" y="17959"/>
                </a:cubicBezTo>
                <a:cubicBezTo>
                  <a:pt x="14556" y="18013"/>
                  <a:pt x="14573" y="18085"/>
                  <a:pt x="14536" y="18132"/>
                </a:cubicBezTo>
                <a:cubicBezTo>
                  <a:pt x="14504" y="18172"/>
                  <a:pt x="14461" y="18195"/>
                  <a:pt x="14412" y="18207"/>
                </a:cubicBezTo>
                <a:cubicBezTo>
                  <a:pt x="14376" y="18216"/>
                  <a:pt x="14319" y="18166"/>
                  <a:pt x="14288" y="18157"/>
                </a:cubicBezTo>
                <a:cubicBezTo>
                  <a:pt x="14243" y="18143"/>
                  <a:pt x="14263" y="18085"/>
                  <a:pt x="14263" y="18033"/>
                </a:cubicBezTo>
              </a:path>
              <a:path w="5780" h="1811">
                <a:moveTo>
                  <a:pt x="15056" y="17760"/>
                </a:moveTo>
                <a:cubicBezTo>
                  <a:pt x="15077" y="17774"/>
                  <a:pt x="15128" y="17760"/>
                  <a:pt x="15106" y="17711"/>
                </a:cubicBezTo>
                <a:cubicBezTo>
                  <a:pt x="15094" y="17685"/>
                  <a:pt x="15063" y="17625"/>
                  <a:pt x="15032" y="17611"/>
                </a:cubicBezTo>
                <a:cubicBezTo>
                  <a:pt x="14987" y="17591"/>
                  <a:pt x="14958" y="17591"/>
                  <a:pt x="14908" y="17611"/>
                </a:cubicBezTo>
                <a:cubicBezTo>
                  <a:pt x="14845" y="17636"/>
                  <a:pt x="14815" y="17702"/>
                  <a:pt x="14784" y="17760"/>
                </a:cubicBezTo>
                <a:cubicBezTo>
                  <a:pt x="14742" y="17840"/>
                  <a:pt x="14764" y="17925"/>
                  <a:pt x="14784" y="18008"/>
                </a:cubicBezTo>
                <a:cubicBezTo>
                  <a:pt x="14805" y="18096"/>
                  <a:pt x="14843" y="18172"/>
                  <a:pt x="14932" y="18207"/>
                </a:cubicBezTo>
                <a:cubicBezTo>
                  <a:pt x="14940" y="18207"/>
                  <a:pt x="14949" y="18207"/>
                  <a:pt x="14957" y="18207"/>
                </a:cubicBezTo>
              </a:path>
              <a:path w="5780" h="1811">
                <a:moveTo>
                  <a:pt x="15304" y="17661"/>
                </a:moveTo>
                <a:cubicBezTo>
                  <a:pt x="15411" y="17775"/>
                  <a:pt x="15468" y="17879"/>
                  <a:pt x="15553" y="18008"/>
                </a:cubicBezTo>
                <a:cubicBezTo>
                  <a:pt x="15610" y="18094"/>
                  <a:pt x="15689" y="18246"/>
                  <a:pt x="15776" y="18306"/>
                </a:cubicBezTo>
                <a:cubicBezTo>
                  <a:pt x="15784" y="18306"/>
                  <a:pt x="15793" y="18306"/>
                  <a:pt x="15801" y="18306"/>
                </a:cubicBezTo>
              </a:path>
              <a:path w="5780" h="1811">
                <a:moveTo>
                  <a:pt x="15801" y="17711"/>
                </a:moveTo>
                <a:cubicBezTo>
                  <a:pt x="15618" y="17783"/>
                  <a:pt x="15486" y="17851"/>
                  <a:pt x="15329" y="17959"/>
                </a:cubicBezTo>
                <a:cubicBezTo>
                  <a:pt x="15205" y="18044"/>
                  <a:pt x="15119" y="18143"/>
                  <a:pt x="14982" y="18207"/>
                </a:cubicBezTo>
              </a:path>
              <a:path w="5780" h="1811">
                <a:moveTo>
                  <a:pt x="13444" y="17239"/>
                </a:moveTo>
                <a:cubicBezTo>
                  <a:pt x="13414" y="17387"/>
                  <a:pt x="13420" y="17538"/>
                  <a:pt x="13395" y="17686"/>
                </a:cubicBezTo>
                <a:cubicBezTo>
                  <a:pt x="13377" y="17794"/>
                  <a:pt x="13365" y="17902"/>
                  <a:pt x="13345" y="18008"/>
                </a:cubicBezTo>
                <a:cubicBezTo>
                  <a:pt x="13336" y="18054"/>
                  <a:pt x="13324" y="18083"/>
                  <a:pt x="13320" y="18132"/>
                </a:cubicBezTo>
                <a:cubicBezTo>
                  <a:pt x="13335" y="18066"/>
                  <a:pt x="13351" y="18001"/>
                  <a:pt x="13370" y="17934"/>
                </a:cubicBezTo>
                <a:cubicBezTo>
                  <a:pt x="13407" y="17802"/>
                  <a:pt x="13433" y="17669"/>
                  <a:pt x="13469" y="17537"/>
                </a:cubicBezTo>
                <a:cubicBezTo>
                  <a:pt x="13505" y="17405"/>
                  <a:pt x="13529" y="17205"/>
                  <a:pt x="13618" y="17090"/>
                </a:cubicBezTo>
                <a:cubicBezTo>
                  <a:pt x="13675" y="17015"/>
                  <a:pt x="13748" y="16962"/>
                  <a:pt x="13841" y="16942"/>
                </a:cubicBezTo>
                <a:cubicBezTo>
                  <a:pt x="13951" y="16919"/>
                  <a:pt x="14132" y="16941"/>
                  <a:pt x="14238" y="16966"/>
                </a:cubicBezTo>
                <a:cubicBezTo>
                  <a:pt x="14520" y="17032"/>
                  <a:pt x="14817" y="17138"/>
                  <a:pt x="15106" y="17165"/>
                </a:cubicBezTo>
                <a:cubicBezTo>
                  <a:pt x="15279" y="17181"/>
                  <a:pt x="15452" y="17190"/>
                  <a:pt x="15627" y="17190"/>
                </a:cubicBezTo>
                <a:cubicBezTo>
                  <a:pt x="15812" y="17190"/>
                  <a:pt x="15991" y="17196"/>
                  <a:pt x="16173" y="17214"/>
                </a:cubicBezTo>
                <a:cubicBezTo>
                  <a:pt x="16283" y="17225"/>
                  <a:pt x="16255" y="17224"/>
                  <a:pt x="16297" y="17314"/>
                </a:cubicBezTo>
                <a:cubicBezTo>
                  <a:pt x="16325" y="17373"/>
                  <a:pt x="16338" y="17466"/>
                  <a:pt x="16346" y="17537"/>
                </a:cubicBezTo>
                <a:cubicBezTo>
                  <a:pt x="16360" y="17664"/>
                  <a:pt x="16325" y="17784"/>
                  <a:pt x="16321" y="17909"/>
                </a:cubicBezTo>
                <a:cubicBezTo>
                  <a:pt x="16317" y="18046"/>
                  <a:pt x="16326" y="18168"/>
                  <a:pt x="16321" y="18306"/>
                </a:cubicBezTo>
                <a:cubicBezTo>
                  <a:pt x="16318" y="18392"/>
                  <a:pt x="16317" y="18449"/>
                  <a:pt x="16297" y="18529"/>
                </a:cubicBezTo>
                <a:cubicBezTo>
                  <a:pt x="16280" y="18598"/>
                  <a:pt x="16269" y="18598"/>
                  <a:pt x="16222" y="18653"/>
                </a:cubicBezTo>
                <a:cubicBezTo>
                  <a:pt x="16190" y="18690"/>
                  <a:pt x="16183" y="18680"/>
                  <a:pt x="16123" y="18703"/>
                </a:cubicBezTo>
                <a:cubicBezTo>
                  <a:pt x="16032" y="18738"/>
                  <a:pt x="16022" y="18749"/>
                  <a:pt x="15900" y="18752"/>
                </a:cubicBezTo>
                <a:cubicBezTo>
                  <a:pt x="15796" y="18754"/>
                  <a:pt x="15702" y="18738"/>
                  <a:pt x="15602" y="18728"/>
                </a:cubicBezTo>
                <a:cubicBezTo>
                  <a:pt x="15448" y="18712"/>
                  <a:pt x="15308" y="18661"/>
                  <a:pt x="15156" y="18628"/>
                </a:cubicBezTo>
                <a:cubicBezTo>
                  <a:pt x="14842" y="18560"/>
                  <a:pt x="14525" y="18491"/>
                  <a:pt x="14213" y="18430"/>
                </a:cubicBezTo>
                <a:cubicBezTo>
                  <a:pt x="14092" y="18406"/>
                  <a:pt x="13965" y="18385"/>
                  <a:pt x="13841" y="18380"/>
                </a:cubicBezTo>
                <a:cubicBezTo>
                  <a:pt x="13753" y="18377"/>
                  <a:pt x="13665" y="18397"/>
                  <a:pt x="13593" y="18405"/>
                </a:cubicBezTo>
                <a:cubicBezTo>
                  <a:pt x="13552" y="18405"/>
                  <a:pt x="13544" y="18405"/>
                  <a:pt x="13519" y="184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7120" y="392040"/>
            <a:ext cx="1258920" cy="1743120"/>
          </a:xfrm>
          <a:custGeom>
            <a:avLst/>
            <a:gdLst/>
            <a:ahLst/>
            <a:rect l="l" t="t" r="r" b="b"/>
            <a:pathLst>
              <a:path w="3498" h="4838">
                <a:moveTo>
                  <a:pt x="5060" y="1910"/>
                </a:moveTo>
                <a:cubicBezTo>
                  <a:pt x="5014" y="1956"/>
                  <a:pt x="5000" y="2010"/>
                  <a:pt x="4961" y="2059"/>
                </a:cubicBezTo>
                <a:cubicBezTo>
                  <a:pt x="4905" y="2130"/>
                  <a:pt x="4854" y="2174"/>
                  <a:pt x="4812" y="2257"/>
                </a:cubicBezTo>
                <a:cubicBezTo>
                  <a:pt x="4798" y="2285"/>
                  <a:pt x="4757" y="2360"/>
                  <a:pt x="4812" y="2381"/>
                </a:cubicBezTo>
                <a:cubicBezTo>
                  <a:pt x="4889" y="2410"/>
                  <a:pt x="4981" y="2391"/>
                  <a:pt x="5060" y="2406"/>
                </a:cubicBezTo>
                <a:cubicBezTo>
                  <a:pt x="5126" y="2419"/>
                  <a:pt x="5291" y="2498"/>
                  <a:pt x="5333" y="2555"/>
                </a:cubicBezTo>
                <a:cubicBezTo>
                  <a:pt x="5380" y="2620"/>
                  <a:pt x="5401" y="2751"/>
                  <a:pt x="5383" y="2828"/>
                </a:cubicBezTo>
                <a:cubicBezTo>
                  <a:pt x="5368" y="2894"/>
                  <a:pt x="5262" y="2988"/>
                  <a:pt x="5209" y="3026"/>
                </a:cubicBezTo>
                <a:cubicBezTo>
                  <a:pt x="5181" y="3046"/>
                  <a:pt x="5075" y="3122"/>
                  <a:pt x="5060" y="3076"/>
                </a:cubicBezTo>
                <a:cubicBezTo>
                  <a:pt x="5060" y="3059"/>
                  <a:pt x="5060" y="3043"/>
                  <a:pt x="5060" y="3026"/>
                </a:cubicBezTo>
              </a:path>
              <a:path w="3498" h="4838">
                <a:moveTo>
                  <a:pt x="5606" y="2133"/>
                </a:moveTo>
                <a:cubicBezTo>
                  <a:pt x="5644" y="2249"/>
                  <a:pt x="5708" y="2384"/>
                  <a:pt x="5730" y="2505"/>
                </a:cubicBezTo>
                <a:cubicBezTo>
                  <a:pt x="5740" y="2559"/>
                  <a:pt x="5730" y="2624"/>
                  <a:pt x="5730" y="2679"/>
                </a:cubicBezTo>
                <a:cubicBezTo>
                  <a:pt x="5700" y="2649"/>
                  <a:pt x="5689" y="2635"/>
                  <a:pt x="5680" y="2604"/>
                </a:cubicBezTo>
              </a:path>
              <a:path w="3498" h="4838">
                <a:moveTo>
                  <a:pt x="5953" y="2307"/>
                </a:moveTo>
                <a:cubicBezTo>
                  <a:pt x="5993" y="2409"/>
                  <a:pt x="6030" y="2489"/>
                  <a:pt x="6052" y="2580"/>
                </a:cubicBezTo>
                <a:cubicBezTo>
                  <a:pt x="6052" y="2525"/>
                  <a:pt x="6030" y="2486"/>
                  <a:pt x="6028" y="2431"/>
                </a:cubicBezTo>
                <a:cubicBezTo>
                  <a:pt x="6024" y="2332"/>
                  <a:pt x="5984" y="2234"/>
                  <a:pt x="6003" y="2133"/>
                </a:cubicBezTo>
                <a:cubicBezTo>
                  <a:pt x="6015" y="2070"/>
                  <a:pt x="6052" y="1931"/>
                  <a:pt x="6102" y="1885"/>
                </a:cubicBezTo>
                <a:cubicBezTo>
                  <a:pt x="6164" y="1828"/>
                  <a:pt x="6222" y="1875"/>
                  <a:pt x="6276" y="1910"/>
                </a:cubicBezTo>
                <a:cubicBezTo>
                  <a:pt x="6361" y="1964"/>
                  <a:pt x="6450" y="2057"/>
                  <a:pt x="6474" y="2158"/>
                </a:cubicBezTo>
                <a:cubicBezTo>
                  <a:pt x="6487" y="2213"/>
                  <a:pt x="6477" y="2274"/>
                  <a:pt x="6548" y="2282"/>
                </a:cubicBezTo>
                <a:cubicBezTo>
                  <a:pt x="6583" y="2282"/>
                  <a:pt x="6596" y="2273"/>
                  <a:pt x="6598" y="2232"/>
                </a:cubicBezTo>
              </a:path>
              <a:path w="3498" h="4838">
                <a:moveTo>
                  <a:pt x="6648" y="1761"/>
                </a:moveTo>
                <a:cubicBezTo>
                  <a:pt x="6695" y="1791"/>
                  <a:pt x="6841" y="1948"/>
                  <a:pt x="6896" y="1960"/>
                </a:cubicBezTo>
                <a:cubicBezTo>
                  <a:pt x="6968" y="1975"/>
                  <a:pt x="7136" y="2009"/>
                  <a:pt x="7218" y="1960"/>
                </a:cubicBezTo>
                <a:cubicBezTo>
                  <a:pt x="7248" y="1930"/>
                  <a:pt x="7259" y="1916"/>
                  <a:pt x="7268" y="1885"/>
                </a:cubicBezTo>
              </a:path>
              <a:path w="3498" h="4838">
                <a:moveTo>
                  <a:pt x="7144" y="1612"/>
                </a:moveTo>
                <a:cubicBezTo>
                  <a:pt x="7063" y="1736"/>
                  <a:pt x="7003" y="1845"/>
                  <a:pt x="6921" y="1960"/>
                </a:cubicBezTo>
                <a:cubicBezTo>
                  <a:pt x="6850" y="2060"/>
                  <a:pt x="6814" y="2178"/>
                  <a:pt x="6747" y="2282"/>
                </a:cubicBezTo>
                <a:cubicBezTo>
                  <a:pt x="6697" y="2356"/>
                  <a:pt x="6680" y="2381"/>
                  <a:pt x="6648" y="2431"/>
                </a:cubicBezTo>
              </a:path>
              <a:path w="3498" h="4838">
                <a:moveTo>
                  <a:pt x="5135" y="4762"/>
                </a:moveTo>
                <a:cubicBezTo>
                  <a:pt x="5037" y="4795"/>
                  <a:pt x="4995" y="4870"/>
                  <a:pt x="4911" y="4936"/>
                </a:cubicBezTo>
                <a:cubicBezTo>
                  <a:pt x="4823" y="5005"/>
                  <a:pt x="4744" y="5036"/>
                  <a:pt x="4688" y="5135"/>
                </a:cubicBezTo>
                <a:cubicBezTo>
                  <a:pt x="4674" y="5160"/>
                  <a:pt x="4632" y="5242"/>
                  <a:pt x="4688" y="5259"/>
                </a:cubicBezTo>
                <a:cubicBezTo>
                  <a:pt x="4761" y="5282"/>
                  <a:pt x="4836" y="5301"/>
                  <a:pt x="4911" y="5333"/>
                </a:cubicBezTo>
                <a:cubicBezTo>
                  <a:pt x="4969" y="5358"/>
                  <a:pt x="5067" y="5420"/>
                  <a:pt x="5085" y="5482"/>
                </a:cubicBezTo>
                <a:cubicBezTo>
                  <a:pt x="5100" y="5532"/>
                  <a:pt x="5071" y="5622"/>
                  <a:pt x="5035" y="5655"/>
                </a:cubicBezTo>
                <a:cubicBezTo>
                  <a:pt x="4980" y="5707"/>
                  <a:pt x="4906" y="5705"/>
                  <a:pt x="4837" y="5705"/>
                </a:cubicBezTo>
                <a:cubicBezTo>
                  <a:pt x="4789" y="5705"/>
                  <a:pt x="4812" y="5644"/>
                  <a:pt x="4812" y="5606"/>
                </a:cubicBezTo>
              </a:path>
              <a:path w="3498" h="4838">
                <a:moveTo>
                  <a:pt x="5333" y="4961"/>
                </a:moveTo>
                <a:cubicBezTo>
                  <a:pt x="5355" y="5032"/>
                  <a:pt x="5402" y="5268"/>
                  <a:pt x="5457" y="5358"/>
                </a:cubicBezTo>
                <a:cubicBezTo>
                  <a:pt x="5473" y="5384"/>
                  <a:pt x="5482" y="5452"/>
                  <a:pt x="5482" y="5407"/>
                </a:cubicBezTo>
                <a:cubicBezTo>
                  <a:pt x="5482" y="5391"/>
                  <a:pt x="5482" y="5374"/>
                  <a:pt x="5482" y="5358"/>
                </a:cubicBezTo>
              </a:path>
              <a:path w="3498" h="4838">
                <a:moveTo>
                  <a:pt x="5308" y="4564"/>
                </a:moveTo>
                <a:lnTo>
                  <a:pt x="5308" y="4564"/>
                </a:lnTo>
              </a:path>
              <a:path w="3498" h="4838">
                <a:moveTo>
                  <a:pt x="5655" y="5035"/>
                </a:moveTo>
                <a:cubicBezTo>
                  <a:pt x="5673" y="5123"/>
                  <a:pt x="5694" y="5199"/>
                  <a:pt x="5705" y="5283"/>
                </a:cubicBezTo>
                <a:cubicBezTo>
                  <a:pt x="5705" y="5346"/>
                  <a:pt x="5681" y="5206"/>
                  <a:pt x="5680" y="5184"/>
                </a:cubicBezTo>
                <a:cubicBezTo>
                  <a:pt x="5676" y="5085"/>
                  <a:pt x="5636" y="4991"/>
                  <a:pt x="5655" y="4887"/>
                </a:cubicBezTo>
                <a:cubicBezTo>
                  <a:pt x="5668" y="4816"/>
                  <a:pt x="5701" y="4709"/>
                  <a:pt x="5779" y="4688"/>
                </a:cubicBezTo>
                <a:cubicBezTo>
                  <a:pt x="5856" y="4667"/>
                  <a:pt x="5939" y="4758"/>
                  <a:pt x="5978" y="4812"/>
                </a:cubicBezTo>
                <a:cubicBezTo>
                  <a:pt x="6021" y="4872"/>
                  <a:pt x="6079" y="4937"/>
                  <a:pt x="6102" y="5011"/>
                </a:cubicBezTo>
                <a:cubicBezTo>
                  <a:pt x="6114" y="5051"/>
                  <a:pt x="6114" y="5020"/>
                  <a:pt x="6127" y="5060"/>
                </a:cubicBezTo>
              </a:path>
              <a:path w="3498" h="4838">
                <a:moveTo>
                  <a:pt x="6052" y="4514"/>
                </a:moveTo>
                <a:cubicBezTo>
                  <a:pt x="6118" y="4586"/>
                  <a:pt x="6165" y="4665"/>
                  <a:pt x="6226" y="4738"/>
                </a:cubicBezTo>
                <a:cubicBezTo>
                  <a:pt x="6271" y="4792"/>
                  <a:pt x="6356" y="4841"/>
                  <a:pt x="6424" y="4862"/>
                </a:cubicBezTo>
                <a:cubicBezTo>
                  <a:pt x="6520" y="4892"/>
                  <a:pt x="6536" y="4855"/>
                  <a:pt x="6573" y="4787"/>
                </a:cubicBezTo>
              </a:path>
              <a:path w="3498" h="4838">
                <a:moveTo>
                  <a:pt x="6375" y="4390"/>
                </a:moveTo>
                <a:cubicBezTo>
                  <a:pt x="6325" y="4516"/>
                  <a:pt x="6263" y="4633"/>
                  <a:pt x="6226" y="4762"/>
                </a:cubicBezTo>
                <a:cubicBezTo>
                  <a:pt x="6199" y="4858"/>
                  <a:pt x="6181" y="5000"/>
                  <a:pt x="6127" y="5085"/>
                </a:cubicBezTo>
                <a:cubicBezTo>
                  <a:pt x="6092" y="5140"/>
                  <a:pt x="6031" y="5176"/>
                  <a:pt x="5978" y="5209"/>
                </a:cubicBezTo>
              </a:path>
              <a:path w="3498" h="4838">
                <a:moveTo>
                  <a:pt x="4266" y="5060"/>
                </a:moveTo>
                <a:cubicBezTo>
                  <a:pt x="4250" y="5273"/>
                  <a:pt x="4210" y="5483"/>
                  <a:pt x="4316" y="5680"/>
                </a:cubicBezTo>
                <a:cubicBezTo>
                  <a:pt x="4384" y="5807"/>
                  <a:pt x="4507" y="5867"/>
                  <a:pt x="4638" y="5904"/>
                </a:cubicBezTo>
                <a:cubicBezTo>
                  <a:pt x="4835" y="5960"/>
                  <a:pt x="4886" y="5904"/>
                  <a:pt x="5085" y="5829"/>
                </a:cubicBezTo>
              </a:path>
              <a:path w="3498" h="4838">
                <a:moveTo>
                  <a:pt x="6375" y="4018"/>
                </a:moveTo>
                <a:cubicBezTo>
                  <a:pt x="6509" y="4145"/>
                  <a:pt x="6590" y="4269"/>
                  <a:pt x="6672" y="4440"/>
                </a:cubicBezTo>
                <a:cubicBezTo>
                  <a:pt x="6736" y="4574"/>
                  <a:pt x="6785" y="4723"/>
                  <a:pt x="6697" y="4862"/>
                </a:cubicBezTo>
                <a:cubicBezTo>
                  <a:pt x="6646" y="4942"/>
                  <a:pt x="6530" y="4959"/>
                  <a:pt x="6449" y="4986"/>
                </a:cubicBezTo>
              </a:path>
              <a:path w="3498" h="4838">
                <a:moveTo>
                  <a:pt x="4242" y="2307"/>
                </a:moveTo>
                <a:cubicBezTo>
                  <a:pt x="4242" y="2520"/>
                  <a:pt x="4249" y="2698"/>
                  <a:pt x="4316" y="2902"/>
                </a:cubicBezTo>
                <a:cubicBezTo>
                  <a:pt x="4351" y="3007"/>
                  <a:pt x="4404" y="3175"/>
                  <a:pt x="4490" y="3249"/>
                </a:cubicBezTo>
                <a:cubicBezTo>
                  <a:pt x="4587" y="3333"/>
                  <a:pt x="4666" y="3324"/>
                  <a:pt x="4787" y="3324"/>
                </a:cubicBezTo>
              </a:path>
              <a:path w="3498" h="4838">
                <a:moveTo>
                  <a:pt x="7268" y="1091"/>
                </a:moveTo>
                <a:cubicBezTo>
                  <a:pt x="7357" y="1181"/>
                  <a:pt x="7426" y="1256"/>
                  <a:pt x="7491" y="1364"/>
                </a:cubicBezTo>
                <a:cubicBezTo>
                  <a:pt x="7583" y="1518"/>
                  <a:pt x="7698" y="1682"/>
                  <a:pt x="7739" y="1860"/>
                </a:cubicBezTo>
                <a:cubicBezTo>
                  <a:pt x="7763" y="1964"/>
                  <a:pt x="7731" y="2087"/>
                  <a:pt x="7689" y="2183"/>
                </a:cubicBezTo>
                <a:cubicBezTo>
                  <a:pt x="7642" y="2291"/>
                  <a:pt x="7572" y="2349"/>
                  <a:pt x="7491" y="24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69120" y="544680"/>
            <a:ext cx="115920" cy="455400"/>
          </a:xfrm>
          <a:custGeom>
            <a:avLst/>
            <a:gdLst/>
            <a:ahLst/>
            <a:rect l="l" t="t" r="r" b="b"/>
            <a:pathLst>
              <a:path w="323" h="1266">
                <a:moveTo>
                  <a:pt x="20389" y="1513"/>
                </a:moveTo>
                <a:cubicBezTo>
                  <a:pt x="20336" y="1540"/>
                  <a:pt x="20313" y="1598"/>
                  <a:pt x="20290" y="1662"/>
                </a:cubicBezTo>
                <a:cubicBezTo>
                  <a:pt x="20243" y="1792"/>
                  <a:pt x="20203" y="1946"/>
                  <a:pt x="20191" y="2084"/>
                </a:cubicBezTo>
                <a:cubicBezTo>
                  <a:pt x="20178" y="2233"/>
                  <a:pt x="20152" y="2489"/>
                  <a:pt x="20216" y="2629"/>
                </a:cubicBezTo>
                <a:cubicBezTo>
                  <a:pt x="20247" y="2697"/>
                  <a:pt x="20286" y="2773"/>
                  <a:pt x="20365" y="2778"/>
                </a:cubicBezTo>
                <a:cubicBezTo>
                  <a:pt x="20439" y="2778"/>
                  <a:pt x="20475" y="2763"/>
                  <a:pt x="20513" y="27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7960" y="339840"/>
            <a:ext cx="982800" cy="581040"/>
          </a:xfrm>
          <a:custGeom>
            <a:avLst/>
            <a:gdLst/>
            <a:ahLst/>
            <a:rect l="l" t="t" r="r" b="b"/>
            <a:pathLst>
              <a:path w="2730" h="1613">
                <a:moveTo>
                  <a:pt x="20910" y="1910"/>
                </a:moveTo>
                <a:cubicBezTo>
                  <a:pt x="20910" y="2052"/>
                  <a:pt x="20899" y="2218"/>
                  <a:pt x="20935" y="2356"/>
                </a:cubicBezTo>
                <a:cubicBezTo>
                  <a:pt x="20946" y="2398"/>
                  <a:pt x="20942" y="2495"/>
                  <a:pt x="20960" y="2530"/>
                </a:cubicBezTo>
                <a:cubicBezTo>
                  <a:pt x="20985" y="2555"/>
                  <a:pt x="20993" y="2563"/>
                  <a:pt x="21010" y="2530"/>
                </a:cubicBezTo>
              </a:path>
              <a:path w="2730" h="1613">
                <a:moveTo>
                  <a:pt x="21357" y="1811"/>
                </a:moveTo>
                <a:cubicBezTo>
                  <a:pt x="21375" y="1944"/>
                  <a:pt x="21387" y="2081"/>
                  <a:pt x="21406" y="2208"/>
                </a:cubicBezTo>
                <a:cubicBezTo>
                  <a:pt x="21413" y="2255"/>
                  <a:pt x="21406" y="2308"/>
                  <a:pt x="21406" y="2356"/>
                </a:cubicBezTo>
              </a:path>
              <a:path w="2730" h="1613">
                <a:moveTo>
                  <a:pt x="21183" y="2133"/>
                </a:moveTo>
                <a:cubicBezTo>
                  <a:pt x="21252" y="2107"/>
                  <a:pt x="21313" y="2094"/>
                  <a:pt x="21382" y="2059"/>
                </a:cubicBezTo>
                <a:cubicBezTo>
                  <a:pt x="21431" y="2034"/>
                  <a:pt x="21481" y="2009"/>
                  <a:pt x="21530" y="1984"/>
                </a:cubicBezTo>
              </a:path>
              <a:path w="2730" h="1613">
                <a:moveTo>
                  <a:pt x="21853" y="1786"/>
                </a:moveTo>
                <a:cubicBezTo>
                  <a:pt x="21908" y="1841"/>
                  <a:pt x="21933" y="1893"/>
                  <a:pt x="21927" y="1836"/>
                </a:cubicBezTo>
                <a:cubicBezTo>
                  <a:pt x="21918" y="1829"/>
                  <a:pt x="21833" y="1760"/>
                  <a:pt x="21828" y="1761"/>
                </a:cubicBezTo>
                <a:cubicBezTo>
                  <a:pt x="21763" y="1768"/>
                  <a:pt x="21769" y="1840"/>
                  <a:pt x="21754" y="1885"/>
                </a:cubicBezTo>
                <a:cubicBezTo>
                  <a:pt x="21733" y="1947"/>
                  <a:pt x="21704" y="2040"/>
                  <a:pt x="21729" y="2108"/>
                </a:cubicBezTo>
                <a:cubicBezTo>
                  <a:pt x="21743" y="2147"/>
                  <a:pt x="21785" y="2205"/>
                  <a:pt x="21828" y="2208"/>
                </a:cubicBezTo>
                <a:cubicBezTo>
                  <a:pt x="21887" y="2208"/>
                  <a:pt x="21913" y="2205"/>
                  <a:pt x="21952" y="2183"/>
                </a:cubicBezTo>
              </a:path>
              <a:path w="2730" h="1613">
                <a:moveTo>
                  <a:pt x="22101" y="1811"/>
                </a:moveTo>
                <a:cubicBezTo>
                  <a:pt x="22102" y="1847"/>
                  <a:pt x="22053" y="2102"/>
                  <a:pt x="22175" y="2108"/>
                </a:cubicBezTo>
                <a:cubicBezTo>
                  <a:pt x="22222" y="2110"/>
                  <a:pt x="22307" y="2096"/>
                  <a:pt x="22324" y="2034"/>
                </a:cubicBezTo>
                <a:cubicBezTo>
                  <a:pt x="22353" y="1933"/>
                  <a:pt x="22321" y="1837"/>
                  <a:pt x="22275" y="1761"/>
                </a:cubicBezTo>
                <a:cubicBezTo>
                  <a:pt x="22252" y="1723"/>
                  <a:pt x="22181" y="1668"/>
                  <a:pt x="22126" y="1687"/>
                </a:cubicBezTo>
                <a:cubicBezTo>
                  <a:pt x="22108" y="1693"/>
                  <a:pt x="22051" y="1712"/>
                  <a:pt x="22101" y="1712"/>
                </a:cubicBezTo>
              </a:path>
              <a:path w="2730" h="1613">
                <a:moveTo>
                  <a:pt x="22547" y="1488"/>
                </a:moveTo>
                <a:cubicBezTo>
                  <a:pt x="22513" y="1505"/>
                  <a:pt x="22415" y="1529"/>
                  <a:pt x="22448" y="1588"/>
                </a:cubicBezTo>
                <a:cubicBezTo>
                  <a:pt x="22490" y="1661"/>
                  <a:pt x="22596" y="1657"/>
                  <a:pt x="22647" y="1712"/>
                </a:cubicBezTo>
                <a:cubicBezTo>
                  <a:pt x="22678" y="1745"/>
                  <a:pt x="22741" y="1816"/>
                  <a:pt x="22746" y="1860"/>
                </a:cubicBezTo>
                <a:cubicBezTo>
                  <a:pt x="22751" y="1902"/>
                  <a:pt x="22737" y="1921"/>
                  <a:pt x="22696" y="1935"/>
                </a:cubicBezTo>
                <a:cubicBezTo>
                  <a:pt x="22652" y="1950"/>
                  <a:pt x="22614" y="1885"/>
                  <a:pt x="22597" y="1860"/>
                </a:cubicBezTo>
              </a:path>
              <a:path w="2730" h="1613">
                <a:moveTo>
                  <a:pt x="22870" y="1463"/>
                </a:moveTo>
                <a:cubicBezTo>
                  <a:pt x="22915" y="1541"/>
                  <a:pt x="22962" y="1618"/>
                  <a:pt x="23019" y="1687"/>
                </a:cubicBezTo>
                <a:cubicBezTo>
                  <a:pt x="23072" y="1752"/>
                  <a:pt x="23113" y="1761"/>
                  <a:pt x="23192" y="1761"/>
                </a:cubicBezTo>
                <a:cubicBezTo>
                  <a:pt x="23273" y="1761"/>
                  <a:pt x="23301" y="1740"/>
                  <a:pt x="23316" y="1662"/>
                </a:cubicBezTo>
              </a:path>
              <a:path w="2730" h="1613">
                <a:moveTo>
                  <a:pt x="23068" y="1463"/>
                </a:moveTo>
                <a:cubicBezTo>
                  <a:pt x="23026" y="1551"/>
                  <a:pt x="22931" y="1700"/>
                  <a:pt x="22920" y="1811"/>
                </a:cubicBezTo>
                <a:cubicBezTo>
                  <a:pt x="22920" y="1836"/>
                  <a:pt x="22920" y="1844"/>
                  <a:pt x="22920" y="1811"/>
                </a:cubicBezTo>
              </a:path>
              <a:path w="2730" h="1613">
                <a:moveTo>
                  <a:pt x="23217" y="943"/>
                </a:moveTo>
                <a:cubicBezTo>
                  <a:pt x="23457" y="1131"/>
                  <a:pt x="23537" y="1179"/>
                  <a:pt x="23614" y="1463"/>
                </a:cubicBezTo>
                <a:cubicBezTo>
                  <a:pt x="23643" y="1571"/>
                  <a:pt x="23648" y="1680"/>
                  <a:pt x="23614" y="1786"/>
                </a:cubicBezTo>
                <a:cubicBezTo>
                  <a:pt x="23590" y="1862"/>
                  <a:pt x="23529" y="1938"/>
                  <a:pt x="23465" y="1984"/>
                </a:cubicBezTo>
                <a:cubicBezTo>
                  <a:pt x="23449" y="1992"/>
                  <a:pt x="23432" y="2001"/>
                  <a:pt x="23416" y="20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05760" y="1295280"/>
            <a:ext cx="1295280" cy="625680"/>
          </a:xfrm>
          <a:custGeom>
            <a:avLst/>
            <a:gdLst/>
            <a:ahLst/>
            <a:rect l="l" t="t" r="r" b="b"/>
            <a:pathLst>
              <a:path w="3598" h="1737">
                <a:moveTo>
                  <a:pt x="20290" y="4068"/>
                </a:moveTo>
                <a:cubicBezTo>
                  <a:pt x="20216" y="4195"/>
                  <a:pt x="20194" y="4329"/>
                  <a:pt x="20141" y="4465"/>
                </a:cubicBezTo>
                <a:cubicBezTo>
                  <a:pt x="20088" y="4600"/>
                  <a:pt x="20033" y="4739"/>
                  <a:pt x="20017" y="4887"/>
                </a:cubicBezTo>
                <a:cubicBezTo>
                  <a:pt x="20003" y="5014"/>
                  <a:pt x="20020" y="5141"/>
                  <a:pt x="20067" y="5259"/>
                </a:cubicBezTo>
                <a:cubicBezTo>
                  <a:pt x="20110" y="5367"/>
                  <a:pt x="20202" y="5335"/>
                  <a:pt x="20290" y="5308"/>
                </a:cubicBezTo>
              </a:path>
              <a:path w="3598" h="1737">
                <a:moveTo>
                  <a:pt x="20811" y="4266"/>
                </a:moveTo>
                <a:cubicBezTo>
                  <a:pt x="20811" y="4429"/>
                  <a:pt x="20801" y="4582"/>
                  <a:pt x="20811" y="4738"/>
                </a:cubicBezTo>
                <a:cubicBezTo>
                  <a:pt x="20820" y="4877"/>
                  <a:pt x="20811" y="5019"/>
                  <a:pt x="20811" y="5159"/>
                </a:cubicBezTo>
              </a:path>
              <a:path w="3598" h="1737">
                <a:moveTo>
                  <a:pt x="21307" y="4242"/>
                </a:moveTo>
                <a:cubicBezTo>
                  <a:pt x="21317" y="4375"/>
                  <a:pt x="21301" y="4615"/>
                  <a:pt x="21332" y="4762"/>
                </a:cubicBezTo>
                <a:cubicBezTo>
                  <a:pt x="21346" y="4827"/>
                  <a:pt x="21357" y="4870"/>
                  <a:pt x="21357" y="4936"/>
                </a:cubicBezTo>
                <a:cubicBezTo>
                  <a:pt x="21357" y="5002"/>
                  <a:pt x="21321" y="4929"/>
                  <a:pt x="21307" y="4911"/>
                </a:cubicBezTo>
              </a:path>
              <a:path w="3598" h="1737">
                <a:moveTo>
                  <a:pt x="21084" y="4589"/>
                </a:moveTo>
                <a:cubicBezTo>
                  <a:pt x="21221" y="4541"/>
                  <a:pt x="21340" y="4496"/>
                  <a:pt x="21481" y="4465"/>
                </a:cubicBezTo>
              </a:path>
              <a:path w="3598" h="1737">
                <a:moveTo>
                  <a:pt x="21927" y="4341"/>
                </a:moveTo>
                <a:cubicBezTo>
                  <a:pt x="21944" y="4349"/>
                  <a:pt x="21960" y="4358"/>
                  <a:pt x="21977" y="4366"/>
                </a:cubicBezTo>
                <a:cubicBezTo>
                  <a:pt x="21938" y="4327"/>
                  <a:pt x="21910" y="4297"/>
                  <a:pt x="21853" y="4291"/>
                </a:cubicBezTo>
                <a:cubicBezTo>
                  <a:pt x="21828" y="4291"/>
                  <a:pt x="21820" y="4291"/>
                  <a:pt x="21803" y="4291"/>
                </a:cubicBezTo>
              </a:path>
              <a:path w="3598" h="1737">
                <a:moveTo>
                  <a:pt x="21679" y="4440"/>
                </a:moveTo>
                <a:cubicBezTo>
                  <a:pt x="21679" y="4447"/>
                  <a:pt x="21602" y="4792"/>
                  <a:pt x="21729" y="4837"/>
                </a:cubicBezTo>
                <a:cubicBezTo>
                  <a:pt x="21774" y="4853"/>
                  <a:pt x="21868" y="4838"/>
                  <a:pt x="21903" y="4812"/>
                </a:cubicBezTo>
                <a:cubicBezTo>
                  <a:pt x="21949" y="4766"/>
                  <a:pt x="21963" y="4753"/>
                  <a:pt x="21977" y="4713"/>
                </a:cubicBezTo>
              </a:path>
              <a:path w="3598" h="1737">
                <a:moveTo>
                  <a:pt x="22175" y="4415"/>
                </a:moveTo>
                <a:cubicBezTo>
                  <a:pt x="22175" y="4609"/>
                  <a:pt x="22119" y="4644"/>
                  <a:pt x="22200" y="4713"/>
                </a:cubicBezTo>
                <a:cubicBezTo>
                  <a:pt x="22259" y="4713"/>
                  <a:pt x="22253" y="4693"/>
                  <a:pt x="22299" y="4663"/>
                </a:cubicBezTo>
                <a:cubicBezTo>
                  <a:pt x="22369" y="4618"/>
                  <a:pt x="22407" y="4552"/>
                  <a:pt x="22423" y="4465"/>
                </a:cubicBezTo>
                <a:cubicBezTo>
                  <a:pt x="22433" y="4411"/>
                  <a:pt x="22446" y="4267"/>
                  <a:pt x="22374" y="4242"/>
                </a:cubicBezTo>
                <a:cubicBezTo>
                  <a:pt x="22332" y="4227"/>
                  <a:pt x="22273" y="4217"/>
                  <a:pt x="22225" y="4217"/>
                </a:cubicBezTo>
                <a:cubicBezTo>
                  <a:pt x="22217" y="4217"/>
                  <a:pt x="22208" y="4217"/>
                  <a:pt x="22200" y="4217"/>
                </a:cubicBezTo>
              </a:path>
              <a:path w="3598" h="1737">
                <a:moveTo>
                  <a:pt x="22622" y="4068"/>
                </a:moveTo>
                <a:cubicBezTo>
                  <a:pt x="22546" y="4107"/>
                  <a:pt x="22531" y="4106"/>
                  <a:pt x="22498" y="4142"/>
                </a:cubicBezTo>
                <a:cubicBezTo>
                  <a:pt x="22507" y="4179"/>
                  <a:pt x="22546" y="4234"/>
                  <a:pt x="22572" y="4266"/>
                </a:cubicBezTo>
                <a:cubicBezTo>
                  <a:pt x="22636" y="4343"/>
                  <a:pt x="22734" y="4420"/>
                  <a:pt x="22771" y="4514"/>
                </a:cubicBezTo>
                <a:cubicBezTo>
                  <a:pt x="22788" y="4558"/>
                  <a:pt x="22765" y="4619"/>
                  <a:pt x="22721" y="4638"/>
                </a:cubicBezTo>
                <a:cubicBezTo>
                  <a:pt x="22694" y="4650"/>
                  <a:pt x="22643" y="4668"/>
                  <a:pt x="22622" y="4638"/>
                </a:cubicBezTo>
                <a:cubicBezTo>
                  <a:pt x="22622" y="4630"/>
                  <a:pt x="22622" y="4622"/>
                  <a:pt x="22622" y="4614"/>
                </a:cubicBezTo>
              </a:path>
              <a:path w="3598" h="1737">
                <a:moveTo>
                  <a:pt x="22969" y="4118"/>
                </a:moveTo>
                <a:cubicBezTo>
                  <a:pt x="23037" y="4240"/>
                  <a:pt x="23069" y="4344"/>
                  <a:pt x="23192" y="4415"/>
                </a:cubicBezTo>
                <a:cubicBezTo>
                  <a:pt x="23259" y="4454"/>
                  <a:pt x="23319" y="4473"/>
                  <a:pt x="23391" y="4440"/>
                </a:cubicBezTo>
                <a:cubicBezTo>
                  <a:pt x="23399" y="4432"/>
                  <a:pt x="23408" y="4423"/>
                  <a:pt x="23416" y="4415"/>
                </a:cubicBezTo>
              </a:path>
              <a:path w="3598" h="1737">
                <a:moveTo>
                  <a:pt x="23267" y="4018"/>
                </a:moveTo>
                <a:cubicBezTo>
                  <a:pt x="23190" y="4145"/>
                  <a:pt x="23115" y="4300"/>
                  <a:pt x="23019" y="4415"/>
                </a:cubicBezTo>
                <a:cubicBezTo>
                  <a:pt x="22966" y="4479"/>
                  <a:pt x="22969" y="4509"/>
                  <a:pt x="22969" y="4440"/>
                </a:cubicBezTo>
              </a:path>
              <a:path w="3598" h="1737">
                <a:moveTo>
                  <a:pt x="23341" y="3597"/>
                </a:moveTo>
                <a:cubicBezTo>
                  <a:pt x="23503" y="3815"/>
                  <a:pt x="23606" y="3905"/>
                  <a:pt x="23614" y="4167"/>
                </a:cubicBezTo>
                <a:cubicBezTo>
                  <a:pt x="23616" y="4215"/>
                  <a:pt x="23610" y="4382"/>
                  <a:pt x="23564" y="4415"/>
                </a:cubicBezTo>
                <a:cubicBezTo>
                  <a:pt x="23539" y="4423"/>
                  <a:pt x="23515" y="4432"/>
                  <a:pt x="23490" y="44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3348000"/>
            <a:ext cx="3848400" cy="162000"/>
          </a:xfrm>
          <a:custGeom>
            <a:avLst/>
            <a:gdLst/>
            <a:ahLst/>
            <a:rect l="l" t="t" r="r" b="b"/>
            <a:pathLst>
              <a:path w="10691" h="447">
                <a:moveTo>
                  <a:pt x="6772" y="9302"/>
                </a:moveTo>
                <a:cubicBezTo>
                  <a:pt x="9018" y="9302"/>
                  <a:pt x="11263" y="9292"/>
                  <a:pt x="13494" y="9451"/>
                </a:cubicBezTo>
                <a:cubicBezTo>
                  <a:pt x="13908" y="9480"/>
                  <a:pt x="14321" y="9497"/>
                  <a:pt x="14734" y="9525"/>
                </a:cubicBezTo>
                <a:cubicBezTo>
                  <a:pt x="15060" y="9547"/>
                  <a:pt x="15403" y="9577"/>
                  <a:pt x="15726" y="9624"/>
                </a:cubicBezTo>
                <a:cubicBezTo>
                  <a:pt x="16021" y="9667"/>
                  <a:pt x="16324" y="9718"/>
                  <a:pt x="16619" y="9748"/>
                </a:cubicBezTo>
                <a:cubicBezTo>
                  <a:pt x="16851" y="9772"/>
                  <a:pt x="17279" y="9804"/>
                  <a:pt x="17462" y="9699"/>
                </a:cubicBezTo>
                <a:cubicBezTo>
                  <a:pt x="17440" y="9676"/>
                  <a:pt x="17435" y="9668"/>
                  <a:pt x="17413" y="96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57680" y="2598840"/>
            <a:ext cx="2849400" cy="366480"/>
          </a:xfrm>
          <a:custGeom>
            <a:avLst/>
            <a:gdLst/>
            <a:ahLst/>
            <a:rect l="l" t="t" r="r" b="b"/>
            <a:pathLst>
              <a:path w="7913" h="1018">
                <a:moveTo>
                  <a:pt x="7938" y="7987"/>
                </a:moveTo>
                <a:cubicBezTo>
                  <a:pt x="7945" y="7955"/>
                  <a:pt x="7933" y="7971"/>
                  <a:pt x="7938" y="7938"/>
                </a:cubicBezTo>
                <a:cubicBezTo>
                  <a:pt x="7943" y="7907"/>
                  <a:pt x="7955" y="7852"/>
                  <a:pt x="7962" y="7813"/>
                </a:cubicBezTo>
                <a:cubicBezTo>
                  <a:pt x="7974" y="7750"/>
                  <a:pt x="7983" y="7709"/>
                  <a:pt x="7987" y="7640"/>
                </a:cubicBezTo>
                <a:cubicBezTo>
                  <a:pt x="7990" y="7587"/>
                  <a:pt x="7960" y="7500"/>
                  <a:pt x="7962" y="7466"/>
                </a:cubicBezTo>
                <a:cubicBezTo>
                  <a:pt x="7965" y="7419"/>
                  <a:pt x="7947" y="7392"/>
                  <a:pt x="7987" y="7367"/>
                </a:cubicBezTo>
                <a:cubicBezTo>
                  <a:pt x="8038" y="7335"/>
                  <a:pt x="8103" y="7350"/>
                  <a:pt x="8161" y="7342"/>
                </a:cubicBezTo>
                <a:cubicBezTo>
                  <a:pt x="8344" y="7318"/>
                  <a:pt x="8548" y="7320"/>
                  <a:pt x="8731" y="7317"/>
                </a:cubicBezTo>
                <a:cubicBezTo>
                  <a:pt x="8843" y="7315"/>
                  <a:pt x="8943" y="7298"/>
                  <a:pt x="9054" y="7293"/>
                </a:cubicBezTo>
                <a:cubicBezTo>
                  <a:pt x="9261" y="7284"/>
                  <a:pt x="9468" y="7275"/>
                  <a:pt x="9674" y="7268"/>
                </a:cubicBezTo>
                <a:cubicBezTo>
                  <a:pt x="9849" y="7262"/>
                  <a:pt x="10020" y="7246"/>
                  <a:pt x="10195" y="7243"/>
                </a:cubicBezTo>
                <a:cubicBezTo>
                  <a:pt x="10494" y="7238"/>
                  <a:pt x="10791" y="7223"/>
                  <a:pt x="11088" y="7218"/>
                </a:cubicBezTo>
                <a:cubicBezTo>
                  <a:pt x="11368" y="7213"/>
                  <a:pt x="11649" y="7243"/>
                  <a:pt x="11931" y="7243"/>
                </a:cubicBezTo>
                <a:cubicBezTo>
                  <a:pt x="12163" y="7243"/>
                  <a:pt x="12396" y="7246"/>
                  <a:pt x="12626" y="7268"/>
                </a:cubicBezTo>
                <a:cubicBezTo>
                  <a:pt x="12833" y="7288"/>
                  <a:pt x="13038" y="7330"/>
                  <a:pt x="13246" y="7342"/>
                </a:cubicBezTo>
                <a:cubicBezTo>
                  <a:pt x="13436" y="7353"/>
                  <a:pt x="13627" y="7364"/>
                  <a:pt x="13816" y="7367"/>
                </a:cubicBezTo>
                <a:cubicBezTo>
                  <a:pt x="13984" y="7369"/>
                  <a:pt x="14145" y="7386"/>
                  <a:pt x="14312" y="7392"/>
                </a:cubicBezTo>
                <a:cubicBezTo>
                  <a:pt x="14456" y="7397"/>
                  <a:pt x="14592" y="7411"/>
                  <a:pt x="14734" y="7417"/>
                </a:cubicBezTo>
                <a:cubicBezTo>
                  <a:pt x="14849" y="7422"/>
                  <a:pt x="14970" y="7436"/>
                  <a:pt x="15081" y="7441"/>
                </a:cubicBezTo>
                <a:cubicBezTo>
                  <a:pt x="15253" y="7449"/>
                  <a:pt x="15438" y="7457"/>
                  <a:pt x="15602" y="7466"/>
                </a:cubicBezTo>
                <a:cubicBezTo>
                  <a:pt x="15660" y="7469"/>
                  <a:pt x="15718" y="7464"/>
                  <a:pt x="15776" y="7466"/>
                </a:cubicBezTo>
                <a:cubicBezTo>
                  <a:pt x="15776" y="7574"/>
                  <a:pt x="15768" y="7696"/>
                  <a:pt x="15776" y="7789"/>
                </a:cubicBezTo>
                <a:cubicBezTo>
                  <a:pt x="15783" y="7865"/>
                  <a:pt x="15814" y="7958"/>
                  <a:pt x="15825" y="8037"/>
                </a:cubicBezTo>
                <a:cubicBezTo>
                  <a:pt x="15836" y="8115"/>
                  <a:pt x="15832" y="8155"/>
                  <a:pt x="15825" y="8210"/>
                </a:cubicBezTo>
                <a:cubicBezTo>
                  <a:pt x="15825" y="8235"/>
                  <a:pt x="15825" y="8243"/>
                  <a:pt x="15801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81200" y="5322960"/>
            <a:ext cx="2633760" cy="177840"/>
          </a:xfrm>
          <a:custGeom>
            <a:avLst/>
            <a:gdLst/>
            <a:ahLst/>
            <a:rect l="l" t="t" r="r" b="b"/>
            <a:pathLst>
              <a:path w="7318" h="497">
                <a:moveTo>
                  <a:pt x="7169" y="14808"/>
                </a:moveTo>
                <a:cubicBezTo>
                  <a:pt x="7220" y="14804"/>
                  <a:pt x="7255" y="14781"/>
                  <a:pt x="7317" y="14784"/>
                </a:cubicBezTo>
                <a:cubicBezTo>
                  <a:pt x="7416" y="14789"/>
                  <a:pt x="7513" y="14799"/>
                  <a:pt x="7615" y="14808"/>
                </a:cubicBezTo>
                <a:cubicBezTo>
                  <a:pt x="7754" y="14821"/>
                  <a:pt x="7899" y="14816"/>
                  <a:pt x="8037" y="14833"/>
                </a:cubicBezTo>
                <a:cubicBezTo>
                  <a:pt x="8266" y="14862"/>
                  <a:pt x="8499" y="14895"/>
                  <a:pt x="8731" y="14908"/>
                </a:cubicBezTo>
                <a:cubicBezTo>
                  <a:pt x="8946" y="14920"/>
                  <a:pt x="9162" y="14946"/>
                  <a:pt x="9376" y="14957"/>
                </a:cubicBezTo>
                <a:cubicBezTo>
                  <a:pt x="9609" y="14969"/>
                  <a:pt x="9838" y="14986"/>
                  <a:pt x="10071" y="15007"/>
                </a:cubicBezTo>
                <a:cubicBezTo>
                  <a:pt x="10465" y="15042"/>
                  <a:pt x="10866" y="15090"/>
                  <a:pt x="11261" y="15106"/>
                </a:cubicBezTo>
                <a:cubicBezTo>
                  <a:pt x="11552" y="15118"/>
                  <a:pt x="11839" y="15148"/>
                  <a:pt x="12129" y="15180"/>
                </a:cubicBezTo>
                <a:cubicBezTo>
                  <a:pt x="12419" y="15212"/>
                  <a:pt x="12709" y="15229"/>
                  <a:pt x="12998" y="15255"/>
                </a:cubicBezTo>
                <a:cubicBezTo>
                  <a:pt x="13287" y="15281"/>
                  <a:pt x="13575" y="15280"/>
                  <a:pt x="13866" y="15280"/>
                </a:cubicBezTo>
                <a:cubicBezTo>
                  <a:pt x="14018" y="15280"/>
                  <a:pt x="14164" y="15263"/>
                  <a:pt x="14312" y="15255"/>
                </a:cubicBezTo>
                <a:cubicBezTo>
                  <a:pt x="14383" y="15251"/>
                  <a:pt x="14428" y="15242"/>
                  <a:pt x="14486" y="15230"/>
                </a:cubicBezTo>
                <a:cubicBezTo>
                  <a:pt x="14461" y="15230"/>
                  <a:pt x="14453" y="15230"/>
                  <a:pt x="14436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Homework:</a:t>
            </a:r>
            <a:br>
              <a:rPr sz="8500"/>
            </a:b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Page 382</a:t>
            </a:r>
            <a:br>
              <a:rPr sz="8500"/>
            </a:b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#63-75</a:t>
            </a:r>
            <a:endParaRPr b="1" lang="en-US" sz="8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Questions from HW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g 381 #32-42)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5960" y="1938240"/>
            <a:ext cx="615960" cy="446040"/>
          </a:xfrm>
          <a:custGeom>
            <a:avLst/>
            <a:gdLst/>
            <a:ahLst/>
            <a:rect l="l" t="t" r="r" b="b"/>
            <a:pathLst>
              <a:path w="1712" h="1241">
                <a:moveTo>
                  <a:pt x="1910" y="5606"/>
                </a:moveTo>
                <a:cubicBezTo>
                  <a:pt x="1917" y="5557"/>
                  <a:pt x="1923" y="5553"/>
                  <a:pt x="1935" y="5531"/>
                </a:cubicBezTo>
                <a:cubicBezTo>
                  <a:pt x="1958" y="5488"/>
                  <a:pt x="1974" y="5484"/>
                  <a:pt x="2009" y="5457"/>
                </a:cubicBezTo>
                <a:cubicBezTo>
                  <a:pt x="2049" y="5426"/>
                  <a:pt x="2085" y="5390"/>
                  <a:pt x="2133" y="5383"/>
                </a:cubicBezTo>
                <a:cubicBezTo>
                  <a:pt x="2205" y="5373"/>
                  <a:pt x="2260" y="5375"/>
                  <a:pt x="2307" y="5432"/>
                </a:cubicBezTo>
                <a:cubicBezTo>
                  <a:pt x="2349" y="5483"/>
                  <a:pt x="2317" y="5524"/>
                  <a:pt x="2307" y="5581"/>
                </a:cubicBezTo>
                <a:cubicBezTo>
                  <a:pt x="2296" y="5648"/>
                  <a:pt x="2277" y="5721"/>
                  <a:pt x="2232" y="5779"/>
                </a:cubicBezTo>
                <a:cubicBezTo>
                  <a:pt x="2182" y="5844"/>
                  <a:pt x="2154" y="5911"/>
                  <a:pt x="2108" y="5978"/>
                </a:cubicBezTo>
                <a:cubicBezTo>
                  <a:pt x="2090" y="6005"/>
                  <a:pt x="2018" y="6072"/>
                  <a:pt x="2009" y="6077"/>
                </a:cubicBezTo>
                <a:cubicBezTo>
                  <a:pt x="2001" y="6077"/>
                  <a:pt x="1992" y="6077"/>
                  <a:pt x="1984" y="6077"/>
                </a:cubicBezTo>
                <a:cubicBezTo>
                  <a:pt x="2008" y="6035"/>
                  <a:pt x="2023" y="6030"/>
                  <a:pt x="2059" y="6003"/>
                </a:cubicBezTo>
                <a:cubicBezTo>
                  <a:pt x="2099" y="5973"/>
                  <a:pt x="2109" y="5981"/>
                  <a:pt x="2158" y="5978"/>
                </a:cubicBezTo>
                <a:cubicBezTo>
                  <a:pt x="2216" y="5975"/>
                  <a:pt x="2236" y="6001"/>
                  <a:pt x="2282" y="6028"/>
                </a:cubicBezTo>
                <a:cubicBezTo>
                  <a:pt x="2331" y="6057"/>
                  <a:pt x="2402" y="6099"/>
                  <a:pt x="2431" y="6152"/>
                </a:cubicBezTo>
                <a:cubicBezTo>
                  <a:pt x="2455" y="6196"/>
                  <a:pt x="2453" y="6249"/>
                  <a:pt x="2456" y="6300"/>
                </a:cubicBezTo>
                <a:cubicBezTo>
                  <a:pt x="2460" y="6374"/>
                  <a:pt x="2416" y="6432"/>
                  <a:pt x="2356" y="6474"/>
                </a:cubicBezTo>
                <a:cubicBezTo>
                  <a:pt x="2299" y="6515"/>
                  <a:pt x="2202" y="6560"/>
                  <a:pt x="2133" y="6573"/>
                </a:cubicBezTo>
                <a:cubicBezTo>
                  <a:pt x="2057" y="6587"/>
                  <a:pt x="1991" y="6598"/>
                  <a:pt x="1910" y="6598"/>
                </a:cubicBezTo>
                <a:cubicBezTo>
                  <a:pt x="1853" y="6598"/>
                  <a:pt x="1783" y="6597"/>
                  <a:pt x="1736" y="6573"/>
                </a:cubicBezTo>
                <a:cubicBezTo>
                  <a:pt x="1699" y="6554"/>
                  <a:pt x="1716" y="6530"/>
                  <a:pt x="1712" y="6499"/>
                </a:cubicBezTo>
              </a:path>
              <a:path w="1712" h="1241">
                <a:moveTo>
                  <a:pt x="2704" y="5655"/>
                </a:moveTo>
                <a:cubicBezTo>
                  <a:pt x="2696" y="5663"/>
                  <a:pt x="2687" y="5672"/>
                  <a:pt x="2679" y="5680"/>
                </a:cubicBezTo>
                <a:cubicBezTo>
                  <a:pt x="2690" y="5652"/>
                  <a:pt x="2691" y="5608"/>
                  <a:pt x="2704" y="5581"/>
                </a:cubicBezTo>
                <a:cubicBezTo>
                  <a:pt x="2726" y="5537"/>
                  <a:pt x="2724" y="5498"/>
                  <a:pt x="2753" y="5457"/>
                </a:cubicBezTo>
                <a:cubicBezTo>
                  <a:pt x="2775" y="5427"/>
                  <a:pt x="2815" y="5381"/>
                  <a:pt x="2853" y="5383"/>
                </a:cubicBezTo>
                <a:cubicBezTo>
                  <a:pt x="2888" y="5385"/>
                  <a:pt x="2926" y="5409"/>
                  <a:pt x="2952" y="5432"/>
                </a:cubicBezTo>
                <a:cubicBezTo>
                  <a:pt x="3000" y="5475"/>
                  <a:pt x="3022" y="5549"/>
                  <a:pt x="3051" y="5606"/>
                </a:cubicBezTo>
                <a:cubicBezTo>
                  <a:pt x="3086" y="5676"/>
                  <a:pt x="3098" y="5775"/>
                  <a:pt x="3101" y="5854"/>
                </a:cubicBezTo>
                <a:cubicBezTo>
                  <a:pt x="3105" y="5958"/>
                  <a:pt x="3106" y="6053"/>
                  <a:pt x="3076" y="6152"/>
                </a:cubicBezTo>
                <a:cubicBezTo>
                  <a:pt x="3051" y="6235"/>
                  <a:pt x="3018" y="6363"/>
                  <a:pt x="2952" y="6424"/>
                </a:cubicBezTo>
                <a:cubicBezTo>
                  <a:pt x="2897" y="6475"/>
                  <a:pt x="2850" y="6512"/>
                  <a:pt x="2778" y="6548"/>
                </a:cubicBezTo>
                <a:cubicBezTo>
                  <a:pt x="2726" y="6574"/>
                  <a:pt x="2688" y="6584"/>
                  <a:pt x="2629" y="6548"/>
                </a:cubicBezTo>
                <a:cubicBezTo>
                  <a:pt x="2593" y="6527"/>
                  <a:pt x="2599" y="6477"/>
                  <a:pt x="2580" y="6449"/>
                </a:cubicBezTo>
                <a:cubicBezTo>
                  <a:pt x="2573" y="6438"/>
                  <a:pt x="2538" y="6404"/>
                  <a:pt x="2580" y="6375"/>
                </a:cubicBezTo>
                <a:cubicBezTo>
                  <a:pt x="2612" y="6353"/>
                  <a:pt x="2687" y="6342"/>
                  <a:pt x="2729" y="6350"/>
                </a:cubicBezTo>
                <a:cubicBezTo>
                  <a:pt x="2779" y="6360"/>
                  <a:pt x="2840" y="6391"/>
                  <a:pt x="2877" y="6424"/>
                </a:cubicBezTo>
                <a:cubicBezTo>
                  <a:pt x="2917" y="6460"/>
                  <a:pt x="2965" y="6499"/>
                  <a:pt x="2977" y="6548"/>
                </a:cubicBezTo>
                <a:cubicBezTo>
                  <a:pt x="2988" y="6593"/>
                  <a:pt x="2988" y="6601"/>
                  <a:pt x="3001" y="6623"/>
                </a:cubicBezTo>
              </a:path>
              <a:path w="1712" h="1241">
                <a:moveTo>
                  <a:pt x="3423" y="6474"/>
                </a:moveTo>
                <a:cubicBezTo>
                  <a:pt x="3400" y="6497"/>
                  <a:pt x="3396" y="6505"/>
                  <a:pt x="3373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19160" y="1866960"/>
            <a:ext cx="1054080" cy="517320"/>
          </a:xfrm>
          <a:custGeom>
            <a:avLst/>
            <a:gdLst/>
            <a:ahLst/>
            <a:rect l="l" t="t" r="r" b="b"/>
            <a:pathLst>
              <a:path w="2928" h="1440">
                <a:moveTo>
                  <a:pt x="5804" y="5755"/>
                </a:moveTo>
                <a:cubicBezTo>
                  <a:pt x="5804" y="5795"/>
                  <a:pt x="5825" y="5834"/>
                  <a:pt x="5804" y="5804"/>
                </a:cubicBezTo>
                <a:cubicBezTo>
                  <a:pt x="5793" y="5789"/>
                  <a:pt x="5784" y="5709"/>
                  <a:pt x="5779" y="5705"/>
                </a:cubicBezTo>
                <a:cubicBezTo>
                  <a:pt x="5756" y="5686"/>
                  <a:pt x="5714" y="5680"/>
                  <a:pt x="5680" y="5680"/>
                </a:cubicBezTo>
                <a:cubicBezTo>
                  <a:pt x="5611" y="5680"/>
                  <a:pt x="5604" y="5682"/>
                  <a:pt x="5556" y="5730"/>
                </a:cubicBezTo>
                <a:cubicBezTo>
                  <a:pt x="5511" y="5775"/>
                  <a:pt x="5467" y="5852"/>
                  <a:pt x="5432" y="5904"/>
                </a:cubicBezTo>
                <a:cubicBezTo>
                  <a:pt x="5390" y="5967"/>
                  <a:pt x="5367" y="6057"/>
                  <a:pt x="5358" y="6127"/>
                </a:cubicBezTo>
                <a:cubicBezTo>
                  <a:pt x="5346" y="6225"/>
                  <a:pt x="5332" y="6280"/>
                  <a:pt x="5358" y="6375"/>
                </a:cubicBezTo>
                <a:cubicBezTo>
                  <a:pt x="5380" y="6455"/>
                  <a:pt x="5417" y="6524"/>
                  <a:pt x="5507" y="6548"/>
                </a:cubicBezTo>
                <a:cubicBezTo>
                  <a:pt x="5575" y="6566"/>
                  <a:pt x="5669" y="6549"/>
                  <a:pt x="5730" y="6524"/>
                </a:cubicBezTo>
                <a:cubicBezTo>
                  <a:pt x="5746" y="6516"/>
                  <a:pt x="5763" y="6507"/>
                  <a:pt x="5779" y="6499"/>
                </a:cubicBezTo>
              </a:path>
              <a:path w="2928" h="1440">
                <a:moveTo>
                  <a:pt x="6201" y="5904"/>
                </a:moveTo>
                <a:cubicBezTo>
                  <a:pt x="6178" y="5985"/>
                  <a:pt x="6140" y="6072"/>
                  <a:pt x="6127" y="6152"/>
                </a:cubicBezTo>
                <a:cubicBezTo>
                  <a:pt x="6113" y="6236"/>
                  <a:pt x="6107" y="6400"/>
                  <a:pt x="6152" y="6474"/>
                </a:cubicBezTo>
                <a:cubicBezTo>
                  <a:pt x="6178" y="6518"/>
                  <a:pt x="6228" y="6545"/>
                  <a:pt x="6276" y="6548"/>
                </a:cubicBezTo>
                <a:cubicBezTo>
                  <a:pt x="6368" y="6554"/>
                  <a:pt x="6406" y="6495"/>
                  <a:pt x="6474" y="6449"/>
                </a:cubicBezTo>
                <a:cubicBezTo>
                  <a:pt x="6554" y="6396"/>
                  <a:pt x="6566" y="6336"/>
                  <a:pt x="6598" y="6251"/>
                </a:cubicBezTo>
                <a:cubicBezTo>
                  <a:pt x="6630" y="6166"/>
                  <a:pt x="6622" y="6137"/>
                  <a:pt x="6598" y="6052"/>
                </a:cubicBezTo>
                <a:cubicBezTo>
                  <a:pt x="6569" y="5953"/>
                  <a:pt x="6564" y="5944"/>
                  <a:pt x="6499" y="5879"/>
                </a:cubicBezTo>
                <a:cubicBezTo>
                  <a:pt x="6462" y="5842"/>
                  <a:pt x="6423" y="5854"/>
                  <a:pt x="6375" y="5854"/>
                </a:cubicBezTo>
                <a:cubicBezTo>
                  <a:pt x="6332" y="5854"/>
                  <a:pt x="6334" y="5870"/>
                  <a:pt x="6325" y="5904"/>
                </a:cubicBezTo>
              </a:path>
              <a:path w="2928" h="1440">
                <a:moveTo>
                  <a:pt x="7144" y="5804"/>
                </a:moveTo>
                <a:cubicBezTo>
                  <a:pt x="7092" y="5804"/>
                  <a:pt x="7062" y="5816"/>
                  <a:pt x="7020" y="5829"/>
                </a:cubicBezTo>
                <a:cubicBezTo>
                  <a:pt x="6974" y="5843"/>
                  <a:pt x="6932" y="5847"/>
                  <a:pt x="6896" y="5879"/>
                </a:cubicBezTo>
                <a:cubicBezTo>
                  <a:pt x="6857" y="5914"/>
                  <a:pt x="6864" y="5943"/>
                  <a:pt x="6896" y="5978"/>
                </a:cubicBezTo>
                <a:cubicBezTo>
                  <a:pt x="6935" y="6021"/>
                  <a:pt x="6969" y="6050"/>
                  <a:pt x="7020" y="6077"/>
                </a:cubicBezTo>
                <a:cubicBezTo>
                  <a:pt x="7088" y="6113"/>
                  <a:pt x="7130" y="6134"/>
                  <a:pt x="7169" y="6201"/>
                </a:cubicBezTo>
                <a:cubicBezTo>
                  <a:pt x="7201" y="6255"/>
                  <a:pt x="7194" y="6305"/>
                  <a:pt x="7144" y="6350"/>
                </a:cubicBezTo>
                <a:cubicBezTo>
                  <a:pt x="7098" y="6391"/>
                  <a:pt x="7007" y="6438"/>
                  <a:pt x="6945" y="6449"/>
                </a:cubicBezTo>
                <a:cubicBezTo>
                  <a:pt x="6930" y="6452"/>
                  <a:pt x="6819" y="6438"/>
                  <a:pt x="6821" y="6424"/>
                </a:cubicBezTo>
                <a:cubicBezTo>
                  <a:pt x="6846" y="6400"/>
                  <a:pt x="6855" y="6392"/>
                  <a:pt x="6871" y="6375"/>
                </a:cubicBezTo>
              </a:path>
              <a:path w="2928" h="1440">
                <a:moveTo>
                  <a:pt x="7689" y="6003"/>
                </a:moveTo>
                <a:cubicBezTo>
                  <a:pt x="7661" y="6102"/>
                  <a:pt x="7641" y="6205"/>
                  <a:pt x="7615" y="6300"/>
                </a:cubicBezTo>
                <a:cubicBezTo>
                  <a:pt x="7594" y="6375"/>
                  <a:pt x="7553" y="6448"/>
                  <a:pt x="7541" y="6524"/>
                </a:cubicBezTo>
                <a:cubicBezTo>
                  <a:pt x="7534" y="6565"/>
                  <a:pt x="7503" y="6584"/>
                  <a:pt x="7516" y="6623"/>
                </a:cubicBezTo>
                <a:cubicBezTo>
                  <a:pt x="7524" y="6623"/>
                  <a:pt x="7533" y="6623"/>
                  <a:pt x="7541" y="6623"/>
                </a:cubicBezTo>
                <a:cubicBezTo>
                  <a:pt x="7541" y="6548"/>
                  <a:pt x="7549" y="6472"/>
                  <a:pt x="7565" y="6400"/>
                </a:cubicBezTo>
                <a:cubicBezTo>
                  <a:pt x="7592" y="6283"/>
                  <a:pt x="7636" y="6169"/>
                  <a:pt x="7665" y="6052"/>
                </a:cubicBezTo>
                <a:cubicBezTo>
                  <a:pt x="7712" y="5861"/>
                  <a:pt x="7745" y="5657"/>
                  <a:pt x="7838" y="5482"/>
                </a:cubicBezTo>
                <a:cubicBezTo>
                  <a:pt x="7881" y="5400"/>
                  <a:pt x="7961" y="5305"/>
                  <a:pt x="8037" y="5259"/>
                </a:cubicBezTo>
                <a:cubicBezTo>
                  <a:pt x="8098" y="5222"/>
                  <a:pt x="8155" y="5183"/>
                  <a:pt x="8210" y="5209"/>
                </a:cubicBezTo>
                <a:cubicBezTo>
                  <a:pt x="8256" y="5231"/>
                  <a:pt x="8275" y="5241"/>
                  <a:pt x="8260" y="5308"/>
                </a:cubicBezTo>
                <a:cubicBezTo>
                  <a:pt x="8242" y="5391"/>
                  <a:pt x="8163" y="5517"/>
                  <a:pt x="8111" y="5581"/>
                </a:cubicBezTo>
                <a:cubicBezTo>
                  <a:pt x="8057" y="5648"/>
                  <a:pt x="7988" y="5709"/>
                  <a:pt x="7938" y="5779"/>
                </a:cubicBezTo>
                <a:cubicBezTo>
                  <a:pt x="7924" y="5799"/>
                  <a:pt x="7850" y="5899"/>
                  <a:pt x="7838" y="5904"/>
                </a:cubicBezTo>
                <a:cubicBezTo>
                  <a:pt x="7810" y="5904"/>
                  <a:pt x="7804" y="5902"/>
                  <a:pt x="7838" y="5879"/>
                </a:cubicBezTo>
                <a:cubicBezTo>
                  <a:pt x="7878" y="5839"/>
                  <a:pt x="7923" y="5764"/>
                  <a:pt x="7987" y="5779"/>
                </a:cubicBezTo>
                <a:cubicBezTo>
                  <a:pt x="8049" y="5794"/>
                  <a:pt x="8047" y="5806"/>
                  <a:pt x="8086" y="5854"/>
                </a:cubicBezTo>
                <a:cubicBezTo>
                  <a:pt x="8145" y="5925"/>
                  <a:pt x="8136" y="5947"/>
                  <a:pt x="8161" y="6028"/>
                </a:cubicBezTo>
                <a:cubicBezTo>
                  <a:pt x="8182" y="6099"/>
                  <a:pt x="8186" y="6149"/>
                  <a:pt x="8186" y="6226"/>
                </a:cubicBezTo>
                <a:cubicBezTo>
                  <a:pt x="8186" y="6312"/>
                  <a:pt x="8142" y="6363"/>
                  <a:pt x="8086" y="6424"/>
                </a:cubicBezTo>
                <a:cubicBezTo>
                  <a:pt x="8052" y="6461"/>
                  <a:pt x="7964" y="6515"/>
                  <a:pt x="7913" y="6524"/>
                </a:cubicBezTo>
                <a:cubicBezTo>
                  <a:pt x="7837" y="6537"/>
                  <a:pt x="7674" y="6542"/>
                  <a:pt x="7615" y="6499"/>
                </a:cubicBezTo>
                <a:cubicBezTo>
                  <a:pt x="7570" y="6466"/>
                  <a:pt x="7601" y="6478"/>
                  <a:pt x="7615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8080" y="2232000"/>
            <a:ext cx="97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8855" y="6201"/>
                </a:moveTo>
                <a:cubicBezTo>
                  <a:pt x="8844" y="6234"/>
                  <a:pt x="8819" y="6226"/>
                  <a:pt x="8855" y="62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38360" y="1884240"/>
            <a:ext cx="1214640" cy="554040"/>
          </a:xfrm>
          <a:custGeom>
            <a:avLst/>
            <a:gdLst/>
            <a:ahLst/>
            <a:rect l="l" t="t" r="r" b="b"/>
            <a:pathLst>
              <a:path w="3374" h="1539">
                <a:moveTo>
                  <a:pt x="9922" y="5730"/>
                </a:moveTo>
                <a:cubicBezTo>
                  <a:pt x="9914" y="5762"/>
                  <a:pt x="9909" y="5797"/>
                  <a:pt x="9897" y="5829"/>
                </a:cubicBezTo>
                <a:cubicBezTo>
                  <a:pt x="9866" y="5917"/>
                  <a:pt x="9836" y="6009"/>
                  <a:pt x="9823" y="6102"/>
                </a:cubicBezTo>
                <a:cubicBezTo>
                  <a:pt x="9810" y="6193"/>
                  <a:pt x="9783" y="6284"/>
                  <a:pt x="9773" y="6375"/>
                </a:cubicBezTo>
                <a:cubicBezTo>
                  <a:pt x="9761" y="6479"/>
                  <a:pt x="9771" y="6573"/>
                  <a:pt x="9748" y="6672"/>
                </a:cubicBezTo>
                <a:cubicBezTo>
                  <a:pt x="9734" y="6733"/>
                  <a:pt x="9796" y="6708"/>
                  <a:pt x="9748" y="6772"/>
                </a:cubicBezTo>
                <a:cubicBezTo>
                  <a:pt x="9748" y="6718"/>
                  <a:pt x="9746" y="6700"/>
                  <a:pt x="9723" y="6648"/>
                </a:cubicBezTo>
              </a:path>
              <a:path w="3374" h="1539">
                <a:moveTo>
                  <a:pt x="9550" y="6102"/>
                </a:moveTo>
                <a:cubicBezTo>
                  <a:pt x="9748" y="6102"/>
                  <a:pt x="9947" y="6102"/>
                  <a:pt x="10145" y="6102"/>
                </a:cubicBezTo>
              </a:path>
              <a:path w="3374" h="1539">
                <a:moveTo>
                  <a:pt x="10765" y="6152"/>
                </a:moveTo>
                <a:cubicBezTo>
                  <a:pt x="10790" y="6176"/>
                  <a:pt x="10799" y="6184"/>
                  <a:pt x="10815" y="6201"/>
                </a:cubicBezTo>
                <a:cubicBezTo>
                  <a:pt x="10776" y="6188"/>
                  <a:pt x="10788" y="6162"/>
                  <a:pt x="10765" y="6127"/>
                </a:cubicBezTo>
                <a:cubicBezTo>
                  <a:pt x="10741" y="6092"/>
                  <a:pt x="10711" y="6067"/>
                  <a:pt x="10691" y="6052"/>
                </a:cubicBezTo>
                <a:cubicBezTo>
                  <a:pt x="10642" y="6016"/>
                  <a:pt x="10619" y="6038"/>
                  <a:pt x="10567" y="6077"/>
                </a:cubicBezTo>
                <a:cubicBezTo>
                  <a:pt x="10528" y="6107"/>
                  <a:pt x="10456" y="6178"/>
                  <a:pt x="10443" y="6226"/>
                </a:cubicBezTo>
                <a:cubicBezTo>
                  <a:pt x="10423" y="6300"/>
                  <a:pt x="10393" y="6370"/>
                  <a:pt x="10393" y="6449"/>
                </a:cubicBezTo>
                <a:cubicBezTo>
                  <a:pt x="10393" y="6495"/>
                  <a:pt x="10391" y="6518"/>
                  <a:pt x="10443" y="6524"/>
                </a:cubicBezTo>
                <a:cubicBezTo>
                  <a:pt x="10516" y="6532"/>
                  <a:pt x="10574" y="6480"/>
                  <a:pt x="10616" y="6424"/>
                </a:cubicBezTo>
                <a:cubicBezTo>
                  <a:pt x="10656" y="6371"/>
                  <a:pt x="10666" y="6326"/>
                  <a:pt x="10691" y="6276"/>
                </a:cubicBezTo>
                <a:cubicBezTo>
                  <a:pt x="10708" y="6243"/>
                  <a:pt x="10715" y="6235"/>
                  <a:pt x="10740" y="6226"/>
                </a:cubicBezTo>
                <a:cubicBezTo>
                  <a:pt x="10740" y="6313"/>
                  <a:pt x="10730" y="6395"/>
                  <a:pt x="10765" y="6474"/>
                </a:cubicBezTo>
                <a:cubicBezTo>
                  <a:pt x="10791" y="6532"/>
                  <a:pt x="10814" y="6551"/>
                  <a:pt x="10864" y="6573"/>
                </a:cubicBezTo>
                <a:cubicBezTo>
                  <a:pt x="10925" y="6599"/>
                  <a:pt x="10965" y="6590"/>
                  <a:pt x="11013" y="6548"/>
                </a:cubicBezTo>
                <a:cubicBezTo>
                  <a:pt x="11058" y="6509"/>
                  <a:pt x="11078" y="6470"/>
                  <a:pt x="11112" y="6424"/>
                </a:cubicBezTo>
                <a:cubicBezTo>
                  <a:pt x="11120" y="6416"/>
                  <a:pt x="11129" y="6408"/>
                  <a:pt x="11137" y="6400"/>
                </a:cubicBezTo>
              </a:path>
              <a:path w="3374" h="1539">
                <a:moveTo>
                  <a:pt x="11212" y="6201"/>
                </a:moveTo>
                <a:cubicBezTo>
                  <a:pt x="11204" y="6233"/>
                  <a:pt x="11198" y="6268"/>
                  <a:pt x="11187" y="6300"/>
                </a:cubicBezTo>
                <a:cubicBezTo>
                  <a:pt x="11169" y="6350"/>
                  <a:pt x="11144" y="6421"/>
                  <a:pt x="11137" y="6474"/>
                </a:cubicBezTo>
                <a:cubicBezTo>
                  <a:pt x="11129" y="6534"/>
                  <a:pt x="11112" y="6588"/>
                  <a:pt x="11112" y="6648"/>
                </a:cubicBezTo>
                <a:cubicBezTo>
                  <a:pt x="11112" y="6601"/>
                  <a:pt x="11129" y="6585"/>
                  <a:pt x="11137" y="6548"/>
                </a:cubicBezTo>
                <a:cubicBezTo>
                  <a:pt x="11151" y="6485"/>
                  <a:pt x="11159" y="6434"/>
                  <a:pt x="11187" y="6375"/>
                </a:cubicBezTo>
                <a:cubicBezTo>
                  <a:pt x="11212" y="6323"/>
                  <a:pt x="11244" y="6214"/>
                  <a:pt x="11286" y="6176"/>
                </a:cubicBezTo>
                <a:cubicBezTo>
                  <a:pt x="11290" y="6172"/>
                  <a:pt x="11433" y="6077"/>
                  <a:pt x="11435" y="6077"/>
                </a:cubicBezTo>
                <a:cubicBezTo>
                  <a:pt x="11521" y="6082"/>
                  <a:pt x="11571" y="6104"/>
                  <a:pt x="11609" y="6176"/>
                </a:cubicBezTo>
                <a:cubicBezTo>
                  <a:pt x="11648" y="6252"/>
                  <a:pt x="11637" y="6301"/>
                  <a:pt x="11658" y="6375"/>
                </a:cubicBezTo>
                <a:cubicBezTo>
                  <a:pt x="11680" y="6454"/>
                  <a:pt x="11683" y="6512"/>
                  <a:pt x="11683" y="6598"/>
                </a:cubicBezTo>
                <a:cubicBezTo>
                  <a:pt x="11683" y="6655"/>
                  <a:pt x="11643" y="6653"/>
                  <a:pt x="11658" y="6623"/>
                </a:cubicBezTo>
                <a:cubicBezTo>
                  <a:pt x="11666" y="6615"/>
                  <a:pt x="11675" y="6606"/>
                  <a:pt x="11683" y="6598"/>
                </a:cubicBezTo>
              </a:path>
              <a:path w="3374" h="1539">
                <a:moveTo>
                  <a:pt x="12353" y="5854"/>
                </a:moveTo>
                <a:cubicBezTo>
                  <a:pt x="12353" y="5927"/>
                  <a:pt x="12347" y="6009"/>
                  <a:pt x="12328" y="6077"/>
                </a:cubicBezTo>
                <a:cubicBezTo>
                  <a:pt x="12297" y="6184"/>
                  <a:pt x="12259" y="6291"/>
                  <a:pt x="12229" y="6400"/>
                </a:cubicBezTo>
                <a:cubicBezTo>
                  <a:pt x="12213" y="6457"/>
                  <a:pt x="12182" y="6549"/>
                  <a:pt x="12154" y="6598"/>
                </a:cubicBezTo>
                <a:cubicBezTo>
                  <a:pt x="12140" y="6623"/>
                  <a:pt x="12149" y="6603"/>
                  <a:pt x="12129" y="6623"/>
                </a:cubicBezTo>
                <a:cubicBezTo>
                  <a:pt x="12167" y="6559"/>
                  <a:pt x="12158" y="6497"/>
                  <a:pt x="12179" y="6424"/>
                </a:cubicBezTo>
                <a:cubicBezTo>
                  <a:pt x="12207" y="6327"/>
                  <a:pt x="12207" y="6226"/>
                  <a:pt x="12229" y="6127"/>
                </a:cubicBezTo>
                <a:cubicBezTo>
                  <a:pt x="12253" y="6020"/>
                  <a:pt x="12258" y="5911"/>
                  <a:pt x="12278" y="5804"/>
                </a:cubicBezTo>
                <a:cubicBezTo>
                  <a:pt x="12295" y="5713"/>
                  <a:pt x="12328" y="5561"/>
                  <a:pt x="12378" y="5482"/>
                </a:cubicBezTo>
                <a:cubicBezTo>
                  <a:pt x="12428" y="5403"/>
                  <a:pt x="12465" y="5330"/>
                  <a:pt x="12551" y="5283"/>
                </a:cubicBezTo>
                <a:cubicBezTo>
                  <a:pt x="12619" y="5246"/>
                  <a:pt x="12694" y="5213"/>
                  <a:pt x="12774" y="5234"/>
                </a:cubicBezTo>
                <a:cubicBezTo>
                  <a:pt x="12868" y="5259"/>
                  <a:pt x="12902" y="5275"/>
                  <a:pt x="12923" y="5383"/>
                </a:cubicBezTo>
                <a:cubicBezTo>
                  <a:pt x="12936" y="5450"/>
                  <a:pt x="12878" y="5524"/>
                  <a:pt x="12849" y="5581"/>
                </a:cubicBezTo>
                <a:cubicBezTo>
                  <a:pt x="12805" y="5669"/>
                  <a:pt x="12723" y="5678"/>
                  <a:pt x="12650" y="5730"/>
                </a:cubicBezTo>
                <a:cubicBezTo>
                  <a:pt x="12595" y="5769"/>
                  <a:pt x="12527" y="5809"/>
                  <a:pt x="12477" y="5854"/>
                </a:cubicBezTo>
                <a:cubicBezTo>
                  <a:pt x="12469" y="5862"/>
                  <a:pt x="12460" y="5871"/>
                  <a:pt x="12452" y="5879"/>
                </a:cubicBezTo>
                <a:cubicBezTo>
                  <a:pt x="12485" y="5863"/>
                  <a:pt x="12466" y="5860"/>
                  <a:pt x="12502" y="5854"/>
                </a:cubicBezTo>
                <a:cubicBezTo>
                  <a:pt x="12555" y="5846"/>
                  <a:pt x="12587" y="5850"/>
                  <a:pt x="12626" y="5879"/>
                </a:cubicBezTo>
                <a:cubicBezTo>
                  <a:pt x="12685" y="5923"/>
                  <a:pt x="12740" y="5990"/>
                  <a:pt x="12774" y="6052"/>
                </a:cubicBezTo>
                <a:cubicBezTo>
                  <a:pt x="12812" y="6121"/>
                  <a:pt x="12799" y="6198"/>
                  <a:pt x="12799" y="6276"/>
                </a:cubicBezTo>
                <a:cubicBezTo>
                  <a:pt x="12799" y="6386"/>
                  <a:pt x="12739" y="6449"/>
                  <a:pt x="12650" y="6499"/>
                </a:cubicBezTo>
                <a:cubicBezTo>
                  <a:pt x="12581" y="6538"/>
                  <a:pt x="12480" y="6583"/>
                  <a:pt x="12402" y="6598"/>
                </a:cubicBezTo>
                <a:cubicBezTo>
                  <a:pt x="12370" y="6604"/>
                  <a:pt x="12140" y="6581"/>
                  <a:pt x="12154" y="6573"/>
                </a:cubicBezTo>
                <a:cubicBezTo>
                  <a:pt x="12213" y="6537"/>
                  <a:pt x="12180" y="6579"/>
                  <a:pt x="12154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5800" y="3106800"/>
            <a:ext cx="3902040" cy="804960"/>
          </a:xfrm>
          <a:custGeom>
            <a:avLst/>
            <a:gdLst/>
            <a:ahLst/>
            <a:rect l="l" t="t" r="r" b="b"/>
            <a:pathLst>
              <a:path w="10840" h="2233">
                <a:moveTo>
                  <a:pt x="6598" y="9550"/>
                </a:moveTo>
                <a:cubicBezTo>
                  <a:pt x="6563" y="9538"/>
                  <a:pt x="6581" y="9533"/>
                  <a:pt x="6573" y="9500"/>
                </a:cubicBezTo>
                <a:cubicBezTo>
                  <a:pt x="6565" y="9469"/>
                  <a:pt x="6553" y="9460"/>
                  <a:pt x="6524" y="9451"/>
                </a:cubicBezTo>
                <a:cubicBezTo>
                  <a:pt x="6470" y="9434"/>
                  <a:pt x="6368" y="9461"/>
                  <a:pt x="6325" y="9475"/>
                </a:cubicBezTo>
                <a:cubicBezTo>
                  <a:pt x="6216" y="9511"/>
                  <a:pt x="6149" y="9596"/>
                  <a:pt x="6077" y="9674"/>
                </a:cubicBezTo>
                <a:cubicBezTo>
                  <a:pt x="6017" y="9739"/>
                  <a:pt x="5921" y="9833"/>
                  <a:pt x="5904" y="9922"/>
                </a:cubicBezTo>
                <a:cubicBezTo>
                  <a:pt x="5891" y="9990"/>
                  <a:pt x="5912" y="10088"/>
                  <a:pt x="5928" y="10120"/>
                </a:cubicBezTo>
                <a:cubicBezTo>
                  <a:pt x="5977" y="10218"/>
                  <a:pt x="6073" y="10217"/>
                  <a:pt x="6176" y="10220"/>
                </a:cubicBezTo>
                <a:cubicBezTo>
                  <a:pt x="6303" y="10224"/>
                  <a:pt x="6382" y="10258"/>
                  <a:pt x="6499" y="10269"/>
                </a:cubicBezTo>
                <a:cubicBezTo>
                  <a:pt x="6564" y="10275"/>
                  <a:pt x="6632" y="10269"/>
                  <a:pt x="6697" y="10269"/>
                </a:cubicBezTo>
              </a:path>
              <a:path w="10840" h="2233">
                <a:moveTo>
                  <a:pt x="7293" y="9599"/>
                </a:moveTo>
                <a:cubicBezTo>
                  <a:pt x="7204" y="9644"/>
                  <a:pt x="7137" y="9709"/>
                  <a:pt x="7119" y="9823"/>
                </a:cubicBezTo>
                <a:cubicBezTo>
                  <a:pt x="7099" y="9951"/>
                  <a:pt x="7113" y="10062"/>
                  <a:pt x="7169" y="10145"/>
                </a:cubicBezTo>
                <a:cubicBezTo>
                  <a:pt x="7211" y="10207"/>
                  <a:pt x="7290" y="10262"/>
                  <a:pt x="7367" y="10269"/>
                </a:cubicBezTo>
                <a:cubicBezTo>
                  <a:pt x="7401" y="10272"/>
                  <a:pt x="7548" y="10219"/>
                  <a:pt x="7565" y="10195"/>
                </a:cubicBezTo>
                <a:cubicBezTo>
                  <a:pt x="7641" y="10088"/>
                  <a:pt x="7709" y="9954"/>
                  <a:pt x="7714" y="9823"/>
                </a:cubicBezTo>
                <a:cubicBezTo>
                  <a:pt x="7718" y="9717"/>
                  <a:pt x="7665" y="9678"/>
                  <a:pt x="7565" y="9674"/>
                </a:cubicBezTo>
                <a:cubicBezTo>
                  <a:pt x="7438" y="9668"/>
                  <a:pt x="7378" y="9688"/>
                  <a:pt x="7268" y="9748"/>
                </a:cubicBezTo>
                <a:cubicBezTo>
                  <a:pt x="7251" y="9756"/>
                  <a:pt x="7235" y="9765"/>
                  <a:pt x="7218" y="9773"/>
                </a:cubicBezTo>
              </a:path>
              <a:path w="10840" h="2233">
                <a:moveTo>
                  <a:pt x="8186" y="9451"/>
                </a:moveTo>
                <a:cubicBezTo>
                  <a:pt x="8040" y="9509"/>
                  <a:pt x="7957" y="9516"/>
                  <a:pt x="7938" y="9674"/>
                </a:cubicBezTo>
                <a:cubicBezTo>
                  <a:pt x="7925" y="9776"/>
                  <a:pt x="8030" y="9804"/>
                  <a:pt x="8086" y="9847"/>
                </a:cubicBezTo>
                <a:cubicBezTo>
                  <a:pt x="8182" y="9920"/>
                  <a:pt x="8246" y="9995"/>
                  <a:pt x="8359" y="10046"/>
                </a:cubicBezTo>
                <a:cubicBezTo>
                  <a:pt x="8449" y="10086"/>
                  <a:pt x="8485" y="10111"/>
                  <a:pt x="8533" y="10195"/>
                </a:cubicBezTo>
                <a:cubicBezTo>
                  <a:pt x="8444" y="10283"/>
                  <a:pt x="8401" y="10251"/>
                  <a:pt x="8285" y="10294"/>
                </a:cubicBezTo>
                <a:cubicBezTo>
                  <a:pt x="8178" y="10334"/>
                  <a:pt x="8100" y="10361"/>
                  <a:pt x="7987" y="10368"/>
                </a:cubicBezTo>
                <a:cubicBezTo>
                  <a:pt x="7959" y="10368"/>
                  <a:pt x="7949" y="10366"/>
                  <a:pt x="7938" y="10344"/>
                </a:cubicBezTo>
              </a:path>
              <a:path w="10840" h="2233">
                <a:moveTo>
                  <a:pt x="8954" y="9500"/>
                </a:moveTo>
                <a:cubicBezTo>
                  <a:pt x="8926" y="9784"/>
                  <a:pt x="8905" y="10010"/>
                  <a:pt x="8930" y="10294"/>
                </a:cubicBezTo>
              </a:path>
              <a:path w="10840" h="2233">
                <a:moveTo>
                  <a:pt x="8657" y="9153"/>
                </a:moveTo>
                <a:cubicBezTo>
                  <a:pt x="8905" y="9079"/>
                  <a:pt x="9051" y="9029"/>
                  <a:pt x="9302" y="9029"/>
                </a:cubicBezTo>
                <a:cubicBezTo>
                  <a:pt x="9446" y="9029"/>
                  <a:pt x="9539" y="9068"/>
                  <a:pt x="9674" y="9079"/>
                </a:cubicBezTo>
                <a:cubicBezTo>
                  <a:pt x="9764" y="9086"/>
                  <a:pt x="9734" y="9113"/>
                  <a:pt x="9773" y="9178"/>
                </a:cubicBezTo>
                <a:cubicBezTo>
                  <a:pt x="9670" y="9246"/>
                  <a:pt x="9545" y="9235"/>
                  <a:pt x="9426" y="9302"/>
                </a:cubicBezTo>
                <a:cubicBezTo>
                  <a:pt x="9284" y="9382"/>
                  <a:pt x="9155" y="9405"/>
                  <a:pt x="9004" y="9451"/>
                </a:cubicBezTo>
                <a:cubicBezTo>
                  <a:pt x="8964" y="9463"/>
                  <a:pt x="8917" y="9486"/>
                  <a:pt x="8880" y="9500"/>
                </a:cubicBezTo>
                <a:cubicBezTo>
                  <a:pt x="8912" y="9538"/>
                  <a:pt x="8892" y="9544"/>
                  <a:pt x="8954" y="9550"/>
                </a:cubicBezTo>
                <a:cubicBezTo>
                  <a:pt x="9086" y="9562"/>
                  <a:pt x="9198" y="9591"/>
                  <a:pt x="9327" y="9599"/>
                </a:cubicBezTo>
                <a:cubicBezTo>
                  <a:pt x="9455" y="9607"/>
                  <a:pt x="9578" y="9646"/>
                  <a:pt x="9699" y="9674"/>
                </a:cubicBezTo>
                <a:cubicBezTo>
                  <a:pt x="9799" y="9697"/>
                  <a:pt x="9914" y="9788"/>
                  <a:pt x="9971" y="9847"/>
                </a:cubicBezTo>
                <a:cubicBezTo>
                  <a:pt x="9979" y="9864"/>
                  <a:pt x="9988" y="9880"/>
                  <a:pt x="9996" y="9897"/>
                </a:cubicBezTo>
                <a:cubicBezTo>
                  <a:pt x="9906" y="9905"/>
                  <a:pt x="9861" y="9955"/>
                  <a:pt x="9773" y="9971"/>
                </a:cubicBezTo>
                <a:cubicBezTo>
                  <a:pt x="9546" y="10011"/>
                  <a:pt x="9387" y="10051"/>
                  <a:pt x="9178" y="10145"/>
                </a:cubicBezTo>
                <a:cubicBezTo>
                  <a:pt x="9095" y="10187"/>
                  <a:pt x="9079" y="10195"/>
                  <a:pt x="9029" y="10220"/>
                </a:cubicBezTo>
              </a:path>
              <a:path w="10840" h="2233">
                <a:moveTo>
                  <a:pt x="12427" y="9153"/>
                </a:moveTo>
                <a:cubicBezTo>
                  <a:pt x="12334" y="9165"/>
                  <a:pt x="12265" y="9204"/>
                  <a:pt x="12179" y="9227"/>
                </a:cubicBezTo>
                <a:cubicBezTo>
                  <a:pt x="12132" y="9239"/>
                  <a:pt x="12065" y="9217"/>
                  <a:pt x="12030" y="9252"/>
                </a:cubicBezTo>
                <a:cubicBezTo>
                  <a:pt x="11973" y="9309"/>
                  <a:pt x="12017" y="9350"/>
                  <a:pt x="12055" y="9376"/>
                </a:cubicBezTo>
                <a:cubicBezTo>
                  <a:pt x="12098" y="9406"/>
                  <a:pt x="12177" y="9445"/>
                  <a:pt x="12229" y="9451"/>
                </a:cubicBezTo>
                <a:cubicBezTo>
                  <a:pt x="12328" y="9462"/>
                  <a:pt x="12416" y="9498"/>
                  <a:pt x="12502" y="9550"/>
                </a:cubicBezTo>
                <a:cubicBezTo>
                  <a:pt x="12528" y="9566"/>
                  <a:pt x="12693" y="9666"/>
                  <a:pt x="12700" y="9674"/>
                </a:cubicBezTo>
                <a:cubicBezTo>
                  <a:pt x="12747" y="9734"/>
                  <a:pt x="12723" y="9794"/>
                  <a:pt x="12700" y="9823"/>
                </a:cubicBezTo>
                <a:cubicBezTo>
                  <a:pt x="12674" y="9855"/>
                  <a:pt x="12560" y="9894"/>
                  <a:pt x="12526" y="9897"/>
                </a:cubicBezTo>
                <a:cubicBezTo>
                  <a:pt x="12427" y="9906"/>
                  <a:pt x="12359" y="9951"/>
                  <a:pt x="12278" y="9971"/>
                </a:cubicBezTo>
                <a:cubicBezTo>
                  <a:pt x="12205" y="9989"/>
                  <a:pt x="12102" y="9984"/>
                  <a:pt x="12030" y="9996"/>
                </a:cubicBezTo>
                <a:cubicBezTo>
                  <a:pt x="11991" y="10002"/>
                  <a:pt x="11949" y="10055"/>
                  <a:pt x="11931" y="10046"/>
                </a:cubicBezTo>
                <a:cubicBezTo>
                  <a:pt x="11931" y="10004"/>
                  <a:pt x="11931" y="9996"/>
                  <a:pt x="11931" y="9971"/>
                </a:cubicBezTo>
              </a:path>
              <a:path w="10840" h="2233">
                <a:moveTo>
                  <a:pt x="13171" y="9178"/>
                </a:moveTo>
                <a:cubicBezTo>
                  <a:pt x="13171" y="9257"/>
                  <a:pt x="13155" y="9325"/>
                  <a:pt x="13146" y="9401"/>
                </a:cubicBezTo>
                <a:cubicBezTo>
                  <a:pt x="13133" y="9516"/>
                  <a:pt x="13141" y="9639"/>
                  <a:pt x="13171" y="9748"/>
                </a:cubicBezTo>
              </a:path>
              <a:path w="10840" h="2233">
                <a:moveTo>
                  <a:pt x="13022" y="8806"/>
                </a:moveTo>
                <a:cubicBezTo>
                  <a:pt x="12957" y="8806"/>
                  <a:pt x="13029" y="8846"/>
                  <a:pt x="13047" y="8855"/>
                </a:cubicBezTo>
              </a:path>
              <a:path w="10840" h="2233">
                <a:moveTo>
                  <a:pt x="13345" y="9252"/>
                </a:moveTo>
                <a:cubicBezTo>
                  <a:pt x="13345" y="9340"/>
                  <a:pt x="13336" y="9419"/>
                  <a:pt x="13370" y="9500"/>
                </a:cubicBezTo>
                <a:cubicBezTo>
                  <a:pt x="13395" y="9560"/>
                  <a:pt x="13418" y="9616"/>
                  <a:pt x="13444" y="9674"/>
                </a:cubicBezTo>
                <a:cubicBezTo>
                  <a:pt x="13466" y="9599"/>
                  <a:pt x="13466" y="9526"/>
                  <a:pt x="13494" y="9451"/>
                </a:cubicBezTo>
                <a:cubicBezTo>
                  <a:pt x="13526" y="9365"/>
                  <a:pt x="13551" y="9259"/>
                  <a:pt x="13593" y="9178"/>
                </a:cubicBezTo>
                <a:cubicBezTo>
                  <a:pt x="13629" y="9108"/>
                  <a:pt x="13679" y="9060"/>
                  <a:pt x="13742" y="9029"/>
                </a:cubicBezTo>
                <a:cubicBezTo>
                  <a:pt x="13841" y="8981"/>
                  <a:pt x="13853" y="9034"/>
                  <a:pt x="13915" y="9079"/>
                </a:cubicBezTo>
                <a:cubicBezTo>
                  <a:pt x="14006" y="9145"/>
                  <a:pt x="13998" y="9220"/>
                  <a:pt x="14015" y="9327"/>
                </a:cubicBezTo>
                <a:cubicBezTo>
                  <a:pt x="14034" y="9448"/>
                  <a:pt x="14039" y="9551"/>
                  <a:pt x="14039" y="9674"/>
                </a:cubicBezTo>
                <a:cubicBezTo>
                  <a:pt x="14039" y="9753"/>
                  <a:pt x="14063" y="9821"/>
                  <a:pt x="14089" y="9897"/>
                </a:cubicBezTo>
                <a:cubicBezTo>
                  <a:pt x="14112" y="9965"/>
                  <a:pt x="14095" y="9952"/>
                  <a:pt x="14163" y="9971"/>
                </a:cubicBezTo>
              </a:path>
              <a:path w="10840" h="2233">
                <a:moveTo>
                  <a:pt x="14585" y="8930"/>
                </a:moveTo>
                <a:cubicBezTo>
                  <a:pt x="14593" y="8905"/>
                  <a:pt x="14602" y="8880"/>
                  <a:pt x="14610" y="8855"/>
                </a:cubicBezTo>
                <a:cubicBezTo>
                  <a:pt x="14621" y="8912"/>
                  <a:pt x="14653" y="8969"/>
                  <a:pt x="14660" y="9029"/>
                </a:cubicBezTo>
                <a:cubicBezTo>
                  <a:pt x="14677" y="9173"/>
                  <a:pt x="14680" y="9330"/>
                  <a:pt x="14684" y="9475"/>
                </a:cubicBezTo>
                <a:cubicBezTo>
                  <a:pt x="14686" y="9537"/>
                  <a:pt x="14651" y="9698"/>
                  <a:pt x="14709" y="9748"/>
                </a:cubicBezTo>
                <a:cubicBezTo>
                  <a:pt x="14717" y="9748"/>
                  <a:pt x="14726" y="9748"/>
                  <a:pt x="14734" y="9748"/>
                </a:cubicBezTo>
              </a:path>
              <a:path w="10840" h="2233">
                <a:moveTo>
                  <a:pt x="14312" y="8855"/>
                </a:moveTo>
                <a:cubicBezTo>
                  <a:pt x="14304" y="8814"/>
                  <a:pt x="14296" y="8772"/>
                  <a:pt x="14288" y="8731"/>
                </a:cubicBezTo>
                <a:cubicBezTo>
                  <a:pt x="14340" y="8711"/>
                  <a:pt x="14385" y="8677"/>
                  <a:pt x="14436" y="8657"/>
                </a:cubicBezTo>
                <a:cubicBezTo>
                  <a:pt x="14551" y="8612"/>
                  <a:pt x="14687" y="8632"/>
                  <a:pt x="14808" y="8632"/>
                </a:cubicBezTo>
                <a:cubicBezTo>
                  <a:pt x="14934" y="8632"/>
                  <a:pt x="15193" y="8582"/>
                  <a:pt x="15304" y="8657"/>
                </a:cubicBezTo>
                <a:cubicBezTo>
                  <a:pt x="15324" y="8697"/>
                  <a:pt x="15323" y="8713"/>
                  <a:pt x="15354" y="8706"/>
                </a:cubicBezTo>
                <a:cubicBezTo>
                  <a:pt x="15300" y="8731"/>
                  <a:pt x="15197" y="8755"/>
                  <a:pt x="15156" y="8781"/>
                </a:cubicBezTo>
                <a:cubicBezTo>
                  <a:pt x="15052" y="8848"/>
                  <a:pt x="14954" y="8877"/>
                  <a:pt x="14833" y="8930"/>
                </a:cubicBezTo>
                <a:cubicBezTo>
                  <a:pt x="14779" y="8954"/>
                  <a:pt x="14729" y="8978"/>
                  <a:pt x="14684" y="9004"/>
                </a:cubicBezTo>
                <a:cubicBezTo>
                  <a:pt x="14725" y="9004"/>
                  <a:pt x="14719" y="8996"/>
                  <a:pt x="14759" y="9004"/>
                </a:cubicBezTo>
                <a:cubicBezTo>
                  <a:pt x="14854" y="9024"/>
                  <a:pt x="14945" y="9060"/>
                  <a:pt x="15032" y="9079"/>
                </a:cubicBezTo>
                <a:cubicBezTo>
                  <a:pt x="15140" y="9103"/>
                  <a:pt x="15184" y="9115"/>
                  <a:pt x="15280" y="9153"/>
                </a:cubicBezTo>
                <a:cubicBezTo>
                  <a:pt x="15331" y="9153"/>
                  <a:pt x="15350" y="9154"/>
                  <a:pt x="15379" y="9178"/>
                </a:cubicBezTo>
                <a:cubicBezTo>
                  <a:pt x="15347" y="9215"/>
                  <a:pt x="15240" y="9288"/>
                  <a:pt x="15180" y="9302"/>
                </a:cubicBezTo>
                <a:cubicBezTo>
                  <a:pt x="15048" y="9332"/>
                  <a:pt x="14937" y="9342"/>
                  <a:pt x="14808" y="9401"/>
                </a:cubicBezTo>
                <a:cubicBezTo>
                  <a:pt x="14716" y="9448"/>
                  <a:pt x="14689" y="9460"/>
                  <a:pt x="14635" y="9500"/>
                </a:cubicBezTo>
              </a:path>
              <a:path w="10840" h="2233">
                <a:moveTo>
                  <a:pt x="11336" y="10864"/>
                </a:moveTo>
                <a:cubicBezTo>
                  <a:pt x="11371" y="10825"/>
                  <a:pt x="11373" y="10797"/>
                  <a:pt x="11435" y="10765"/>
                </a:cubicBezTo>
                <a:cubicBezTo>
                  <a:pt x="11624" y="10669"/>
                  <a:pt x="11807" y="10619"/>
                  <a:pt x="12005" y="10567"/>
                </a:cubicBezTo>
                <a:cubicBezTo>
                  <a:pt x="12197" y="10517"/>
                  <a:pt x="12384" y="10483"/>
                  <a:pt x="12576" y="10443"/>
                </a:cubicBezTo>
                <a:cubicBezTo>
                  <a:pt x="12806" y="10395"/>
                  <a:pt x="13039" y="10393"/>
                  <a:pt x="13271" y="10344"/>
                </a:cubicBezTo>
                <a:cubicBezTo>
                  <a:pt x="13558" y="10283"/>
                  <a:pt x="13845" y="10273"/>
                  <a:pt x="14139" y="10269"/>
                </a:cubicBezTo>
                <a:cubicBezTo>
                  <a:pt x="14458" y="10265"/>
                  <a:pt x="14790" y="10245"/>
                  <a:pt x="15106" y="10294"/>
                </a:cubicBezTo>
                <a:cubicBezTo>
                  <a:pt x="15408" y="10341"/>
                  <a:pt x="15732" y="10349"/>
                  <a:pt x="16024" y="10418"/>
                </a:cubicBezTo>
                <a:cubicBezTo>
                  <a:pt x="16223" y="10465"/>
                  <a:pt x="16479" y="10513"/>
                  <a:pt x="16669" y="10592"/>
                </a:cubicBezTo>
                <a:cubicBezTo>
                  <a:pt x="16694" y="10608"/>
                  <a:pt x="16718" y="10625"/>
                  <a:pt x="16743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7840" y="3268800"/>
            <a:ext cx="3179520" cy="1303200"/>
          </a:xfrm>
          <a:custGeom>
            <a:avLst/>
            <a:gdLst/>
            <a:ahLst/>
            <a:rect l="l" t="t" r="r" b="b"/>
            <a:pathLst>
              <a:path w="8831" h="3622">
                <a:moveTo>
                  <a:pt x="12378" y="11237"/>
                </a:moveTo>
                <a:cubicBezTo>
                  <a:pt x="12257" y="11288"/>
                  <a:pt x="12117" y="11329"/>
                  <a:pt x="12030" y="11435"/>
                </a:cubicBezTo>
                <a:cubicBezTo>
                  <a:pt x="11963" y="11516"/>
                  <a:pt x="11925" y="11589"/>
                  <a:pt x="11881" y="11683"/>
                </a:cubicBezTo>
                <a:cubicBezTo>
                  <a:pt x="11854" y="11741"/>
                  <a:pt x="11836" y="11806"/>
                  <a:pt x="11881" y="11857"/>
                </a:cubicBezTo>
                <a:cubicBezTo>
                  <a:pt x="11966" y="11955"/>
                  <a:pt x="11996" y="11919"/>
                  <a:pt x="12105" y="11906"/>
                </a:cubicBezTo>
                <a:cubicBezTo>
                  <a:pt x="12211" y="11894"/>
                  <a:pt x="12298" y="11861"/>
                  <a:pt x="12402" y="11832"/>
                </a:cubicBezTo>
                <a:cubicBezTo>
                  <a:pt x="12534" y="11795"/>
                  <a:pt x="12627" y="11715"/>
                  <a:pt x="12750" y="11658"/>
                </a:cubicBezTo>
                <a:cubicBezTo>
                  <a:pt x="12775" y="11650"/>
                  <a:pt x="12799" y="11641"/>
                  <a:pt x="12824" y="11633"/>
                </a:cubicBezTo>
              </a:path>
              <a:path w="8831" h="3622">
                <a:moveTo>
                  <a:pt x="13494" y="11013"/>
                </a:moveTo>
                <a:cubicBezTo>
                  <a:pt x="13446" y="10942"/>
                  <a:pt x="13443" y="10967"/>
                  <a:pt x="13370" y="11013"/>
                </a:cubicBezTo>
                <a:cubicBezTo>
                  <a:pt x="13284" y="11068"/>
                  <a:pt x="13189" y="11142"/>
                  <a:pt x="13146" y="11237"/>
                </a:cubicBezTo>
                <a:cubicBezTo>
                  <a:pt x="13112" y="11312"/>
                  <a:pt x="13072" y="11390"/>
                  <a:pt x="13122" y="11460"/>
                </a:cubicBezTo>
                <a:cubicBezTo>
                  <a:pt x="13156" y="11508"/>
                  <a:pt x="13268" y="11485"/>
                  <a:pt x="13320" y="11485"/>
                </a:cubicBezTo>
                <a:cubicBezTo>
                  <a:pt x="13413" y="11485"/>
                  <a:pt x="13496" y="11443"/>
                  <a:pt x="13568" y="11385"/>
                </a:cubicBezTo>
                <a:cubicBezTo>
                  <a:pt x="13610" y="11351"/>
                  <a:pt x="13703" y="11261"/>
                  <a:pt x="13717" y="11212"/>
                </a:cubicBezTo>
                <a:cubicBezTo>
                  <a:pt x="13737" y="11144"/>
                  <a:pt x="13710" y="11107"/>
                  <a:pt x="13667" y="11063"/>
                </a:cubicBezTo>
                <a:cubicBezTo>
                  <a:pt x="13620" y="11015"/>
                  <a:pt x="13505" y="11049"/>
                  <a:pt x="13444" y="11063"/>
                </a:cubicBezTo>
                <a:cubicBezTo>
                  <a:pt x="13356" y="11083"/>
                  <a:pt x="13274" y="11145"/>
                  <a:pt x="13196" y="11187"/>
                </a:cubicBezTo>
              </a:path>
              <a:path w="8831" h="3622">
                <a:moveTo>
                  <a:pt x="14139" y="10840"/>
                </a:moveTo>
                <a:cubicBezTo>
                  <a:pt x="14059" y="10884"/>
                  <a:pt x="13981" y="10925"/>
                  <a:pt x="13915" y="10988"/>
                </a:cubicBezTo>
                <a:cubicBezTo>
                  <a:pt x="13871" y="11030"/>
                  <a:pt x="13818" y="11068"/>
                  <a:pt x="13841" y="11137"/>
                </a:cubicBezTo>
                <a:cubicBezTo>
                  <a:pt x="13871" y="11228"/>
                  <a:pt x="13923" y="11255"/>
                  <a:pt x="13990" y="11311"/>
                </a:cubicBezTo>
                <a:cubicBezTo>
                  <a:pt x="14061" y="11371"/>
                  <a:pt x="14215" y="11489"/>
                  <a:pt x="14238" y="11584"/>
                </a:cubicBezTo>
                <a:cubicBezTo>
                  <a:pt x="14259" y="11672"/>
                  <a:pt x="14219" y="11723"/>
                  <a:pt x="14163" y="11782"/>
                </a:cubicBezTo>
                <a:cubicBezTo>
                  <a:pt x="14106" y="11843"/>
                  <a:pt x="14019" y="11875"/>
                  <a:pt x="13940" y="11906"/>
                </a:cubicBezTo>
                <a:cubicBezTo>
                  <a:pt x="13867" y="11931"/>
                  <a:pt x="13843" y="11939"/>
                  <a:pt x="13791" y="11931"/>
                </a:cubicBezTo>
              </a:path>
              <a:path w="8831" h="3622">
                <a:moveTo>
                  <a:pt x="14932" y="10840"/>
                </a:moveTo>
                <a:cubicBezTo>
                  <a:pt x="14932" y="10972"/>
                  <a:pt x="14926" y="11107"/>
                  <a:pt x="14908" y="11237"/>
                </a:cubicBezTo>
                <a:cubicBezTo>
                  <a:pt x="14886" y="11395"/>
                  <a:pt x="14844" y="11549"/>
                  <a:pt x="14833" y="11708"/>
                </a:cubicBezTo>
              </a:path>
              <a:path w="8831" h="3622">
                <a:moveTo>
                  <a:pt x="14436" y="10716"/>
                </a:moveTo>
                <a:cubicBezTo>
                  <a:pt x="14635" y="10589"/>
                  <a:pt x="14683" y="10567"/>
                  <a:pt x="14908" y="10567"/>
                </a:cubicBezTo>
                <a:cubicBezTo>
                  <a:pt x="15065" y="10567"/>
                  <a:pt x="15159" y="10613"/>
                  <a:pt x="15304" y="10641"/>
                </a:cubicBezTo>
                <a:cubicBezTo>
                  <a:pt x="15384" y="10656"/>
                  <a:pt x="15510" y="10673"/>
                  <a:pt x="15577" y="10740"/>
                </a:cubicBezTo>
                <a:cubicBezTo>
                  <a:pt x="15616" y="10779"/>
                  <a:pt x="15586" y="10773"/>
                  <a:pt x="15602" y="10815"/>
                </a:cubicBezTo>
                <a:cubicBezTo>
                  <a:pt x="15526" y="10853"/>
                  <a:pt x="15460" y="10856"/>
                  <a:pt x="15379" y="10889"/>
                </a:cubicBezTo>
                <a:cubicBezTo>
                  <a:pt x="15223" y="10953"/>
                  <a:pt x="15062" y="10994"/>
                  <a:pt x="14908" y="11063"/>
                </a:cubicBezTo>
                <a:cubicBezTo>
                  <a:pt x="14717" y="11149"/>
                  <a:pt x="14853" y="11087"/>
                  <a:pt x="14808" y="11187"/>
                </a:cubicBezTo>
                <a:cubicBezTo>
                  <a:pt x="14871" y="11215"/>
                  <a:pt x="14936" y="11222"/>
                  <a:pt x="15007" y="11237"/>
                </a:cubicBezTo>
                <a:cubicBezTo>
                  <a:pt x="15131" y="11264"/>
                  <a:pt x="15237" y="11321"/>
                  <a:pt x="15354" y="11361"/>
                </a:cubicBezTo>
                <a:cubicBezTo>
                  <a:pt x="15468" y="11400"/>
                  <a:pt x="15601" y="11441"/>
                  <a:pt x="15701" y="11509"/>
                </a:cubicBezTo>
                <a:cubicBezTo>
                  <a:pt x="15756" y="11546"/>
                  <a:pt x="15832" y="11614"/>
                  <a:pt x="15825" y="11683"/>
                </a:cubicBezTo>
                <a:cubicBezTo>
                  <a:pt x="15816" y="11776"/>
                  <a:pt x="15700" y="11846"/>
                  <a:pt x="15627" y="11881"/>
                </a:cubicBezTo>
                <a:cubicBezTo>
                  <a:pt x="15457" y="11964"/>
                  <a:pt x="15290" y="11999"/>
                  <a:pt x="15106" y="12030"/>
                </a:cubicBezTo>
                <a:cubicBezTo>
                  <a:pt x="15056" y="12038"/>
                  <a:pt x="15007" y="12047"/>
                  <a:pt x="14957" y="12055"/>
                </a:cubicBezTo>
              </a:path>
              <a:path w="8831" h="3622">
                <a:moveTo>
                  <a:pt x="12675" y="10815"/>
                </a:moveTo>
                <a:cubicBezTo>
                  <a:pt x="12792" y="10822"/>
                  <a:pt x="12912" y="10813"/>
                  <a:pt x="13022" y="10864"/>
                </a:cubicBezTo>
                <a:cubicBezTo>
                  <a:pt x="13200" y="10947"/>
                  <a:pt x="13375" y="11080"/>
                  <a:pt x="13519" y="11212"/>
                </a:cubicBezTo>
                <a:cubicBezTo>
                  <a:pt x="13705" y="11382"/>
                  <a:pt x="13886" y="11555"/>
                  <a:pt x="14064" y="11733"/>
                </a:cubicBezTo>
                <a:cubicBezTo>
                  <a:pt x="14272" y="11940"/>
                  <a:pt x="14460" y="12142"/>
                  <a:pt x="14635" y="12378"/>
                </a:cubicBezTo>
                <a:cubicBezTo>
                  <a:pt x="14755" y="12546"/>
                  <a:pt x="14793" y="12599"/>
                  <a:pt x="14883" y="12700"/>
                </a:cubicBezTo>
              </a:path>
              <a:path w="8831" h="3622">
                <a:moveTo>
                  <a:pt x="6995" y="9079"/>
                </a:moveTo>
                <a:cubicBezTo>
                  <a:pt x="7087" y="9130"/>
                  <a:pt x="7138" y="9179"/>
                  <a:pt x="7243" y="9252"/>
                </a:cubicBezTo>
                <a:cubicBezTo>
                  <a:pt x="7364" y="9336"/>
                  <a:pt x="7466" y="9443"/>
                  <a:pt x="7590" y="9525"/>
                </a:cubicBezTo>
                <a:cubicBezTo>
                  <a:pt x="7749" y="9629"/>
                  <a:pt x="7939" y="9727"/>
                  <a:pt x="8086" y="9847"/>
                </a:cubicBezTo>
                <a:cubicBezTo>
                  <a:pt x="8269" y="9997"/>
                  <a:pt x="8448" y="10080"/>
                  <a:pt x="8657" y="10195"/>
                </a:cubicBezTo>
                <a:cubicBezTo>
                  <a:pt x="8852" y="10302"/>
                  <a:pt x="9016" y="10449"/>
                  <a:pt x="9203" y="10567"/>
                </a:cubicBezTo>
                <a:cubicBezTo>
                  <a:pt x="9386" y="10682"/>
                  <a:pt x="9548" y="10778"/>
                  <a:pt x="9748" y="10864"/>
                </a:cubicBezTo>
                <a:cubicBezTo>
                  <a:pt x="9911" y="10930"/>
                  <a:pt x="9992" y="10958"/>
                  <a:pt x="10120" y="109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53040" y="3911760"/>
            <a:ext cx="2616120" cy="1795320"/>
          </a:xfrm>
          <a:custGeom>
            <a:avLst/>
            <a:gdLst/>
            <a:ahLst/>
            <a:rect l="l" t="t" r="r" b="b"/>
            <a:pathLst>
              <a:path w="7269" h="4987">
                <a:moveTo>
                  <a:pt x="14337" y="14263"/>
                </a:moveTo>
                <a:cubicBezTo>
                  <a:pt x="14337" y="14263"/>
                  <a:pt x="14302" y="14329"/>
                  <a:pt x="14362" y="14288"/>
                </a:cubicBezTo>
                <a:cubicBezTo>
                  <a:pt x="14416" y="14251"/>
                  <a:pt x="14429" y="14191"/>
                  <a:pt x="14461" y="14139"/>
                </a:cubicBezTo>
                <a:cubicBezTo>
                  <a:pt x="14536" y="14018"/>
                  <a:pt x="14553" y="13906"/>
                  <a:pt x="14585" y="13767"/>
                </a:cubicBezTo>
                <a:cubicBezTo>
                  <a:pt x="14617" y="13629"/>
                  <a:pt x="14663" y="13442"/>
                  <a:pt x="14734" y="13320"/>
                </a:cubicBezTo>
                <a:cubicBezTo>
                  <a:pt x="14782" y="13238"/>
                  <a:pt x="14842" y="13182"/>
                  <a:pt x="14908" y="13122"/>
                </a:cubicBezTo>
                <a:cubicBezTo>
                  <a:pt x="14926" y="13177"/>
                  <a:pt x="14939" y="13229"/>
                  <a:pt x="14932" y="13295"/>
                </a:cubicBezTo>
                <a:cubicBezTo>
                  <a:pt x="14916" y="13451"/>
                  <a:pt x="14892" y="13607"/>
                  <a:pt x="14908" y="13767"/>
                </a:cubicBezTo>
                <a:cubicBezTo>
                  <a:pt x="14928" y="13964"/>
                  <a:pt x="14968" y="14163"/>
                  <a:pt x="14982" y="14362"/>
                </a:cubicBezTo>
                <a:cubicBezTo>
                  <a:pt x="15001" y="14625"/>
                  <a:pt x="15022" y="14893"/>
                  <a:pt x="15056" y="15156"/>
                </a:cubicBezTo>
                <a:cubicBezTo>
                  <a:pt x="15075" y="15307"/>
                  <a:pt x="15081" y="15449"/>
                  <a:pt x="15081" y="15602"/>
                </a:cubicBezTo>
                <a:cubicBezTo>
                  <a:pt x="15081" y="15689"/>
                  <a:pt x="15050" y="15747"/>
                  <a:pt x="15032" y="15825"/>
                </a:cubicBezTo>
                <a:cubicBezTo>
                  <a:pt x="15032" y="15833"/>
                  <a:pt x="15032" y="15842"/>
                  <a:pt x="15032" y="15850"/>
                </a:cubicBezTo>
                <a:cubicBezTo>
                  <a:pt x="15017" y="15800"/>
                  <a:pt x="15019" y="15758"/>
                  <a:pt x="15007" y="15701"/>
                </a:cubicBezTo>
                <a:cubicBezTo>
                  <a:pt x="14979" y="15568"/>
                  <a:pt x="14982" y="15442"/>
                  <a:pt x="14982" y="15304"/>
                </a:cubicBezTo>
                <a:cubicBezTo>
                  <a:pt x="14982" y="15064"/>
                  <a:pt x="14977" y="14820"/>
                  <a:pt x="15032" y="14585"/>
                </a:cubicBezTo>
                <a:cubicBezTo>
                  <a:pt x="15077" y="14392"/>
                  <a:pt x="15112" y="14176"/>
                  <a:pt x="15180" y="13990"/>
                </a:cubicBezTo>
                <a:cubicBezTo>
                  <a:pt x="15218" y="13885"/>
                  <a:pt x="15296" y="13808"/>
                  <a:pt x="15354" y="13717"/>
                </a:cubicBezTo>
                <a:cubicBezTo>
                  <a:pt x="15371" y="13691"/>
                  <a:pt x="15424" y="13643"/>
                  <a:pt x="15379" y="13643"/>
                </a:cubicBezTo>
                <a:cubicBezTo>
                  <a:pt x="15356" y="13643"/>
                  <a:pt x="15327" y="13667"/>
                  <a:pt x="15329" y="13692"/>
                </a:cubicBezTo>
                <a:cubicBezTo>
                  <a:pt x="15329" y="13717"/>
                  <a:pt x="15329" y="13725"/>
                  <a:pt x="15354" y="13717"/>
                </a:cubicBezTo>
              </a:path>
              <a:path w="7269" h="4987">
                <a:moveTo>
                  <a:pt x="15329" y="13643"/>
                </a:moveTo>
                <a:cubicBezTo>
                  <a:pt x="15321" y="13668"/>
                  <a:pt x="15312" y="13692"/>
                  <a:pt x="15304" y="13717"/>
                </a:cubicBezTo>
              </a:path>
              <a:path w="7269" h="4987">
                <a:moveTo>
                  <a:pt x="15280" y="14015"/>
                </a:moveTo>
                <a:cubicBezTo>
                  <a:pt x="15280" y="13884"/>
                  <a:pt x="15290" y="13787"/>
                  <a:pt x="15304" y="13667"/>
                </a:cubicBezTo>
                <a:cubicBezTo>
                  <a:pt x="15312" y="13604"/>
                  <a:pt x="15298" y="13705"/>
                  <a:pt x="15304" y="13717"/>
                </a:cubicBezTo>
                <a:cubicBezTo>
                  <a:pt x="15312" y="13725"/>
                  <a:pt x="15321" y="13734"/>
                  <a:pt x="15329" y="13742"/>
                </a:cubicBezTo>
                <a:cubicBezTo>
                  <a:pt x="15366" y="13715"/>
                  <a:pt x="15379" y="13709"/>
                  <a:pt x="15404" y="13667"/>
                </a:cubicBezTo>
                <a:cubicBezTo>
                  <a:pt x="15439" y="13608"/>
                  <a:pt x="15460" y="13547"/>
                  <a:pt x="15503" y="13494"/>
                </a:cubicBezTo>
                <a:cubicBezTo>
                  <a:pt x="15528" y="13469"/>
                  <a:pt x="15536" y="13461"/>
                  <a:pt x="15553" y="13444"/>
                </a:cubicBezTo>
                <a:cubicBezTo>
                  <a:pt x="15568" y="13464"/>
                  <a:pt x="15588" y="13478"/>
                  <a:pt x="15602" y="13519"/>
                </a:cubicBezTo>
                <a:cubicBezTo>
                  <a:pt x="15602" y="13527"/>
                  <a:pt x="15602" y="13535"/>
                  <a:pt x="15602" y="13543"/>
                </a:cubicBezTo>
                <a:cubicBezTo>
                  <a:pt x="15648" y="13533"/>
                  <a:pt x="15687" y="13535"/>
                  <a:pt x="15726" y="13494"/>
                </a:cubicBezTo>
                <a:cubicBezTo>
                  <a:pt x="15760" y="13458"/>
                  <a:pt x="15781" y="13410"/>
                  <a:pt x="15801" y="13370"/>
                </a:cubicBezTo>
                <a:cubicBezTo>
                  <a:pt x="15823" y="13347"/>
                  <a:pt x="15831" y="13342"/>
                  <a:pt x="15825" y="13320"/>
                </a:cubicBezTo>
                <a:cubicBezTo>
                  <a:pt x="15830" y="13330"/>
                  <a:pt x="15873" y="13418"/>
                  <a:pt x="15875" y="13419"/>
                </a:cubicBezTo>
                <a:cubicBezTo>
                  <a:pt x="15913" y="13441"/>
                  <a:pt x="15954" y="13395"/>
                  <a:pt x="15974" y="13370"/>
                </a:cubicBezTo>
                <a:cubicBezTo>
                  <a:pt x="16014" y="13320"/>
                  <a:pt x="16010" y="13307"/>
                  <a:pt x="16049" y="13271"/>
                </a:cubicBezTo>
                <a:cubicBezTo>
                  <a:pt x="16061" y="13260"/>
                  <a:pt x="16107" y="13247"/>
                  <a:pt x="16123" y="13221"/>
                </a:cubicBezTo>
                <a:cubicBezTo>
                  <a:pt x="16152" y="13175"/>
                  <a:pt x="16171" y="13127"/>
                  <a:pt x="16197" y="13072"/>
                </a:cubicBezTo>
                <a:cubicBezTo>
                  <a:pt x="16219" y="13026"/>
                  <a:pt x="16226" y="12995"/>
                  <a:pt x="16247" y="12948"/>
                </a:cubicBezTo>
                <a:cubicBezTo>
                  <a:pt x="16283" y="12962"/>
                  <a:pt x="16277" y="12993"/>
                  <a:pt x="16321" y="12948"/>
                </a:cubicBezTo>
                <a:cubicBezTo>
                  <a:pt x="16353" y="12916"/>
                  <a:pt x="16365" y="12899"/>
                  <a:pt x="16396" y="12874"/>
                </a:cubicBezTo>
                <a:cubicBezTo>
                  <a:pt x="16409" y="12864"/>
                  <a:pt x="16433" y="12837"/>
                  <a:pt x="16446" y="12824"/>
                </a:cubicBezTo>
                <a:cubicBezTo>
                  <a:pt x="16474" y="12846"/>
                  <a:pt x="16535" y="12876"/>
                  <a:pt x="16545" y="12923"/>
                </a:cubicBezTo>
                <a:cubicBezTo>
                  <a:pt x="16570" y="13037"/>
                  <a:pt x="16568" y="13155"/>
                  <a:pt x="16594" y="13271"/>
                </a:cubicBezTo>
                <a:cubicBezTo>
                  <a:pt x="16632" y="13443"/>
                  <a:pt x="16661" y="13617"/>
                  <a:pt x="16694" y="13791"/>
                </a:cubicBezTo>
              </a:path>
              <a:path w="7269" h="4987">
                <a:moveTo>
                  <a:pt x="16619" y="14734"/>
                </a:moveTo>
                <a:cubicBezTo>
                  <a:pt x="16558" y="14842"/>
                  <a:pt x="16560" y="14825"/>
                  <a:pt x="16495" y="14883"/>
                </a:cubicBezTo>
                <a:cubicBezTo>
                  <a:pt x="16452" y="14827"/>
                  <a:pt x="16418" y="14779"/>
                  <a:pt x="16396" y="14709"/>
                </a:cubicBezTo>
                <a:cubicBezTo>
                  <a:pt x="16354" y="14575"/>
                  <a:pt x="16357" y="14401"/>
                  <a:pt x="16371" y="14263"/>
                </a:cubicBezTo>
                <a:cubicBezTo>
                  <a:pt x="16390" y="14070"/>
                  <a:pt x="16439" y="13876"/>
                  <a:pt x="16495" y="13692"/>
                </a:cubicBezTo>
                <a:cubicBezTo>
                  <a:pt x="16579" y="13415"/>
                  <a:pt x="16664" y="13190"/>
                  <a:pt x="16818" y="12948"/>
                </a:cubicBezTo>
                <a:cubicBezTo>
                  <a:pt x="16885" y="12858"/>
                  <a:pt x="16900" y="12832"/>
                  <a:pt x="16966" y="12799"/>
                </a:cubicBezTo>
              </a:path>
              <a:path w="7269" h="4987">
                <a:moveTo>
                  <a:pt x="17190" y="11981"/>
                </a:moveTo>
                <a:cubicBezTo>
                  <a:pt x="17157" y="12169"/>
                  <a:pt x="17136" y="12336"/>
                  <a:pt x="17165" y="12526"/>
                </a:cubicBezTo>
                <a:cubicBezTo>
                  <a:pt x="17188" y="12677"/>
                  <a:pt x="17281" y="12969"/>
                  <a:pt x="17289" y="13146"/>
                </a:cubicBezTo>
                <a:cubicBezTo>
                  <a:pt x="17290" y="13171"/>
                  <a:pt x="17263" y="13171"/>
                  <a:pt x="17264" y="13196"/>
                </a:cubicBezTo>
                <a:cubicBezTo>
                  <a:pt x="17238" y="13130"/>
                  <a:pt x="17218" y="13044"/>
                  <a:pt x="17190" y="12973"/>
                </a:cubicBezTo>
                <a:cubicBezTo>
                  <a:pt x="17118" y="12790"/>
                  <a:pt x="17070" y="12624"/>
                  <a:pt x="17041" y="12427"/>
                </a:cubicBezTo>
                <a:cubicBezTo>
                  <a:pt x="17022" y="12293"/>
                  <a:pt x="17001" y="12165"/>
                  <a:pt x="16991" y="12030"/>
                </a:cubicBezTo>
                <a:cubicBezTo>
                  <a:pt x="16981" y="11882"/>
                  <a:pt x="17027" y="11726"/>
                  <a:pt x="17066" y="11584"/>
                </a:cubicBezTo>
                <a:cubicBezTo>
                  <a:pt x="17110" y="11426"/>
                  <a:pt x="17207" y="11306"/>
                  <a:pt x="17314" y="11187"/>
                </a:cubicBezTo>
                <a:cubicBezTo>
                  <a:pt x="17407" y="11083"/>
                  <a:pt x="17514" y="10984"/>
                  <a:pt x="17636" y="10914"/>
                </a:cubicBezTo>
                <a:cubicBezTo>
                  <a:pt x="17693" y="10882"/>
                  <a:pt x="17754" y="10883"/>
                  <a:pt x="17810" y="10864"/>
                </a:cubicBezTo>
                <a:cubicBezTo>
                  <a:pt x="17806" y="10923"/>
                  <a:pt x="17848" y="10960"/>
                  <a:pt x="17810" y="11063"/>
                </a:cubicBezTo>
                <a:cubicBezTo>
                  <a:pt x="17708" y="11341"/>
                  <a:pt x="17529" y="11584"/>
                  <a:pt x="17413" y="11857"/>
                </a:cubicBezTo>
                <a:cubicBezTo>
                  <a:pt x="17359" y="11983"/>
                  <a:pt x="17274" y="12122"/>
                  <a:pt x="17264" y="12254"/>
                </a:cubicBezTo>
                <a:cubicBezTo>
                  <a:pt x="17261" y="12287"/>
                  <a:pt x="17290" y="12295"/>
                  <a:pt x="17289" y="12328"/>
                </a:cubicBezTo>
                <a:cubicBezTo>
                  <a:pt x="17349" y="12253"/>
                  <a:pt x="17381" y="12182"/>
                  <a:pt x="17438" y="12105"/>
                </a:cubicBezTo>
                <a:cubicBezTo>
                  <a:pt x="17483" y="12044"/>
                  <a:pt x="17587" y="11889"/>
                  <a:pt x="17661" y="11857"/>
                </a:cubicBezTo>
                <a:cubicBezTo>
                  <a:pt x="17726" y="11829"/>
                  <a:pt x="17749" y="11839"/>
                  <a:pt x="17785" y="11881"/>
                </a:cubicBezTo>
                <a:cubicBezTo>
                  <a:pt x="17833" y="11937"/>
                  <a:pt x="17801" y="12014"/>
                  <a:pt x="17810" y="12080"/>
                </a:cubicBezTo>
                <a:cubicBezTo>
                  <a:pt x="17818" y="12088"/>
                  <a:pt x="17827" y="12097"/>
                  <a:pt x="17835" y="12105"/>
                </a:cubicBezTo>
                <a:cubicBezTo>
                  <a:pt x="17901" y="12078"/>
                  <a:pt x="17928" y="12102"/>
                  <a:pt x="17983" y="12030"/>
                </a:cubicBezTo>
                <a:cubicBezTo>
                  <a:pt x="18019" y="11983"/>
                  <a:pt x="17994" y="11946"/>
                  <a:pt x="18058" y="11931"/>
                </a:cubicBezTo>
                <a:cubicBezTo>
                  <a:pt x="18096" y="11922"/>
                  <a:pt x="18113" y="11979"/>
                  <a:pt x="18157" y="11956"/>
                </a:cubicBezTo>
                <a:cubicBezTo>
                  <a:pt x="18254" y="11905"/>
                  <a:pt x="18344" y="11763"/>
                  <a:pt x="18405" y="11733"/>
                </a:cubicBezTo>
                <a:cubicBezTo>
                  <a:pt x="18444" y="11714"/>
                  <a:pt x="18483" y="11708"/>
                  <a:pt x="18529" y="11683"/>
                </a:cubicBezTo>
                <a:cubicBezTo>
                  <a:pt x="18590" y="11650"/>
                  <a:pt x="18668" y="11619"/>
                  <a:pt x="18728" y="11584"/>
                </a:cubicBezTo>
                <a:cubicBezTo>
                  <a:pt x="18850" y="11513"/>
                  <a:pt x="18968" y="11436"/>
                  <a:pt x="19100" y="11385"/>
                </a:cubicBezTo>
                <a:cubicBezTo>
                  <a:pt x="19504" y="11231"/>
                  <a:pt x="20002" y="11088"/>
                  <a:pt x="20439" y="11088"/>
                </a:cubicBezTo>
                <a:cubicBezTo>
                  <a:pt x="20827" y="11088"/>
                  <a:pt x="21207" y="11170"/>
                  <a:pt x="21580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3760" y="2857680"/>
            <a:ext cx="2179440" cy="920520"/>
          </a:xfrm>
          <a:custGeom>
            <a:avLst/>
            <a:gdLst/>
            <a:ahLst/>
            <a:rect l="l" t="t" r="r" b="b"/>
            <a:pathLst>
              <a:path w="6053" h="2555">
                <a:moveTo>
                  <a:pt x="13767" y="8086"/>
                </a:moveTo>
                <a:cubicBezTo>
                  <a:pt x="13459" y="7981"/>
                  <a:pt x="13204" y="7916"/>
                  <a:pt x="12874" y="7962"/>
                </a:cubicBezTo>
                <a:cubicBezTo>
                  <a:pt x="12512" y="8013"/>
                  <a:pt x="12184" y="8122"/>
                  <a:pt x="11857" y="8285"/>
                </a:cubicBezTo>
                <a:cubicBezTo>
                  <a:pt x="11352" y="8537"/>
                  <a:pt x="10881" y="8873"/>
                  <a:pt x="10641" y="9401"/>
                </a:cubicBezTo>
                <a:cubicBezTo>
                  <a:pt x="10464" y="9791"/>
                  <a:pt x="10600" y="10074"/>
                  <a:pt x="10939" y="10294"/>
                </a:cubicBezTo>
                <a:cubicBezTo>
                  <a:pt x="11145" y="10428"/>
                  <a:pt x="11469" y="10474"/>
                  <a:pt x="11708" y="10492"/>
                </a:cubicBezTo>
                <a:cubicBezTo>
                  <a:pt x="12098" y="10522"/>
                  <a:pt x="12505" y="10428"/>
                  <a:pt x="12898" y="10418"/>
                </a:cubicBezTo>
                <a:cubicBezTo>
                  <a:pt x="13377" y="10406"/>
                  <a:pt x="13838" y="10305"/>
                  <a:pt x="14312" y="10269"/>
                </a:cubicBezTo>
                <a:cubicBezTo>
                  <a:pt x="14709" y="10239"/>
                  <a:pt x="15093" y="10237"/>
                  <a:pt x="15478" y="10120"/>
                </a:cubicBezTo>
                <a:cubicBezTo>
                  <a:pt x="15739" y="10041"/>
                  <a:pt x="16220" y="9929"/>
                  <a:pt x="16421" y="9699"/>
                </a:cubicBezTo>
                <a:cubicBezTo>
                  <a:pt x="16538" y="9565"/>
                  <a:pt x="16613" y="9408"/>
                  <a:pt x="16619" y="9227"/>
                </a:cubicBezTo>
                <a:cubicBezTo>
                  <a:pt x="16627" y="9010"/>
                  <a:pt x="16485" y="8806"/>
                  <a:pt x="16346" y="8657"/>
                </a:cubicBezTo>
                <a:cubicBezTo>
                  <a:pt x="16093" y="8385"/>
                  <a:pt x="15831" y="8206"/>
                  <a:pt x="15478" y="8086"/>
                </a:cubicBezTo>
                <a:cubicBezTo>
                  <a:pt x="14607" y="7789"/>
                  <a:pt x="13623" y="7946"/>
                  <a:pt x="12799" y="8310"/>
                </a:cubicBezTo>
                <a:cubicBezTo>
                  <a:pt x="12326" y="8518"/>
                  <a:pt x="11840" y="8931"/>
                  <a:pt x="11509" y="9327"/>
                </a:cubicBezTo>
                <a:cubicBezTo>
                  <a:pt x="11426" y="9443"/>
                  <a:pt x="11344" y="9558"/>
                  <a:pt x="11261" y="96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2200" y="1758960"/>
            <a:ext cx="374760" cy="349200"/>
          </a:xfrm>
          <a:custGeom>
            <a:avLst/>
            <a:gdLst/>
            <a:ahLst/>
            <a:rect l="l" t="t" r="r" b="b"/>
            <a:pathLst>
              <a:path w="1043" h="968">
                <a:moveTo>
                  <a:pt x="967" y="5085"/>
                </a:moveTo>
                <a:cubicBezTo>
                  <a:pt x="941" y="5072"/>
                  <a:pt x="962" y="5045"/>
                  <a:pt x="992" y="5011"/>
                </a:cubicBezTo>
                <a:cubicBezTo>
                  <a:pt x="1036" y="4962"/>
                  <a:pt x="1064" y="4971"/>
                  <a:pt x="1116" y="4936"/>
                </a:cubicBezTo>
                <a:cubicBezTo>
                  <a:pt x="1184" y="4890"/>
                  <a:pt x="1194" y="4923"/>
                  <a:pt x="1265" y="4936"/>
                </a:cubicBezTo>
                <a:cubicBezTo>
                  <a:pt x="1332" y="4948"/>
                  <a:pt x="1350" y="4967"/>
                  <a:pt x="1364" y="5035"/>
                </a:cubicBezTo>
                <a:cubicBezTo>
                  <a:pt x="1379" y="5111"/>
                  <a:pt x="1323" y="5194"/>
                  <a:pt x="1290" y="5259"/>
                </a:cubicBezTo>
                <a:cubicBezTo>
                  <a:pt x="1259" y="5320"/>
                  <a:pt x="1215" y="5359"/>
                  <a:pt x="1166" y="5407"/>
                </a:cubicBezTo>
                <a:cubicBezTo>
                  <a:pt x="1129" y="5443"/>
                  <a:pt x="1156" y="5444"/>
                  <a:pt x="1116" y="5457"/>
                </a:cubicBezTo>
                <a:cubicBezTo>
                  <a:pt x="1147" y="5434"/>
                  <a:pt x="1177" y="5411"/>
                  <a:pt x="1215" y="5407"/>
                </a:cubicBezTo>
                <a:cubicBezTo>
                  <a:pt x="1263" y="5402"/>
                  <a:pt x="1301" y="5428"/>
                  <a:pt x="1339" y="5457"/>
                </a:cubicBezTo>
                <a:cubicBezTo>
                  <a:pt x="1393" y="5498"/>
                  <a:pt x="1410" y="5541"/>
                  <a:pt x="1414" y="5606"/>
                </a:cubicBezTo>
                <a:cubicBezTo>
                  <a:pt x="1418" y="5675"/>
                  <a:pt x="1372" y="5722"/>
                  <a:pt x="1315" y="5755"/>
                </a:cubicBezTo>
                <a:cubicBezTo>
                  <a:pt x="1240" y="5798"/>
                  <a:pt x="1152" y="5849"/>
                  <a:pt x="1067" y="5854"/>
                </a:cubicBezTo>
                <a:cubicBezTo>
                  <a:pt x="995" y="5858"/>
                  <a:pt x="952" y="5846"/>
                  <a:pt x="918" y="5829"/>
                </a:cubicBezTo>
                <a:cubicBezTo>
                  <a:pt x="892" y="5816"/>
                  <a:pt x="910" y="5812"/>
                  <a:pt x="918" y="5755"/>
                </a:cubicBezTo>
              </a:path>
              <a:path w="1043" h="968">
                <a:moveTo>
                  <a:pt x="1563" y="5159"/>
                </a:moveTo>
                <a:cubicBezTo>
                  <a:pt x="1553" y="5199"/>
                  <a:pt x="1526" y="5222"/>
                  <a:pt x="1513" y="5259"/>
                </a:cubicBezTo>
                <a:cubicBezTo>
                  <a:pt x="1506" y="5280"/>
                  <a:pt x="1497" y="5374"/>
                  <a:pt x="1488" y="5383"/>
                </a:cubicBezTo>
                <a:cubicBezTo>
                  <a:pt x="1463" y="5383"/>
                  <a:pt x="1455" y="5383"/>
                  <a:pt x="1463" y="5407"/>
                </a:cubicBezTo>
                <a:cubicBezTo>
                  <a:pt x="1494" y="5438"/>
                  <a:pt x="1537" y="5496"/>
                  <a:pt x="1588" y="5482"/>
                </a:cubicBezTo>
                <a:cubicBezTo>
                  <a:pt x="1619" y="5474"/>
                  <a:pt x="1689" y="5448"/>
                  <a:pt x="1712" y="5432"/>
                </a:cubicBezTo>
                <a:cubicBezTo>
                  <a:pt x="1738" y="5414"/>
                  <a:pt x="1763" y="5380"/>
                  <a:pt x="1786" y="5358"/>
                </a:cubicBezTo>
              </a:path>
              <a:path w="1043" h="968">
                <a:moveTo>
                  <a:pt x="1786" y="4887"/>
                </a:moveTo>
                <a:cubicBezTo>
                  <a:pt x="1786" y="5048"/>
                  <a:pt x="1779" y="5202"/>
                  <a:pt x="1761" y="5358"/>
                </a:cubicBezTo>
                <a:cubicBezTo>
                  <a:pt x="1747" y="5486"/>
                  <a:pt x="1767" y="5607"/>
                  <a:pt x="1736" y="5730"/>
                </a:cubicBezTo>
                <a:cubicBezTo>
                  <a:pt x="1727" y="5765"/>
                  <a:pt x="1756" y="5807"/>
                  <a:pt x="1712" y="5829"/>
                </a:cubicBezTo>
                <a:cubicBezTo>
                  <a:pt x="1704" y="5829"/>
                  <a:pt x="1695" y="5829"/>
                  <a:pt x="1687" y="5829"/>
                </a:cubicBezTo>
              </a:path>
              <a:path w="1043" h="968">
                <a:moveTo>
                  <a:pt x="1935" y="5779"/>
                </a:moveTo>
                <a:lnTo>
                  <a:pt x="1935" y="577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7920" y="1490760"/>
            <a:ext cx="3502080" cy="706320"/>
          </a:xfrm>
          <a:custGeom>
            <a:avLst/>
            <a:gdLst/>
            <a:ahLst/>
            <a:rect l="l" t="t" r="r" b="b"/>
            <a:pathLst>
              <a:path w="9725" h="1961">
                <a:moveTo>
                  <a:pt x="3746" y="4961"/>
                </a:moveTo>
                <a:cubicBezTo>
                  <a:pt x="3746" y="4969"/>
                  <a:pt x="3746" y="4978"/>
                  <a:pt x="3746" y="4986"/>
                </a:cubicBezTo>
                <a:cubicBezTo>
                  <a:pt x="3722" y="4978"/>
                  <a:pt x="3699" y="4977"/>
                  <a:pt x="3671" y="4961"/>
                </a:cubicBezTo>
                <a:cubicBezTo>
                  <a:pt x="3610" y="4927"/>
                  <a:pt x="3587" y="4943"/>
                  <a:pt x="3522" y="4961"/>
                </a:cubicBezTo>
                <a:cubicBezTo>
                  <a:pt x="3467" y="4976"/>
                  <a:pt x="3417" y="4995"/>
                  <a:pt x="3373" y="5035"/>
                </a:cubicBezTo>
                <a:cubicBezTo>
                  <a:pt x="3324" y="5080"/>
                  <a:pt x="3324" y="5094"/>
                  <a:pt x="3324" y="5159"/>
                </a:cubicBezTo>
                <a:cubicBezTo>
                  <a:pt x="3324" y="5191"/>
                  <a:pt x="3367" y="5245"/>
                  <a:pt x="3398" y="5259"/>
                </a:cubicBezTo>
                <a:cubicBezTo>
                  <a:pt x="3486" y="5300"/>
                  <a:pt x="3568" y="5320"/>
                  <a:pt x="3646" y="5383"/>
                </a:cubicBezTo>
                <a:cubicBezTo>
                  <a:pt x="3711" y="5435"/>
                  <a:pt x="3769" y="5472"/>
                  <a:pt x="3795" y="5556"/>
                </a:cubicBezTo>
                <a:cubicBezTo>
                  <a:pt x="3812" y="5612"/>
                  <a:pt x="3757" y="5660"/>
                  <a:pt x="3721" y="5680"/>
                </a:cubicBezTo>
                <a:cubicBezTo>
                  <a:pt x="3644" y="5723"/>
                  <a:pt x="3601" y="5713"/>
                  <a:pt x="3522" y="5730"/>
                </a:cubicBezTo>
                <a:cubicBezTo>
                  <a:pt x="3475" y="5740"/>
                  <a:pt x="3376" y="5781"/>
                  <a:pt x="3324" y="5755"/>
                </a:cubicBezTo>
                <a:cubicBezTo>
                  <a:pt x="3273" y="5729"/>
                  <a:pt x="3282" y="5713"/>
                  <a:pt x="3299" y="5680"/>
                </a:cubicBezTo>
              </a:path>
              <a:path w="9725" h="1961">
                <a:moveTo>
                  <a:pt x="4068" y="5383"/>
                </a:moveTo>
                <a:cubicBezTo>
                  <a:pt x="4158" y="5377"/>
                  <a:pt x="4215" y="5360"/>
                  <a:pt x="4291" y="5333"/>
                </a:cubicBezTo>
                <a:cubicBezTo>
                  <a:pt x="4320" y="5323"/>
                  <a:pt x="4405" y="5270"/>
                  <a:pt x="4415" y="5234"/>
                </a:cubicBezTo>
                <a:cubicBezTo>
                  <a:pt x="4424" y="5201"/>
                  <a:pt x="4456" y="5124"/>
                  <a:pt x="4440" y="5085"/>
                </a:cubicBezTo>
                <a:cubicBezTo>
                  <a:pt x="4422" y="5041"/>
                  <a:pt x="4381" y="5035"/>
                  <a:pt x="4341" y="5035"/>
                </a:cubicBezTo>
                <a:cubicBezTo>
                  <a:pt x="4270" y="5035"/>
                  <a:pt x="4220" y="5050"/>
                  <a:pt x="4167" y="5110"/>
                </a:cubicBezTo>
                <a:cubicBezTo>
                  <a:pt x="4122" y="5160"/>
                  <a:pt x="4044" y="5224"/>
                  <a:pt x="4018" y="5283"/>
                </a:cubicBezTo>
                <a:cubicBezTo>
                  <a:pt x="3987" y="5352"/>
                  <a:pt x="3948" y="5433"/>
                  <a:pt x="3944" y="5507"/>
                </a:cubicBezTo>
                <a:cubicBezTo>
                  <a:pt x="3940" y="5573"/>
                  <a:pt x="3949" y="5605"/>
                  <a:pt x="3994" y="5655"/>
                </a:cubicBezTo>
                <a:cubicBezTo>
                  <a:pt x="4029" y="5694"/>
                  <a:pt x="4090" y="5702"/>
                  <a:pt x="4142" y="5705"/>
                </a:cubicBezTo>
                <a:cubicBezTo>
                  <a:pt x="4215" y="5709"/>
                  <a:pt x="4277" y="5662"/>
                  <a:pt x="4341" y="5631"/>
                </a:cubicBezTo>
              </a:path>
              <a:path w="9725" h="1961">
                <a:moveTo>
                  <a:pt x="5035" y="5159"/>
                </a:moveTo>
                <a:cubicBezTo>
                  <a:pt x="5028" y="5130"/>
                  <a:pt x="5018" y="5114"/>
                  <a:pt x="5011" y="5085"/>
                </a:cubicBezTo>
                <a:cubicBezTo>
                  <a:pt x="4972" y="5095"/>
                  <a:pt x="4922" y="5133"/>
                  <a:pt x="4887" y="5159"/>
                </a:cubicBezTo>
                <a:cubicBezTo>
                  <a:pt x="4843" y="5192"/>
                  <a:pt x="4812" y="5236"/>
                  <a:pt x="4787" y="5283"/>
                </a:cubicBezTo>
                <a:cubicBezTo>
                  <a:pt x="4757" y="5340"/>
                  <a:pt x="4735" y="5401"/>
                  <a:pt x="4713" y="5457"/>
                </a:cubicBezTo>
                <a:cubicBezTo>
                  <a:pt x="4682" y="5535"/>
                  <a:pt x="4679" y="5566"/>
                  <a:pt x="4738" y="5631"/>
                </a:cubicBezTo>
                <a:cubicBezTo>
                  <a:pt x="4788" y="5687"/>
                  <a:pt x="4842" y="5680"/>
                  <a:pt x="4911" y="5680"/>
                </a:cubicBezTo>
                <a:cubicBezTo>
                  <a:pt x="4959" y="5680"/>
                  <a:pt x="5024" y="5662"/>
                  <a:pt x="5060" y="5631"/>
                </a:cubicBezTo>
                <a:cubicBezTo>
                  <a:pt x="5112" y="5586"/>
                  <a:pt x="5130" y="5541"/>
                  <a:pt x="5159" y="5482"/>
                </a:cubicBezTo>
              </a:path>
              <a:path w="9725" h="1961">
                <a:moveTo>
                  <a:pt x="5333" y="4638"/>
                </a:moveTo>
                <a:cubicBezTo>
                  <a:pt x="5367" y="4605"/>
                  <a:pt x="5408" y="4542"/>
                  <a:pt x="5457" y="4539"/>
                </a:cubicBezTo>
                <a:cubicBezTo>
                  <a:pt x="5498" y="4536"/>
                  <a:pt x="5566" y="4536"/>
                  <a:pt x="5581" y="4589"/>
                </a:cubicBezTo>
                <a:cubicBezTo>
                  <a:pt x="5596" y="4640"/>
                  <a:pt x="5552" y="4676"/>
                  <a:pt x="5531" y="4713"/>
                </a:cubicBezTo>
                <a:cubicBezTo>
                  <a:pt x="5502" y="4764"/>
                  <a:pt x="5420" y="4841"/>
                  <a:pt x="5383" y="4862"/>
                </a:cubicBezTo>
                <a:cubicBezTo>
                  <a:pt x="5353" y="4879"/>
                  <a:pt x="5345" y="4876"/>
                  <a:pt x="5333" y="4911"/>
                </a:cubicBezTo>
                <a:cubicBezTo>
                  <a:pt x="5416" y="4911"/>
                  <a:pt x="5498" y="4911"/>
                  <a:pt x="5581" y="4911"/>
                </a:cubicBezTo>
              </a:path>
              <a:path w="9725" h="1961">
                <a:moveTo>
                  <a:pt x="5978" y="5011"/>
                </a:moveTo>
                <a:cubicBezTo>
                  <a:pt x="5985" y="5103"/>
                  <a:pt x="5991" y="5175"/>
                  <a:pt x="6028" y="5259"/>
                </a:cubicBezTo>
                <a:cubicBezTo>
                  <a:pt x="6060" y="5332"/>
                  <a:pt x="6105" y="5395"/>
                  <a:pt x="6152" y="5457"/>
                </a:cubicBezTo>
                <a:cubicBezTo>
                  <a:pt x="6182" y="5496"/>
                  <a:pt x="6203" y="5547"/>
                  <a:pt x="6226" y="5581"/>
                </a:cubicBezTo>
                <a:cubicBezTo>
                  <a:pt x="6235" y="5595"/>
                  <a:pt x="6282" y="5674"/>
                  <a:pt x="6251" y="5631"/>
                </a:cubicBezTo>
                <a:cubicBezTo>
                  <a:pt x="6243" y="5623"/>
                  <a:pt x="6234" y="5614"/>
                  <a:pt x="6226" y="5606"/>
                </a:cubicBezTo>
              </a:path>
              <a:path w="9725" h="1961">
                <a:moveTo>
                  <a:pt x="6325" y="4961"/>
                </a:moveTo>
                <a:cubicBezTo>
                  <a:pt x="6280" y="5006"/>
                  <a:pt x="6212" y="5058"/>
                  <a:pt x="6176" y="5110"/>
                </a:cubicBezTo>
                <a:cubicBezTo>
                  <a:pt x="6112" y="5201"/>
                  <a:pt x="6033" y="5278"/>
                  <a:pt x="5953" y="5358"/>
                </a:cubicBezTo>
                <a:cubicBezTo>
                  <a:pt x="5895" y="5416"/>
                  <a:pt x="5854" y="5472"/>
                  <a:pt x="5804" y="5531"/>
                </a:cubicBezTo>
                <a:cubicBezTo>
                  <a:pt x="5773" y="5568"/>
                  <a:pt x="5737" y="5584"/>
                  <a:pt x="5705" y="5606"/>
                </a:cubicBezTo>
                <a:cubicBezTo>
                  <a:pt x="5662" y="5635"/>
                  <a:pt x="5680" y="5627"/>
                  <a:pt x="5680" y="5581"/>
                </a:cubicBezTo>
              </a:path>
              <a:path w="9725" h="1961">
                <a:moveTo>
                  <a:pt x="7268" y="4490"/>
                </a:moveTo>
                <a:cubicBezTo>
                  <a:pt x="7170" y="4585"/>
                  <a:pt x="7083" y="4684"/>
                  <a:pt x="6995" y="4787"/>
                </a:cubicBezTo>
                <a:cubicBezTo>
                  <a:pt x="6920" y="4874"/>
                  <a:pt x="6861" y="4952"/>
                  <a:pt x="6821" y="5060"/>
                </a:cubicBezTo>
                <a:cubicBezTo>
                  <a:pt x="6779" y="5174"/>
                  <a:pt x="6777" y="5311"/>
                  <a:pt x="6772" y="5432"/>
                </a:cubicBezTo>
                <a:cubicBezTo>
                  <a:pt x="6769" y="5513"/>
                  <a:pt x="6809" y="5581"/>
                  <a:pt x="6821" y="5655"/>
                </a:cubicBezTo>
                <a:cubicBezTo>
                  <a:pt x="6830" y="5710"/>
                  <a:pt x="6836" y="5760"/>
                  <a:pt x="6871" y="5804"/>
                </a:cubicBezTo>
                <a:cubicBezTo>
                  <a:pt x="6892" y="5830"/>
                  <a:pt x="6891" y="5840"/>
                  <a:pt x="6921" y="5854"/>
                </a:cubicBezTo>
                <a:cubicBezTo>
                  <a:pt x="6929" y="5854"/>
                  <a:pt x="6937" y="5854"/>
                  <a:pt x="6945" y="5854"/>
                </a:cubicBezTo>
              </a:path>
              <a:path w="9725" h="1961">
                <a:moveTo>
                  <a:pt x="7764" y="4837"/>
                </a:moveTo>
                <a:cubicBezTo>
                  <a:pt x="7764" y="4903"/>
                  <a:pt x="7747" y="4951"/>
                  <a:pt x="7739" y="5011"/>
                </a:cubicBezTo>
                <a:cubicBezTo>
                  <a:pt x="7727" y="5103"/>
                  <a:pt x="7709" y="5194"/>
                  <a:pt x="7689" y="5283"/>
                </a:cubicBezTo>
                <a:cubicBezTo>
                  <a:pt x="7669" y="5373"/>
                  <a:pt x="7653" y="5466"/>
                  <a:pt x="7640" y="5556"/>
                </a:cubicBezTo>
                <a:cubicBezTo>
                  <a:pt x="7635" y="5589"/>
                  <a:pt x="7651" y="5823"/>
                  <a:pt x="7665" y="5804"/>
                </a:cubicBezTo>
                <a:cubicBezTo>
                  <a:pt x="7665" y="5776"/>
                  <a:pt x="7667" y="5766"/>
                  <a:pt x="7689" y="5755"/>
                </a:cubicBezTo>
              </a:path>
              <a:path w="9725" h="1961">
                <a:moveTo>
                  <a:pt x="8037" y="5333"/>
                </a:moveTo>
                <a:cubicBezTo>
                  <a:pt x="8120" y="5333"/>
                  <a:pt x="8182" y="5311"/>
                  <a:pt x="8260" y="5308"/>
                </a:cubicBezTo>
                <a:cubicBezTo>
                  <a:pt x="8388" y="5302"/>
                  <a:pt x="8511" y="5299"/>
                  <a:pt x="8632" y="5283"/>
                </a:cubicBezTo>
                <a:cubicBezTo>
                  <a:pt x="8657" y="5283"/>
                  <a:pt x="8681" y="5283"/>
                  <a:pt x="8706" y="5283"/>
                </a:cubicBezTo>
              </a:path>
              <a:path w="9725" h="1961">
                <a:moveTo>
                  <a:pt x="9426" y="5085"/>
                </a:moveTo>
                <a:cubicBezTo>
                  <a:pt x="9413" y="5047"/>
                  <a:pt x="9404" y="5055"/>
                  <a:pt x="9376" y="5035"/>
                </a:cubicBezTo>
                <a:cubicBezTo>
                  <a:pt x="9322" y="4996"/>
                  <a:pt x="9316" y="5031"/>
                  <a:pt x="9252" y="5035"/>
                </a:cubicBezTo>
                <a:cubicBezTo>
                  <a:pt x="9199" y="5038"/>
                  <a:pt x="9118" y="5078"/>
                  <a:pt x="9079" y="5110"/>
                </a:cubicBezTo>
                <a:cubicBezTo>
                  <a:pt x="9048" y="5135"/>
                  <a:pt x="9047" y="5222"/>
                  <a:pt x="9079" y="5234"/>
                </a:cubicBezTo>
                <a:cubicBezTo>
                  <a:pt x="9132" y="5254"/>
                  <a:pt x="9196" y="5264"/>
                  <a:pt x="9252" y="5283"/>
                </a:cubicBezTo>
                <a:cubicBezTo>
                  <a:pt x="9296" y="5298"/>
                  <a:pt x="9407" y="5385"/>
                  <a:pt x="9426" y="5432"/>
                </a:cubicBezTo>
                <a:cubicBezTo>
                  <a:pt x="9441" y="5467"/>
                  <a:pt x="9469" y="5565"/>
                  <a:pt x="9451" y="5606"/>
                </a:cubicBezTo>
                <a:cubicBezTo>
                  <a:pt x="9422" y="5672"/>
                  <a:pt x="9325" y="5742"/>
                  <a:pt x="9252" y="5755"/>
                </a:cubicBezTo>
                <a:cubicBezTo>
                  <a:pt x="9159" y="5771"/>
                  <a:pt x="9049" y="5755"/>
                  <a:pt x="8954" y="5755"/>
                </a:cubicBezTo>
                <a:cubicBezTo>
                  <a:pt x="8954" y="5674"/>
                  <a:pt x="8971" y="5709"/>
                  <a:pt x="9029" y="5680"/>
                </a:cubicBezTo>
                <a:cubicBezTo>
                  <a:pt x="9037" y="5672"/>
                  <a:pt x="9046" y="5663"/>
                  <a:pt x="9054" y="5655"/>
                </a:cubicBezTo>
              </a:path>
              <a:path w="9725" h="1961">
                <a:moveTo>
                  <a:pt x="9947" y="5234"/>
                </a:moveTo>
                <a:cubicBezTo>
                  <a:pt x="9925" y="5341"/>
                  <a:pt x="9897" y="5426"/>
                  <a:pt x="9897" y="5531"/>
                </a:cubicBezTo>
                <a:cubicBezTo>
                  <a:pt x="9897" y="5612"/>
                  <a:pt x="9871" y="5741"/>
                  <a:pt x="9922" y="5804"/>
                </a:cubicBezTo>
                <a:cubicBezTo>
                  <a:pt x="9969" y="5862"/>
                  <a:pt x="9971" y="5790"/>
                  <a:pt x="9971" y="5755"/>
                </a:cubicBezTo>
              </a:path>
              <a:path w="9725" h="1961">
                <a:moveTo>
                  <a:pt x="10046" y="4911"/>
                </a:moveTo>
                <a:cubicBezTo>
                  <a:pt x="10046" y="4903"/>
                  <a:pt x="10046" y="4895"/>
                  <a:pt x="10046" y="4887"/>
                </a:cubicBezTo>
              </a:path>
              <a:path w="9725" h="1961">
                <a:moveTo>
                  <a:pt x="10269" y="5507"/>
                </a:moveTo>
                <a:cubicBezTo>
                  <a:pt x="10269" y="5596"/>
                  <a:pt x="10294" y="5688"/>
                  <a:pt x="10244" y="5755"/>
                </a:cubicBezTo>
                <a:cubicBezTo>
                  <a:pt x="10244" y="5689"/>
                  <a:pt x="10258" y="5636"/>
                  <a:pt x="10269" y="5581"/>
                </a:cubicBezTo>
                <a:cubicBezTo>
                  <a:pt x="10281" y="5520"/>
                  <a:pt x="10270" y="5465"/>
                  <a:pt x="10294" y="5407"/>
                </a:cubicBezTo>
                <a:cubicBezTo>
                  <a:pt x="10330" y="5318"/>
                  <a:pt x="10318" y="5315"/>
                  <a:pt x="10393" y="5259"/>
                </a:cubicBezTo>
                <a:cubicBezTo>
                  <a:pt x="10452" y="5215"/>
                  <a:pt x="10479" y="5188"/>
                  <a:pt x="10567" y="5209"/>
                </a:cubicBezTo>
                <a:cubicBezTo>
                  <a:pt x="10615" y="5221"/>
                  <a:pt x="10690" y="5295"/>
                  <a:pt x="10716" y="5333"/>
                </a:cubicBezTo>
                <a:cubicBezTo>
                  <a:pt x="10759" y="5395"/>
                  <a:pt x="10762" y="5508"/>
                  <a:pt x="10765" y="5581"/>
                </a:cubicBezTo>
                <a:cubicBezTo>
                  <a:pt x="10768" y="5657"/>
                  <a:pt x="10774" y="5709"/>
                  <a:pt x="10790" y="5779"/>
                </a:cubicBezTo>
                <a:cubicBezTo>
                  <a:pt x="10791" y="5785"/>
                  <a:pt x="10785" y="5918"/>
                  <a:pt x="10815" y="5879"/>
                </a:cubicBezTo>
                <a:cubicBezTo>
                  <a:pt x="10815" y="5854"/>
                  <a:pt x="10815" y="5846"/>
                  <a:pt x="10815" y="5829"/>
                </a:cubicBezTo>
              </a:path>
              <a:path w="9725" h="1961">
                <a:moveTo>
                  <a:pt x="10964" y="4663"/>
                </a:moveTo>
                <a:cubicBezTo>
                  <a:pt x="10985" y="4650"/>
                  <a:pt x="11078" y="4582"/>
                  <a:pt x="11112" y="4589"/>
                </a:cubicBezTo>
                <a:cubicBezTo>
                  <a:pt x="11189" y="4605"/>
                  <a:pt x="11212" y="4598"/>
                  <a:pt x="11212" y="4663"/>
                </a:cubicBezTo>
                <a:cubicBezTo>
                  <a:pt x="11212" y="4698"/>
                  <a:pt x="11185" y="4737"/>
                  <a:pt x="11162" y="4762"/>
                </a:cubicBezTo>
                <a:cubicBezTo>
                  <a:pt x="11124" y="4804"/>
                  <a:pt x="11090" y="4847"/>
                  <a:pt x="11063" y="4887"/>
                </a:cubicBezTo>
                <a:cubicBezTo>
                  <a:pt x="11039" y="4922"/>
                  <a:pt x="11011" y="4926"/>
                  <a:pt x="10988" y="4961"/>
                </a:cubicBezTo>
                <a:cubicBezTo>
                  <a:pt x="10970" y="4989"/>
                  <a:pt x="10937" y="5035"/>
                  <a:pt x="10988" y="5060"/>
                </a:cubicBezTo>
                <a:cubicBezTo>
                  <a:pt x="11020" y="5076"/>
                  <a:pt x="11048" y="5085"/>
                  <a:pt x="11088" y="5085"/>
                </a:cubicBezTo>
                <a:cubicBezTo>
                  <a:pt x="11163" y="5085"/>
                  <a:pt x="11216" y="5087"/>
                  <a:pt x="11286" y="5060"/>
                </a:cubicBezTo>
              </a:path>
              <a:path w="9725" h="1961">
                <a:moveTo>
                  <a:pt x="11683" y="4440"/>
                </a:moveTo>
                <a:cubicBezTo>
                  <a:pt x="11691" y="4520"/>
                  <a:pt x="11701" y="4586"/>
                  <a:pt x="11733" y="4663"/>
                </a:cubicBezTo>
                <a:cubicBezTo>
                  <a:pt x="11767" y="4745"/>
                  <a:pt x="11803" y="4827"/>
                  <a:pt x="11832" y="4911"/>
                </a:cubicBezTo>
                <a:cubicBezTo>
                  <a:pt x="11869" y="5018"/>
                  <a:pt x="11928" y="5110"/>
                  <a:pt x="11981" y="5209"/>
                </a:cubicBezTo>
                <a:cubicBezTo>
                  <a:pt x="12024" y="5289"/>
                  <a:pt x="12110" y="5413"/>
                  <a:pt x="12179" y="5457"/>
                </a:cubicBezTo>
                <a:cubicBezTo>
                  <a:pt x="12220" y="5484"/>
                  <a:pt x="12266" y="5510"/>
                  <a:pt x="12303" y="5531"/>
                </a:cubicBezTo>
                <a:cubicBezTo>
                  <a:pt x="12303" y="5506"/>
                  <a:pt x="12303" y="5482"/>
                  <a:pt x="12303" y="5457"/>
                </a:cubicBezTo>
              </a:path>
              <a:path w="9725" h="1961">
                <a:moveTo>
                  <a:pt x="12080" y="4986"/>
                </a:moveTo>
                <a:cubicBezTo>
                  <a:pt x="12011" y="5091"/>
                  <a:pt x="11939" y="5188"/>
                  <a:pt x="11857" y="5283"/>
                </a:cubicBezTo>
                <a:cubicBezTo>
                  <a:pt x="11802" y="5348"/>
                  <a:pt x="11727" y="5410"/>
                  <a:pt x="11658" y="5457"/>
                </a:cubicBezTo>
                <a:cubicBezTo>
                  <a:pt x="11601" y="5495"/>
                  <a:pt x="11536" y="5510"/>
                  <a:pt x="11485" y="5556"/>
                </a:cubicBezTo>
                <a:cubicBezTo>
                  <a:pt x="11462" y="5579"/>
                  <a:pt x="11458" y="5587"/>
                  <a:pt x="11435" y="5581"/>
                </a:cubicBezTo>
                <a:cubicBezTo>
                  <a:pt x="11435" y="5556"/>
                  <a:pt x="11435" y="5532"/>
                  <a:pt x="11435" y="5507"/>
                </a:cubicBezTo>
              </a:path>
              <a:path w="9725" h="1961">
                <a:moveTo>
                  <a:pt x="12378" y="4142"/>
                </a:moveTo>
                <a:cubicBezTo>
                  <a:pt x="12488" y="4229"/>
                  <a:pt x="12590" y="4303"/>
                  <a:pt x="12675" y="4415"/>
                </a:cubicBezTo>
                <a:cubicBezTo>
                  <a:pt x="12768" y="4538"/>
                  <a:pt x="12876" y="4690"/>
                  <a:pt x="12923" y="4837"/>
                </a:cubicBezTo>
                <a:cubicBezTo>
                  <a:pt x="12970" y="4985"/>
                  <a:pt x="13003" y="5204"/>
                  <a:pt x="12998" y="5358"/>
                </a:cubicBezTo>
                <a:cubicBezTo>
                  <a:pt x="12994" y="5469"/>
                  <a:pt x="12968" y="5648"/>
                  <a:pt x="12923" y="5755"/>
                </a:cubicBezTo>
                <a:cubicBezTo>
                  <a:pt x="12889" y="5834"/>
                  <a:pt x="12820" y="5883"/>
                  <a:pt x="12750" y="5928"/>
                </a:cubicBezTo>
                <a:cubicBezTo>
                  <a:pt x="12679" y="5973"/>
                  <a:pt x="12598" y="6039"/>
                  <a:pt x="12526" y="6077"/>
                </a:cubicBezTo>
                <a:cubicBezTo>
                  <a:pt x="12501" y="6085"/>
                  <a:pt x="12477" y="6094"/>
                  <a:pt x="12452" y="61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70000" y="2259000"/>
            <a:ext cx="3241800" cy="1143000"/>
          </a:xfrm>
          <a:custGeom>
            <a:avLst/>
            <a:gdLst/>
            <a:ahLst/>
            <a:rect l="l" t="t" r="r" b="b"/>
            <a:pathLst>
              <a:path w="9006" h="3176">
                <a:moveTo>
                  <a:pt x="9079" y="6896"/>
                </a:moveTo>
                <a:cubicBezTo>
                  <a:pt x="9037" y="6854"/>
                  <a:pt x="9001" y="6820"/>
                  <a:pt x="8954" y="6796"/>
                </a:cubicBezTo>
                <a:cubicBezTo>
                  <a:pt x="8890" y="6762"/>
                  <a:pt x="8827" y="6772"/>
                  <a:pt x="8756" y="6772"/>
                </a:cubicBezTo>
                <a:cubicBezTo>
                  <a:pt x="8607" y="6772"/>
                  <a:pt x="8533" y="6827"/>
                  <a:pt x="8409" y="6921"/>
                </a:cubicBezTo>
                <a:cubicBezTo>
                  <a:pt x="8337" y="6975"/>
                  <a:pt x="8243" y="7110"/>
                  <a:pt x="8210" y="7193"/>
                </a:cubicBezTo>
                <a:cubicBezTo>
                  <a:pt x="8178" y="7274"/>
                  <a:pt x="8108" y="7456"/>
                  <a:pt x="8111" y="7541"/>
                </a:cubicBezTo>
                <a:cubicBezTo>
                  <a:pt x="8113" y="7602"/>
                  <a:pt x="8142" y="7763"/>
                  <a:pt x="8186" y="7813"/>
                </a:cubicBezTo>
                <a:cubicBezTo>
                  <a:pt x="8221" y="7853"/>
                  <a:pt x="8352" y="7928"/>
                  <a:pt x="8409" y="7938"/>
                </a:cubicBezTo>
                <a:cubicBezTo>
                  <a:pt x="8514" y="7957"/>
                  <a:pt x="8580" y="7949"/>
                  <a:pt x="8682" y="7938"/>
                </a:cubicBezTo>
                <a:cubicBezTo>
                  <a:pt x="8773" y="7928"/>
                  <a:pt x="8822" y="7905"/>
                  <a:pt x="8905" y="7863"/>
                </a:cubicBezTo>
                <a:cubicBezTo>
                  <a:pt x="8948" y="7841"/>
                  <a:pt x="8960" y="7837"/>
                  <a:pt x="8979" y="7813"/>
                </a:cubicBezTo>
              </a:path>
              <a:path w="9006" h="3176">
                <a:moveTo>
                  <a:pt x="9847" y="7020"/>
                </a:moveTo>
                <a:cubicBezTo>
                  <a:pt x="9828" y="6987"/>
                  <a:pt x="9820" y="6909"/>
                  <a:pt x="9773" y="6896"/>
                </a:cubicBezTo>
                <a:cubicBezTo>
                  <a:pt x="9715" y="6880"/>
                  <a:pt x="9677" y="6890"/>
                  <a:pt x="9624" y="6896"/>
                </a:cubicBezTo>
                <a:cubicBezTo>
                  <a:pt x="9526" y="6907"/>
                  <a:pt x="9473" y="6927"/>
                  <a:pt x="9401" y="6995"/>
                </a:cubicBezTo>
                <a:cubicBezTo>
                  <a:pt x="9310" y="7081"/>
                  <a:pt x="9227" y="7156"/>
                  <a:pt x="9178" y="7268"/>
                </a:cubicBezTo>
                <a:cubicBezTo>
                  <a:pt x="9117" y="7408"/>
                  <a:pt x="9058" y="7580"/>
                  <a:pt x="9079" y="7739"/>
                </a:cubicBezTo>
                <a:cubicBezTo>
                  <a:pt x="9089" y="7814"/>
                  <a:pt x="9143" y="7916"/>
                  <a:pt x="9203" y="7962"/>
                </a:cubicBezTo>
                <a:cubicBezTo>
                  <a:pt x="9282" y="8023"/>
                  <a:pt x="9387" y="8007"/>
                  <a:pt x="9475" y="7987"/>
                </a:cubicBezTo>
                <a:cubicBezTo>
                  <a:pt x="9585" y="7961"/>
                  <a:pt x="9685" y="7909"/>
                  <a:pt x="9773" y="7838"/>
                </a:cubicBezTo>
                <a:cubicBezTo>
                  <a:pt x="9836" y="7787"/>
                  <a:pt x="9915" y="7715"/>
                  <a:pt x="9947" y="7640"/>
                </a:cubicBezTo>
                <a:cubicBezTo>
                  <a:pt x="9984" y="7554"/>
                  <a:pt x="9971" y="7459"/>
                  <a:pt x="9971" y="7367"/>
                </a:cubicBezTo>
                <a:cubicBezTo>
                  <a:pt x="9971" y="7281"/>
                  <a:pt x="9974" y="7218"/>
                  <a:pt x="9922" y="7144"/>
                </a:cubicBezTo>
                <a:cubicBezTo>
                  <a:pt x="9908" y="7124"/>
                  <a:pt x="9822" y="7052"/>
                  <a:pt x="9798" y="7045"/>
                </a:cubicBezTo>
                <a:cubicBezTo>
                  <a:pt x="9773" y="7045"/>
                  <a:pt x="9765" y="7045"/>
                  <a:pt x="9748" y="7045"/>
                </a:cubicBezTo>
              </a:path>
              <a:path w="9006" h="3176">
                <a:moveTo>
                  <a:pt x="10418" y="7193"/>
                </a:moveTo>
                <a:cubicBezTo>
                  <a:pt x="10480" y="7131"/>
                  <a:pt x="10535" y="7102"/>
                  <a:pt x="10542" y="7020"/>
                </a:cubicBezTo>
                <a:cubicBezTo>
                  <a:pt x="10546" y="6967"/>
                  <a:pt x="10528" y="6957"/>
                  <a:pt x="10492" y="6921"/>
                </a:cubicBezTo>
                <a:cubicBezTo>
                  <a:pt x="10441" y="6870"/>
                  <a:pt x="10366" y="6852"/>
                  <a:pt x="10294" y="6871"/>
                </a:cubicBezTo>
                <a:cubicBezTo>
                  <a:pt x="10214" y="6892"/>
                  <a:pt x="10129" y="6929"/>
                  <a:pt x="10071" y="6995"/>
                </a:cubicBezTo>
                <a:cubicBezTo>
                  <a:pt x="10027" y="7044"/>
                  <a:pt x="10021" y="7082"/>
                  <a:pt x="10021" y="7144"/>
                </a:cubicBezTo>
                <a:cubicBezTo>
                  <a:pt x="10021" y="7229"/>
                  <a:pt x="10063" y="7260"/>
                  <a:pt x="10120" y="7317"/>
                </a:cubicBezTo>
                <a:cubicBezTo>
                  <a:pt x="10191" y="7388"/>
                  <a:pt x="10268" y="7430"/>
                  <a:pt x="10344" y="7491"/>
                </a:cubicBezTo>
                <a:cubicBezTo>
                  <a:pt x="10418" y="7550"/>
                  <a:pt x="10442" y="7616"/>
                  <a:pt x="10492" y="7689"/>
                </a:cubicBezTo>
                <a:cubicBezTo>
                  <a:pt x="10523" y="7734"/>
                  <a:pt x="10542" y="7757"/>
                  <a:pt x="10542" y="7813"/>
                </a:cubicBezTo>
                <a:cubicBezTo>
                  <a:pt x="10542" y="7865"/>
                  <a:pt x="10464" y="7903"/>
                  <a:pt x="10418" y="7913"/>
                </a:cubicBezTo>
                <a:cubicBezTo>
                  <a:pt x="10363" y="7925"/>
                  <a:pt x="10311" y="7911"/>
                  <a:pt x="10269" y="7888"/>
                </a:cubicBezTo>
                <a:cubicBezTo>
                  <a:pt x="10227" y="7865"/>
                  <a:pt x="10199" y="7839"/>
                  <a:pt x="10195" y="7789"/>
                </a:cubicBezTo>
                <a:cubicBezTo>
                  <a:pt x="10195" y="7772"/>
                  <a:pt x="10195" y="7756"/>
                  <a:pt x="10195" y="7739"/>
                </a:cubicBezTo>
              </a:path>
              <a:path w="9006" h="3176">
                <a:moveTo>
                  <a:pt x="10641" y="6623"/>
                </a:moveTo>
                <a:cubicBezTo>
                  <a:pt x="10651" y="6582"/>
                  <a:pt x="10670" y="6553"/>
                  <a:pt x="10716" y="6548"/>
                </a:cubicBezTo>
                <a:cubicBezTo>
                  <a:pt x="10769" y="6542"/>
                  <a:pt x="10825" y="6541"/>
                  <a:pt x="10864" y="6573"/>
                </a:cubicBezTo>
                <a:cubicBezTo>
                  <a:pt x="10908" y="6609"/>
                  <a:pt x="10901" y="6606"/>
                  <a:pt x="10939" y="6648"/>
                </a:cubicBezTo>
                <a:cubicBezTo>
                  <a:pt x="10977" y="6690"/>
                  <a:pt x="10964" y="6741"/>
                  <a:pt x="10964" y="6796"/>
                </a:cubicBezTo>
                <a:cubicBezTo>
                  <a:pt x="10964" y="6865"/>
                  <a:pt x="10908" y="6900"/>
                  <a:pt x="10864" y="6945"/>
                </a:cubicBezTo>
                <a:cubicBezTo>
                  <a:pt x="10830" y="6980"/>
                  <a:pt x="10743" y="7034"/>
                  <a:pt x="10716" y="7069"/>
                </a:cubicBezTo>
                <a:cubicBezTo>
                  <a:pt x="10716" y="7077"/>
                  <a:pt x="10716" y="7086"/>
                  <a:pt x="10716" y="7094"/>
                </a:cubicBezTo>
                <a:cubicBezTo>
                  <a:pt x="10777" y="7110"/>
                  <a:pt x="10782" y="7106"/>
                  <a:pt x="10840" y="7094"/>
                </a:cubicBezTo>
                <a:cubicBezTo>
                  <a:pt x="10895" y="7083"/>
                  <a:pt x="10941" y="7083"/>
                  <a:pt x="10988" y="7069"/>
                </a:cubicBezTo>
                <a:cubicBezTo>
                  <a:pt x="11029" y="7056"/>
                  <a:pt x="11074" y="7057"/>
                  <a:pt x="11112" y="7045"/>
                </a:cubicBezTo>
                <a:cubicBezTo>
                  <a:pt x="11152" y="7032"/>
                  <a:pt x="11137" y="7071"/>
                  <a:pt x="11137" y="7094"/>
                </a:cubicBezTo>
              </a:path>
              <a:path w="9006" h="3176">
                <a:moveTo>
                  <a:pt x="11485" y="6821"/>
                </a:moveTo>
                <a:cubicBezTo>
                  <a:pt x="11510" y="6890"/>
                  <a:pt x="11531" y="6950"/>
                  <a:pt x="11559" y="7020"/>
                </a:cubicBezTo>
                <a:cubicBezTo>
                  <a:pt x="11597" y="7115"/>
                  <a:pt x="11612" y="7197"/>
                  <a:pt x="11633" y="7293"/>
                </a:cubicBezTo>
                <a:cubicBezTo>
                  <a:pt x="11657" y="7401"/>
                  <a:pt x="11724" y="7505"/>
                  <a:pt x="11757" y="7615"/>
                </a:cubicBezTo>
                <a:cubicBezTo>
                  <a:pt x="11782" y="7699"/>
                  <a:pt x="11820" y="7783"/>
                  <a:pt x="11857" y="7863"/>
                </a:cubicBezTo>
                <a:cubicBezTo>
                  <a:pt x="11878" y="7909"/>
                  <a:pt x="11906" y="7976"/>
                  <a:pt x="11931" y="8012"/>
                </a:cubicBezTo>
                <a:cubicBezTo>
                  <a:pt x="11969" y="8067"/>
                  <a:pt x="12012" y="8035"/>
                  <a:pt x="12030" y="7987"/>
                </a:cubicBezTo>
                <a:cubicBezTo>
                  <a:pt x="12048" y="7941"/>
                  <a:pt x="12059" y="7886"/>
                  <a:pt x="12080" y="7838"/>
                </a:cubicBezTo>
              </a:path>
              <a:path w="9006" h="3176">
                <a:moveTo>
                  <a:pt x="12254" y="6921"/>
                </a:moveTo>
                <a:cubicBezTo>
                  <a:pt x="12213" y="6971"/>
                  <a:pt x="12178" y="7032"/>
                  <a:pt x="12154" y="7094"/>
                </a:cubicBezTo>
                <a:cubicBezTo>
                  <a:pt x="12090" y="7256"/>
                  <a:pt x="11968" y="7430"/>
                  <a:pt x="11857" y="7565"/>
                </a:cubicBezTo>
                <a:cubicBezTo>
                  <a:pt x="11777" y="7663"/>
                  <a:pt x="11704" y="7756"/>
                  <a:pt x="11633" y="7863"/>
                </a:cubicBezTo>
                <a:cubicBezTo>
                  <a:pt x="11589" y="7929"/>
                  <a:pt x="11519" y="8035"/>
                  <a:pt x="11460" y="8086"/>
                </a:cubicBezTo>
                <a:cubicBezTo>
                  <a:pt x="11420" y="8121"/>
                  <a:pt x="11410" y="8116"/>
                  <a:pt x="11385" y="8136"/>
                </a:cubicBezTo>
              </a:path>
              <a:path w="9006" h="3176">
                <a:moveTo>
                  <a:pt x="4539" y="6276"/>
                </a:moveTo>
                <a:cubicBezTo>
                  <a:pt x="4539" y="6381"/>
                  <a:pt x="4548" y="6475"/>
                  <a:pt x="4564" y="6573"/>
                </a:cubicBezTo>
                <a:cubicBezTo>
                  <a:pt x="4583" y="6689"/>
                  <a:pt x="4567" y="6805"/>
                  <a:pt x="4589" y="6921"/>
                </a:cubicBezTo>
                <a:cubicBezTo>
                  <a:pt x="4596" y="6956"/>
                  <a:pt x="4592" y="6930"/>
                  <a:pt x="4564" y="6921"/>
                </a:cubicBezTo>
              </a:path>
              <a:path w="9006" h="3176">
                <a:moveTo>
                  <a:pt x="3621" y="7268"/>
                </a:moveTo>
                <a:cubicBezTo>
                  <a:pt x="3710" y="7268"/>
                  <a:pt x="3808" y="7260"/>
                  <a:pt x="3894" y="7243"/>
                </a:cubicBezTo>
                <a:cubicBezTo>
                  <a:pt x="4025" y="7217"/>
                  <a:pt x="4159" y="7215"/>
                  <a:pt x="4291" y="7193"/>
                </a:cubicBezTo>
                <a:cubicBezTo>
                  <a:pt x="4431" y="7170"/>
                  <a:pt x="4575" y="7166"/>
                  <a:pt x="4713" y="7144"/>
                </a:cubicBezTo>
                <a:cubicBezTo>
                  <a:pt x="4814" y="7128"/>
                  <a:pt x="4937" y="7116"/>
                  <a:pt x="5035" y="7094"/>
                </a:cubicBezTo>
                <a:cubicBezTo>
                  <a:pt x="5098" y="7080"/>
                  <a:pt x="5141" y="7069"/>
                  <a:pt x="5209" y="7069"/>
                </a:cubicBezTo>
                <a:cubicBezTo>
                  <a:pt x="5217" y="7069"/>
                  <a:pt x="5226" y="7069"/>
                  <a:pt x="5234" y="7069"/>
                </a:cubicBezTo>
              </a:path>
              <a:path w="9006" h="3176">
                <a:moveTo>
                  <a:pt x="4167" y="7888"/>
                </a:moveTo>
                <a:cubicBezTo>
                  <a:pt x="4191" y="7824"/>
                  <a:pt x="4192" y="7783"/>
                  <a:pt x="4192" y="7714"/>
                </a:cubicBezTo>
                <a:cubicBezTo>
                  <a:pt x="4192" y="7641"/>
                  <a:pt x="4178" y="7626"/>
                  <a:pt x="4142" y="7565"/>
                </a:cubicBezTo>
                <a:cubicBezTo>
                  <a:pt x="4106" y="7504"/>
                  <a:pt x="4071" y="7495"/>
                  <a:pt x="3994" y="7491"/>
                </a:cubicBezTo>
                <a:cubicBezTo>
                  <a:pt x="3900" y="7486"/>
                  <a:pt x="3842" y="7565"/>
                  <a:pt x="3770" y="7615"/>
                </a:cubicBezTo>
                <a:cubicBezTo>
                  <a:pt x="3674" y="7682"/>
                  <a:pt x="3582" y="7786"/>
                  <a:pt x="3522" y="7888"/>
                </a:cubicBezTo>
                <a:cubicBezTo>
                  <a:pt x="3449" y="8012"/>
                  <a:pt x="3400" y="8144"/>
                  <a:pt x="3373" y="8285"/>
                </a:cubicBezTo>
                <a:cubicBezTo>
                  <a:pt x="3342" y="8447"/>
                  <a:pt x="3326" y="8569"/>
                  <a:pt x="3423" y="8706"/>
                </a:cubicBezTo>
                <a:cubicBezTo>
                  <a:pt x="3483" y="8790"/>
                  <a:pt x="3557" y="8781"/>
                  <a:pt x="3646" y="8781"/>
                </a:cubicBezTo>
                <a:cubicBezTo>
                  <a:pt x="3784" y="8781"/>
                  <a:pt x="3844" y="8729"/>
                  <a:pt x="3969" y="8706"/>
                </a:cubicBezTo>
                <a:cubicBezTo>
                  <a:pt x="4085" y="8684"/>
                  <a:pt x="4163" y="8638"/>
                  <a:pt x="4242" y="8558"/>
                </a:cubicBezTo>
                <a:cubicBezTo>
                  <a:pt x="4258" y="8541"/>
                  <a:pt x="4275" y="8525"/>
                  <a:pt x="4291" y="8508"/>
                </a:cubicBezTo>
              </a:path>
              <a:path w="9006" h="3176">
                <a:moveTo>
                  <a:pt x="4514" y="7739"/>
                </a:moveTo>
                <a:cubicBezTo>
                  <a:pt x="4445" y="7719"/>
                  <a:pt x="4426" y="7733"/>
                  <a:pt x="4366" y="7789"/>
                </a:cubicBezTo>
                <a:cubicBezTo>
                  <a:pt x="4261" y="7887"/>
                  <a:pt x="4214" y="8100"/>
                  <a:pt x="4192" y="8235"/>
                </a:cubicBezTo>
                <a:cubicBezTo>
                  <a:pt x="4175" y="8339"/>
                  <a:pt x="4188" y="8459"/>
                  <a:pt x="4217" y="8558"/>
                </a:cubicBezTo>
                <a:cubicBezTo>
                  <a:pt x="4242" y="8641"/>
                  <a:pt x="4304" y="8747"/>
                  <a:pt x="4390" y="8781"/>
                </a:cubicBezTo>
                <a:cubicBezTo>
                  <a:pt x="4477" y="8815"/>
                  <a:pt x="4658" y="8751"/>
                  <a:pt x="4713" y="8706"/>
                </a:cubicBezTo>
                <a:cubicBezTo>
                  <a:pt x="4784" y="8648"/>
                  <a:pt x="4940" y="8484"/>
                  <a:pt x="4986" y="8409"/>
                </a:cubicBezTo>
                <a:cubicBezTo>
                  <a:pt x="5029" y="8339"/>
                  <a:pt x="5026" y="8163"/>
                  <a:pt x="5011" y="8086"/>
                </a:cubicBezTo>
                <a:cubicBezTo>
                  <a:pt x="4996" y="8014"/>
                  <a:pt x="4947" y="7909"/>
                  <a:pt x="4887" y="7863"/>
                </a:cubicBezTo>
                <a:cubicBezTo>
                  <a:pt x="4834" y="7822"/>
                  <a:pt x="4730" y="7794"/>
                  <a:pt x="4663" y="7813"/>
                </a:cubicBezTo>
                <a:cubicBezTo>
                  <a:pt x="4598" y="7831"/>
                  <a:pt x="4543" y="7844"/>
                  <a:pt x="4490" y="7888"/>
                </a:cubicBezTo>
              </a:path>
              <a:path w="9006" h="3176">
                <a:moveTo>
                  <a:pt x="5432" y="7913"/>
                </a:moveTo>
                <a:cubicBezTo>
                  <a:pt x="5423" y="7853"/>
                  <a:pt x="5397" y="7816"/>
                  <a:pt x="5358" y="7764"/>
                </a:cubicBezTo>
                <a:cubicBezTo>
                  <a:pt x="5308" y="7697"/>
                  <a:pt x="5278" y="7733"/>
                  <a:pt x="5209" y="7714"/>
                </a:cubicBezTo>
                <a:cubicBezTo>
                  <a:pt x="5123" y="7690"/>
                  <a:pt x="5030" y="7716"/>
                  <a:pt x="4961" y="7789"/>
                </a:cubicBezTo>
                <a:cubicBezTo>
                  <a:pt x="4920" y="7832"/>
                  <a:pt x="4894" y="7903"/>
                  <a:pt x="4911" y="7962"/>
                </a:cubicBezTo>
                <a:cubicBezTo>
                  <a:pt x="4936" y="8051"/>
                  <a:pt x="5007" y="8093"/>
                  <a:pt x="5060" y="8161"/>
                </a:cubicBezTo>
                <a:cubicBezTo>
                  <a:pt x="5120" y="8238"/>
                  <a:pt x="5187" y="8344"/>
                  <a:pt x="5259" y="8409"/>
                </a:cubicBezTo>
                <a:cubicBezTo>
                  <a:pt x="5349" y="8490"/>
                  <a:pt x="5350" y="8524"/>
                  <a:pt x="5407" y="8632"/>
                </a:cubicBezTo>
                <a:cubicBezTo>
                  <a:pt x="5437" y="8690"/>
                  <a:pt x="5442" y="8718"/>
                  <a:pt x="5407" y="8781"/>
                </a:cubicBezTo>
                <a:cubicBezTo>
                  <a:pt x="5367" y="8853"/>
                  <a:pt x="5326" y="8848"/>
                  <a:pt x="5259" y="8855"/>
                </a:cubicBezTo>
                <a:cubicBezTo>
                  <a:pt x="5181" y="8863"/>
                  <a:pt x="5070" y="8880"/>
                  <a:pt x="5035" y="8806"/>
                </a:cubicBezTo>
                <a:cubicBezTo>
                  <a:pt x="4997" y="8725"/>
                  <a:pt x="5009" y="8662"/>
                  <a:pt x="5035" y="8582"/>
                </a:cubicBezTo>
              </a:path>
              <a:path w="9006" h="3176">
                <a:moveTo>
                  <a:pt x="5655" y="7789"/>
                </a:moveTo>
                <a:cubicBezTo>
                  <a:pt x="5682" y="7883"/>
                  <a:pt x="5701" y="7970"/>
                  <a:pt x="5730" y="8062"/>
                </a:cubicBezTo>
                <a:cubicBezTo>
                  <a:pt x="5762" y="8166"/>
                  <a:pt x="5833" y="8243"/>
                  <a:pt x="5879" y="8334"/>
                </a:cubicBezTo>
                <a:cubicBezTo>
                  <a:pt x="5926" y="8427"/>
                  <a:pt x="5961" y="8538"/>
                  <a:pt x="6003" y="8632"/>
                </a:cubicBezTo>
                <a:cubicBezTo>
                  <a:pt x="6035" y="8703"/>
                  <a:pt x="6067" y="8792"/>
                  <a:pt x="6102" y="8855"/>
                </a:cubicBezTo>
                <a:cubicBezTo>
                  <a:pt x="6120" y="8887"/>
                  <a:pt x="6158" y="8875"/>
                  <a:pt x="6127" y="8855"/>
                </a:cubicBezTo>
              </a:path>
              <a:path w="9006" h="3176">
                <a:moveTo>
                  <a:pt x="5680" y="8781"/>
                </a:moveTo>
                <a:cubicBezTo>
                  <a:pt x="5691" y="8705"/>
                  <a:pt x="5726" y="8623"/>
                  <a:pt x="5779" y="8558"/>
                </a:cubicBezTo>
                <a:cubicBezTo>
                  <a:pt x="5884" y="8429"/>
                  <a:pt x="5984" y="8304"/>
                  <a:pt x="6102" y="8186"/>
                </a:cubicBezTo>
                <a:cubicBezTo>
                  <a:pt x="6194" y="8093"/>
                  <a:pt x="6272" y="7989"/>
                  <a:pt x="6375" y="7913"/>
                </a:cubicBezTo>
                <a:cubicBezTo>
                  <a:pt x="6457" y="7853"/>
                  <a:pt x="6541" y="7798"/>
                  <a:pt x="6623" y="7739"/>
                </a:cubicBezTo>
                <a:cubicBezTo>
                  <a:pt x="6648" y="7714"/>
                  <a:pt x="6656" y="7706"/>
                  <a:pt x="6672" y="7689"/>
                </a:cubicBezTo>
              </a:path>
              <a:path w="9006" h="3176">
                <a:moveTo>
                  <a:pt x="5358" y="7516"/>
                </a:moveTo>
                <a:cubicBezTo>
                  <a:pt x="5358" y="7463"/>
                  <a:pt x="5369" y="7455"/>
                  <a:pt x="5407" y="7417"/>
                </a:cubicBezTo>
                <a:cubicBezTo>
                  <a:pt x="5423" y="7401"/>
                  <a:pt x="5479" y="7368"/>
                  <a:pt x="5482" y="7367"/>
                </a:cubicBezTo>
                <a:cubicBezTo>
                  <a:pt x="5520" y="7348"/>
                  <a:pt x="5550" y="7414"/>
                  <a:pt x="5556" y="7417"/>
                </a:cubicBezTo>
                <a:cubicBezTo>
                  <a:pt x="5574" y="7426"/>
                  <a:pt x="5616" y="7436"/>
                  <a:pt x="5631" y="7466"/>
                </a:cubicBezTo>
                <a:cubicBezTo>
                  <a:pt x="5656" y="7515"/>
                  <a:pt x="5618" y="7578"/>
                  <a:pt x="5606" y="7615"/>
                </a:cubicBezTo>
                <a:cubicBezTo>
                  <a:pt x="5593" y="7653"/>
                  <a:pt x="5584" y="7683"/>
                  <a:pt x="5556" y="7714"/>
                </a:cubicBezTo>
                <a:cubicBezTo>
                  <a:pt x="5544" y="7728"/>
                  <a:pt x="5483" y="7797"/>
                  <a:pt x="5457" y="7764"/>
                </a:cubicBezTo>
                <a:cubicBezTo>
                  <a:pt x="5449" y="7754"/>
                  <a:pt x="5410" y="7719"/>
                  <a:pt x="5407" y="7714"/>
                </a:cubicBezTo>
                <a:cubicBezTo>
                  <a:pt x="5407" y="7706"/>
                  <a:pt x="5407" y="7697"/>
                  <a:pt x="5407" y="7689"/>
                </a:cubicBezTo>
                <a:cubicBezTo>
                  <a:pt x="5445" y="7652"/>
                  <a:pt x="5454" y="7640"/>
                  <a:pt x="5507" y="7640"/>
                </a:cubicBezTo>
                <a:cubicBezTo>
                  <a:pt x="5557" y="7640"/>
                  <a:pt x="5547" y="7650"/>
                  <a:pt x="5581" y="7665"/>
                </a:cubicBezTo>
                <a:cubicBezTo>
                  <a:pt x="5619" y="7682"/>
                  <a:pt x="5665" y="7732"/>
                  <a:pt x="5680" y="7739"/>
                </a:cubicBezTo>
                <a:cubicBezTo>
                  <a:pt x="5705" y="7739"/>
                  <a:pt x="5713" y="7739"/>
                  <a:pt x="5705" y="7714"/>
                </a:cubicBezTo>
              </a:path>
              <a:path w="9006" h="3176">
                <a:moveTo>
                  <a:pt x="3473" y="9376"/>
                </a:moveTo>
                <a:cubicBezTo>
                  <a:pt x="3402" y="9425"/>
                  <a:pt x="3403" y="9432"/>
                  <a:pt x="3324" y="9451"/>
                </a:cubicBezTo>
                <a:cubicBezTo>
                  <a:pt x="3301" y="9457"/>
                  <a:pt x="3273" y="9448"/>
                  <a:pt x="3249" y="9451"/>
                </a:cubicBezTo>
                <a:cubicBezTo>
                  <a:pt x="3279" y="9428"/>
                  <a:pt x="3310" y="9401"/>
                  <a:pt x="3349" y="9376"/>
                </a:cubicBezTo>
                <a:cubicBezTo>
                  <a:pt x="3388" y="9351"/>
                  <a:pt x="3449" y="9336"/>
                  <a:pt x="3497" y="9302"/>
                </a:cubicBezTo>
                <a:cubicBezTo>
                  <a:pt x="3599" y="9229"/>
                  <a:pt x="3686" y="9161"/>
                  <a:pt x="3795" y="9103"/>
                </a:cubicBezTo>
                <a:cubicBezTo>
                  <a:pt x="3912" y="9041"/>
                  <a:pt x="4013" y="9010"/>
                  <a:pt x="4118" y="8930"/>
                </a:cubicBezTo>
                <a:cubicBezTo>
                  <a:pt x="4276" y="8810"/>
                  <a:pt x="4449" y="8694"/>
                  <a:pt x="4614" y="8582"/>
                </a:cubicBezTo>
                <a:cubicBezTo>
                  <a:pt x="4770" y="8476"/>
                  <a:pt x="4938" y="8383"/>
                  <a:pt x="5110" y="8310"/>
                </a:cubicBezTo>
                <a:cubicBezTo>
                  <a:pt x="5266" y="8244"/>
                  <a:pt x="5408" y="8147"/>
                  <a:pt x="5556" y="8062"/>
                </a:cubicBezTo>
                <a:cubicBezTo>
                  <a:pt x="5726" y="7964"/>
                  <a:pt x="5908" y="7887"/>
                  <a:pt x="6077" y="7789"/>
                </a:cubicBezTo>
                <a:cubicBezTo>
                  <a:pt x="6135" y="7755"/>
                  <a:pt x="6357" y="7609"/>
                  <a:pt x="6424" y="7615"/>
                </a:cubicBezTo>
                <a:cubicBezTo>
                  <a:pt x="6502" y="7622"/>
                  <a:pt x="6438" y="7628"/>
                  <a:pt x="6474" y="7665"/>
                </a:cubicBezTo>
                <a:cubicBezTo>
                  <a:pt x="6466" y="7665"/>
                  <a:pt x="6457" y="7665"/>
                  <a:pt x="6449" y="7665"/>
                </a:cubicBezTo>
              </a:path>
              <a:path w="9006" h="3176">
                <a:moveTo>
                  <a:pt x="6201" y="8632"/>
                </a:moveTo>
                <a:cubicBezTo>
                  <a:pt x="6319" y="8570"/>
                  <a:pt x="6449" y="8476"/>
                  <a:pt x="6573" y="8434"/>
                </a:cubicBezTo>
                <a:cubicBezTo>
                  <a:pt x="6756" y="8372"/>
                  <a:pt x="6930" y="8292"/>
                  <a:pt x="7119" y="8235"/>
                </a:cubicBezTo>
                <a:cubicBezTo>
                  <a:pt x="7345" y="8166"/>
                  <a:pt x="7560" y="8074"/>
                  <a:pt x="7789" y="8012"/>
                </a:cubicBezTo>
                <a:cubicBezTo>
                  <a:pt x="8063" y="7938"/>
                  <a:pt x="8330" y="7856"/>
                  <a:pt x="8607" y="7789"/>
                </a:cubicBezTo>
                <a:cubicBezTo>
                  <a:pt x="9257" y="7633"/>
                  <a:pt x="9905" y="7547"/>
                  <a:pt x="10567" y="7466"/>
                </a:cubicBezTo>
                <a:cubicBezTo>
                  <a:pt x="10825" y="7434"/>
                  <a:pt x="11034" y="7470"/>
                  <a:pt x="11286" y="7491"/>
                </a:cubicBezTo>
                <a:cubicBezTo>
                  <a:pt x="11412" y="7501"/>
                  <a:pt x="11536" y="7515"/>
                  <a:pt x="11658" y="7541"/>
                </a:cubicBezTo>
                <a:cubicBezTo>
                  <a:pt x="11710" y="7541"/>
                  <a:pt x="11728" y="7542"/>
                  <a:pt x="11757" y="75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93920" y="3170160"/>
            <a:ext cx="2419200" cy="1955880"/>
          </a:xfrm>
          <a:custGeom>
            <a:avLst/>
            <a:gdLst/>
            <a:ahLst/>
            <a:rect l="l" t="t" r="r" b="b"/>
            <a:pathLst>
              <a:path w="6723" h="5433">
                <a:moveTo>
                  <a:pt x="6102" y="9674"/>
                </a:moveTo>
                <a:cubicBezTo>
                  <a:pt x="6142" y="9691"/>
                  <a:pt x="6140" y="9675"/>
                  <a:pt x="6176" y="9699"/>
                </a:cubicBezTo>
                <a:cubicBezTo>
                  <a:pt x="6251" y="9750"/>
                  <a:pt x="6350" y="9766"/>
                  <a:pt x="6449" y="9773"/>
                </a:cubicBezTo>
                <a:cubicBezTo>
                  <a:pt x="6544" y="9780"/>
                  <a:pt x="6636" y="9755"/>
                  <a:pt x="6722" y="9748"/>
                </a:cubicBezTo>
                <a:cubicBezTo>
                  <a:pt x="6854" y="9737"/>
                  <a:pt x="6924" y="9731"/>
                  <a:pt x="7045" y="9674"/>
                </a:cubicBezTo>
                <a:cubicBezTo>
                  <a:pt x="7166" y="9617"/>
                  <a:pt x="7283" y="9613"/>
                  <a:pt x="7392" y="9550"/>
                </a:cubicBezTo>
                <a:cubicBezTo>
                  <a:pt x="7483" y="9498"/>
                  <a:pt x="7577" y="9443"/>
                  <a:pt x="7665" y="9401"/>
                </a:cubicBezTo>
                <a:cubicBezTo>
                  <a:pt x="7687" y="9378"/>
                  <a:pt x="7695" y="9367"/>
                  <a:pt x="7689" y="9401"/>
                </a:cubicBezTo>
                <a:cubicBezTo>
                  <a:pt x="7676" y="9475"/>
                  <a:pt x="7678" y="9549"/>
                  <a:pt x="7665" y="9624"/>
                </a:cubicBezTo>
                <a:cubicBezTo>
                  <a:pt x="7647" y="9727"/>
                  <a:pt x="7640" y="9815"/>
                  <a:pt x="7640" y="9922"/>
                </a:cubicBezTo>
                <a:cubicBezTo>
                  <a:pt x="7640" y="10148"/>
                  <a:pt x="7651" y="10370"/>
                  <a:pt x="7665" y="10592"/>
                </a:cubicBezTo>
                <a:cubicBezTo>
                  <a:pt x="7684" y="10892"/>
                  <a:pt x="7733" y="11598"/>
                  <a:pt x="7640" y="11782"/>
                </a:cubicBezTo>
              </a:path>
              <a:path w="6723" h="5433">
                <a:moveTo>
                  <a:pt x="5184" y="12030"/>
                </a:moveTo>
                <a:cubicBezTo>
                  <a:pt x="5271" y="12003"/>
                  <a:pt x="5366" y="11979"/>
                  <a:pt x="5457" y="11956"/>
                </a:cubicBezTo>
                <a:cubicBezTo>
                  <a:pt x="5731" y="11887"/>
                  <a:pt x="6018" y="11836"/>
                  <a:pt x="6300" y="11832"/>
                </a:cubicBezTo>
                <a:cubicBezTo>
                  <a:pt x="6606" y="11827"/>
                  <a:pt x="6915" y="11820"/>
                  <a:pt x="7218" y="11857"/>
                </a:cubicBezTo>
                <a:cubicBezTo>
                  <a:pt x="7459" y="11887"/>
                  <a:pt x="7698" y="11908"/>
                  <a:pt x="7938" y="11931"/>
                </a:cubicBezTo>
                <a:cubicBezTo>
                  <a:pt x="8186" y="11955"/>
                  <a:pt x="8434" y="12009"/>
                  <a:pt x="8682" y="12030"/>
                </a:cubicBezTo>
                <a:cubicBezTo>
                  <a:pt x="8814" y="12041"/>
                  <a:pt x="8927" y="12046"/>
                  <a:pt x="9054" y="12055"/>
                </a:cubicBezTo>
                <a:cubicBezTo>
                  <a:pt x="9142" y="12061"/>
                  <a:pt x="9147" y="12073"/>
                  <a:pt x="9153" y="12005"/>
                </a:cubicBezTo>
                <a:cubicBezTo>
                  <a:pt x="9145" y="11997"/>
                  <a:pt x="9136" y="11989"/>
                  <a:pt x="9128" y="11981"/>
                </a:cubicBezTo>
              </a:path>
              <a:path w="6723" h="5433">
                <a:moveTo>
                  <a:pt x="4490" y="10294"/>
                </a:moveTo>
                <a:cubicBezTo>
                  <a:pt x="4535" y="10169"/>
                  <a:pt x="4530" y="10042"/>
                  <a:pt x="4614" y="9922"/>
                </a:cubicBezTo>
                <a:cubicBezTo>
                  <a:pt x="4728" y="9759"/>
                  <a:pt x="4881" y="9623"/>
                  <a:pt x="5035" y="9500"/>
                </a:cubicBezTo>
                <a:cubicBezTo>
                  <a:pt x="5206" y="9363"/>
                  <a:pt x="5390" y="9258"/>
                  <a:pt x="5581" y="9153"/>
                </a:cubicBezTo>
                <a:cubicBezTo>
                  <a:pt x="5789" y="9039"/>
                  <a:pt x="5975" y="8986"/>
                  <a:pt x="6201" y="8930"/>
                </a:cubicBezTo>
                <a:cubicBezTo>
                  <a:pt x="6444" y="8870"/>
                  <a:pt x="6674" y="8828"/>
                  <a:pt x="6921" y="8806"/>
                </a:cubicBezTo>
                <a:cubicBezTo>
                  <a:pt x="7350" y="8767"/>
                  <a:pt x="7833" y="8821"/>
                  <a:pt x="8235" y="8930"/>
                </a:cubicBezTo>
                <a:cubicBezTo>
                  <a:pt x="8473" y="8995"/>
                  <a:pt x="8701" y="9080"/>
                  <a:pt x="8930" y="9178"/>
                </a:cubicBezTo>
                <a:cubicBezTo>
                  <a:pt x="9131" y="9264"/>
                  <a:pt x="9369" y="9398"/>
                  <a:pt x="9550" y="9525"/>
                </a:cubicBezTo>
                <a:cubicBezTo>
                  <a:pt x="9784" y="9689"/>
                  <a:pt x="9964" y="9899"/>
                  <a:pt x="10145" y="10120"/>
                </a:cubicBezTo>
                <a:cubicBezTo>
                  <a:pt x="10282" y="10287"/>
                  <a:pt x="10358" y="10439"/>
                  <a:pt x="10443" y="10641"/>
                </a:cubicBezTo>
                <a:cubicBezTo>
                  <a:pt x="10525" y="10837"/>
                  <a:pt x="10553" y="11004"/>
                  <a:pt x="10567" y="11212"/>
                </a:cubicBezTo>
                <a:cubicBezTo>
                  <a:pt x="10580" y="11403"/>
                  <a:pt x="10576" y="11589"/>
                  <a:pt x="10542" y="11782"/>
                </a:cubicBezTo>
                <a:cubicBezTo>
                  <a:pt x="10500" y="12022"/>
                  <a:pt x="10411" y="12262"/>
                  <a:pt x="10294" y="12477"/>
                </a:cubicBezTo>
                <a:cubicBezTo>
                  <a:pt x="10174" y="12696"/>
                  <a:pt x="9973" y="12969"/>
                  <a:pt x="9798" y="13146"/>
                </a:cubicBezTo>
                <a:cubicBezTo>
                  <a:pt x="9592" y="13354"/>
                  <a:pt x="9324" y="13530"/>
                  <a:pt x="9079" y="13692"/>
                </a:cubicBezTo>
                <a:cubicBezTo>
                  <a:pt x="8860" y="13837"/>
                  <a:pt x="8627" y="13924"/>
                  <a:pt x="8384" y="14015"/>
                </a:cubicBezTo>
                <a:cubicBezTo>
                  <a:pt x="7935" y="14183"/>
                  <a:pt x="7450" y="14270"/>
                  <a:pt x="6970" y="14238"/>
                </a:cubicBezTo>
                <a:cubicBezTo>
                  <a:pt x="6568" y="14211"/>
                  <a:pt x="6137" y="14146"/>
                  <a:pt x="5755" y="14015"/>
                </a:cubicBezTo>
                <a:cubicBezTo>
                  <a:pt x="5446" y="13909"/>
                  <a:pt x="5155" y="13752"/>
                  <a:pt x="4887" y="13568"/>
                </a:cubicBezTo>
                <a:cubicBezTo>
                  <a:pt x="4683" y="13428"/>
                  <a:pt x="4493" y="13270"/>
                  <a:pt x="4341" y="13072"/>
                </a:cubicBezTo>
                <a:cubicBezTo>
                  <a:pt x="4214" y="12906"/>
                  <a:pt x="4073" y="12605"/>
                  <a:pt x="4018" y="12402"/>
                </a:cubicBezTo>
                <a:cubicBezTo>
                  <a:pt x="3956" y="12173"/>
                  <a:pt x="3907" y="11897"/>
                  <a:pt x="3894" y="11658"/>
                </a:cubicBezTo>
                <a:cubicBezTo>
                  <a:pt x="3881" y="11419"/>
                  <a:pt x="3878" y="11179"/>
                  <a:pt x="3919" y="10939"/>
                </a:cubicBezTo>
                <a:cubicBezTo>
                  <a:pt x="4005" y="10428"/>
                  <a:pt x="4201" y="10038"/>
                  <a:pt x="4564" y="9674"/>
                </a:cubicBezTo>
                <a:cubicBezTo>
                  <a:pt x="4654" y="9584"/>
                  <a:pt x="4764" y="9525"/>
                  <a:pt x="4862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1830240"/>
            <a:ext cx="4044960" cy="3992760"/>
          </a:xfrm>
          <a:custGeom>
            <a:avLst/>
            <a:gdLst/>
            <a:ahLst/>
            <a:rect l="l" t="t" r="r" b="b"/>
            <a:pathLst>
              <a:path w="11238" h="11089">
                <a:moveTo>
                  <a:pt x="10790" y="16148"/>
                </a:moveTo>
                <a:cubicBezTo>
                  <a:pt x="10881" y="16159"/>
                  <a:pt x="11004" y="16181"/>
                  <a:pt x="11112" y="16173"/>
                </a:cubicBezTo>
                <a:cubicBezTo>
                  <a:pt x="11316" y="16157"/>
                  <a:pt x="11511" y="16093"/>
                  <a:pt x="11683" y="15974"/>
                </a:cubicBezTo>
                <a:cubicBezTo>
                  <a:pt x="12224" y="15601"/>
                  <a:pt x="12345" y="14949"/>
                  <a:pt x="12353" y="14337"/>
                </a:cubicBezTo>
                <a:cubicBezTo>
                  <a:pt x="12357" y="14013"/>
                  <a:pt x="12347" y="13691"/>
                  <a:pt x="12303" y="13370"/>
                </a:cubicBezTo>
                <a:cubicBezTo>
                  <a:pt x="12248" y="12973"/>
                  <a:pt x="12160" y="12584"/>
                  <a:pt x="12030" y="12204"/>
                </a:cubicBezTo>
                <a:cubicBezTo>
                  <a:pt x="11951" y="11974"/>
                  <a:pt x="11859" y="11718"/>
                  <a:pt x="11733" y="11509"/>
                </a:cubicBezTo>
                <a:cubicBezTo>
                  <a:pt x="11639" y="11352"/>
                  <a:pt x="11516" y="11247"/>
                  <a:pt x="11336" y="11286"/>
                </a:cubicBezTo>
                <a:cubicBezTo>
                  <a:pt x="11227" y="11310"/>
                  <a:pt x="11186" y="11445"/>
                  <a:pt x="11162" y="11534"/>
                </a:cubicBezTo>
                <a:cubicBezTo>
                  <a:pt x="11122" y="11684"/>
                  <a:pt x="11163" y="11891"/>
                  <a:pt x="11212" y="12030"/>
                </a:cubicBezTo>
                <a:cubicBezTo>
                  <a:pt x="11300" y="12280"/>
                  <a:pt x="11539" y="12487"/>
                  <a:pt x="11757" y="12626"/>
                </a:cubicBezTo>
                <a:cubicBezTo>
                  <a:pt x="11986" y="12771"/>
                  <a:pt x="12223" y="12903"/>
                  <a:pt x="12452" y="13047"/>
                </a:cubicBezTo>
                <a:cubicBezTo>
                  <a:pt x="12924" y="13344"/>
                  <a:pt x="13331" y="13902"/>
                  <a:pt x="13146" y="14486"/>
                </a:cubicBezTo>
                <a:cubicBezTo>
                  <a:pt x="13085" y="14679"/>
                  <a:pt x="12928" y="14886"/>
                  <a:pt x="12750" y="14982"/>
                </a:cubicBezTo>
                <a:cubicBezTo>
                  <a:pt x="12482" y="15126"/>
                  <a:pt x="12099" y="15056"/>
                  <a:pt x="11931" y="14784"/>
                </a:cubicBezTo>
                <a:cubicBezTo>
                  <a:pt x="11808" y="14539"/>
                  <a:pt x="11777" y="14495"/>
                  <a:pt x="11733" y="14337"/>
                </a:cubicBezTo>
              </a:path>
              <a:path w="11238" h="11089">
                <a:moveTo>
                  <a:pt x="12427" y="11261"/>
                </a:moveTo>
                <a:cubicBezTo>
                  <a:pt x="12689" y="11938"/>
                  <a:pt x="12750" y="13056"/>
                  <a:pt x="13345" y="13519"/>
                </a:cubicBezTo>
                <a:cubicBezTo>
                  <a:pt x="13648" y="13755"/>
                  <a:pt x="13800" y="13704"/>
                  <a:pt x="14039" y="13444"/>
                </a:cubicBezTo>
                <a:cubicBezTo>
                  <a:pt x="14304" y="13156"/>
                  <a:pt x="14231" y="12453"/>
                  <a:pt x="14188" y="12105"/>
                </a:cubicBezTo>
                <a:cubicBezTo>
                  <a:pt x="14142" y="11736"/>
                  <a:pt x="14031" y="11490"/>
                  <a:pt x="13767" y="11261"/>
                </a:cubicBezTo>
                <a:cubicBezTo>
                  <a:pt x="13742" y="11253"/>
                  <a:pt x="13717" y="11245"/>
                  <a:pt x="13692" y="11237"/>
                </a:cubicBezTo>
                <a:cubicBezTo>
                  <a:pt x="13458" y="11515"/>
                  <a:pt x="13343" y="11631"/>
                  <a:pt x="13419" y="12080"/>
                </a:cubicBezTo>
                <a:cubicBezTo>
                  <a:pt x="13459" y="12317"/>
                  <a:pt x="13496" y="12648"/>
                  <a:pt x="13717" y="12799"/>
                </a:cubicBezTo>
                <a:cubicBezTo>
                  <a:pt x="13935" y="12948"/>
                  <a:pt x="14193" y="12985"/>
                  <a:pt x="14387" y="12774"/>
                </a:cubicBezTo>
                <a:cubicBezTo>
                  <a:pt x="14581" y="12563"/>
                  <a:pt x="14621" y="12368"/>
                  <a:pt x="14684" y="12080"/>
                </a:cubicBezTo>
                <a:cubicBezTo>
                  <a:pt x="14732" y="11860"/>
                  <a:pt x="14716" y="11630"/>
                  <a:pt x="14684" y="11410"/>
                </a:cubicBezTo>
                <a:cubicBezTo>
                  <a:pt x="14657" y="11219"/>
                  <a:pt x="14601" y="11042"/>
                  <a:pt x="14536" y="10864"/>
                </a:cubicBezTo>
                <a:cubicBezTo>
                  <a:pt x="14501" y="10767"/>
                  <a:pt x="14451" y="10688"/>
                  <a:pt x="14412" y="10592"/>
                </a:cubicBezTo>
                <a:cubicBezTo>
                  <a:pt x="14438" y="10694"/>
                  <a:pt x="14454" y="10810"/>
                  <a:pt x="14486" y="10914"/>
                </a:cubicBezTo>
                <a:cubicBezTo>
                  <a:pt x="14607" y="11311"/>
                  <a:pt x="14729" y="11710"/>
                  <a:pt x="14858" y="12105"/>
                </a:cubicBezTo>
                <a:cubicBezTo>
                  <a:pt x="14937" y="12346"/>
                  <a:pt x="15028" y="12571"/>
                  <a:pt x="15131" y="12799"/>
                </a:cubicBezTo>
                <a:cubicBezTo>
                  <a:pt x="15131" y="12824"/>
                  <a:pt x="15131" y="12832"/>
                  <a:pt x="15131" y="12799"/>
                </a:cubicBezTo>
                <a:cubicBezTo>
                  <a:pt x="15042" y="12641"/>
                  <a:pt x="14955" y="12498"/>
                  <a:pt x="14883" y="12328"/>
                </a:cubicBezTo>
                <a:cubicBezTo>
                  <a:pt x="14669" y="11824"/>
                  <a:pt x="14275" y="10812"/>
                  <a:pt x="14635" y="10294"/>
                </a:cubicBezTo>
                <a:cubicBezTo>
                  <a:pt x="14705" y="10194"/>
                  <a:pt x="14850" y="10132"/>
                  <a:pt x="14957" y="10120"/>
                </a:cubicBezTo>
                <a:cubicBezTo>
                  <a:pt x="15119" y="10101"/>
                  <a:pt x="15241" y="10145"/>
                  <a:pt x="15354" y="10269"/>
                </a:cubicBezTo>
                <a:cubicBezTo>
                  <a:pt x="15673" y="10619"/>
                  <a:pt x="15593" y="11167"/>
                  <a:pt x="15379" y="11534"/>
                </a:cubicBezTo>
                <a:cubicBezTo>
                  <a:pt x="15073" y="12059"/>
                  <a:pt x="14506" y="11972"/>
                  <a:pt x="14188" y="11534"/>
                </a:cubicBezTo>
                <a:cubicBezTo>
                  <a:pt x="14108" y="11424"/>
                  <a:pt x="14076" y="11269"/>
                  <a:pt x="14064" y="11137"/>
                </a:cubicBezTo>
                <a:cubicBezTo>
                  <a:pt x="14061" y="11102"/>
                  <a:pt x="14118" y="11098"/>
                  <a:pt x="14114" y="11063"/>
                </a:cubicBezTo>
                <a:cubicBezTo>
                  <a:pt x="14174" y="11100"/>
                  <a:pt x="14266" y="11144"/>
                  <a:pt x="14337" y="11187"/>
                </a:cubicBezTo>
                <a:cubicBezTo>
                  <a:pt x="14477" y="11272"/>
                  <a:pt x="14621" y="11388"/>
                  <a:pt x="14784" y="11435"/>
                </a:cubicBezTo>
                <a:cubicBezTo>
                  <a:pt x="14949" y="11482"/>
                  <a:pt x="15126" y="11477"/>
                  <a:pt x="15280" y="11410"/>
                </a:cubicBezTo>
                <a:cubicBezTo>
                  <a:pt x="15459" y="11332"/>
                  <a:pt x="15498" y="11226"/>
                  <a:pt x="15577" y="11063"/>
                </a:cubicBezTo>
                <a:cubicBezTo>
                  <a:pt x="15692" y="10825"/>
                  <a:pt x="15633" y="10523"/>
                  <a:pt x="15627" y="10269"/>
                </a:cubicBezTo>
                <a:cubicBezTo>
                  <a:pt x="15620" y="9965"/>
                  <a:pt x="15535" y="9661"/>
                  <a:pt x="15429" y="9376"/>
                </a:cubicBezTo>
                <a:cubicBezTo>
                  <a:pt x="15365" y="9205"/>
                  <a:pt x="15307" y="9127"/>
                  <a:pt x="15205" y="9004"/>
                </a:cubicBezTo>
                <a:cubicBezTo>
                  <a:pt x="15180" y="9004"/>
                  <a:pt x="15172" y="9004"/>
                  <a:pt x="15156" y="9004"/>
                </a:cubicBezTo>
                <a:cubicBezTo>
                  <a:pt x="15176" y="9113"/>
                  <a:pt x="15180" y="9215"/>
                  <a:pt x="15205" y="9327"/>
                </a:cubicBezTo>
                <a:cubicBezTo>
                  <a:pt x="15260" y="9574"/>
                  <a:pt x="15340" y="9819"/>
                  <a:pt x="15453" y="10046"/>
                </a:cubicBezTo>
                <a:cubicBezTo>
                  <a:pt x="15565" y="10271"/>
                  <a:pt x="15692" y="10538"/>
                  <a:pt x="15825" y="10740"/>
                </a:cubicBezTo>
                <a:cubicBezTo>
                  <a:pt x="15859" y="10791"/>
                  <a:pt x="15893" y="10787"/>
                  <a:pt x="15925" y="10840"/>
                </a:cubicBezTo>
                <a:cubicBezTo>
                  <a:pt x="15894" y="10729"/>
                  <a:pt x="15859" y="10610"/>
                  <a:pt x="15825" y="10492"/>
                </a:cubicBezTo>
                <a:cubicBezTo>
                  <a:pt x="15777" y="10326"/>
                  <a:pt x="15720" y="10145"/>
                  <a:pt x="15701" y="9971"/>
                </a:cubicBezTo>
                <a:cubicBezTo>
                  <a:pt x="15684" y="9817"/>
                  <a:pt x="15674" y="9654"/>
                  <a:pt x="15701" y="9500"/>
                </a:cubicBezTo>
                <a:cubicBezTo>
                  <a:pt x="15723" y="9373"/>
                  <a:pt x="15802" y="9114"/>
                  <a:pt x="15974" y="9103"/>
                </a:cubicBezTo>
                <a:cubicBezTo>
                  <a:pt x="16135" y="9093"/>
                  <a:pt x="16283" y="9276"/>
                  <a:pt x="16371" y="9376"/>
                </a:cubicBezTo>
                <a:cubicBezTo>
                  <a:pt x="16467" y="9485"/>
                  <a:pt x="16528" y="9622"/>
                  <a:pt x="16594" y="9748"/>
                </a:cubicBezTo>
                <a:cubicBezTo>
                  <a:pt x="16661" y="9876"/>
                  <a:pt x="16710" y="10013"/>
                  <a:pt x="16768" y="10145"/>
                </a:cubicBezTo>
                <a:cubicBezTo>
                  <a:pt x="16752" y="10096"/>
                  <a:pt x="16811" y="10194"/>
                  <a:pt x="16793" y="10145"/>
                </a:cubicBezTo>
                <a:cubicBezTo>
                  <a:pt x="16747" y="10018"/>
                  <a:pt x="16684" y="9905"/>
                  <a:pt x="16644" y="9773"/>
                </a:cubicBezTo>
                <a:cubicBezTo>
                  <a:pt x="16597" y="9621"/>
                  <a:pt x="16554" y="9457"/>
                  <a:pt x="16520" y="9302"/>
                </a:cubicBezTo>
                <a:cubicBezTo>
                  <a:pt x="16467" y="9063"/>
                  <a:pt x="16426" y="8780"/>
                  <a:pt x="16520" y="8558"/>
                </a:cubicBezTo>
                <a:cubicBezTo>
                  <a:pt x="16592" y="8386"/>
                  <a:pt x="16623" y="8354"/>
                  <a:pt x="16793" y="8285"/>
                </a:cubicBezTo>
                <a:cubicBezTo>
                  <a:pt x="16992" y="8204"/>
                  <a:pt x="17307" y="8270"/>
                  <a:pt x="17462" y="8409"/>
                </a:cubicBezTo>
                <a:cubicBezTo>
                  <a:pt x="17598" y="8532"/>
                  <a:pt x="17665" y="8707"/>
                  <a:pt x="17760" y="8855"/>
                </a:cubicBezTo>
                <a:cubicBezTo>
                  <a:pt x="17741" y="8828"/>
                  <a:pt x="17779" y="8883"/>
                  <a:pt x="17760" y="8855"/>
                </a:cubicBezTo>
                <a:cubicBezTo>
                  <a:pt x="17699" y="8765"/>
                  <a:pt x="17644" y="8638"/>
                  <a:pt x="17562" y="8558"/>
                </a:cubicBezTo>
                <a:cubicBezTo>
                  <a:pt x="17465" y="8463"/>
                  <a:pt x="17364" y="8386"/>
                  <a:pt x="17239" y="8334"/>
                </a:cubicBezTo>
                <a:cubicBezTo>
                  <a:pt x="17074" y="8266"/>
                  <a:pt x="16871" y="8220"/>
                  <a:pt x="16694" y="8285"/>
                </a:cubicBezTo>
                <a:cubicBezTo>
                  <a:pt x="16564" y="8333"/>
                  <a:pt x="16498" y="8359"/>
                  <a:pt x="16421" y="8483"/>
                </a:cubicBezTo>
                <a:cubicBezTo>
                  <a:pt x="16247" y="8762"/>
                  <a:pt x="16405" y="9358"/>
                  <a:pt x="16669" y="9525"/>
                </a:cubicBezTo>
                <a:cubicBezTo>
                  <a:pt x="16889" y="9663"/>
                  <a:pt x="17194" y="9675"/>
                  <a:pt x="17388" y="9500"/>
                </a:cubicBezTo>
                <a:cubicBezTo>
                  <a:pt x="17562" y="9343"/>
                  <a:pt x="17616" y="9250"/>
                  <a:pt x="17686" y="9004"/>
                </a:cubicBezTo>
                <a:cubicBezTo>
                  <a:pt x="17760" y="8743"/>
                  <a:pt x="17667" y="8416"/>
                  <a:pt x="17537" y="8186"/>
                </a:cubicBezTo>
                <a:cubicBezTo>
                  <a:pt x="17508" y="8134"/>
                  <a:pt x="17433" y="8118"/>
                  <a:pt x="17413" y="8086"/>
                </a:cubicBezTo>
                <a:cubicBezTo>
                  <a:pt x="17445" y="8215"/>
                  <a:pt x="17447" y="8358"/>
                  <a:pt x="17512" y="8508"/>
                </a:cubicBezTo>
                <a:cubicBezTo>
                  <a:pt x="17575" y="8652"/>
                  <a:pt x="17648" y="8819"/>
                  <a:pt x="17760" y="8930"/>
                </a:cubicBezTo>
                <a:cubicBezTo>
                  <a:pt x="17880" y="9049"/>
                  <a:pt x="18036" y="9221"/>
                  <a:pt x="18231" y="9153"/>
                </a:cubicBezTo>
                <a:cubicBezTo>
                  <a:pt x="18282" y="9135"/>
                  <a:pt x="18355" y="9051"/>
                  <a:pt x="18380" y="9004"/>
                </a:cubicBezTo>
                <a:cubicBezTo>
                  <a:pt x="18426" y="8918"/>
                  <a:pt x="18312" y="8706"/>
                  <a:pt x="18281" y="8632"/>
                </a:cubicBezTo>
                <a:cubicBezTo>
                  <a:pt x="18183" y="8397"/>
                  <a:pt x="17983" y="8223"/>
                  <a:pt x="17884" y="7987"/>
                </a:cubicBezTo>
                <a:cubicBezTo>
                  <a:pt x="17842" y="7887"/>
                  <a:pt x="17759" y="7701"/>
                  <a:pt x="17785" y="7590"/>
                </a:cubicBezTo>
                <a:cubicBezTo>
                  <a:pt x="17815" y="7463"/>
                  <a:pt x="17829" y="7304"/>
                  <a:pt x="17983" y="7268"/>
                </a:cubicBezTo>
                <a:cubicBezTo>
                  <a:pt x="18098" y="7241"/>
                  <a:pt x="18191" y="7306"/>
                  <a:pt x="18281" y="7367"/>
                </a:cubicBezTo>
                <a:cubicBezTo>
                  <a:pt x="18579" y="7568"/>
                  <a:pt x="18731" y="7978"/>
                  <a:pt x="18876" y="8285"/>
                </a:cubicBezTo>
                <a:cubicBezTo>
                  <a:pt x="18898" y="8332"/>
                  <a:pt x="18905" y="8362"/>
                  <a:pt x="18926" y="8409"/>
                </a:cubicBezTo>
                <a:cubicBezTo>
                  <a:pt x="18886" y="8298"/>
                  <a:pt x="18846" y="8176"/>
                  <a:pt x="18802" y="8062"/>
                </a:cubicBezTo>
                <a:cubicBezTo>
                  <a:pt x="18720" y="7850"/>
                  <a:pt x="18619" y="7634"/>
                  <a:pt x="18554" y="7417"/>
                </a:cubicBezTo>
                <a:cubicBezTo>
                  <a:pt x="18494" y="7218"/>
                  <a:pt x="18519" y="7059"/>
                  <a:pt x="18504" y="6871"/>
                </a:cubicBezTo>
                <a:cubicBezTo>
                  <a:pt x="18597" y="6939"/>
                  <a:pt x="18701" y="6916"/>
                  <a:pt x="18827" y="7094"/>
                </a:cubicBezTo>
                <a:cubicBezTo>
                  <a:pt x="18911" y="7212"/>
                  <a:pt x="18949" y="7386"/>
                  <a:pt x="19050" y="7491"/>
                </a:cubicBezTo>
                <a:cubicBezTo>
                  <a:pt x="19196" y="7643"/>
                  <a:pt x="19384" y="7821"/>
                  <a:pt x="19596" y="7888"/>
                </a:cubicBezTo>
                <a:cubicBezTo>
                  <a:pt x="19775" y="7945"/>
                  <a:pt x="19941" y="7878"/>
                  <a:pt x="20042" y="7739"/>
                </a:cubicBezTo>
                <a:cubicBezTo>
                  <a:pt x="20103" y="7655"/>
                  <a:pt x="20131" y="7531"/>
                  <a:pt x="20117" y="7417"/>
                </a:cubicBezTo>
                <a:cubicBezTo>
                  <a:pt x="20077" y="7091"/>
                  <a:pt x="19785" y="6699"/>
                  <a:pt x="19596" y="6449"/>
                </a:cubicBezTo>
                <a:cubicBezTo>
                  <a:pt x="19585" y="6434"/>
                  <a:pt x="19524" y="6380"/>
                  <a:pt x="19521" y="6375"/>
                </a:cubicBezTo>
                <a:cubicBezTo>
                  <a:pt x="19604" y="6526"/>
                  <a:pt x="19637" y="6668"/>
                  <a:pt x="19769" y="6796"/>
                </a:cubicBezTo>
                <a:cubicBezTo>
                  <a:pt x="19870" y="6894"/>
                  <a:pt x="20009" y="6990"/>
                  <a:pt x="20141" y="7045"/>
                </a:cubicBezTo>
                <a:cubicBezTo>
                  <a:pt x="20424" y="7164"/>
                  <a:pt x="20826" y="7212"/>
                  <a:pt x="21109" y="7069"/>
                </a:cubicBezTo>
                <a:cubicBezTo>
                  <a:pt x="21362" y="6941"/>
                  <a:pt x="21467" y="6685"/>
                  <a:pt x="21481" y="6424"/>
                </a:cubicBezTo>
                <a:cubicBezTo>
                  <a:pt x="21513" y="5841"/>
                  <a:pt x="21042" y="5183"/>
                  <a:pt x="20464" y="5085"/>
                </a:cubicBezTo>
                <a:cubicBezTo>
                  <a:pt x="20108" y="5025"/>
                  <a:pt x="19951" y="5360"/>
                  <a:pt x="19993" y="5655"/>
                </a:cubicBezTo>
                <a:cubicBezTo>
                  <a:pt x="20034" y="5937"/>
                  <a:pt x="20224" y="6137"/>
                  <a:pt x="20439" y="6300"/>
                </a:cubicBezTo>
                <a:cubicBezTo>
                  <a:pt x="20845" y="6608"/>
                  <a:pt x="21464" y="6710"/>
                  <a:pt x="21952" y="6573"/>
                </a:cubicBezTo>
                <a:cubicBezTo>
                  <a:pt x="21977" y="6548"/>
                  <a:pt x="22002" y="6524"/>
                  <a:pt x="22027" y="6499"/>
                </a:cubicBezTo>
              </a:path>
              <a:path w="11238" h="11089">
                <a:moveTo>
                  <a:pt x="19273" y="5655"/>
                </a:moveTo>
                <a:cubicBezTo>
                  <a:pt x="19318" y="5629"/>
                  <a:pt x="19355" y="5638"/>
                  <a:pt x="19397" y="5606"/>
                </a:cubicBezTo>
              </a:path>
              <a:path w="11238" h="11089">
                <a:moveTo>
                  <a:pt x="11981" y="12898"/>
                </a:moveTo>
                <a:cubicBezTo>
                  <a:pt x="12040" y="12755"/>
                  <a:pt x="12128" y="12692"/>
                  <a:pt x="12229" y="12576"/>
                </a:cubicBezTo>
                <a:cubicBezTo>
                  <a:pt x="12394" y="12388"/>
                  <a:pt x="12564" y="12242"/>
                  <a:pt x="12774" y="12105"/>
                </a:cubicBezTo>
                <a:cubicBezTo>
                  <a:pt x="12985" y="11967"/>
                  <a:pt x="13189" y="11829"/>
                  <a:pt x="13395" y="116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30840" y="2911320"/>
            <a:ext cx="3402000" cy="2581560"/>
          </a:xfrm>
          <a:custGeom>
            <a:avLst/>
            <a:gdLst/>
            <a:ahLst/>
            <a:rect l="l" t="t" r="r" b="b"/>
            <a:pathLst>
              <a:path w="9452" h="7170">
                <a:moveTo>
                  <a:pt x="13419" y="14511"/>
                </a:moveTo>
                <a:cubicBezTo>
                  <a:pt x="13522" y="14648"/>
                  <a:pt x="13592" y="14724"/>
                  <a:pt x="13742" y="14808"/>
                </a:cubicBezTo>
                <a:cubicBezTo>
                  <a:pt x="13880" y="14886"/>
                  <a:pt x="14033" y="14904"/>
                  <a:pt x="14188" y="14908"/>
                </a:cubicBezTo>
                <a:cubicBezTo>
                  <a:pt x="14338" y="14912"/>
                  <a:pt x="14476" y="14870"/>
                  <a:pt x="14610" y="14808"/>
                </a:cubicBezTo>
                <a:cubicBezTo>
                  <a:pt x="14827" y="14709"/>
                  <a:pt x="14924" y="14543"/>
                  <a:pt x="15007" y="14337"/>
                </a:cubicBezTo>
                <a:cubicBezTo>
                  <a:pt x="15076" y="14165"/>
                  <a:pt x="15127" y="14030"/>
                  <a:pt x="15106" y="13841"/>
                </a:cubicBezTo>
                <a:cubicBezTo>
                  <a:pt x="15089" y="13685"/>
                  <a:pt x="15041" y="13514"/>
                  <a:pt x="14982" y="13370"/>
                </a:cubicBezTo>
                <a:cubicBezTo>
                  <a:pt x="14933" y="13251"/>
                  <a:pt x="14836" y="13079"/>
                  <a:pt x="14734" y="12998"/>
                </a:cubicBezTo>
                <a:cubicBezTo>
                  <a:pt x="14691" y="12964"/>
                  <a:pt x="14684" y="12985"/>
                  <a:pt x="14635" y="12973"/>
                </a:cubicBezTo>
                <a:cubicBezTo>
                  <a:pt x="14622" y="13053"/>
                  <a:pt x="14619" y="13102"/>
                  <a:pt x="14660" y="13196"/>
                </a:cubicBezTo>
                <a:cubicBezTo>
                  <a:pt x="14732" y="13360"/>
                  <a:pt x="14792" y="13526"/>
                  <a:pt x="14858" y="13692"/>
                </a:cubicBezTo>
                <a:cubicBezTo>
                  <a:pt x="14942" y="13905"/>
                  <a:pt x="15061" y="14117"/>
                  <a:pt x="15180" y="14312"/>
                </a:cubicBezTo>
                <a:cubicBezTo>
                  <a:pt x="15315" y="14534"/>
                  <a:pt x="15452" y="14754"/>
                  <a:pt x="15577" y="14982"/>
                </a:cubicBezTo>
                <a:cubicBezTo>
                  <a:pt x="15601" y="15026"/>
                  <a:pt x="15723" y="15243"/>
                  <a:pt x="15776" y="15255"/>
                </a:cubicBezTo>
                <a:cubicBezTo>
                  <a:pt x="15860" y="15274"/>
                  <a:pt x="15803" y="15150"/>
                  <a:pt x="15801" y="15131"/>
                </a:cubicBezTo>
              </a:path>
              <a:path w="9452" h="7170">
                <a:moveTo>
                  <a:pt x="15230" y="12303"/>
                </a:moveTo>
                <a:cubicBezTo>
                  <a:pt x="15290" y="12443"/>
                  <a:pt x="15351" y="12583"/>
                  <a:pt x="15404" y="12725"/>
                </a:cubicBezTo>
                <a:cubicBezTo>
                  <a:pt x="15478" y="12921"/>
                  <a:pt x="15534" y="13122"/>
                  <a:pt x="15602" y="13320"/>
                </a:cubicBezTo>
                <a:cubicBezTo>
                  <a:pt x="15739" y="13722"/>
                  <a:pt x="15899" y="14189"/>
                  <a:pt x="16148" y="14536"/>
                </a:cubicBezTo>
                <a:cubicBezTo>
                  <a:pt x="16230" y="14651"/>
                  <a:pt x="16274" y="14687"/>
                  <a:pt x="16371" y="14784"/>
                </a:cubicBezTo>
                <a:cubicBezTo>
                  <a:pt x="16337" y="14715"/>
                  <a:pt x="16315" y="14629"/>
                  <a:pt x="16272" y="14560"/>
                </a:cubicBezTo>
                <a:cubicBezTo>
                  <a:pt x="16197" y="14438"/>
                  <a:pt x="16093" y="14274"/>
                  <a:pt x="15999" y="14163"/>
                </a:cubicBezTo>
                <a:cubicBezTo>
                  <a:pt x="15879" y="14021"/>
                  <a:pt x="15747" y="13939"/>
                  <a:pt x="15602" y="13841"/>
                </a:cubicBezTo>
                <a:cubicBezTo>
                  <a:pt x="15364" y="13680"/>
                  <a:pt x="15092" y="13612"/>
                  <a:pt x="14858" y="13816"/>
                </a:cubicBezTo>
                <a:cubicBezTo>
                  <a:pt x="14772" y="13891"/>
                  <a:pt x="14758" y="14006"/>
                  <a:pt x="14759" y="14114"/>
                </a:cubicBezTo>
                <a:cubicBezTo>
                  <a:pt x="14760" y="14216"/>
                  <a:pt x="14791" y="14306"/>
                  <a:pt x="14883" y="14362"/>
                </a:cubicBezTo>
                <a:cubicBezTo>
                  <a:pt x="15057" y="14468"/>
                  <a:pt x="15201" y="14441"/>
                  <a:pt x="15379" y="14387"/>
                </a:cubicBezTo>
                <a:cubicBezTo>
                  <a:pt x="15520" y="14344"/>
                  <a:pt x="15607" y="14179"/>
                  <a:pt x="15677" y="14064"/>
                </a:cubicBezTo>
                <a:cubicBezTo>
                  <a:pt x="15760" y="13927"/>
                  <a:pt x="15808" y="13777"/>
                  <a:pt x="15825" y="13618"/>
                </a:cubicBezTo>
                <a:cubicBezTo>
                  <a:pt x="15847" y="13409"/>
                  <a:pt x="15820" y="13180"/>
                  <a:pt x="15801" y="12973"/>
                </a:cubicBezTo>
                <a:cubicBezTo>
                  <a:pt x="15788" y="12834"/>
                  <a:pt x="15766" y="12692"/>
                  <a:pt x="15776" y="12551"/>
                </a:cubicBezTo>
                <a:cubicBezTo>
                  <a:pt x="15784" y="12439"/>
                  <a:pt x="15840" y="12370"/>
                  <a:pt x="15875" y="12278"/>
                </a:cubicBezTo>
                <a:cubicBezTo>
                  <a:pt x="15883" y="12270"/>
                  <a:pt x="15892" y="12262"/>
                  <a:pt x="15900" y="12254"/>
                </a:cubicBezTo>
                <a:cubicBezTo>
                  <a:pt x="15998" y="12295"/>
                  <a:pt x="16043" y="12260"/>
                  <a:pt x="16148" y="12328"/>
                </a:cubicBezTo>
                <a:cubicBezTo>
                  <a:pt x="16273" y="12409"/>
                  <a:pt x="16442" y="12605"/>
                  <a:pt x="16520" y="12725"/>
                </a:cubicBezTo>
                <a:cubicBezTo>
                  <a:pt x="16605" y="12856"/>
                  <a:pt x="16651" y="13025"/>
                  <a:pt x="16743" y="13146"/>
                </a:cubicBezTo>
                <a:cubicBezTo>
                  <a:pt x="16759" y="13167"/>
                  <a:pt x="16811" y="13187"/>
                  <a:pt x="16818" y="13196"/>
                </a:cubicBezTo>
                <a:cubicBezTo>
                  <a:pt x="16766" y="13104"/>
                  <a:pt x="16727" y="13014"/>
                  <a:pt x="16669" y="12923"/>
                </a:cubicBezTo>
                <a:cubicBezTo>
                  <a:pt x="16535" y="12715"/>
                  <a:pt x="16322" y="12467"/>
                  <a:pt x="16098" y="12353"/>
                </a:cubicBezTo>
                <a:cubicBezTo>
                  <a:pt x="15998" y="12302"/>
                  <a:pt x="15961" y="12285"/>
                  <a:pt x="15850" y="12328"/>
                </a:cubicBezTo>
                <a:cubicBezTo>
                  <a:pt x="15713" y="12382"/>
                  <a:pt x="15725" y="12597"/>
                  <a:pt x="15701" y="12700"/>
                </a:cubicBezTo>
                <a:cubicBezTo>
                  <a:pt x="15634" y="12986"/>
                  <a:pt x="15708" y="13343"/>
                  <a:pt x="15801" y="13618"/>
                </a:cubicBezTo>
                <a:cubicBezTo>
                  <a:pt x="15873" y="13832"/>
                  <a:pt x="15966" y="14015"/>
                  <a:pt x="16148" y="14139"/>
                </a:cubicBezTo>
                <a:cubicBezTo>
                  <a:pt x="16325" y="14260"/>
                  <a:pt x="16460" y="14210"/>
                  <a:pt x="16619" y="14089"/>
                </a:cubicBezTo>
                <a:cubicBezTo>
                  <a:pt x="16737" y="13999"/>
                  <a:pt x="16767" y="13827"/>
                  <a:pt x="16793" y="13692"/>
                </a:cubicBezTo>
                <a:cubicBezTo>
                  <a:pt x="16842" y="13435"/>
                  <a:pt x="16775" y="13199"/>
                  <a:pt x="16718" y="12948"/>
                </a:cubicBezTo>
                <a:cubicBezTo>
                  <a:pt x="16686" y="12808"/>
                  <a:pt x="16618" y="12650"/>
                  <a:pt x="16545" y="12526"/>
                </a:cubicBezTo>
                <a:cubicBezTo>
                  <a:pt x="16497" y="12444"/>
                  <a:pt x="16419" y="12389"/>
                  <a:pt x="16371" y="12328"/>
                </a:cubicBezTo>
                <a:cubicBezTo>
                  <a:pt x="16376" y="12394"/>
                  <a:pt x="16329" y="12438"/>
                  <a:pt x="16346" y="12502"/>
                </a:cubicBezTo>
                <a:cubicBezTo>
                  <a:pt x="16382" y="12643"/>
                  <a:pt x="16461" y="12768"/>
                  <a:pt x="16520" y="12898"/>
                </a:cubicBezTo>
                <a:cubicBezTo>
                  <a:pt x="16598" y="13070"/>
                  <a:pt x="16687" y="13207"/>
                  <a:pt x="16818" y="13345"/>
                </a:cubicBezTo>
                <a:cubicBezTo>
                  <a:pt x="16942" y="13475"/>
                  <a:pt x="17165" y="13697"/>
                  <a:pt x="17363" y="13618"/>
                </a:cubicBezTo>
                <a:cubicBezTo>
                  <a:pt x="17519" y="13556"/>
                  <a:pt x="17555" y="13451"/>
                  <a:pt x="17587" y="13295"/>
                </a:cubicBezTo>
                <a:cubicBezTo>
                  <a:pt x="17631" y="13078"/>
                  <a:pt x="17455" y="12768"/>
                  <a:pt x="17338" y="12601"/>
                </a:cubicBezTo>
                <a:cubicBezTo>
                  <a:pt x="17239" y="12460"/>
                  <a:pt x="17098" y="12337"/>
                  <a:pt x="16966" y="12229"/>
                </a:cubicBezTo>
                <a:cubicBezTo>
                  <a:pt x="16835" y="12122"/>
                  <a:pt x="16673" y="12082"/>
                  <a:pt x="16545" y="11981"/>
                </a:cubicBezTo>
                <a:cubicBezTo>
                  <a:pt x="16503" y="11947"/>
                  <a:pt x="16468" y="11876"/>
                  <a:pt x="16446" y="11857"/>
                </a:cubicBezTo>
                <a:cubicBezTo>
                  <a:pt x="16499" y="11816"/>
                  <a:pt x="16541" y="11725"/>
                  <a:pt x="16619" y="11683"/>
                </a:cubicBezTo>
                <a:cubicBezTo>
                  <a:pt x="16825" y="11572"/>
                  <a:pt x="16969" y="11529"/>
                  <a:pt x="17190" y="11534"/>
                </a:cubicBezTo>
                <a:cubicBezTo>
                  <a:pt x="17198" y="11542"/>
                  <a:pt x="17206" y="11551"/>
                  <a:pt x="17214" y="11559"/>
                </a:cubicBezTo>
                <a:cubicBezTo>
                  <a:pt x="17232" y="11653"/>
                  <a:pt x="17286" y="11722"/>
                  <a:pt x="17289" y="11832"/>
                </a:cubicBezTo>
                <a:cubicBezTo>
                  <a:pt x="17295" y="12048"/>
                  <a:pt x="17255" y="12177"/>
                  <a:pt x="17314" y="12402"/>
                </a:cubicBezTo>
                <a:cubicBezTo>
                  <a:pt x="17375" y="12633"/>
                  <a:pt x="17492" y="12776"/>
                  <a:pt x="17735" y="12824"/>
                </a:cubicBezTo>
                <a:cubicBezTo>
                  <a:pt x="17919" y="12860"/>
                  <a:pt x="18094" y="12764"/>
                  <a:pt x="18107" y="12576"/>
                </a:cubicBezTo>
                <a:cubicBezTo>
                  <a:pt x="18116" y="12450"/>
                  <a:pt x="17984" y="12286"/>
                  <a:pt x="17934" y="12179"/>
                </a:cubicBezTo>
                <a:cubicBezTo>
                  <a:pt x="17815" y="11925"/>
                  <a:pt x="17657" y="11676"/>
                  <a:pt x="17686" y="11385"/>
                </a:cubicBezTo>
                <a:cubicBezTo>
                  <a:pt x="17702" y="11222"/>
                  <a:pt x="17768" y="11088"/>
                  <a:pt x="17934" y="11063"/>
                </a:cubicBezTo>
                <a:cubicBezTo>
                  <a:pt x="18078" y="11042"/>
                  <a:pt x="18141" y="11091"/>
                  <a:pt x="18256" y="11162"/>
                </a:cubicBezTo>
                <a:cubicBezTo>
                  <a:pt x="18395" y="11248"/>
                  <a:pt x="18490" y="11429"/>
                  <a:pt x="18579" y="11559"/>
                </a:cubicBezTo>
                <a:cubicBezTo>
                  <a:pt x="18579" y="11587"/>
                  <a:pt x="18581" y="11598"/>
                  <a:pt x="18604" y="11609"/>
                </a:cubicBezTo>
                <a:cubicBezTo>
                  <a:pt x="18561" y="11554"/>
                  <a:pt x="18525" y="11486"/>
                  <a:pt x="18479" y="11435"/>
                </a:cubicBezTo>
                <a:cubicBezTo>
                  <a:pt x="18408" y="11355"/>
                  <a:pt x="18338" y="11252"/>
                  <a:pt x="18256" y="11187"/>
                </a:cubicBezTo>
                <a:cubicBezTo>
                  <a:pt x="18171" y="11120"/>
                  <a:pt x="18067" y="11058"/>
                  <a:pt x="17959" y="11038"/>
                </a:cubicBezTo>
                <a:cubicBezTo>
                  <a:pt x="17844" y="11017"/>
                  <a:pt x="17794" y="11049"/>
                  <a:pt x="17711" y="11112"/>
                </a:cubicBezTo>
                <a:cubicBezTo>
                  <a:pt x="17536" y="11245"/>
                  <a:pt x="17615" y="11557"/>
                  <a:pt x="17661" y="11733"/>
                </a:cubicBezTo>
                <a:cubicBezTo>
                  <a:pt x="17713" y="11931"/>
                  <a:pt x="17784" y="12194"/>
                  <a:pt x="17959" y="12328"/>
                </a:cubicBezTo>
                <a:cubicBezTo>
                  <a:pt x="18055" y="12402"/>
                  <a:pt x="18139" y="12411"/>
                  <a:pt x="18256" y="12378"/>
                </a:cubicBezTo>
                <a:cubicBezTo>
                  <a:pt x="18371" y="12345"/>
                  <a:pt x="18418" y="12244"/>
                  <a:pt x="18479" y="12154"/>
                </a:cubicBezTo>
                <a:cubicBezTo>
                  <a:pt x="18567" y="12025"/>
                  <a:pt x="18568" y="11883"/>
                  <a:pt x="18579" y="11733"/>
                </a:cubicBezTo>
                <a:cubicBezTo>
                  <a:pt x="18595" y="11508"/>
                  <a:pt x="18533" y="11304"/>
                  <a:pt x="18479" y="11088"/>
                </a:cubicBezTo>
                <a:cubicBezTo>
                  <a:pt x="18439" y="10929"/>
                  <a:pt x="18367" y="10792"/>
                  <a:pt x="18306" y="10641"/>
                </a:cubicBezTo>
                <a:cubicBezTo>
                  <a:pt x="18264" y="10537"/>
                  <a:pt x="18235" y="10442"/>
                  <a:pt x="18182" y="10344"/>
                </a:cubicBezTo>
                <a:cubicBezTo>
                  <a:pt x="18162" y="10303"/>
                  <a:pt x="18164" y="10287"/>
                  <a:pt x="18132" y="10294"/>
                </a:cubicBezTo>
                <a:cubicBezTo>
                  <a:pt x="18151" y="10384"/>
                  <a:pt x="18155" y="10475"/>
                  <a:pt x="18182" y="10567"/>
                </a:cubicBezTo>
                <a:cubicBezTo>
                  <a:pt x="18226" y="10718"/>
                  <a:pt x="18278" y="10883"/>
                  <a:pt x="18331" y="11038"/>
                </a:cubicBezTo>
                <a:cubicBezTo>
                  <a:pt x="18393" y="11221"/>
                  <a:pt x="18445" y="11393"/>
                  <a:pt x="18529" y="11559"/>
                </a:cubicBezTo>
                <a:cubicBezTo>
                  <a:pt x="18604" y="11708"/>
                  <a:pt x="18674" y="11856"/>
                  <a:pt x="18852" y="11906"/>
                </a:cubicBezTo>
                <a:cubicBezTo>
                  <a:pt x="18954" y="11935"/>
                  <a:pt x="18993" y="11874"/>
                  <a:pt x="19075" y="11881"/>
                </a:cubicBezTo>
                <a:cubicBezTo>
                  <a:pt x="19120" y="11745"/>
                  <a:pt x="19177" y="11692"/>
                  <a:pt x="19174" y="11534"/>
                </a:cubicBezTo>
                <a:cubicBezTo>
                  <a:pt x="19170" y="11361"/>
                  <a:pt x="19121" y="11180"/>
                  <a:pt x="19075" y="11013"/>
                </a:cubicBezTo>
                <a:cubicBezTo>
                  <a:pt x="19038" y="10877"/>
                  <a:pt x="18983" y="10720"/>
                  <a:pt x="18926" y="10592"/>
                </a:cubicBezTo>
                <a:cubicBezTo>
                  <a:pt x="18887" y="10505"/>
                  <a:pt x="18842" y="10428"/>
                  <a:pt x="18802" y="10344"/>
                </a:cubicBezTo>
                <a:cubicBezTo>
                  <a:pt x="18809" y="10439"/>
                  <a:pt x="18797" y="10477"/>
                  <a:pt x="18827" y="10567"/>
                </a:cubicBezTo>
                <a:cubicBezTo>
                  <a:pt x="18875" y="10714"/>
                  <a:pt x="18933" y="10845"/>
                  <a:pt x="19000" y="10988"/>
                </a:cubicBezTo>
                <a:cubicBezTo>
                  <a:pt x="19163" y="11337"/>
                  <a:pt x="19312" y="11433"/>
                  <a:pt x="19645" y="11485"/>
                </a:cubicBezTo>
                <a:cubicBezTo>
                  <a:pt x="19669" y="11412"/>
                  <a:pt x="19762" y="11348"/>
                  <a:pt x="19769" y="11237"/>
                </a:cubicBezTo>
                <a:cubicBezTo>
                  <a:pt x="19782" y="11043"/>
                  <a:pt x="19727" y="10896"/>
                  <a:pt x="19670" y="10716"/>
                </a:cubicBezTo>
                <a:cubicBezTo>
                  <a:pt x="19596" y="10484"/>
                  <a:pt x="19411" y="10231"/>
                  <a:pt x="19397" y="9996"/>
                </a:cubicBezTo>
                <a:cubicBezTo>
                  <a:pt x="19391" y="9903"/>
                  <a:pt x="19443" y="9913"/>
                  <a:pt x="19447" y="9847"/>
                </a:cubicBezTo>
                <a:cubicBezTo>
                  <a:pt x="19603" y="9898"/>
                  <a:pt x="19640" y="9852"/>
                  <a:pt x="19794" y="9971"/>
                </a:cubicBezTo>
                <a:cubicBezTo>
                  <a:pt x="20039" y="10161"/>
                  <a:pt x="20135" y="10391"/>
                  <a:pt x="20290" y="10641"/>
                </a:cubicBezTo>
                <a:cubicBezTo>
                  <a:pt x="20334" y="10712"/>
                  <a:pt x="20388" y="10798"/>
                  <a:pt x="20439" y="10864"/>
                </a:cubicBezTo>
                <a:cubicBezTo>
                  <a:pt x="20462" y="10887"/>
                  <a:pt x="20466" y="10895"/>
                  <a:pt x="20489" y="10889"/>
                </a:cubicBezTo>
                <a:cubicBezTo>
                  <a:pt x="20484" y="10856"/>
                  <a:pt x="20501" y="10771"/>
                  <a:pt x="20489" y="10716"/>
                </a:cubicBezTo>
                <a:cubicBezTo>
                  <a:pt x="20462" y="10589"/>
                  <a:pt x="20417" y="10461"/>
                  <a:pt x="20365" y="10344"/>
                </a:cubicBezTo>
                <a:cubicBezTo>
                  <a:pt x="20308" y="10216"/>
                  <a:pt x="20219" y="10104"/>
                  <a:pt x="20166" y="9971"/>
                </a:cubicBezTo>
                <a:cubicBezTo>
                  <a:pt x="20119" y="9854"/>
                  <a:pt x="20066" y="9750"/>
                  <a:pt x="20042" y="9624"/>
                </a:cubicBezTo>
                <a:cubicBezTo>
                  <a:pt x="20025" y="9536"/>
                  <a:pt x="20039" y="9422"/>
                  <a:pt x="20042" y="9376"/>
                </a:cubicBezTo>
                <a:cubicBezTo>
                  <a:pt x="20050" y="9351"/>
                  <a:pt x="20059" y="9327"/>
                  <a:pt x="20067" y="9302"/>
                </a:cubicBezTo>
                <a:cubicBezTo>
                  <a:pt x="20180" y="9404"/>
                  <a:pt x="20272" y="9443"/>
                  <a:pt x="20365" y="9599"/>
                </a:cubicBezTo>
                <a:cubicBezTo>
                  <a:pt x="20464" y="9764"/>
                  <a:pt x="20525" y="9968"/>
                  <a:pt x="20638" y="10120"/>
                </a:cubicBezTo>
                <a:cubicBezTo>
                  <a:pt x="20717" y="10227"/>
                  <a:pt x="20825" y="10308"/>
                  <a:pt x="20935" y="10368"/>
                </a:cubicBezTo>
                <a:cubicBezTo>
                  <a:pt x="21022" y="10415"/>
                  <a:pt x="21282" y="10470"/>
                  <a:pt x="21382" y="10418"/>
                </a:cubicBezTo>
                <a:cubicBezTo>
                  <a:pt x="21451" y="10382"/>
                  <a:pt x="21573" y="10221"/>
                  <a:pt x="21605" y="10145"/>
                </a:cubicBezTo>
                <a:cubicBezTo>
                  <a:pt x="21659" y="10017"/>
                  <a:pt x="21655" y="9884"/>
                  <a:pt x="21654" y="9748"/>
                </a:cubicBezTo>
                <a:cubicBezTo>
                  <a:pt x="21652" y="9550"/>
                  <a:pt x="21604" y="9409"/>
                  <a:pt x="21530" y="9227"/>
                </a:cubicBezTo>
                <a:cubicBezTo>
                  <a:pt x="21478" y="9099"/>
                  <a:pt x="21383" y="8931"/>
                  <a:pt x="21282" y="8855"/>
                </a:cubicBezTo>
                <a:cubicBezTo>
                  <a:pt x="21194" y="8789"/>
                  <a:pt x="21044" y="8721"/>
                  <a:pt x="20935" y="8731"/>
                </a:cubicBezTo>
                <a:cubicBezTo>
                  <a:pt x="20840" y="8740"/>
                  <a:pt x="20684" y="8876"/>
                  <a:pt x="20638" y="8954"/>
                </a:cubicBezTo>
                <a:cubicBezTo>
                  <a:pt x="20535" y="9130"/>
                  <a:pt x="20539" y="9491"/>
                  <a:pt x="20613" y="9674"/>
                </a:cubicBezTo>
                <a:cubicBezTo>
                  <a:pt x="20689" y="9863"/>
                  <a:pt x="20842" y="9993"/>
                  <a:pt x="21010" y="10046"/>
                </a:cubicBezTo>
                <a:cubicBezTo>
                  <a:pt x="21133" y="10085"/>
                  <a:pt x="21308" y="10081"/>
                  <a:pt x="21431" y="10046"/>
                </a:cubicBezTo>
                <a:cubicBezTo>
                  <a:pt x="21524" y="10020"/>
                  <a:pt x="21673" y="9853"/>
                  <a:pt x="21729" y="9773"/>
                </a:cubicBezTo>
                <a:cubicBezTo>
                  <a:pt x="21786" y="9692"/>
                  <a:pt x="21841" y="9553"/>
                  <a:pt x="21853" y="9451"/>
                </a:cubicBezTo>
                <a:cubicBezTo>
                  <a:pt x="21866" y="9343"/>
                  <a:pt x="21835" y="9206"/>
                  <a:pt x="21803" y="9103"/>
                </a:cubicBezTo>
                <a:cubicBezTo>
                  <a:pt x="21777" y="9018"/>
                  <a:pt x="21736" y="9012"/>
                  <a:pt x="21704" y="8930"/>
                </a:cubicBezTo>
                <a:cubicBezTo>
                  <a:pt x="21708" y="8996"/>
                  <a:pt x="21670" y="9038"/>
                  <a:pt x="21679" y="9103"/>
                </a:cubicBezTo>
                <a:cubicBezTo>
                  <a:pt x="21704" y="9277"/>
                  <a:pt x="21773" y="9434"/>
                  <a:pt x="21828" y="9599"/>
                </a:cubicBezTo>
                <a:cubicBezTo>
                  <a:pt x="21979" y="10051"/>
                  <a:pt x="22192" y="10501"/>
                  <a:pt x="22299" y="10964"/>
                </a:cubicBezTo>
                <a:cubicBezTo>
                  <a:pt x="22347" y="11171"/>
                  <a:pt x="22376" y="11421"/>
                  <a:pt x="22349" y="11633"/>
                </a:cubicBezTo>
                <a:cubicBezTo>
                  <a:pt x="22330" y="11786"/>
                  <a:pt x="22263" y="11991"/>
                  <a:pt x="22126" y="12080"/>
                </a:cubicBezTo>
                <a:cubicBezTo>
                  <a:pt x="21803" y="12290"/>
                  <a:pt x="21521" y="12180"/>
                  <a:pt x="21258" y="11931"/>
                </a:cubicBezTo>
                <a:cubicBezTo>
                  <a:pt x="21149" y="11828"/>
                  <a:pt x="21077" y="11698"/>
                  <a:pt x="20985" y="11584"/>
                </a:cubicBezTo>
              </a:path>
              <a:path w="9452" h="7170">
                <a:moveTo>
                  <a:pt x="18504" y="10046"/>
                </a:moveTo>
                <a:cubicBezTo>
                  <a:pt x="18488" y="10046"/>
                  <a:pt x="18471" y="10046"/>
                  <a:pt x="18455" y="10046"/>
                </a:cubicBezTo>
                <a:cubicBezTo>
                  <a:pt x="18573" y="10046"/>
                  <a:pt x="18618" y="10040"/>
                  <a:pt x="18728" y="9996"/>
                </a:cubicBezTo>
              </a:path>
              <a:path w="9452" h="7170">
                <a:moveTo>
                  <a:pt x="21729" y="8086"/>
                </a:moveTo>
                <a:cubicBezTo>
                  <a:pt x="21816" y="8173"/>
                  <a:pt x="21923" y="8241"/>
                  <a:pt x="22002" y="8334"/>
                </a:cubicBezTo>
                <a:cubicBezTo>
                  <a:pt x="22139" y="8496"/>
                  <a:pt x="22206" y="8675"/>
                  <a:pt x="22299" y="8855"/>
                </a:cubicBezTo>
                <a:cubicBezTo>
                  <a:pt x="22351" y="8955"/>
                  <a:pt x="22404" y="9049"/>
                  <a:pt x="22448" y="9153"/>
                </a:cubicBezTo>
              </a:path>
              <a:path w="9452" h="7170">
                <a:moveTo>
                  <a:pt x="22721" y="9897"/>
                </a:moveTo>
                <a:cubicBezTo>
                  <a:pt x="22771" y="9897"/>
                  <a:pt x="22820" y="9897"/>
                  <a:pt x="22870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07000" y="946080"/>
            <a:ext cx="1411200" cy="652680"/>
          </a:xfrm>
          <a:custGeom>
            <a:avLst/>
            <a:gdLst/>
            <a:ahLst/>
            <a:rect l="l" t="t" r="r" b="b"/>
            <a:pathLst>
              <a:path w="3920" h="1812">
                <a:moveTo>
                  <a:pt x="16222" y="2753"/>
                </a:moveTo>
                <a:cubicBezTo>
                  <a:pt x="16234" y="2773"/>
                  <a:pt x="16233" y="2789"/>
                  <a:pt x="16247" y="2828"/>
                </a:cubicBezTo>
                <a:cubicBezTo>
                  <a:pt x="16268" y="2888"/>
                  <a:pt x="16269" y="2912"/>
                  <a:pt x="16272" y="2977"/>
                </a:cubicBezTo>
                <a:cubicBezTo>
                  <a:pt x="16275" y="3049"/>
                  <a:pt x="16293" y="3106"/>
                  <a:pt x="16297" y="3175"/>
                </a:cubicBezTo>
                <a:cubicBezTo>
                  <a:pt x="16306" y="3335"/>
                  <a:pt x="16291" y="3495"/>
                  <a:pt x="16272" y="3646"/>
                </a:cubicBezTo>
                <a:cubicBezTo>
                  <a:pt x="16261" y="3732"/>
                  <a:pt x="16235" y="3811"/>
                  <a:pt x="16222" y="3894"/>
                </a:cubicBezTo>
                <a:cubicBezTo>
                  <a:pt x="16208" y="3981"/>
                  <a:pt x="16179" y="4044"/>
                  <a:pt x="16123" y="4118"/>
                </a:cubicBezTo>
                <a:cubicBezTo>
                  <a:pt x="16098" y="4151"/>
                  <a:pt x="16068" y="4177"/>
                  <a:pt x="16024" y="4167"/>
                </a:cubicBezTo>
                <a:cubicBezTo>
                  <a:pt x="15985" y="4158"/>
                  <a:pt x="15935" y="4119"/>
                  <a:pt x="15900" y="4093"/>
                </a:cubicBezTo>
                <a:cubicBezTo>
                  <a:pt x="15855" y="4059"/>
                  <a:pt x="15837" y="4009"/>
                  <a:pt x="15801" y="3969"/>
                </a:cubicBezTo>
                <a:cubicBezTo>
                  <a:pt x="15763" y="3926"/>
                  <a:pt x="15734" y="3890"/>
                  <a:pt x="15701" y="3845"/>
                </a:cubicBezTo>
                <a:cubicBezTo>
                  <a:pt x="15678" y="3813"/>
                  <a:pt x="15646" y="3771"/>
                  <a:pt x="15627" y="3746"/>
                </a:cubicBezTo>
                <a:cubicBezTo>
                  <a:pt x="15597" y="3716"/>
                  <a:pt x="15586" y="3702"/>
                  <a:pt x="15577" y="3671"/>
                </a:cubicBezTo>
              </a:path>
              <a:path w="3920" h="1812">
                <a:moveTo>
                  <a:pt x="15900" y="2828"/>
                </a:moveTo>
                <a:cubicBezTo>
                  <a:pt x="15961" y="2806"/>
                  <a:pt x="16030" y="2762"/>
                  <a:pt x="16098" y="2778"/>
                </a:cubicBezTo>
                <a:cubicBezTo>
                  <a:pt x="16183" y="2798"/>
                  <a:pt x="16262" y="2787"/>
                  <a:pt x="16346" y="2803"/>
                </a:cubicBezTo>
                <a:cubicBezTo>
                  <a:pt x="16442" y="2822"/>
                  <a:pt x="16519" y="2828"/>
                  <a:pt x="16619" y="2828"/>
                </a:cubicBezTo>
                <a:cubicBezTo>
                  <a:pt x="16727" y="2828"/>
                  <a:pt x="16812" y="2836"/>
                  <a:pt x="16917" y="2853"/>
                </a:cubicBezTo>
                <a:cubicBezTo>
                  <a:pt x="16925" y="2853"/>
                  <a:pt x="16934" y="2853"/>
                  <a:pt x="16942" y="2853"/>
                </a:cubicBezTo>
              </a:path>
              <a:path w="3920" h="1812">
                <a:moveTo>
                  <a:pt x="17016" y="3324"/>
                </a:moveTo>
                <a:cubicBezTo>
                  <a:pt x="16957" y="3357"/>
                  <a:pt x="16912" y="3363"/>
                  <a:pt x="16867" y="3423"/>
                </a:cubicBezTo>
                <a:cubicBezTo>
                  <a:pt x="16795" y="3519"/>
                  <a:pt x="16711" y="3633"/>
                  <a:pt x="16669" y="3746"/>
                </a:cubicBezTo>
                <a:cubicBezTo>
                  <a:pt x="16610" y="3906"/>
                  <a:pt x="16570" y="4048"/>
                  <a:pt x="16570" y="4217"/>
                </a:cubicBezTo>
                <a:cubicBezTo>
                  <a:pt x="16570" y="4299"/>
                  <a:pt x="16587" y="4326"/>
                  <a:pt x="16644" y="4366"/>
                </a:cubicBezTo>
                <a:cubicBezTo>
                  <a:pt x="16702" y="4407"/>
                  <a:pt x="16758" y="4393"/>
                  <a:pt x="16818" y="4366"/>
                </a:cubicBezTo>
                <a:cubicBezTo>
                  <a:pt x="16910" y="4325"/>
                  <a:pt x="16989" y="4252"/>
                  <a:pt x="17041" y="4167"/>
                </a:cubicBezTo>
                <a:cubicBezTo>
                  <a:pt x="17117" y="4044"/>
                  <a:pt x="17176" y="3924"/>
                  <a:pt x="17239" y="3795"/>
                </a:cubicBezTo>
                <a:cubicBezTo>
                  <a:pt x="17290" y="3690"/>
                  <a:pt x="17341" y="3584"/>
                  <a:pt x="17363" y="3473"/>
                </a:cubicBezTo>
                <a:cubicBezTo>
                  <a:pt x="17389" y="3345"/>
                  <a:pt x="17391" y="3249"/>
                  <a:pt x="17239" y="3225"/>
                </a:cubicBezTo>
                <a:cubicBezTo>
                  <a:pt x="17165" y="3213"/>
                  <a:pt x="17071" y="3281"/>
                  <a:pt x="17016" y="3324"/>
                </a:cubicBezTo>
                <a:cubicBezTo>
                  <a:pt x="16951" y="3375"/>
                  <a:pt x="16916" y="3459"/>
                  <a:pt x="16867" y="3522"/>
                </a:cubicBezTo>
                <a:cubicBezTo>
                  <a:pt x="16867" y="3547"/>
                  <a:pt x="16867" y="3555"/>
                  <a:pt x="16842" y="3547"/>
                </a:cubicBezTo>
              </a:path>
              <a:path w="3920" h="1812">
                <a:moveTo>
                  <a:pt x="17859" y="2629"/>
                </a:moveTo>
                <a:cubicBezTo>
                  <a:pt x="17812" y="2771"/>
                  <a:pt x="17758" y="2911"/>
                  <a:pt x="17711" y="3051"/>
                </a:cubicBezTo>
                <a:cubicBezTo>
                  <a:pt x="17660" y="3205"/>
                  <a:pt x="17637" y="3371"/>
                  <a:pt x="17587" y="3522"/>
                </a:cubicBezTo>
                <a:cubicBezTo>
                  <a:pt x="17540" y="3664"/>
                  <a:pt x="17483" y="3800"/>
                  <a:pt x="17438" y="3944"/>
                </a:cubicBezTo>
                <a:cubicBezTo>
                  <a:pt x="17415" y="4017"/>
                  <a:pt x="17417" y="4065"/>
                  <a:pt x="17413" y="4142"/>
                </a:cubicBezTo>
                <a:cubicBezTo>
                  <a:pt x="17441" y="4098"/>
                  <a:pt x="17479" y="4044"/>
                  <a:pt x="17512" y="3994"/>
                </a:cubicBezTo>
                <a:cubicBezTo>
                  <a:pt x="17574" y="3900"/>
                  <a:pt x="17619" y="3811"/>
                  <a:pt x="17686" y="3721"/>
                </a:cubicBezTo>
                <a:cubicBezTo>
                  <a:pt x="17763" y="3618"/>
                  <a:pt x="17815" y="3533"/>
                  <a:pt x="17909" y="3448"/>
                </a:cubicBezTo>
                <a:cubicBezTo>
                  <a:pt x="17971" y="3392"/>
                  <a:pt x="18025" y="3343"/>
                  <a:pt x="18107" y="3324"/>
                </a:cubicBezTo>
                <a:cubicBezTo>
                  <a:pt x="18124" y="3324"/>
                  <a:pt x="18140" y="3324"/>
                  <a:pt x="18157" y="3324"/>
                </a:cubicBezTo>
                <a:cubicBezTo>
                  <a:pt x="18192" y="3417"/>
                  <a:pt x="18182" y="3474"/>
                  <a:pt x="18157" y="3572"/>
                </a:cubicBezTo>
                <a:cubicBezTo>
                  <a:pt x="18116" y="3736"/>
                  <a:pt x="18108" y="3908"/>
                  <a:pt x="18058" y="4068"/>
                </a:cubicBezTo>
                <a:cubicBezTo>
                  <a:pt x="18045" y="4110"/>
                  <a:pt x="18014" y="4169"/>
                  <a:pt x="18033" y="4217"/>
                </a:cubicBezTo>
                <a:cubicBezTo>
                  <a:pt x="18046" y="4251"/>
                  <a:pt x="18065" y="4241"/>
                  <a:pt x="18083" y="4217"/>
                </a:cubicBezTo>
                <a:cubicBezTo>
                  <a:pt x="18083" y="4189"/>
                  <a:pt x="18085" y="4178"/>
                  <a:pt x="18107" y="4167"/>
                </a:cubicBezTo>
              </a:path>
              <a:path w="3920" h="1812">
                <a:moveTo>
                  <a:pt x="18926" y="3175"/>
                </a:moveTo>
                <a:lnTo>
                  <a:pt x="18926" y="3175"/>
                </a:lnTo>
              </a:path>
              <a:path w="3920" h="1812">
                <a:moveTo>
                  <a:pt x="18926" y="3175"/>
                </a:moveTo>
                <a:lnTo>
                  <a:pt x="18926" y="3175"/>
                </a:lnTo>
              </a:path>
              <a:path w="3920" h="1812">
                <a:moveTo>
                  <a:pt x="18926" y="3249"/>
                </a:moveTo>
                <a:cubicBezTo>
                  <a:pt x="18821" y="3475"/>
                  <a:pt x="18755" y="3714"/>
                  <a:pt x="18653" y="3944"/>
                </a:cubicBezTo>
                <a:cubicBezTo>
                  <a:pt x="18601" y="4062"/>
                  <a:pt x="18545" y="4168"/>
                  <a:pt x="18504" y="4291"/>
                </a:cubicBezTo>
                <a:cubicBezTo>
                  <a:pt x="18441" y="4354"/>
                  <a:pt x="18521" y="4228"/>
                  <a:pt x="18529" y="4217"/>
                </a:cubicBezTo>
                <a:cubicBezTo>
                  <a:pt x="18591" y="4137"/>
                  <a:pt x="18646" y="4055"/>
                  <a:pt x="18703" y="3969"/>
                </a:cubicBezTo>
                <a:cubicBezTo>
                  <a:pt x="18850" y="3746"/>
                  <a:pt x="18967" y="3540"/>
                  <a:pt x="19174" y="3373"/>
                </a:cubicBezTo>
                <a:cubicBezTo>
                  <a:pt x="19246" y="3315"/>
                  <a:pt x="19361" y="3256"/>
                  <a:pt x="19447" y="3299"/>
                </a:cubicBezTo>
                <a:cubicBezTo>
                  <a:pt x="19521" y="3336"/>
                  <a:pt x="19503" y="3487"/>
                  <a:pt x="19496" y="3547"/>
                </a:cubicBezTo>
                <a:cubicBezTo>
                  <a:pt x="19471" y="3758"/>
                  <a:pt x="19402" y="3954"/>
                  <a:pt x="19397" y="4167"/>
                </a:cubicBezTo>
                <a:cubicBezTo>
                  <a:pt x="19394" y="4277"/>
                  <a:pt x="19403" y="4351"/>
                  <a:pt x="19472" y="4415"/>
                </a:cubicBezTo>
                <a:cubicBezTo>
                  <a:pt x="19480" y="4423"/>
                  <a:pt x="19488" y="4432"/>
                  <a:pt x="19496" y="44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6840" y="1652760"/>
            <a:ext cx="473040" cy="366480"/>
          </a:xfrm>
          <a:custGeom>
            <a:avLst/>
            <a:gdLst/>
            <a:ahLst/>
            <a:rect l="l" t="t" r="r" b="b"/>
            <a:pathLst>
              <a:path w="1316" h="1018">
                <a:moveTo>
                  <a:pt x="1215" y="4762"/>
                </a:moveTo>
                <a:cubicBezTo>
                  <a:pt x="1228" y="4745"/>
                  <a:pt x="1233" y="4704"/>
                  <a:pt x="1265" y="4688"/>
                </a:cubicBezTo>
                <a:cubicBezTo>
                  <a:pt x="1303" y="4669"/>
                  <a:pt x="1343" y="4629"/>
                  <a:pt x="1389" y="4614"/>
                </a:cubicBezTo>
                <a:cubicBezTo>
                  <a:pt x="1416" y="4605"/>
                  <a:pt x="1506" y="4566"/>
                  <a:pt x="1538" y="4589"/>
                </a:cubicBezTo>
                <a:cubicBezTo>
                  <a:pt x="1556" y="4602"/>
                  <a:pt x="1563" y="4661"/>
                  <a:pt x="1563" y="4688"/>
                </a:cubicBezTo>
                <a:cubicBezTo>
                  <a:pt x="1563" y="4750"/>
                  <a:pt x="1539" y="4807"/>
                  <a:pt x="1513" y="4862"/>
                </a:cubicBezTo>
                <a:cubicBezTo>
                  <a:pt x="1491" y="4909"/>
                  <a:pt x="1454" y="5001"/>
                  <a:pt x="1414" y="5035"/>
                </a:cubicBezTo>
                <a:cubicBezTo>
                  <a:pt x="1371" y="5072"/>
                  <a:pt x="1301" y="5098"/>
                  <a:pt x="1389" y="5060"/>
                </a:cubicBezTo>
                <a:cubicBezTo>
                  <a:pt x="1472" y="5024"/>
                  <a:pt x="1455" y="5039"/>
                  <a:pt x="1538" y="5060"/>
                </a:cubicBezTo>
                <a:cubicBezTo>
                  <a:pt x="1582" y="5071"/>
                  <a:pt x="1613" y="5139"/>
                  <a:pt x="1637" y="5184"/>
                </a:cubicBezTo>
                <a:cubicBezTo>
                  <a:pt x="1674" y="5255"/>
                  <a:pt x="1670" y="5317"/>
                  <a:pt x="1637" y="5383"/>
                </a:cubicBezTo>
                <a:cubicBezTo>
                  <a:pt x="1598" y="5461"/>
                  <a:pt x="1536" y="5494"/>
                  <a:pt x="1463" y="5531"/>
                </a:cubicBezTo>
                <a:cubicBezTo>
                  <a:pt x="1392" y="5566"/>
                  <a:pt x="1318" y="5603"/>
                  <a:pt x="1240" y="5606"/>
                </a:cubicBezTo>
                <a:cubicBezTo>
                  <a:pt x="1162" y="5609"/>
                  <a:pt x="1127" y="5601"/>
                  <a:pt x="1067" y="5581"/>
                </a:cubicBezTo>
                <a:cubicBezTo>
                  <a:pt x="1014" y="5563"/>
                  <a:pt x="1025" y="5560"/>
                  <a:pt x="1017" y="5507"/>
                </a:cubicBezTo>
              </a:path>
              <a:path w="1316" h="1018">
                <a:moveTo>
                  <a:pt x="2034" y="4638"/>
                </a:moveTo>
                <a:cubicBezTo>
                  <a:pt x="2034" y="4692"/>
                  <a:pt x="2012" y="4708"/>
                  <a:pt x="2009" y="4762"/>
                </a:cubicBezTo>
                <a:cubicBezTo>
                  <a:pt x="2004" y="4841"/>
                  <a:pt x="1971" y="4907"/>
                  <a:pt x="1960" y="4986"/>
                </a:cubicBezTo>
                <a:cubicBezTo>
                  <a:pt x="1944" y="5103"/>
                  <a:pt x="1966" y="5223"/>
                  <a:pt x="1984" y="5333"/>
                </a:cubicBezTo>
                <a:cubicBezTo>
                  <a:pt x="1996" y="5405"/>
                  <a:pt x="2007" y="5430"/>
                  <a:pt x="2059" y="5482"/>
                </a:cubicBezTo>
                <a:cubicBezTo>
                  <a:pt x="2098" y="5521"/>
                  <a:pt x="2115" y="5500"/>
                  <a:pt x="2158" y="5482"/>
                </a:cubicBezTo>
                <a:cubicBezTo>
                  <a:pt x="2229" y="5452"/>
                  <a:pt x="2272" y="5399"/>
                  <a:pt x="2307" y="5333"/>
                </a:cubicBezTo>
                <a:cubicBezTo>
                  <a:pt x="2333" y="5283"/>
                  <a:pt x="2332" y="5262"/>
                  <a:pt x="2332" y="5209"/>
                </a:cubicBezTo>
                <a:cubicBezTo>
                  <a:pt x="2332" y="5156"/>
                  <a:pt x="2302" y="5179"/>
                  <a:pt x="2282" y="5184"/>
                </a:cubicBezTo>
                <a:cubicBezTo>
                  <a:pt x="2225" y="5198"/>
                  <a:pt x="2200" y="5218"/>
                  <a:pt x="2158" y="5259"/>
                </a:cubicBezTo>
                <a:cubicBezTo>
                  <a:pt x="2113" y="5303"/>
                  <a:pt x="2089" y="5348"/>
                  <a:pt x="2084" y="5407"/>
                </a:cubicBezTo>
                <a:cubicBezTo>
                  <a:pt x="2081" y="5450"/>
                  <a:pt x="2101" y="5449"/>
                  <a:pt x="2133" y="5457"/>
                </a:cubicBezTo>
              </a:path>
              <a:path w="1316" h="1018">
                <a:moveTo>
                  <a:pt x="2307" y="5432"/>
                </a:moveTo>
                <a:cubicBezTo>
                  <a:pt x="2307" y="5424"/>
                  <a:pt x="2307" y="5415"/>
                  <a:pt x="2307" y="54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41280" y="1608120"/>
            <a:ext cx="990720" cy="473040"/>
          </a:xfrm>
          <a:custGeom>
            <a:avLst/>
            <a:gdLst/>
            <a:ahLst/>
            <a:rect l="l" t="t" r="r" b="b"/>
            <a:pathLst>
              <a:path w="2754" h="1315">
                <a:moveTo>
                  <a:pt x="3969" y="4539"/>
                </a:moveTo>
                <a:cubicBezTo>
                  <a:pt x="3997" y="4530"/>
                  <a:pt x="4016" y="4488"/>
                  <a:pt x="3969" y="4465"/>
                </a:cubicBezTo>
                <a:cubicBezTo>
                  <a:pt x="3927" y="4444"/>
                  <a:pt x="3874" y="4484"/>
                  <a:pt x="3845" y="4490"/>
                </a:cubicBezTo>
                <a:cubicBezTo>
                  <a:pt x="3783" y="4502"/>
                  <a:pt x="3748" y="4517"/>
                  <a:pt x="3696" y="4564"/>
                </a:cubicBezTo>
                <a:cubicBezTo>
                  <a:pt x="3662" y="4595"/>
                  <a:pt x="3627" y="4586"/>
                  <a:pt x="3621" y="4638"/>
                </a:cubicBezTo>
                <a:cubicBezTo>
                  <a:pt x="3617" y="4673"/>
                  <a:pt x="3667" y="4720"/>
                  <a:pt x="3696" y="4738"/>
                </a:cubicBezTo>
                <a:cubicBezTo>
                  <a:pt x="3767" y="4783"/>
                  <a:pt x="3831" y="4830"/>
                  <a:pt x="3894" y="4887"/>
                </a:cubicBezTo>
                <a:cubicBezTo>
                  <a:pt x="3939" y="4928"/>
                  <a:pt x="3966" y="5003"/>
                  <a:pt x="3969" y="5060"/>
                </a:cubicBezTo>
                <a:cubicBezTo>
                  <a:pt x="3974" y="5142"/>
                  <a:pt x="3937" y="5174"/>
                  <a:pt x="3870" y="5209"/>
                </a:cubicBezTo>
                <a:cubicBezTo>
                  <a:pt x="3811" y="5240"/>
                  <a:pt x="3736" y="5254"/>
                  <a:pt x="3671" y="5259"/>
                </a:cubicBezTo>
                <a:cubicBezTo>
                  <a:pt x="3596" y="5265"/>
                  <a:pt x="3594" y="5219"/>
                  <a:pt x="3597" y="5209"/>
                </a:cubicBezTo>
                <a:cubicBezTo>
                  <a:pt x="3597" y="5201"/>
                  <a:pt x="3597" y="5192"/>
                  <a:pt x="3597" y="5184"/>
                </a:cubicBezTo>
              </a:path>
              <a:path w="2754" h="1315">
                <a:moveTo>
                  <a:pt x="4093" y="4936"/>
                </a:moveTo>
                <a:cubicBezTo>
                  <a:pt x="4185" y="4920"/>
                  <a:pt x="4287" y="4918"/>
                  <a:pt x="4366" y="4862"/>
                </a:cubicBezTo>
                <a:cubicBezTo>
                  <a:pt x="4424" y="4821"/>
                  <a:pt x="4448" y="4794"/>
                  <a:pt x="4490" y="4738"/>
                </a:cubicBezTo>
                <a:cubicBezTo>
                  <a:pt x="4514" y="4706"/>
                  <a:pt x="4535" y="4669"/>
                  <a:pt x="4490" y="4638"/>
                </a:cubicBezTo>
                <a:cubicBezTo>
                  <a:pt x="4415" y="4587"/>
                  <a:pt x="4421" y="4627"/>
                  <a:pt x="4366" y="4663"/>
                </a:cubicBezTo>
                <a:cubicBezTo>
                  <a:pt x="4288" y="4713"/>
                  <a:pt x="4240" y="4726"/>
                  <a:pt x="4192" y="4812"/>
                </a:cubicBezTo>
                <a:cubicBezTo>
                  <a:pt x="4156" y="4878"/>
                  <a:pt x="4122" y="4937"/>
                  <a:pt x="4118" y="5011"/>
                </a:cubicBezTo>
                <a:cubicBezTo>
                  <a:pt x="4114" y="5078"/>
                  <a:pt x="4114" y="5130"/>
                  <a:pt x="4142" y="5184"/>
                </a:cubicBezTo>
                <a:cubicBezTo>
                  <a:pt x="4172" y="5241"/>
                  <a:pt x="4220" y="5280"/>
                  <a:pt x="4291" y="5259"/>
                </a:cubicBezTo>
                <a:cubicBezTo>
                  <a:pt x="4335" y="5237"/>
                  <a:pt x="4347" y="5234"/>
                  <a:pt x="4366" y="5209"/>
                </a:cubicBezTo>
              </a:path>
              <a:path w="2754" h="1315">
                <a:moveTo>
                  <a:pt x="5060" y="4638"/>
                </a:moveTo>
                <a:cubicBezTo>
                  <a:pt x="5035" y="4638"/>
                  <a:pt x="5027" y="4638"/>
                  <a:pt x="5035" y="4614"/>
                </a:cubicBezTo>
                <a:cubicBezTo>
                  <a:pt x="5001" y="4625"/>
                  <a:pt x="5002" y="4639"/>
                  <a:pt x="4961" y="4663"/>
                </a:cubicBezTo>
                <a:cubicBezTo>
                  <a:pt x="4898" y="4699"/>
                  <a:pt x="4853" y="4753"/>
                  <a:pt x="4812" y="4812"/>
                </a:cubicBezTo>
                <a:cubicBezTo>
                  <a:pt x="4759" y="4890"/>
                  <a:pt x="4720" y="4994"/>
                  <a:pt x="4762" y="5085"/>
                </a:cubicBezTo>
                <a:cubicBezTo>
                  <a:pt x="4796" y="5158"/>
                  <a:pt x="4825" y="5162"/>
                  <a:pt x="4887" y="5184"/>
                </a:cubicBezTo>
                <a:cubicBezTo>
                  <a:pt x="4945" y="5205"/>
                  <a:pt x="5020" y="5227"/>
                  <a:pt x="5085" y="5209"/>
                </a:cubicBezTo>
                <a:cubicBezTo>
                  <a:pt x="5146" y="5192"/>
                  <a:pt x="5188" y="5149"/>
                  <a:pt x="5234" y="5110"/>
                </a:cubicBezTo>
              </a:path>
              <a:path w="2754" h="1315">
                <a:moveTo>
                  <a:pt x="5631" y="4663"/>
                </a:moveTo>
                <a:cubicBezTo>
                  <a:pt x="5597" y="4750"/>
                  <a:pt x="5527" y="4845"/>
                  <a:pt x="5507" y="4936"/>
                </a:cubicBezTo>
                <a:cubicBezTo>
                  <a:pt x="5491" y="5009"/>
                  <a:pt x="5482" y="5082"/>
                  <a:pt x="5482" y="5159"/>
                </a:cubicBezTo>
                <a:cubicBezTo>
                  <a:pt x="5482" y="5203"/>
                  <a:pt x="5501" y="5292"/>
                  <a:pt x="5556" y="5308"/>
                </a:cubicBezTo>
                <a:cubicBezTo>
                  <a:pt x="5623" y="5327"/>
                  <a:pt x="5698" y="5286"/>
                  <a:pt x="5755" y="5259"/>
                </a:cubicBezTo>
                <a:cubicBezTo>
                  <a:pt x="5837" y="5220"/>
                  <a:pt x="5924" y="5160"/>
                  <a:pt x="5978" y="5085"/>
                </a:cubicBezTo>
                <a:cubicBezTo>
                  <a:pt x="6043" y="4994"/>
                  <a:pt x="6018" y="4930"/>
                  <a:pt x="6003" y="4837"/>
                </a:cubicBezTo>
                <a:cubicBezTo>
                  <a:pt x="5996" y="4793"/>
                  <a:pt x="5990" y="4698"/>
                  <a:pt x="5953" y="4663"/>
                </a:cubicBezTo>
                <a:cubicBezTo>
                  <a:pt x="5905" y="4618"/>
                  <a:pt x="5852" y="4613"/>
                  <a:pt x="5804" y="4589"/>
                </a:cubicBezTo>
                <a:cubicBezTo>
                  <a:pt x="5742" y="4558"/>
                  <a:pt x="5729" y="4561"/>
                  <a:pt x="5655" y="4589"/>
                </a:cubicBezTo>
              </a:path>
              <a:path w="2754" h="1315">
                <a:moveTo>
                  <a:pt x="5383" y="4986"/>
                </a:moveTo>
                <a:cubicBezTo>
                  <a:pt x="5437" y="5019"/>
                  <a:pt x="5488" y="5011"/>
                  <a:pt x="5556" y="5011"/>
                </a:cubicBezTo>
                <a:cubicBezTo>
                  <a:pt x="5779" y="5011"/>
                  <a:pt x="6399" y="5011"/>
                  <a:pt x="6176" y="5011"/>
                </a:cubicBezTo>
                <a:cubicBezTo>
                  <a:pt x="6168" y="5011"/>
                  <a:pt x="6160" y="5011"/>
                  <a:pt x="6152" y="5011"/>
                </a:cubicBezTo>
              </a:path>
              <a:path w="2754" h="1315">
                <a:moveTo>
                  <a:pt x="3448" y="5730"/>
                </a:moveTo>
                <a:cubicBezTo>
                  <a:pt x="3567" y="5730"/>
                  <a:pt x="3680" y="5744"/>
                  <a:pt x="3795" y="5755"/>
                </a:cubicBezTo>
                <a:cubicBezTo>
                  <a:pt x="3922" y="5767"/>
                  <a:pt x="4061" y="5730"/>
                  <a:pt x="4192" y="5730"/>
                </a:cubicBezTo>
                <a:cubicBezTo>
                  <a:pt x="4392" y="5730"/>
                  <a:pt x="4588" y="5751"/>
                  <a:pt x="4787" y="5755"/>
                </a:cubicBezTo>
                <a:cubicBezTo>
                  <a:pt x="4930" y="5758"/>
                  <a:pt x="5067" y="5774"/>
                  <a:pt x="5209" y="5779"/>
                </a:cubicBezTo>
                <a:cubicBezTo>
                  <a:pt x="5320" y="5783"/>
                  <a:pt x="5637" y="5786"/>
                  <a:pt x="5531" y="5755"/>
                </a:cubicBezTo>
                <a:cubicBezTo>
                  <a:pt x="5498" y="5755"/>
                  <a:pt x="5482" y="5755"/>
                  <a:pt x="5457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68800" y="1741320"/>
            <a:ext cx="411120" cy="411480"/>
          </a:xfrm>
          <a:custGeom>
            <a:avLst/>
            <a:gdLst/>
            <a:ahLst/>
            <a:rect l="l" t="t" r="r" b="b"/>
            <a:pathLst>
              <a:path w="1142" h="1142">
                <a:moveTo>
                  <a:pt x="9947" y="4837"/>
                </a:moveTo>
                <a:cubicBezTo>
                  <a:pt x="9947" y="4941"/>
                  <a:pt x="9934" y="5037"/>
                  <a:pt x="9922" y="5135"/>
                </a:cubicBezTo>
                <a:cubicBezTo>
                  <a:pt x="9914" y="5200"/>
                  <a:pt x="9932" y="5275"/>
                  <a:pt x="9897" y="5333"/>
                </a:cubicBezTo>
                <a:cubicBezTo>
                  <a:pt x="9881" y="5359"/>
                  <a:pt x="9872" y="5426"/>
                  <a:pt x="9872" y="5383"/>
                </a:cubicBezTo>
              </a:path>
              <a:path w="1142" h="1142">
                <a:moveTo>
                  <a:pt x="9079" y="5953"/>
                </a:moveTo>
                <a:cubicBezTo>
                  <a:pt x="9160" y="5953"/>
                  <a:pt x="9227" y="5965"/>
                  <a:pt x="9302" y="5978"/>
                </a:cubicBezTo>
                <a:cubicBezTo>
                  <a:pt x="9413" y="5997"/>
                  <a:pt x="9519" y="5963"/>
                  <a:pt x="9624" y="5953"/>
                </a:cubicBezTo>
                <a:cubicBezTo>
                  <a:pt x="9724" y="5943"/>
                  <a:pt x="9823" y="5933"/>
                  <a:pt x="9922" y="5928"/>
                </a:cubicBezTo>
                <a:cubicBezTo>
                  <a:pt x="10026" y="5923"/>
                  <a:pt x="10121" y="5926"/>
                  <a:pt x="10220" y="59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2276640"/>
            <a:ext cx="992520" cy="260280"/>
          </a:xfrm>
          <a:custGeom>
            <a:avLst/>
            <a:gdLst/>
            <a:ahLst/>
            <a:rect l="l" t="t" r="r" b="b"/>
            <a:pathLst>
              <a:path w="2754" h="721">
                <a:moveTo>
                  <a:pt x="3746" y="6375"/>
                </a:moveTo>
                <a:cubicBezTo>
                  <a:pt x="3768" y="6397"/>
                  <a:pt x="3776" y="6402"/>
                  <a:pt x="3770" y="6424"/>
                </a:cubicBezTo>
                <a:cubicBezTo>
                  <a:pt x="3732" y="6411"/>
                  <a:pt x="3744" y="6384"/>
                  <a:pt x="3721" y="6350"/>
                </a:cubicBezTo>
                <a:cubicBezTo>
                  <a:pt x="3689" y="6302"/>
                  <a:pt x="3609" y="6328"/>
                  <a:pt x="3572" y="6350"/>
                </a:cubicBezTo>
                <a:cubicBezTo>
                  <a:pt x="3542" y="6368"/>
                  <a:pt x="3469" y="6469"/>
                  <a:pt x="3448" y="6499"/>
                </a:cubicBezTo>
                <a:cubicBezTo>
                  <a:pt x="3403" y="6562"/>
                  <a:pt x="3353" y="6623"/>
                  <a:pt x="3324" y="6697"/>
                </a:cubicBezTo>
                <a:cubicBezTo>
                  <a:pt x="3296" y="6769"/>
                  <a:pt x="3299" y="6820"/>
                  <a:pt x="3299" y="6896"/>
                </a:cubicBezTo>
                <a:cubicBezTo>
                  <a:pt x="3299" y="6938"/>
                  <a:pt x="3344" y="6966"/>
                  <a:pt x="3373" y="6995"/>
                </a:cubicBezTo>
                <a:cubicBezTo>
                  <a:pt x="3427" y="7050"/>
                  <a:pt x="3470" y="7005"/>
                  <a:pt x="3522" y="6995"/>
                </a:cubicBezTo>
                <a:cubicBezTo>
                  <a:pt x="3539" y="6995"/>
                  <a:pt x="3555" y="6995"/>
                  <a:pt x="3572" y="6995"/>
                </a:cubicBezTo>
              </a:path>
              <a:path w="2754" h="721">
                <a:moveTo>
                  <a:pt x="4266" y="6424"/>
                </a:moveTo>
                <a:cubicBezTo>
                  <a:pt x="4266" y="6408"/>
                  <a:pt x="4266" y="6391"/>
                  <a:pt x="4266" y="6375"/>
                </a:cubicBezTo>
                <a:cubicBezTo>
                  <a:pt x="4213" y="6395"/>
                  <a:pt x="4142" y="6436"/>
                  <a:pt x="4093" y="6449"/>
                </a:cubicBezTo>
                <a:cubicBezTo>
                  <a:pt x="4016" y="6469"/>
                  <a:pt x="4009" y="6465"/>
                  <a:pt x="3969" y="6524"/>
                </a:cubicBezTo>
                <a:cubicBezTo>
                  <a:pt x="3938" y="6570"/>
                  <a:pt x="3968" y="6594"/>
                  <a:pt x="4018" y="6623"/>
                </a:cubicBezTo>
                <a:cubicBezTo>
                  <a:pt x="4083" y="6660"/>
                  <a:pt x="4148" y="6692"/>
                  <a:pt x="4192" y="6747"/>
                </a:cubicBezTo>
                <a:cubicBezTo>
                  <a:pt x="4234" y="6798"/>
                  <a:pt x="4274" y="6866"/>
                  <a:pt x="4242" y="6921"/>
                </a:cubicBezTo>
                <a:cubicBezTo>
                  <a:pt x="4225" y="6950"/>
                  <a:pt x="4127" y="7012"/>
                  <a:pt x="4093" y="7020"/>
                </a:cubicBezTo>
                <a:cubicBezTo>
                  <a:pt x="4024" y="7036"/>
                  <a:pt x="3931" y="7033"/>
                  <a:pt x="3944" y="6995"/>
                </a:cubicBezTo>
              </a:path>
              <a:path w="2754" h="721">
                <a:moveTo>
                  <a:pt x="4762" y="6548"/>
                </a:moveTo>
                <a:cubicBezTo>
                  <a:pt x="4770" y="6556"/>
                  <a:pt x="4779" y="6565"/>
                  <a:pt x="4787" y="6573"/>
                </a:cubicBezTo>
                <a:cubicBezTo>
                  <a:pt x="4740" y="6561"/>
                  <a:pt x="4731" y="6518"/>
                  <a:pt x="4688" y="6499"/>
                </a:cubicBezTo>
                <a:cubicBezTo>
                  <a:pt x="4644" y="6480"/>
                  <a:pt x="4571" y="6499"/>
                  <a:pt x="4539" y="6524"/>
                </a:cubicBezTo>
                <a:cubicBezTo>
                  <a:pt x="4497" y="6557"/>
                  <a:pt x="4444" y="6605"/>
                  <a:pt x="4415" y="6648"/>
                </a:cubicBezTo>
                <a:cubicBezTo>
                  <a:pt x="4373" y="6710"/>
                  <a:pt x="4366" y="6775"/>
                  <a:pt x="4366" y="6846"/>
                </a:cubicBezTo>
                <a:cubicBezTo>
                  <a:pt x="4366" y="6931"/>
                  <a:pt x="4395" y="6957"/>
                  <a:pt x="4465" y="6995"/>
                </a:cubicBezTo>
                <a:cubicBezTo>
                  <a:pt x="4535" y="7033"/>
                  <a:pt x="4610" y="7020"/>
                  <a:pt x="4688" y="7020"/>
                </a:cubicBezTo>
                <a:cubicBezTo>
                  <a:pt x="4705" y="7020"/>
                  <a:pt x="4721" y="7020"/>
                  <a:pt x="4738" y="7020"/>
                </a:cubicBezTo>
              </a:path>
              <a:path w="2754" h="721">
                <a:moveTo>
                  <a:pt x="5333" y="6424"/>
                </a:moveTo>
                <a:cubicBezTo>
                  <a:pt x="5302" y="6508"/>
                  <a:pt x="5265" y="6589"/>
                  <a:pt x="5234" y="6672"/>
                </a:cubicBezTo>
                <a:cubicBezTo>
                  <a:pt x="5205" y="6750"/>
                  <a:pt x="5161" y="6835"/>
                  <a:pt x="5184" y="6921"/>
                </a:cubicBezTo>
                <a:cubicBezTo>
                  <a:pt x="5207" y="7006"/>
                  <a:pt x="5281" y="7041"/>
                  <a:pt x="5358" y="7045"/>
                </a:cubicBezTo>
                <a:cubicBezTo>
                  <a:pt x="5453" y="7050"/>
                  <a:pt x="5516" y="7006"/>
                  <a:pt x="5581" y="6945"/>
                </a:cubicBezTo>
                <a:cubicBezTo>
                  <a:pt x="5669" y="6862"/>
                  <a:pt x="5699" y="6819"/>
                  <a:pt x="5705" y="6697"/>
                </a:cubicBezTo>
                <a:cubicBezTo>
                  <a:pt x="5708" y="6624"/>
                  <a:pt x="5630" y="6551"/>
                  <a:pt x="5581" y="6499"/>
                </a:cubicBezTo>
                <a:cubicBezTo>
                  <a:pt x="5522" y="6437"/>
                  <a:pt x="5453" y="6414"/>
                  <a:pt x="5383" y="6375"/>
                </a:cubicBezTo>
                <a:cubicBezTo>
                  <a:pt x="5307" y="6332"/>
                  <a:pt x="5283" y="6341"/>
                  <a:pt x="5234" y="6400"/>
                </a:cubicBezTo>
              </a:path>
              <a:path w="2754" h="721">
                <a:moveTo>
                  <a:pt x="5035" y="6722"/>
                </a:moveTo>
                <a:cubicBezTo>
                  <a:pt x="5123" y="6810"/>
                  <a:pt x="5192" y="6756"/>
                  <a:pt x="5308" y="6747"/>
                </a:cubicBezTo>
                <a:cubicBezTo>
                  <a:pt x="5461" y="6735"/>
                  <a:pt x="5605" y="6760"/>
                  <a:pt x="5755" y="6772"/>
                </a:cubicBezTo>
                <a:cubicBezTo>
                  <a:pt x="5812" y="6776"/>
                  <a:pt x="6036" y="6798"/>
                  <a:pt x="6052" y="6747"/>
                </a:cubicBezTo>
                <a:cubicBezTo>
                  <a:pt x="6019" y="6747"/>
                  <a:pt x="5986" y="6747"/>
                  <a:pt x="5953" y="67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71880" y="1776240"/>
            <a:ext cx="2330280" cy="965520"/>
          </a:xfrm>
          <a:custGeom>
            <a:avLst/>
            <a:gdLst/>
            <a:ahLst/>
            <a:rect l="l" t="t" r="r" b="b"/>
            <a:pathLst>
              <a:path w="6475" h="2680">
                <a:moveTo>
                  <a:pt x="8905" y="6672"/>
                </a:moveTo>
                <a:cubicBezTo>
                  <a:pt x="8831" y="6648"/>
                  <a:pt x="8858" y="6674"/>
                  <a:pt x="8781" y="6697"/>
                </a:cubicBezTo>
                <a:cubicBezTo>
                  <a:pt x="8715" y="6717"/>
                  <a:pt x="8748" y="6741"/>
                  <a:pt x="8706" y="6796"/>
                </a:cubicBezTo>
                <a:cubicBezTo>
                  <a:pt x="8644" y="6878"/>
                  <a:pt x="8616" y="6916"/>
                  <a:pt x="8582" y="7020"/>
                </a:cubicBezTo>
                <a:cubicBezTo>
                  <a:pt x="8554" y="7106"/>
                  <a:pt x="8538" y="7202"/>
                  <a:pt x="8533" y="7293"/>
                </a:cubicBezTo>
                <a:cubicBezTo>
                  <a:pt x="8530" y="7344"/>
                  <a:pt x="8553" y="7418"/>
                  <a:pt x="8607" y="7441"/>
                </a:cubicBezTo>
                <a:cubicBezTo>
                  <a:pt x="8635" y="7441"/>
                  <a:pt x="8646" y="7439"/>
                  <a:pt x="8657" y="7417"/>
                </a:cubicBezTo>
              </a:path>
              <a:path w="6475" h="2680">
                <a:moveTo>
                  <a:pt x="9376" y="6821"/>
                </a:moveTo>
                <a:cubicBezTo>
                  <a:pt x="9372" y="6809"/>
                  <a:pt x="9326" y="6766"/>
                  <a:pt x="9302" y="6796"/>
                </a:cubicBezTo>
                <a:cubicBezTo>
                  <a:pt x="9283" y="6820"/>
                  <a:pt x="9257" y="6856"/>
                  <a:pt x="9227" y="6896"/>
                </a:cubicBezTo>
                <a:cubicBezTo>
                  <a:pt x="9209" y="6921"/>
                  <a:pt x="9158" y="7016"/>
                  <a:pt x="9153" y="7045"/>
                </a:cubicBezTo>
                <a:cubicBezTo>
                  <a:pt x="9136" y="7148"/>
                  <a:pt x="9131" y="7223"/>
                  <a:pt x="9153" y="7317"/>
                </a:cubicBezTo>
                <a:cubicBezTo>
                  <a:pt x="9166" y="7371"/>
                  <a:pt x="9174" y="7395"/>
                  <a:pt x="9203" y="7417"/>
                </a:cubicBezTo>
                <a:cubicBezTo>
                  <a:pt x="9234" y="7440"/>
                  <a:pt x="9303" y="7453"/>
                  <a:pt x="9327" y="7417"/>
                </a:cubicBezTo>
                <a:cubicBezTo>
                  <a:pt x="9346" y="7389"/>
                  <a:pt x="9362" y="7325"/>
                  <a:pt x="9376" y="7293"/>
                </a:cubicBezTo>
                <a:cubicBezTo>
                  <a:pt x="9405" y="7225"/>
                  <a:pt x="9435" y="7164"/>
                  <a:pt x="9451" y="7094"/>
                </a:cubicBezTo>
                <a:cubicBezTo>
                  <a:pt x="9465" y="7033"/>
                  <a:pt x="9466" y="6916"/>
                  <a:pt x="9426" y="6871"/>
                </a:cubicBezTo>
                <a:cubicBezTo>
                  <a:pt x="9389" y="6829"/>
                  <a:pt x="9411" y="6821"/>
                  <a:pt x="9351" y="6821"/>
                </a:cubicBezTo>
                <a:cubicBezTo>
                  <a:pt x="9310" y="6821"/>
                  <a:pt x="9292" y="6861"/>
                  <a:pt x="9252" y="6871"/>
                </a:cubicBezTo>
              </a:path>
              <a:path w="6475" h="2680">
                <a:moveTo>
                  <a:pt x="9823" y="6772"/>
                </a:moveTo>
                <a:cubicBezTo>
                  <a:pt x="9798" y="6772"/>
                  <a:pt x="9735" y="6779"/>
                  <a:pt x="9723" y="6796"/>
                </a:cubicBezTo>
                <a:cubicBezTo>
                  <a:pt x="9685" y="6852"/>
                  <a:pt x="9680" y="6865"/>
                  <a:pt x="9699" y="6921"/>
                </a:cubicBezTo>
                <a:cubicBezTo>
                  <a:pt x="9708" y="6947"/>
                  <a:pt x="9718" y="7005"/>
                  <a:pt x="9748" y="7020"/>
                </a:cubicBezTo>
                <a:cubicBezTo>
                  <a:pt x="9788" y="7040"/>
                  <a:pt x="9837" y="7037"/>
                  <a:pt x="9872" y="7069"/>
                </a:cubicBezTo>
                <a:cubicBezTo>
                  <a:pt x="9923" y="7116"/>
                  <a:pt x="9941" y="7152"/>
                  <a:pt x="9947" y="7218"/>
                </a:cubicBezTo>
                <a:cubicBezTo>
                  <a:pt x="9951" y="7269"/>
                  <a:pt x="9930" y="7304"/>
                  <a:pt x="9922" y="7342"/>
                </a:cubicBezTo>
                <a:cubicBezTo>
                  <a:pt x="9903" y="7436"/>
                  <a:pt x="9897" y="7435"/>
                  <a:pt x="9823" y="7491"/>
                </a:cubicBezTo>
                <a:cubicBezTo>
                  <a:pt x="9778" y="7525"/>
                  <a:pt x="9757" y="7571"/>
                  <a:pt x="9699" y="7590"/>
                </a:cubicBezTo>
                <a:cubicBezTo>
                  <a:pt x="9680" y="7596"/>
                  <a:pt x="9644" y="7590"/>
                  <a:pt x="9624" y="7590"/>
                </a:cubicBezTo>
                <a:cubicBezTo>
                  <a:pt x="9624" y="7549"/>
                  <a:pt x="9624" y="7507"/>
                  <a:pt x="9624" y="7466"/>
                </a:cubicBezTo>
              </a:path>
              <a:path w="6475" h="2680">
                <a:moveTo>
                  <a:pt x="10567" y="6772"/>
                </a:moveTo>
                <a:cubicBezTo>
                  <a:pt x="10512" y="6730"/>
                  <a:pt x="10527" y="6765"/>
                  <a:pt x="10468" y="6772"/>
                </a:cubicBezTo>
                <a:cubicBezTo>
                  <a:pt x="10445" y="6775"/>
                  <a:pt x="10412" y="6816"/>
                  <a:pt x="10393" y="6846"/>
                </a:cubicBezTo>
                <a:cubicBezTo>
                  <a:pt x="10356" y="6904"/>
                  <a:pt x="10309" y="6977"/>
                  <a:pt x="10294" y="7045"/>
                </a:cubicBezTo>
                <a:cubicBezTo>
                  <a:pt x="10276" y="7127"/>
                  <a:pt x="10269" y="7207"/>
                  <a:pt x="10269" y="7293"/>
                </a:cubicBezTo>
                <a:cubicBezTo>
                  <a:pt x="10269" y="7398"/>
                  <a:pt x="10281" y="7453"/>
                  <a:pt x="10344" y="7541"/>
                </a:cubicBezTo>
                <a:cubicBezTo>
                  <a:pt x="10366" y="7571"/>
                  <a:pt x="10441" y="7619"/>
                  <a:pt x="10468" y="7615"/>
                </a:cubicBezTo>
                <a:cubicBezTo>
                  <a:pt x="10520" y="7608"/>
                  <a:pt x="10570" y="7565"/>
                  <a:pt x="10616" y="7541"/>
                </a:cubicBezTo>
                <a:cubicBezTo>
                  <a:pt x="10676" y="7509"/>
                  <a:pt x="10731" y="7450"/>
                  <a:pt x="10765" y="7392"/>
                </a:cubicBezTo>
                <a:cubicBezTo>
                  <a:pt x="10807" y="7320"/>
                  <a:pt x="10832" y="7244"/>
                  <a:pt x="10864" y="7169"/>
                </a:cubicBezTo>
                <a:cubicBezTo>
                  <a:pt x="10892" y="7103"/>
                  <a:pt x="10927" y="7039"/>
                  <a:pt x="10939" y="6970"/>
                </a:cubicBezTo>
                <a:cubicBezTo>
                  <a:pt x="10947" y="6923"/>
                  <a:pt x="10917" y="6878"/>
                  <a:pt x="10889" y="6846"/>
                </a:cubicBezTo>
                <a:cubicBezTo>
                  <a:pt x="10865" y="6820"/>
                  <a:pt x="10822" y="6779"/>
                  <a:pt x="10790" y="6772"/>
                </a:cubicBezTo>
                <a:cubicBezTo>
                  <a:pt x="10735" y="6761"/>
                  <a:pt x="10706" y="6798"/>
                  <a:pt x="10666" y="6821"/>
                </a:cubicBezTo>
                <a:cubicBezTo>
                  <a:pt x="10649" y="6829"/>
                  <a:pt x="10633" y="6838"/>
                  <a:pt x="10616" y="6846"/>
                </a:cubicBezTo>
              </a:path>
              <a:path w="6475" h="2680">
                <a:moveTo>
                  <a:pt x="10170" y="7144"/>
                </a:moveTo>
                <a:cubicBezTo>
                  <a:pt x="10240" y="7144"/>
                  <a:pt x="10299" y="7165"/>
                  <a:pt x="10368" y="7169"/>
                </a:cubicBezTo>
                <a:cubicBezTo>
                  <a:pt x="10480" y="7175"/>
                  <a:pt x="10582" y="7178"/>
                  <a:pt x="10691" y="7193"/>
                </a:cubicBezTo>
                <a:cubicBezTo>
                  <a:pt x="10770" y="7204"/>
                  <a:pt x="10860" y="7193"/>
                  <a:pt x="10939" y="7193"/>
                </a:cubicBezTo>
              </a:path>
              <a:path w="6475" h="2680">
                <a:moveTo>
                  <a:pt x="11534" y="6028"/>
                </a:moveTo>
                <a:cubicBezTo>
                  <a:pt x="11565" y="6050"/>
                  <a:pt x="11595" y="6073"/>
                  <a:pt x="11633" y="6077"/>
                </a:cubicBezTo>
                <a:cubicBezTo>
                  <a:pt x="11813" y="6097"/>
                  <a:pt x="12041" y="6087"/>
                  <a:pt x="12204" y="6052"/>
                </a:cubicBezTo>
                <a:cubicBezTo>
                  <a:pt x="12254" y="6041"/>
                  <a:pt x="12292" y="6050"/>
                  <a:pt x="12328" y="6077"/>
                </a:cubicBezTo>
              </a:path>
              <a:path w="6475" h="2680">
                <a:moveTo>
                  <a:pt x="11881" y="5507"/>
                </a:moveTo>
                <a:cubicBezTo>
                  <a:pt x="11910" y="5557"/>
                  <a:pt x="11905" y="5568"/>
                  <a:pt x="11956" y="5581"/>
                </a:cubicBezTo>
              </a:path>
              <a:path w="6475" h="2680">
                <a:moveTo>
                  <a:pt x="11931" y="6598"/>
                </a:moveTo>
                <a:cubicBezTo>
                  <a:pt x="11931" y="6557"/>
                  <a:pt x="11931" y="6549"/>
                  <a:pt x="11931" y="6524"/>
                </a:cubicBezTo>
              </a:path>
              <a:path w="6475" h="2680">
                <a:moveTo>
                  <a:pt x="13444" y="4936"/>
                </a:moveTo>
                <a:cubicBezTo>
                  <a:pt x="13444" y="5056"/>
                  <a:pt x="13434" y="5179"/>
                  <a:pt x="13469" y="5283"/>
                </a:cubicBezTo>
                <a:cubicBezTo>
                  <a:pt x="13484" y="5328"/>
                  <a:pt x="13455" y="5350"/>
                  <a:pt x="13444" y="5383"/>
                </a:cubicBezTo>
                <a:cubicBezTo>
                  <a:pt x="13413" y="5473"/>
                  <a:pt x="13448" y="5592"/>
                  <a:pt x="13419" y="5680"/>
                </a:cubicBezTo>
                <a:cubicBezTo>
                  <a:pt x="13413" y="5699"/>
                  <a:pt x="13419" y="5735"/>
                  <a:pt x="13419" y="5755"/>
                </a:cubicBezTo>
                <a:cubicBezTo>
                  <a:pt x="13444" y="5755"/>
                  <a:pt x="13452" y="5755"/>
                  <a:pt x="13444" y="5779"/>
                </a:cubicBezTo>
              </a:path>
              <a:path w="6475" h="2680">
                <a:moveTo>
                  <a:pt x="12898" y="6052"/>
                </a:moveTo>
                <a:cubicBezTo>
                  <a:pt x="12951" y="6052"/>
                  <a:pt x="12936" y="6040"/>
                  <a:pt x="12973" y="6028"/>
                </a:cubicBezTo>
                <a:cubicBezTo>
                  <a:pt x="13017" y="6060"/>
                  <a:pt x="13040" y="6052"/>
                  <a:pt x="13097" y="6052"/>
                </a:cubicBezTo>
                <a:cubicBezTo>
                  <a:pt x="13236" y="6052"/>
                  <a:pt x="13364" y="6055"/>
                  <a:pt x="13494" y="6077"/>
                </a:cubicBezTo>
                <a:cubicBezTo>
                  <a:pt x="13547" y="6086"/>
                  <a:pt x="13600" y="6093"/>
                  <a:pt x="13643" y="6102"/>
                </a:cubicBezTo>
                <a:cubicBezTo>
                  <a:pt x="13684" y="6102"/>
                  <a:pt x="13692" y="6102"/>
                  <a:pt x="13717" y="6102"/>
                </a:cubicBezTo>
              </a:path>
              <a:path w="6475" h="2680">
                <a:moveTo>
                  <a:pt x="13047" y="6548"/>
                </a:moveTo>
                <a:cubicBezTo>
                  <a:pt x="12991" y="6548"/>
                  <a:pt x="12973" y="6561"/>
                  <a:pt x="12948" y="6573"/>
                </a:cubicBezTo>
                <a:cubicBezTo>
                  <a:pt x="12919" y="6587"/>
                  <a:pt x="12921" y="6632"/>
                  <a:pt x="12898" y="6648"/>
                </a:cubicBezTo>
                <a:cubicBezTo>
                  <a:pt x="12874" y="6648"/>
                  <a:pt x="12866" y="6648"/>
                  <a:pt x="12874" y="6672"/>
                </a:cubicBezTo>
                <a:cubicBezTo>
                  <a:pt x="12885" y="6706"/>
                  <a:pt x="12913" y="6702"/>
                  <a:pt x="12923" y="6722"/>
                </a:cubicBezTo>
                <a:cubicBezTo>
                  <a:pt x="12936" y="6747"/>
                  <a:pt x="12965" y="6756"/>
                  <a:pt x="12973" y="6772"/>
                </a:cubicBezTo>
                <a:cubicBezTo>
                  <a:pt x="12984" y="6793"/>
                  <a:pt x="13015" y="6812"/>
                  <a:pt x="13022" y="6846"/>
                </a:cubicBezTo>
                <a:cubicBezTo>
                  <a:pt x="13032" y="6894"/>
                  <a:pt x="13047" y="6921"/>
                  <a:pt x="13047" y="6970"/>
                </a:cubicBezTo>
                <a:cubicBezTo>
                  <a:pt x="13047" y="7006"/>
                  <a:pt x="13019" y="7004"/>
                  <a:pt x="12998" y="7020"/>
                </a:cubicBezTo>
                <a:cubicBezTo>
                  <a:pt x="12960" y="7049"/>
                  <a:pt x="12946" y="7045"/>
                  <a:pt x="12898" y="7045"/>
                </a:cubicBezTo>
                <a:cubicBezTo>
                  <a:pt x="12874" y="7045"/>
                  <a:pt x="12865" y="7045"/>
                  <a:pt x="12849" y="7045"/>
                </a:cubicBezTo>
              </a:path>
              <a:path w="6475" h="2680">
                <a:moveTo>
                  <a:pt x="13370" y="6747"/>
                </a:moveTo>
                <a:cubicBezTo>
                  <a:pt x="13370" y="6867"/>
                  <a:pt x="13364" y="6981"/>
                  <a:pt x="13345" y="7094"/>
                </a:cubicBezTo>
                <a:cubicBezTo>
                  <a:pt x="13335" y="7152"/>
                  <a:pt x="13350" y="7169"/>
                  <a:pt x="13320" y="7218"/>
                </a:cubicBezTo>
              </a:path>
              <a:path w="6475" h="2680">
                <a:moveTo>
                  <a:pt x="13419" y="6424"/>
                </a:moveTo>
                <a:cubicBezTo>
                  <a:pt x="13381" y="6503"/>
                  <a:pt x="13403" y="6449"/>
                  <a:pt x="13419" y="6499"/>
                </a:cubicBezTo>
              </a:path>
              <a:path w="6475" h="2680">
                <a:moveTo>
                  <a:pt x="13618" y="6697"/>
                </a:moveTo>
                <a:cubicBezTo>
                  <a:pt x="13628" y="6736"/>
                  <a:pt x="13643" y="6752"/>
                  <a:pt x="13643" y="6796"/>
                </a:cubicBezTo>
                <a:cubicBezTo>
                  <a:pt x="13643" y="6862"/>
                  <a:pt x="13632" y="6954"/>
                  <a:pt x="13618" y="7020"/>
                </a:cubicBezTo>
                <a:cubicBezTo>
                  <a:pt x="13608" y="7069"/>
                  <a:pt x="13593" y="7153"/>
                  <a:pt x="13568" y="7169"/>
                </a:cubicBezTo>
                <a:cubicBezTo>
                  <a:pt x="13598" y="7149"/>
                  <a:pt x="13594" y="7095"/>
                  <a:pt x="13618" y="7045"/>
                </a:cubicBezTo>
                <a:cubicBezTo>
                  <a:pt x="13665" y="6947"/>
                  <a:pt x="13702" y="6857"/>
                  <a:pt x="13767" y="6772"/>
                </a:cubicBezTo>
                <a:cubicBezTo>
                  <a:pt x="13789" y="6743"/>
                  <a:pt x="13878" y="6682"/>
                  <a:pt x="13915" y="6697"/>
                </a:cubicBezTo>
                <a:cubicBezTo>
                  <a:pt x="13984" y="6725"/>
                  <a:pt x="13965" y="6815"/>
                  <a:pt x="13965" y="6871"/>
                </a:cubicBezTo>
                <a:cubicBezTo>
                  <a:pt x="13965" y="6974"/>
                  <a:pt x="13933" y="7236"/>
                  <a:pt x="13990" y="7293"/>
                </a:cubicBezTo>
              </a:path>
              <a:path w="6475" h="2680">
                <a:moveTo>
                  <a:pt x="14660" y="6548"/>
                </a:moveTo>
                <a:cubicBezTo>
                  <a:pt x="14607" y="6548"/>
                  <a:pt x="14576" y="6540"/>
                  <a:pt x="14536" y="6573"/>
                </a:cubicBezTo>
                <a:cubicBezTo>
                  <a:pt x="14485" y="6614"/>
                  <a:pt x="14434" y="6629"/>
                  <a:pt x="14412" y="6697"/>
                </a:cubicBezTo>
                <a:cubicBezTo>
                  <a:pt x="14373" y="6813"/>
                  <a:pt x="14349" y="6948"/>
                  <a:pt x="14337" y="7069"/>
                </a:cubicBezTo>
                <a:cubicBezTo>
                  <a:pt x="14328" y="7161"/>
                  <a:pt x="14352" y="7284"/>
                  <a:pt x="14387" y="7367"/>
                </a:cubicBezTo>
                <a:cubicBezTo>
                  <a:pt x="14403" y="7406"/>
                  <a:pt x="14443" y="7526"/>
                  <a:pt x="14486" y="7541"/>
                </a:cubicBezTo>
                <a:cubicBezTo>
                  <a:pt x="14548" y="7563"/>
                  <a:pt x="14606" y="7570"/>
                  <a:pt x="14660" y="7541"/>
                </a:cubicBezTo>
                <a:cubicBezTo>
                  <a:pt x="14731" y="7503"/>
                  <a:pt x="14794" y="7467"/>
                  <a:pt x="14833" y="7392"/>
                </a:cubicBezTo>
                <a:cubicBezTo>
                  <a:pt x="14876" y="7309"/>
                  <a:pt x="14923" y="7234"/>
                  <a:pt x="14957" y="7144"/>
                </a:cubicBezTo>
                <a:cubicBezTo>
                  <a:pt x="14994" y="7046"/>
                  <a:pt x="15007" y="6974"/>
                  <a:pt x="15007" y="6871"/>
                </a:cubicBezTo>
                <a:cubicBezTo>
                  <a:pt x="15007" y="6783"/>
                  <a:pt x="15017" y="6697"/>
                  <a:pt x="14982" y="6623"/>
                </a:cubicBezTo>
                <a:cubicBezTo>
                  <a:pt x="14951" y="6556"/>
                  <a:pt x="14930" y="6528"/>
                  <a:pt x="14858" y="6524"/>
                </a:cubicBezTo>
                <a:cubicBezTo>
                  <a:pt x="14787" y="6520"/>
                  <a:pt x="14735" y="6575"/>
                  <a:pt x="14684" y="6623"/>
                </a:cubicBezTo>
                <a:cubicBezTo>
                  <a:pt x="14650" y="6655"/>
                  <a:pt x="14618" y="6689"/>
                  <a:pt x="14585" y="6722"/>
                </a:cubicBezTo>
              </a:path>
              <a:path w="6475" h="2680">
                <a:moveTo>
                  <a:pt x="14263" y="6896"/>
                </a:moveTo>
                <a:cubicBezTo>
                  <a:pt x="14319" y="6907"/>
                  <a:pt x="14353" y="6921"/>
                  <a:pt x="14412" y="6921"/>
                </a:cubicBezTo>
                <a:cubicBezTo>
                  <a:pt x="14506" y="6921"/>
                  <a:pt x="14618" y="6946"/>
                  <a:pt x="14709" y="6970"/>
                </a:cubicBezTo>
                <a:cubicBezTo>
                  <a:pt x="14814" y="7005"/>
                  <a:pt x="14871" y="7018"/>
                  <a:pt x="14957" y="70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83200" y="1911240"/>
            <a:ext cx="2527560" cy="1000080"/>
          </a:xfrm>
          <a:custGeom>
            <a:avLst/>
            <a:gdLst/>
            <a:ahLst/>
            <a:rect l="l" t="t" r="r" b="b"/>
            <a:pathLst>
              <a:path w="7021" h="2779">
                <a:moveTo>
                  <a:pt x="16867" y="5308"/>
                </a:moveTo>
                <a:cubicBezTo>
                  <a:pt x="16860" y="5379"/>
                  <a:pt x="16844" y="5435"/>
                  <a:pt x="16842" y="5507"/>
                </a:cubicBezTo>
                <a:cubicBezTo>
                  <a:pt x="16837" y="5655"/>
                  <a:pt x="16811" y="5807"/>
                  <a:pt x="16793" y="5953"/>
                </a:cubicBezTo>
                <a:cubicBezTo>
                  <a:pt x="16765" y="6186"/>
                  <a:pt x="16702" y="6415"/>
                  <a:pt x="16669" y="6648"/>
                </a:cubicBezTo>
                <a:cubicBezTo>
                  <a:pt x="16651" y="6775"/>
                  <a:pt x="16642" y="6822"/>
                  <a:pt x="16619" y="6921"/>
                </a:cubicBezTo>
              </a:path>
              <a:path w="7021" h="2779">
                <a:moveTo>
                  <a:pt x="16818" y="5333"/>
                </a:moveTo>
                <a:cubicBezTo>
                  <a:pt x="16854" y="5356"/>
                  <a:pt x="16879" y="5381"/>
                  <a:pt x="16917" y="5407"/>
                </a:cubicBezTo>
                <a:cubicBezTo>
                  <a:pt x="16986" y="5453"/>
                  <a:pt x="17053" y="5503"/>
                  <a:pt x="17115" y="5556"/>
                </a:cubicBezTo>
                <a:cubicBezTo>
                  <a:pt x="17157" y="5592"/>
                  <a:pt x="17222" y="5678"/>
                  <a:pt x="17239" y="5730"/>
                </a:cubicBezTo>
                <a:cubicBezTo>
                  <a:pt x="17261" y="5795"/>
                  <a:pt x="17238" y="5895"/>
                  <a:pt x="17214" y="5953"/>
                </a:cubicBezTo>
                <a:cubicBezTo>
                  <a:pt x="17163" y="6076"/>
                  <a:pt x="17141" y="6081"/>
                  <a:pt x="17041" y="6152"/>
                </a:cubicBezTo>
                <a:cubicBezTo>
                  <a:pt x="16966" y="6205"/>
                  <a:pt x="16904" y="6236"/>
                  <a:pt x="16818" y="6276"/>
                </a:cubicBezTo>
                <a:cubicBezTo>
                  <a:pt x="16774" y="6297"/>
                  <a:pt x="16735" y="6313"/>
                  <a:pt x="16694" y="6325"/>
                </a:cubicBezTo>
                <a:cubicBezTo>
                  <a:pt x="16686" y="6325"/>
                  <a:pt x="16677" y="6325"/>
                  <a:pt x="16669" y="6325"/>
                </a:cubicBezTo>
                <a:cubicBezTo>
                  <a:pt x="16696" y="6363"/>
                  <a:pt x="16695" y="6379"/>
                  <a:pt x="16743" y="6400"/>
                </a:cubicBezTo>
                <a:cubicBezTo>
                  <a:pt x="16793" y="6422"/>
                  <a:pt x="16819" y="6445"/>
                  <a:pt x="16867" y="6474"/>
                </a:cubicBezTo>
                <a:cubicBezTo>
                  <a:pt x="16942" y="6520"/>
                  <a:pt x="16961" y="6536"/>
                  <a:pt x="17016" y="6598"/>
                </a:cubicBezTo>
                <a:cubicBezTo>
                  <a:pt x="17072" y="6661"/>
                  <a:pt x="17112" y="6732"/>
                  <a:pt x="17165" y="6796"/>
                </a:cubicBezTo>
                <a:cubicBezTo>
                  <a:pt x="17248" y="6896"/>
                  <a:pt x="17281" y="7024"/>
                  <a:pt x="17338" y="7144"/>
                </a:cubicBezTo>
                <a:cubicBezTo>
                  <a:pt x="17360" y="7190"/>
                  <a:pt x="17357" y="7239"/>
                  <a:pt x="17413" y="7243"/>
                </a:cubicBezTo>
                <a:cubicBezTo>
                  <a:pt x="17421" y="7235"/>
                  <a:pt x="17430" y="7226"/>
                  <a:pt x="17438" y="7218"/>
                </a:cubicBezTo>
              </a:path>
              <a:path w="7021" h="2779">
                <a:moveTo>
                  <a:pt x="18132" y="6325"/>
                </a:moveTo>
                <a:cubicBezTo>
                  <a:pt x="18095" y="6233"/>
                  <a:pt x="18094" y="6247"/>
                  <a:pt x="18033" y="6201"/>
                </a:cubicBezTo>
                <a:cubicBezTo>
                  <a:pt x="18007" y="6181"/>
                  <a:pt x="17921" y="6189"/>
                  <a:pt x="17884" y="6226"/>
                </a:cubicBezTo>
                <a:cubicBezTo>
                  <a:pt x="17819" y="6291"/>
                  <a:pt x="17729" y="6447"/>
                  <a:pt x="17686" y="6524"/>
                </a:cubicBezTo>
                <a:cubicBezTo>
                  <a:pt x="17618" y="6646"/>
                  <a:pt x="17611" y="6762"/>
                  <a:pt x="17611" y="6896"/>
                </a:cubicBezTo>
                <a:cubicBezTo>
                  <a:pt x="17611" y="6970"/>
                  <a:pt x="17636" y="6966"/>
                  <a:pt x="17686" y="6995"/>
                </a:cubicBezTo>
                <a:cubicBezTo>
                  <a:pt x="17749" y="6944"/>
                  <a:pt x="17767" y="6916"/>
                  <a:pt x="17810" y="6846"/>
                </a:cubicBezTo>
                <a:cubicBezTo>
                  <a:pt x="17921" y="6663"/>
                  <a:pt x="17986" y="6505"/>
                  <a:pt x="18058" y="6300"/>
                </a:cubicBezTo>
                <a:cubicBezTo>
                  <a:pt x="18087" y="6218"/>
                  <a:pt x="18131" y="6124"/>
                  <a:pt x="18182" y="6052"/>
                </a:cubicBezTo>
                <a:cubicBezTo>
                  <a:pt x="18190" y="6044"/>
                  <a:pt x="18199" y="6036"/>
                  <a:pt x="18207" y="6028"/>
                </a:cubicBezTo>
                <a:cubicBezTo>
                  <a:pt x="18200" y="6110"/>
                  <a:pt x="18196" y="6195"/>
                  <a:pt x="18182" y="6276"/>
                </a:cubicBezTo>
                <a:cubicBezTo>
                  <a:pt x="18156" y="6428"/>
                  <a:pt x="18123" y="6592"/>
                  <a:pt x="18132" y="6747"/>
                </a:cubicBezTo>
                <a:cubicBezTo>
                  <a:pt x="18140" y="6878"/>
                  <a:pt x="18077" y="7134"/>
                  <a:pt x="18207" y="7119"/>
                </a:cubicBezTo>
                <a:cubicBezTo>
                  <a:pt x="18236" y="7089"/>
                  <a:pt x="18247" y="7075"/>
                  <a:pt x="18256" y="7045"/>
                </a:cubicBezTo>
              </a:path>
              <a:path w="7021" h="2779">
                <a:moveTo>
                  <a:pt x="19224" y="5507"/>
                </a:moveTo>
                <a:cubicBezTo>
                  <a:pt x="19144" y="5514"/>
                  <a:pt x="19074" y="5523"/>
                  <a:pt x="19000" y="5556"/>
                </a:cubicBezTo>
                <a:cubicBezTo>
                  <a:pt x="18924" y="5590"/>
                  <a:pt x="18831" y="5666"/>
                  <a:pt x="18777" y="5730"/>
                </a:cubicBezTo>
                <a:cubicBezTo>
                  <a:pt x="18662" y="5864"/>
                  <a:pt x="18563" y="6021"/>
                  <a:pt x="18479" y="6176"/>
                </a:cubicBezTo>
                <a:cubicBezTo>
                  <a:pt x="18377" y="6364"/>
                  <a:pt x="18320" y="6563"/>
                  <a:pt x="18281" y="6772"/>
                </a:cubicBezTo>
                <a:cubicBezTo>
                  <a:pt x="18259" y="6890"/>
                  <a:pt x="18235" y="7003"/>
                  <a:pt x="18207" y="7119"/>
                </a:cubicBezTo>
              </a:path>
              <a:path w="7021" h="2779">
                <a:moveTo>
                  <a:pt x="18355" y="6028"/>
                </a:moveTo>
                <a:cubicBezTo>
                  <a:pt x="18327" y="6071"/>
                  <a:pt x="18358" y="6057"/>
                  <a:pt x="18405" y="6077"/>
                </a:cubicBezTo>
                <a:cubicBezTo>
                  <a:pt x="18535" y="6133"/>
                  <a:pt x="18671" y="6175"/>
                  <a:pt x="18802" y="6226"/>
                </a:cubicBezTo>
                <a:cubicBezTo>
                  <a:pt x="18899" y="6264"/>
                  <a:pt x="19044" y="6286"/>
                  <a:pt x="19149" y="6300"/>
                </a:cubicBezTo>
                <a:cubicBezTo>
                  <a:pt x="19252" y="6313"/>
                  <a:pt x="19365" y="6276"/>
                  <a:pt x="19472" y="6276"/>
                </a:cubicBezTo>
              </a:path>
              <a:path w="7021" h="2779">
                <a:moveTo>
                  <a:pt x="20216" y="5854"/>
                </a:moveTo>
                <a:cubicBezTo>
                  <a:pt x="20210" y="5734"/>
                  <a:pt x="20241" y="5689"/>
                  <a:pt x="20166" y="5606"/>
                </a:cubicBezTo>
                <a:cubicBezTo>
                  <a:pt x="20121" y="5556"/>
                  <a:pt x="20022" y="5579"/>
                  <a:pt x="19968" y="5606"/>
                </a:cubicBezTo>
                <a:cubicBezTo>
                  <a:pt x="19801" y="5689"/>
                  <a:pt x="19656" y="5801"/>
                  <a:pt x="19546" y="5953"/>
                </a:cubicBezTo>
                <a:cubicBezTo>
                  <a:pt x="19440" y="6100"/>
                  <a:pt x="19332" y="6280"/>
                  <a:pt x="19273" y="6449"/>
                </a:cubicBezTo>
                <a:cubicBezTo>
                  <a:pt x="19234" y="6560"/>
                  <a:pt x="19208" y="6682"/>
                  <a:pt x="19174" y="6796"/>
                </a:cubicBezTo>
              </a:path>
              <a:path w="7021" h="2779">
                <a:moveTo>
                  <a:pt x="19199" y="5854"/>
                </a:moveTo>
                <a:cubicBezTo>
                  <a:pt x="19269" y="5890"/>
                  <a:pt x="19346" y="5920"/>
                  <a:pt x="19422" y="5928"/>
                </a:cubicBezTo>
                <a:cubicBezTo>
                  <a:pt x="19578" y="5944"/>
                  <a:pt x="19694" y="5982"/>
                  <a:pt x="19844" y="6028"/>
                </a:cubicBezTo>
                <a:cubicBezTo>
                  <a:pt x="19997" y="6075"/>
                  <a:pt x="20140" y="6123"/>
                  <a:pt x="20290" y="6176"/>
                </a:cubicBezTo>
                <a:cubicBezTo>
                  <a:pt x="20315" y="6184"/>
                  <a:pt x="20340" y="6193"/>
                  <a:pt x="20365" y="6201"/>
                </a:cubicBezTo>
              </a:path>
              <a:path w="7021" h="2779">
                <a:moveTo>
                  <a:pt x="20166" y="6548"/>
                </a:moveTo>
                <a:cubicBezTo>
                  <a:pt x="20265" y="6591"/>
                  <a:pt x="20333" y="6618"/>
                  <a:pt x="20439" y="6623"/>
                </a:cubicBezTo>
                <a:cubicBezTo>
                  <a:pt x="20521" y="6627"/>
                  <a:pt x="20635" y="6601"/>
                  <a:pt x="20712" y="6573"/>
                </a:cubicBezTo>
                <a:cubicBezTo>
                  <a:pt x="20812" y="6536"/>
                  <a:pt x="20941" y="6460"/>
                  <a:pt x="21010" y="6375"/>
                </a:cubicBezTo>
                <a:cubicBezTo>
                  <a:pt x="21071" y="6300"/>
                  <a:pt x="21104" y="6210"/>
                  <a:pt x="21134" y="6127"/>
                </a:cubicBezTo>
                <a:cubicBezTo>
                  <a:pt x="21166" y="6037"/>
                  <a:pt x="21156" y="6095"/>
                  <a:pt x="21134" y="6028"/>
                </a:cubicBezTo>
                <a:cubicBezTo>
                  <a:pt x="21062" y="6010"/>
                  <a:pt x="20983" y="6032"/>
                  <a:pt x="20910" y="6077"/>
                </a:cubicBezTo>
                <a:cubicBezTo>
                  <a:pt x="20775" y="6160"/>
                  <a:pt x="20672" y="6342"/>
                  <a:pt x="20588" y="6474"/>
                </a:cubicBezTo>
                <a:cubicBezTo>
                  <a:pt x="20492" y="6624"/>
                  <a:pt x="20440" y="6794"/>
                  <a:pt x="20414" y="6970"/>
                </a:cubicBezTo>
                <a:cubicBezTo>
                  <a:pt x="20394" y="7104"/>
                  <a:pt x="20503" y="7072"/>
                  <a:pt x="20588" y="7045"/>
                </a:cubicBezTo>
                <a:cubicBezTo>
                  <a:pt x="20613" y="7037"/>
                  <a:pt x="20637" y="7028"/>
                  <a:pt x="20662" y="7020"/>
                </a:cubicBezTo>
              </a:path>
              <a:path w="7021" h="2779">
                <a:moveTo>
                  <a:pt x="21456" y="6003"/>
                </a:moveTo>
                <a:cubicBezTo>
                  <a:pt x="21427" y="6112"/>
                  <a:pt x="21393" y="6218"/>
                  <a:pt x="21357" y="6325"/>
                </a:cubicBezTo>
                <a:cubicBezTo>
                  <a:pt x="21319" y="6440"/>
                  <a:pt x="21268" y="6558"/>
                  <a:pt x="21233" y="6672"/>
                </a:cubicBezTo>
                <a:cubicBezTo>
                  <a:pt x="21193" y="6802"/>
                  <a:pt x="21149" y="6958"/>
                  <a:pt x="21134" y="7094"/>
                </a:cubicBezTo>
                <a:cubicBezTo>
                  <a:pt x="21151" y="7028"/>
                  <a:pt x="21162" y="6964"/>
                  <a:pt x="21183" y="6896"/>
                </a:cubicBezTo>
                <a:cubicBezTo>
                  <a:pt x="21221" y="6774"/>
                  <a:pt x="21292" y="6658"/>
                  <a:pt x="21357" y="6548"/>
                </a:cubicBezTo>
                <a:cubicBezTo>
                  <a:pt x="21418" y="6446"/>
                  <a:pt x="21475" y="6287"/>
                  <a:pt x="21555" y="6201"/>
                </a:cubicBezTo>
                <a:cubicBezTo>
                  <a:pt x="21602" y="6150"/>
                  <a:pt x="21731" y="6068"/>
                  <a:pt x="21803" y="6052"/>
                </a:cubicBezTo>
                <a:cubicBezTo>
                  <a:pt x="21870" y="6037"/>
                  <a:pt x="21898" y="6085"/>
                  <a:pt x="21927" y="6127"/>
                </a:cubicBezTo>
              </a:path>
              <a:path w="7021" h="2779">
                <a:moveTo>
                  <a:pt x="22597" y="5556"/>
                </a:moveTo>
                <a:cubicBezTo>
                  <a:pt x="22535" y="5756"/>
                  <a:pt x="22474" y="5957"/>
                  <a:pt x="22399" y="6152"/>
                </a:cubicBezTo>
                <a:cubicBezTo>
                  <a:pt x="22338" y="6311"/>
                  <a:pt x="22274" y="6470"/>
                  <a:pt x="22200" y="6623"/>
                </a:cubicBezTo>
                <a:cubicBezTo>
                  <a:pt x="22190" y="6643"/>
                  <a:pt x="22116" y="6871"/>
                  <a:pt x="22076" y="6871"/>
                </a:cubicBezTo>
                <a:cubicBezTo>
                  <a:pt x="22076" y="6863"/>
                  <a:pt x="22076" y="6854"/>
                  <a:pt x="22076" y="6846"/>
                </a:cubicBezTo>
              </a:path>
              <a:path w="7021" h="2779">
                <a:moveTo>
                  <a:pt x="22126" y="6102"/>
                </a:moveTo>
                <a:cubicBezTo>
                  <a:pt x="22220" y="6102"/>
                  <a:pt x="22238" y="6133"/>
                  <a:pt x="22324" y="6152"/>
                </a:cubicBezTo>
                <a:cubicBezTo>
                  <a:pt x="22383" y="6165"/>
                  <a:pt x="22436" y="6176"/>
                  <a:pt x="22498" y="6176"/>
                </a:cubicBezTo>
                <a:cubicBezTo>
                  <a:pt x="22514" y="6176"/>
                  <a:pt x="22531" y="6176"/>
                  <a:pt x="22547" y="6176"/>
                </a:cubicBezTo>
              </a:path>
              <a:path w="7021" h="2779">
                <a:moveTo>
                  <a:pt x="22721" y="6350"/>
                </a:moveTo>
                <a:cubicBezTo>
                  <a:pt x="22721" y="6454"/>
                  <a:pt x="22742" y="6548"/>
                  <a:pt x="22746" y="6648"/>
                </a:cubicBezTo>
                <a:cubicBezTo>
                  <a:pt x="22749" y="6721"/>
                  <a:pt x="22751" y="6825"/>
                  <a:pt x="22771" y="6896"/>
                </a:cubicBezTo>
                <a:cubicBezTo>
                  <a:pt x="22789" y="6961"/>
                  <a:pt x="22885" y="6961"/>
                  <a:pt x="22944" y="6945"/>
                </a:cubicBezTo>
                <a:cubicBezTo>
                  <a:pt x="23052" y="6916"/>
                  <a:pt x="23113" y="6821"/>
                  <a:pt x="23192" y="6772"/>
                </a:cubicBezTo>
                <a:cubicBezTo>
                  <a:pt x="23315" y="6696"/>
                  <a:pt x="23379" y="6610"/>
                  <a:pt x="23490" y="6524"/>
                </a:cubicBezTo>
                <a:cubicBezTo>
                  <a:pt x="23535" y="6489"/>
                  <a:pt x="23602" y="6451"/>
                  <a:pt x="23639" y="6424"/>
                </a:cubicBezTo>
                <a:cubicBezTo>
                  <a:pt x="23579" y="6527"/>
                  <a:pt x="23532" y="6645"/>
                  <a:pt x="23465" y="6747"/>
                </a:cubicBezTo>
                <a:cubicBezTo>
                  <a:pt x="23373" y="6887"/>
                  <a:pt x="23284" y="7028"/>
                  <a:pt x="23192" y="7169"/>
                </a:cubicBezTo>
                <a:cubicBezTo>
                  <a:pt x="23065" y="7363"/>
                  <a:pt x="22939" y="7557"/>
                  <a:pt x="22796" y="7739"/>
                </a:cubicBezTo>
                <a:cubicBezTo>
                  <a:pt x="22706" y="7854"/>
                  <a:pt x="22599" y="8038"/>
                  <a:pt x="22448" y="8086"/>
                </a:cubicBezTo>
                <a:cubicBezTo>
                  <a:pt x="22335" y="8122"/>
                  <a:pt x="22253" y="8000"/>
                  <a:pt x="22225" y="7913"/>
                </a:cubicBezTo>
                <a:cubicBezTo>
                  <a:pt x="22156" y="7698"/>
                  <a:pt x="22226" y="7505"/>
                  <a:pt x="22275" y="72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63880" y="3160800"/>
            <a:ext cx="992160" cy="974520"/>
          </a:xfrm>
          <a:custGeom>
            <a:avLst/>
            <a:gdLst/>
            <a:ahLst/>
            <a:rect l="l" t="t" r="r" b="b"/>
            <a:pathLst>
              <a:path w="2754" h="2705">
                <a:moveTo>
                  <a:pt x="9054" y="8781"/>
                </a:moveTo>
                <a:cubicBezTo>
                  <a:pt x="9004" y="8818"/>
                  <a:pt x="9004" y="8810"/>
                  <a:pt x="9004" y="8880"/>
                </a:cubicBezTo>
                <a:cubicBezTo>
                  <a:pt x="9004" y="8951"/>
                  <a:pt x="9021" y="9014"/>
                  <a:pt x="9029" y="9079"/>
                </a:cubicBezTo>
                <a:cubicBezTo>
                  <a:pt x="9039" y="9159"/>
                  <a:pt x="9039" y="9222"/>
                  <a:pt x="9054" y="9302"/>
                </a:cubicBezTo>
                <a:cubicBezTo>
                  <a:pt x="9081" y="9448"/>
                  <a:pt x="9054" y="9624"/>
                  <a:pt x="9054" y="9773"/>
                </a:cubicBezTo>
              </a:path>
              <a:path w="2754" h="2705">
                <a:moveTo>
                  <a:pt x="8384" y="10120"/>
                </a:moveTo>
                <a:cubicBezTo>
                  <a:pt x="8570" y="10120"/>
                  <a:pt x="8735" y="10110"/>
                  <a:pt x="8905" y="10071"/>
                </a:cubicBezTo>
                <a:cubicBezTo>
                  <a:pt x="9074" y="10033"/>
                  <a:pt x="9285" y="10073"/>
                  <a:pt x="9426" y="10120"/>
                </a:cubicBezTo>
                <a:cubicBezTo>
                  <a:pt x="9448" y="10127"/>
                  <a:pt x="9499" y="10120"/>
                  <a:pt x="9525" y="10120"/>
                </a:cubicBezTo>
              </a:path>
              <a:path w="2754" h="2705">
                <a:moveTo>
                  <a:pt x="8458" y="10641"/>
                </a:moveTo>
                <a:cubicBezTo>
                  <a:pt x="8370" y="10663"/>
                  <a:pt x="8362" y="10695"/>
                  <a:pt x="8310" y="10765"/>
                </a:cubicBezTo>
                <a:cubicBezTo>
                  <a:pt x="8277" y="10809"/>
                  <a:pt x="8281" y="10863"/>
                  <a:pt x="8260" y="10914"/>
                </a:cubicBezTo>
                <a:cubicBezTo>
                  <a:pt x="8235" y="10975"/>
                  <a:pt x="8231" y="11030"/>
                  <a:pt x="8260" y="11088"/>
                </a:cubicBezTo>
                <a:cubicBezTo>
                  <a:pt x="8295" y="11158"/>
                  <a:pt x="8372" y="11163"/>
                  <a:pt x="8434" y="11187"/>
                </a:cubicBezTo>
                <a:cubicBezTo>
                  <a:pt x="8499" y="11213"/>
                  <a:pt x="8536" y="11212"/>
                  <a:pt x="8607" y="11212"/>
                </a:cubicBezTo>
              </a:path>
              <a:path w="2754" h="2705">
                <a:moveTo>
                  <a:pt x="9029" y="10790"/>
                </a:moveTo>
                <a:cubicBezTo>
                  <a:pt x="8979" y="10820"/>
                  <a:pt x="8912" y="10816"/>
                  <a:pt x="8880" y="10864"/>
                </a:cubicBezTo>
                <a:cubicBezTo>
                  <a:pt x="8860" y="10894"/>
                  <a:pt x="8815" y="10998"/>
                  <a:pt x="8806" y="11038"/>
                </a:cubicBezTo>
                <a:cubicBezTo>
                  <a:pt x="8796" y="11084"/>
                  <a:pt x="8757" y="11191"/>
                  <a:pt x="8781" y="11237"/>
                </a:cubicBezTo>
                <a:cubicBezTo>
                  <a:pt x="8804" y="11259"/>
                  <a:pt x="8812" y="11264"/>
                  <a:pt x="8806" y="11286"/>
                </a:cubicBezTo>
                <a:cubicBezTo>
                  <a:pt x="8842" y="11286"/>
                  <a:pt x="8878" y="11278"/>
                  <a:pt x="8905" y="11261"/>
                </a:cubicBezTo>
                <a:cubicBezTo>
                  <a:pt x="8945" y="11235"/>
                  <a:pt x="9002" y="11128"/>
                  <a:pt x="9029" y="11088"/>
                </a:cubicBezTo>
                <a:cubicBezTo>
                  <a:pt x="9072" y="11023"/>
                  <a:pt x="9081" y="10956"/>
                  <a:pt x="9103" y="10889"/>
                </a:cubicBezTo>
                <a:cubicBezTo>
                  <a:pt x="9123" y="10829"/>
                  <a:pt x="9128" y="10805"/>
                  <a:pt x="9128" y="10740"/>
                </a:cubicBezTo>
                <a:cubicBezTo>
                  <a:pt x="9074" y="10740"/>
                  <a:pt x="9045" y="10753"/>
                  <a:pt x="9004" y="10790"/>
                </a:cubicBezTo>
                <a:cubicBezTo>
                  <a:pt x="8981" y="10813"/>
                  <a:pt x="8977" y="10821"/>
                  <a:pt x="8954" y="10815"/>
                </a:cubicBezTo>
              </a:path>
              <a:path w="2754" h="2705">
                <a:moveTo>
                  <a:pt x="9674" y="10641"/>
                </a:moveTo>
                <a:cubicBezTo>
                  <a:pt x="9636" y="10698"/>
                  <a:pt x="9591" y="10687"/>
                  <a:pt x="9550" y="10740"/>
                </a:cubicBezTo>
                <a:cubicBezTo>
                  <a:pt x="9531" y="10765"/>
                  <a:pt x="9486" y="10832"/>
                  <a:pt x="9475" y="10864"/>
                </a:cubicBezTo>
                <a:cubicBezTo>
                  <a:pt x="9459" y="10912"/>
                  <a:pt x="9493" y="10925"/>
                  <a:pt x="9500" y="10939"/>
                </a:cubicBezTo>
                <a:cubicBezTo>
                  <a:pt x="9515" y="10969"/>
                  <a:pt x="9583" y="10999"/>
                  <a:pt x="9624" y="11013"/>
                </a:cubicBezTo>
                <a:cubicBezTo>
                  <a:pt x="9661" y="11025"/>
                  <a:pt x="9685" y="11048"/>
                  <a:pt x="9699" y="11088"/>
                </a:cubicBezTo>
                <a:cubicBezTo>
                  <a:pt x="9719" y="11147"/>
                  <a:pt x="9716" y="11155"/>
                  <a:pt x="9699" y="11212"/>
                </a:cubicBezTo>
                <a:cubicBezTo>
                  <a:pt x="9682" y="11273"/>
                  <a:pt x="9673" y="11271"/>
                  <a:pt x="9624" y="11311"/>
                </a:cubicBezTo>
                <a:cubicBezTo>
                  <a:pt x="9574" y="11352"/>
                  <a:pt x="9526" y="11351"/>
                  <a:pt x="9475" y="11385"/>
                </a:cubicBezTo>
                <a:cubicBezTo>
                  <a:pt x="9438" y="11409"/>
                  <a:pt x="9414" y="11412"/>
                  <a:pt x="9376" y="11435"/>
                </a:cubicBezTo>
              </a:path>
              <a:path w="2754" h="2705">
                <a:moveTo>
                  <a:pt x="10220" y="10641"/>
                </a:moveTo>
                <a:cubicBezTo>
                  <a:pt x="10178" y="10677"/>
                  <a:pt x="10142" y="10710"/>
                  <a:pt x="10096" y="10740"/>
                </a:cubicBezTo>
                <a:cubicBezTo>
                  <a:pt x="10048" y="10770"/>
                  <a:pt x="9986" y="10827"/>
                  <a:pt x="9971" y="10889"/>
                </a:cubicBezTo>
                <a:cubicBezTo>
                  <a:pt x="9951" y="10974"/>
                  <a:pt x="9902" y="11119"/>
                  <a:pt x="9922" y="11212"/>
                </a:cubicBezTo>
                <a:cubicBezTo>
                  <a:pt x="9940" y="11299"/>
                  <a:pt x="9961" y="11345"/>
                  <a:pt x="10021" y="11410"/>
                </a:cubicBezTo>
                <a:cubicBezTo>
                  <a:pt x="10044" y="11434"/>
                  <a:pt x="10134" y="11489"/>
                  <a:pt x="10170" y="11485"/>
                </a:cubicBezTo>
                <a:cubicBezTo>
                  <a:pt x="10227" y="11478"/>
                  <a:pt x="10301" y="11450"/>
                  <a:pt x="10344" y="11410"/>
                </a:cubicBezTo>
                <a:cubicBezTo>
                  <a:pt x="10402" y="11356"/>
                  <a:pt x="10481" y="11281"/>
                  <a:pt x="10517" y="11212"/>
                </a:cubicBezTo>
                <a:cubicBezTo>
                  <a:pt x="10559" y="11131"/>
                  <a:pt x="10580" y="11027"/>
                  <a:pt x="10592" y="10939"/>
                </a:cubicBezTo>
                <a:cubicBezTo>
                  <a:pt x="10599" y="10888"/>
                  <a:pt x="10612" y="10755"/>
                  <a:pt x="10567" y="10716"/>
                </a:cubicBezTo>
                <a:cubicBezTo>
                  <a:pt x="10537" y="10690"/>
                  <a:pt x="10451" y="10697"/>
                  <a:pt x="10418" y="10716"/>
                </a:cubicBezTo>
                <a:cubicBezTo>
                  <a:pt x="10326" y="10771"/>
                  <a:pt x="10264" y="10793"/>
                  <a:pt x="10170" y="10840"/>
                </a:cubicBezTo>
              </a:path>
              <a:path w="2754" h="2705">
                <a:moveTo>
                  <a:pt x="9897" y="10939"/>
                </a:moveTo>
                <a:cubicBezTo>
                  <a:pt x="9950" y="10952"/>
                  <a:pt x="9982" y="10964"/>
                  <a:pt x="10046" y="10964"/>
                </a:cubicBezTo>
                <a:cubicBezTo>
                  <a:pt x="10144" y="10964"/>
                  <a:pt x="10249" y="10968"/>
                  <a:pt x="10344" y="10988"/>
                </a:cubicBezTo>
                <a:cubicBezTo>
                  <a:pt x="10442" y="11009"/>
                  <a:pt x="10544" y="11016"/>
                  <a:pt x="10641" y="11038"/>
                </a:cubicBezTo>
                <a:cubicBezTo>
                  <a:pt x="10730" y="11058"/>
                  <a:pt x="10826" y="11098"/>
                  <a:pt x="10914" y="11112"/>
                </a:cubicBezTo>
                <a:cubicBezTo>
                  <a:pt x="10939" y="11112"/>
                  <a:pt x="10963" y="11112"/>
                  <a:pt x="10988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79960" y="3571920"/>
            <a:ext cx="27000" cy="71280"/>
          </a:xfrm>
          <a:custGeom>
            <a:avLst/>
            <a:gdLst/>
            <a:ahLst/>
            <a:rect l="l" t="t" r="r" b="b"/>
            <a:pathLst>
              <a:path w="75" h="199">
                <a:moveTo>
                  <a:pt x="11609" y="9996"/>
                </a:moveTo>
                <a:cubicBezTo>
                  <a:pt x="11625" y="10096"/>
                  <a:pt x="11631" y="10021"/>
                  <a:pt x="11658" y="9971"/>
                </a:cubicBezTo>
                <a:cubicBezTo>
                  <a:pt x="11666" y="9955"/>
                  <a:pt x="11675" y="9938"/>
                  <a:pt x="11683" y="9922"/>
                </a:cubicBezTo>
                <a:cubicBezTo>
                  <a:pt x="11668" y="9947"/>
                  <a:pt x="11602" y="10052"/>
                  <a:pt x="11609" y="10071"/>
                </a:cubicBezTo>
                <a:cubicBezTo>
                  <a:pt x="11621" y="10102"/>
                  <a:pt x="11713" y="10061"/>
                  <a:pt x="11683" y="10046"/>
                </a:cubicBezTo>
                <a:cubicBezTo>
                  <a:pt x="11640" y="10025"/>
                  <a:pt x="11658" y="10107"/>
                  <a:pt x="11658" y="101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3268800"/>
            <a:ext cx="920520" cy="320400"/>
          </a:xfrm>
          <a:custGeom>
            <a:avLst/>
            <a:gdLst/>
            <a:ahLst/>
            <a:rect l="l" t="t" r="r" b="b"/>
            <a:pathLst>
              <a:path w="2555" h="893">
                <a:moveTo>
                  <a:pt x="12725" y="9079"/>
                </a:moveTo>
                <a:cubicBezTo>
                  <a:pt x="12662" y="9113"/>
                  <a:pt x="12630" y="9121"/>
                  <a:pt x="12626" y="9178"/>
                </a:cubicBezTo>
                <a:cubicBezTo>
                  <a:pt x="12623" y="9216"/>
                  <a:pt x="12648" y="9262"/>
                  <a:pt x="12675" y="9302"/>
                </a:cubicBezTo>
                <a:cubicBezTo>
                  <a:pt x="12703" y="9344"/>
                  <a:pt x="12710" y="9369"/>
                  <a:pt x="12725" y="9401"/>
                </a:cubicBezTo>
                <a:cubicBezTo>
                  <a:pt x="12751" y="9457"/>
                  <a:pt x="12781" y="9447"/>
                  <a:pt x="12799" y="9500"/>
                </a:cubicBezTo>
                <a:cubicBezTo>
                  <a:pt x="12802" y="9509"/>
                  <a:pt x="12815" y="9587"/>
                  <a:pt x="12824" y="9599"/>
                </a:cubicBezTo>
                <a:cubicBezTo>
                  <a:pt x="12852" y="9638"/>
                  <a:pt x="12874" y="9620"/>
                  <a:pt x="12874" y="9699"/>
                </a:cubicBezTo>
                <a:cubicBezTo>
                  <a:pt x="12874" y="9776"/>
                  <a:pt x="12851" y="9737"/>
                  <a:pt x="12824" y="9773"/>
                </a:cubicBezTo>
                <a:cubicBezTo>
                  <a:pt x="12801" y="9805"/>
                  <a:pt x="12769" y="9838"/>
                  <a:pt x="12750" y="9847"/>
                </a:cubicBezTo>
                <a:cubicBezTo>
                  <a:pt x="12704" y="9869"/>
                  <a:pt x="12679" y="9888"/>
                  <a:pt x="12626" y="9897"/>
                </a:cubicBezTo>
                <a:cubicBezTo>
                  <a:pt x="12559" y="9908"/>
                  <a:pt x="12564" y="9894"/>
                  <a:pt x="12526" y="9847"/>
                </a:cubicBezTo>
                <a:cubicBezTo>
                  <a:pt x="12518" y="9839"/>
                  <a:pt x="12510" y="9831"/>
                  <a:pt x="12502" y="9823"/>
                </a:cubicBezTo>
              </a:path>
              <a:path w="2555" h="893">
                <a:moveTo>
                  <a:pt x="13345" y="9500"/>
                </a:moveTo>
                <a:cubicBezTo>
                  <a:pt x="13345" y="9588"/>
                  <a:pt x="13336" y="9609"/>
                  <a:pt x="13295" y="9699"/>
                </a:cubicBezTo>
                <a:cubicBezTo>
                  <a:pt x="13272" y="9751"/>
                  <a:pt x="13255" y="9797"/>
                  <a:pt x="13221" y="9823"/>
                </a:cubicBezTo>
              </a:path>
              <a:path w="2555" h="893">
                <a:moveTo>
                  <a:pt x="13395" y="9178"/>
                </a:moveTo>
                <a:cubicBezTo>
                  <a:pt x="13373" y="9228"/>
                  <a:pt x="13356" y="9274"/>
                  <a:pt x="13345" y="9327"/>
                </a:cubicBezTo>
              </a:path>
              <a:path w="2555" h="893">
                <a:moveTo>
                  <a:pt x="13643" y="9475"/>
                </a:moveTo>
                <a:cubicBezTo>
                  <a:pt x="13661" y="9512"/>
                  <a:pt x="13651" y="9550"/>
                  <a:pt x="13618" y="9599"/>
                </a:cubicBezTo>
                <a:cubicBezTo>
                  <a:pt x="13589" y="9641"/>
                  <a:pt x="13541" y="9726"/>
                  <a:pt x="13519" y="9748"/>
                </a:cubicBezTo>
                <a:cubicBezTo>
                  <a:pt x="13511" y="9748"/>
                  <a:pt x="13502" y="9748"/>
                  <a:pt x="13494" y="9748"/>
                </a:cubicBezTo>
                <a:cubicBezTo>
                  <a:pt x="13494" y="9674"/>
                  <a:pt x="13498" y="9679"/>
                  <a:pt x="13543" y="9624"/>
                </a:cubicBezTo>
                <a:cubicBezTo>
                  <a:pt x="13593" y="9562"/>
                  <a:pt x="13585" y="9508"/>
                  <a:pt x="13667" y="9475"/>
                </a:cubicBezTo>
                <a:cubicBezTo>
                  <a:pt x="13708" y="9458"/>
                  <a:pt x="13808" y="9422"/>
                  <a:pt x="13841" y="9475"/>
                </a:cubicBezTo>
                <a:cubicBezTo>
                  <a:pt x="13864" y="9512"/>
                  <a:pt x="13866" y="9551"/>
                  <a:pt x="13866" y="9599"/>
                </a:cubicBezTo>
                <a:cubicBezTo>
                  <a:pt x="13866" y="9673"/>
                  <a:pt x="13861" y="9761"/>
                  <a:pt x="13891" y="9823"/>
                </a:cubicBezTo>
                <a:cubicBezTo>
                  <a:pt x="13899" y="9831"/>
                  <a:pt x="13907" y="9839"/>
                  <a:pt x="13915" y="9847"/>
                </a:cubicBezTo>
              </a:path>
              <a:path w="2555" h="893">
                <a:moveTo>
                  <a:pt x="14560" y="9178"/>
                </a:moveTo>
                <a:cubicBezTo>
                  <a:pt x="14479" y="9143"/>
                  <a:pt x="14501" y="9158"/>
                  <a:pt x="14461" y="9178"/>
                </a:cubicBezTo>
                <a:cubicBezTo>
                  <a:pt x="14444" y="9186"/>
                  <a:pt x="14357" y="9230"/>
                  <a:pt x="14337" y="9252"/>
                </a:cubicBezTo>
                <a:cubicBezTo>
                  <a:pt x="14291" y="9302"/>
                  <a:pt x="14248" y="9393"/>
                  <a:pt x="14213" y="9451"/>
                </a:cubicBezTo>
                <a:cubicBezTo>
                  <a:pt x="14179" y="9508"/>
                  <a:pt x="14155" y="9608"/>
                  <a:pt x="14139" y="9674"/>
                </a:cubicBezTo>
                <a:cubicBezTo>
                  <a:pt x="14128" y="9718"/>
                  <a:pt x="14141" y="9815"/>
                  <a:pt x="14163" y="9847"/>
                </a:cubicBezTo>
                <a:cubicBezTo>
                  <a:pt x="14183" y="9876"/>
                  <a:pt x="14262" y="9967"/>
                  <a:pt x="14288" y="9971"/>
                </a:cubicBezTo>
                <a:cubicBezTo>
                  <a:pt x="14374" y="9983"/>
                  <a:pt x="14381" y="9962"/>
                  <a:pt x="14436" y="9922"/>
                </a:cubicBezTo>
                <a:cubicBezTo>
                  <a:pt x="14506" y="9871"/>
                  <a:pt x="14530" y="9901"/>
                  <a:pt x="14585" y="9823"/>
                </a:cubicBezTo>
                <a:cubicBezTo>
                  <a:pt x="14649" y="9731"/>
                  <a:pt x="14631" y="9718"/>
                  <a:pt x="14684" y="9624"/>
                </a:cubicBezTo>
                <a:cubicBezTo>
                  <a:pt x="14719" y="9563"/>
                  <a:pt x="14734" y="9524"/>
                  <a:pt x="14734" y="9451"/>
                </a:cubicBezTo>
                <a:cubicBezTo>
                  <a:pt x="14734" y="9389"/>
                  <a:pt x="14728" y="9333"/>
                  <a:pt x="14709" y="9302"/>
                </a:cubicBezTo>
                <a:cubicBezTo>
                  <a:pt x="14665" y="9231"/>
                  <a:pt x="14670" y="9227"/>
                  <a:pt x="14585" y="9227"/>
                </a:cubicBezTo>
                <a:cubicBezTo>
                  <a:pt x="14519" y="9227"/>
                  <a:pt x="14453" y="9227"/>
                  <a:pt x="14387" y="9227"/>
                </a:cubicBezTo>
              </a:path>
              <a:path w="2555" h="893">
                <a:moveTo>
                  <a:pt x="14288" y="9451"/>
                </a:moveTo>
                <a:cubicBezTo>
                  <a:pt x="14358" y="9476"/>
                  <a:pt x="14411" y="9475"/>
                  <a:pt x="14486" y="9475"/>
                </a:cubicBezTo>
                <a:cubicBezTo>
                  <a:pt x="14569" y="9475"/>
                  <a:pt x="14630" y="9489"/>
                  <a:pt x="14709" y="9500"/>
                </a:cubicBezTo>
                <a:cubicBezTo>
                  <a:pt x="14800" y="9513"/>
                  <a:pt x="14895" y="9511"/>
                  <a:pt x="14982" y="9525"/>
                </a:cubicBezTo>
                <a:cubicBezTo>
                  <a:pt x="15023" y="9525"/>
                  <a:pt x="15031" y="9525"/>
                  <a:pt x="15056" y="95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6760" y="3241800"/>
            <a:ext cx="822240" cy="295200"/>
          </a:xfrm>
          <a:custGeom>
            <a:avLst/>
            <a:gdLst/>
            <a:ahLst/>
            <a:rect l="l" t="t" r="r" b="b"/>
            <a:pathLst>
              <a:path w="2283" h="820">
                <a:moveTo>
                  <a:pt x="17388" y="9079"/>
                </a:moveTo>
                <a:cubicBezTo>
                  <a:pt x="17326" y="9079"/>
                  <a:pt x="17186" y="9058"/>
                  <a:pt x="17165" y="9103"/>
                </a:cubicBezTo>
                <a:cubicBezTo>
                  <a:pt x="17137" y="9163"/>
                  <a:pt x="17100" y="9154"/>
                  <a:pt x="17090" y="9227"/>
                </a:cubicBezTo>
                <a:cubicBezTo>
                  <a:pt x="17075" y="9338"/>
                  <a:pt x="17108" y="9284"/>
                  <a:pt x="17140" y="9327"/>
                </a:cubicBezTo>
                <a:cubicBezTo>
                  <a:pt x="17172" y="9370"/>
                  <a:pt x="17189" y="9384"/>
                  <a:pt x="17239" y="9401"/>
                </a:cubicBezTo>
                <a:cubicBezTo>
                  <a:pt x="17272" y="9401"/>
                  <a:pt x="17281" y="9409"/>
                  <a:pt x="17264" y="9451"/>
                </a:cubicBezTo>
                <a:cubicBezTo>
                  <a:pt x="17319" y="9451"/>
                  <a:pt x="17323" y="9462"/>
                  <a:pt x="17338" y="9525"/>
                </a:cubicBezTo>
                <a:cubicBezTo>
                  <a:pt x="17345" y="9553"/>
                  <a:pt x="17329" y="9656"/>
                  <a:pt x="17314" y="9674"/>
                </a:cubicBezTo>
                <a:cubicBezTo>
                  <a:pt x="17284" y="9710"/>
                  <a:pt x="17253" y="9722"/>
                  <a:pt x="17214" y="9748"/>
                </a:cubicBezTo>
                <a:cubicBezTo>
                  <a:pt x="17175" y="9774"/>
                  <a:pt x="17040" y="9748"/>
                  <a:pt x="16991" y="9748"/>
                </a:cubicBezTo>
              </a:path>
              <a:path w="2283" h="820">
                <a:moveTo>
                  <a:pt x="17735" y="9327"/>
                </a:moveTo>
                <a:cubicBezTo>
                  <a:pt x="17715" y="9375"/>
                  <a:pt x="17699" y="9401"/>
                  <a:pt x="17686" y="9451"/>
                </a:cubicBezTo>
                <a:cubicBezTo>
                  <a:pt x="17670" y="9515"/>
                  <a:pt x="17670" y="9609"/>
                  <a:pt x="17661" y="9674"/>
                </a:cubicBezTo>
                <a:cubicBezTo>
                  <a:pt x="17655" y="9716"/>
                  <a:pt x="17661" y="9779"/>
                  <a:pt x="17661" y="9823"/>
                </a:cubicBezTo>
              </a:path>
              <a:path w="2283" h="820">
                <a:moveTo>
                  <a:pt x="17835" y="9004"/>
                </a:moveTo>
                <a:cubicBezTo>
                  <a:pt x="17799" y="9004"/>
                  <a:pt x="17824" y="8996"/>
                  <a:pt x="17835" y="9029"/>
                </a:cubicBezTo>
              </a:path>
              <a:path w="2283" h="820">
                <a:moveTo>
                  <a:pt x="18008" y="9376"/>
                </a:moveTo>
                <a:cubicBezTo>
                  <a:pt x="18008" y="9437"/>
                  <a:pt x="18001" y="9452"/>
                  <a:pt x="17983" y="9500"/>
                </a:cubicBezTo>
                <a:cubicBezTo>
                  <a:pt x="17962" y="9558"/>
                  <a:pt x="17950" y="9589"/>
                  <a:pt x="17934" y="9624"/>
                </a:cubicBezTo>
                <a:cubicBezTo>
                  <a:pt x="17909" y="9679"/>
                  <a:pt x="17874" y="9674"/>
                  <a:pt x="17909" y="9674"/>
                </a:cubicBezTo>
                <a:cubicBezTo>
                  <a:pt x="17914" y="9641"/>
                  <a:pt x="17940" y="9522"/>
                  <a:pt x="17959" y="9500"/>
                </a:cubicBezTo>
                <a:cubicBezTo>
                  <a:pt x="17986" y="9468"/>
                  <a:pt x="18071" y="9391"/>
                  <a:pt x="18107" y="9376"/>
                </a:cubicBezTo>
                <a:cubicBezTo>
                  <a:pt x="18190" y="9341"/>
                  <a:pt x="18190" y="9358"/>
                  <a:pt x="18231" y="9376"/>
                </a:cubicBezTo>
                <a:cubicBezTo>
                  <a:pt x="18294" y="9404"/>
                  <a:pt x="18263" y="9536"/>
                  <a:pt x="18256" y="9599"/>
                </a:cubicBezTo>
                <a:cubicBezTo>
                  <a:pt x="18250" y="9654"/>
                  <a:pt x="18231" y="9689"/>
                  <a:pt x="18231" y="9748"/>
                </a:cubicBezTo>
              </a:path>
              <a:path w="2283" h="820">
                <a:moveTo>
                  <a:pt x="18802" y="9079"/>
                </a:moveTo>
                <a:cubicBezTo>
                  <a:pt x="18706" y="9146"/>
                  <a:pt x="18716" y="9193"/>
                  <a:pt x="18653" y="9302"/>
                </a:cubicBezTo>
                <a:cubicBezTo>
                  <a:pt x="18625" y="9351"/>
                  <a:pt x="18614" y="9440"/>
                  <a:pt x="18604" y="9500"/>
                </a:cubicBezTo>
                <a:cubicBezTo>
                  <a:pt x="18593" y="9569"/>
                  <a:pt x="18672" y="9730"/>
                  <a:pt x="18678" y="9748"/>
                </a:cubicBezTo>
                <a:cubicBezTo>
                  <a:pt x="18698" y="9804"/>
                  <a:pt x="18687" y="9823"/>
                  <a:pt x="18752" y="9823"/>
                </a:cubicBezTo>
                <a:cubicBezTo>
                  <a:pt x="18831" y="9823"/>
                  <a:pt x="18828" y="9833"/>
                  <a:pt x="18876" y="9773"/>
                </a:cubicBezTo>
                <a:cubicBezTo>
                  <a:pt x="18917" y="9723"/>
                  <a:pt x="18972" y="9658"/>
                  <a:pt x="19000" y="9599"/>
                </a:cubicBezTo>
                <a:cubicBezTo>
                  <a:pt x="19031" y="9534"/>
                  <a:pt x="19059" y="9470"/>
                  <a:pt x="19075" y="9401"/>
                </a:cubicBezTo>
                <a:cubicBezTo>
                  <a:pt x="19094" y="9320"/>
                  <a:pt x="19068" y="9250"/>
                  <a:pt x="19050" y="9178"/>
                </a:cubicBezTo>
                <a:cubicBezTo>
                  <a:pt x="19037" y="9125"/>
                  <a:pt x="19071" y="9087"/>
                  <a:pt x="19000" y="9079"/>
                </a:cubicBezTo>
                <a:cubicBezTo>
                  <a:pt x="18867" y="9065"/>
                  <a:pt x="18882" y="9106"/>
                  <a:pt x="18802" y="9153"/>
                </a:cubicBezTo>
                <a:cubicBezTo>
                  <a:pt x="18785" y="9153"/>
                  <a:pt x="18769" y="9153"/>
                  <a:pt x="18752" y="9153"/>
                </a:cubicBezTo>
              </a:path>
              <a:path w="2283" h="820">
                <a:moveTo>
                  <a:pt x="18455" y="9376"/>
                </a:moveTo>
                <a:cubicBezTo>
                  <a:pt x="18477" y="9357"/>
                  <a:pt x="18560" y="9283"/>
                  <a:pt x="18604" y="9327"/>
                </a:cubicBezTo>
                <a:cubicBezTo>
                  <a:pt x="18665" y="9388"/>
                  <a:pt x="18731" y="9382"/>
                  <a:pt x="18827" y="9401"/>
                </a:cubicBezTo>
                <a:cubicBezTo>
                  <a:pt x="18898" y="9415"/>
                  <a:pt x="18914" y="9451"/>
                  <a:pt x="19000" y="9451"/>
                </a:cubicBezTo>
                <a:cubicBezTo>
                  <a:pt x="19091" y="9451"/>
                  <a:pt x="19171" y="9450"/>
                  <a:pt x="19248" y="9475"/>
                </a:cubicBezTo>
                <a:cubicBezTo>
                  <a:pt x="19256" y="9475"/>
                  <a:pt x="19265" y="9475"/>
                  <a:pt x="19273" y="94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07040" y="3321000"/>
            <a:ext cx="2394000" cy="903240"/>
          </a:xfrm>
          <a:custGeom>
            <a:avLst/>
            <a:gdLst/>
            <a:ahLst/>
            <a:rect l="l" t="t" r="r" b="b"/>
            <a:pathLst>
              <a:path w="6649" h="2507">
                <a:moveTo>
                  <a:pt x="16966" y="10269"/>
                </a:moveTo>
                <a:cubicBezTo>
                  <a:pt x="17054" y="10204"/>
                  <a:pt x="17011" y="10238"/>
                  <a:pt x="17090" y="10269"/>
                </a:cubicBezTo>
                <a:cubicBezTo>
                  <a:pt x="17224" y="10322"/>
                  <a:pt x="17453" y="10254"/>
                  <a:pt x="17562" y="10220"/>
                </a:cubicBezTo>
                <a:cubicBezTo>
                  <a:pt x="17627" y="10200"/>
                  <a:pt x="17744" y="10203"/>
                  <a:pt x="17810" y="10195"/>
                </a:cubicBezTo>
                <a:cubicBezTo>
                  <a:pt x="17983" y="10173"/>
                  <a:pt x="18163" y="10201"/>
                  <a:pt x="18331" y="10220"/>
                </a:cubicBezTo>
                <a:cubicBezTo>
                  <a:pt x="18492" y="10238"/>
                  <a:pt x="18665" y="10220"/>
                  <a:pt x="18827" y="10220"/>
                </a:cubicBezTo>
              </a:path>
              <a:path w="6649" h="2507">
                <a:moveTo>
                  <a:pt x="17338" y="10790"/>
                </a:moveTo>
                <a:cubicBezTo>
                  <a:pt x="17314" y="10790"/>
                  <a:pt x="17305" y="10790"/>
                  <a:pt x="17289" y="10790"/>
                </a:cubicBezTo>
                <a:cubicBezTo>
                  <a:pt x="17277" y="10825"/>
                  <a:pt x="17282" y="10815"/>
                  <a:pt x="17239" y="10815"/>
                </a:cubicBezTo>
                <a:cubicBezTo>
                  <a:pt x="17227" y="10850"/>
                  <a:pt x="17232" y="10840"/>
                  <a:pt x="17190" y="10840"/>
                </a:cubicBezTo>
                <a:cubicBezTo>
                  <a:pt x="17175" y="10899"/>
                  <a:pt x="17138" y="10868"/>
                  <a:pt x="17115" y="10914"/>
                </a:cubicBezTo>
                <a:cubicBezTo>
                  <a:pt x="17097" y="10949"/>
                  <a:pt x="17056" y="10999"/>
                  <a:pt x="17041" y="11038"/>
                </a:cubicBezTo>
                <a:cubicBezTo>
                  <a:pt x="17023" y="11084"/>
                  <a:pt x="17016" y="11105"/>
                  <a:pt x="17016" y="11162"/>
                </a:cubicBezTo>
                <a:cubicBezTo>
                  <a:pt x="17016" y="11196"/>
                  <a:pt x="17003" y="11242"/>
                  <a:pt x="17041" y="11261"/>
                </a:cubicBezTo>
                <a:cubicBezTo>
                  <a:pt x="17074" y="11277"/>
                  <a:pt x="17100" y="11286"/>
                  <a:pt x="17140" y="11286"/>
                </a:cubicBezTo>
                <a:cubicBezTo>
                  <a:pt x="17173" y="11286"/>
                  <a:pt x="17206" y="11286"/>
                  <a:pt x="17239" y="11286"/>
                </a:cubicBezTo>
              </a:path>
              <a:path w="6649" h="2507">
                <a:moveTo>
                  <a:pt x="17611" y="10964"/>
                </a:moveTo>
                <a:cubicBezTo>
                  <a:pt x="17564" y="10976"/>
                  <a:pt x="17531" y="11012"/>
                  <a:pt x="17512" y="11038"/>
                </a:cubicBezTo>
                <a:cubicBezTo>
                  <a:pt x="17480" y="11081"/>
                  <a:pt x="17447" y="11133"/>
                  <a:pt x="17438" y="11187"/>
                </a:cubicBezTo>
                <a:cubicBezTo>
                  <a:pt x="17433" y="11215"/>
                  <a:pt x="17420" y="11348"/>
                  <a:pt x="17462" y="11361"/>
                </a:cubicBezTo>
                <a:cubicBezTo>
                  <a:pt x="17505" y="11374"/>
                  <a:pt x="17557" y="11363"/>
                  <a:pt x="17587" y="11336"/>
                </a:cubicBezTo>
                <a:cubicBezTo>
                  <a:pt x="17642" y="11286"/>
                  <a:pt x="17633" y="11287"/>
                  <a:pt x="17661" y="11237"/>
                </a:cubicBezTo>
                <a:cubicBezTo>
                  <a:pt x="17687" y="11190"/>
                  <a:pt x="17726" y="11137"/>
                  <a:pt x="17735" y="11088"/>
                </a:cubicBezTo>
                <a:cubicBezTo>
                  <a:pt x="17738" y="11072"/>
                  <a:pt x="17761" y="10944"/>
                  <a:pt x="17760" y="10939"/>
                </a:cubicBezTo>
                <a:cubicBezTo>
                  <a:pt x="17749" y="10865"/>
                  <a:pt x="17697" y="10882"/>
                  <a:pt x="17661" y="10914"/>
                </a:cubicBezTo>
                <a:cubicBezTo>
                  <a:pt x="17636" y="10939"/>
                  <a:pt x="17628" y="10947"/>
                  <a:pt x="17611" y="10964"/>
                </a:cubicBezTo>
              </a:path>
              <a:path w="6649" h="2507">
                <a:moveTo>
                  <a:pt x="18083" y="10889"/>
                </a:moveTo>
                <a:cubicBezTo>
                  <a:pt x="18135" y="10889"/>
                  <a:pt x="18033" y="10914"/>
                  <a:pt x="18033" y="10914"/>
                </a:cubicBezTo>
                <a:cubicBezTo>
                  <a:pt x="18003" y="10927"/>
                  <a:pt x="17951" y="10949"/>
                  <a:pt x="17934" y="10988"/>
                </a:cubicBezTo>
                <a:cubicBezTo>
                  <a:pt x="17921" y="11018"/>
                  <a:pt x="17929" y="11097"/>
                  <a:pt x="17959" y="11112"/>
                </a:cubicBezTo>
                <a:cubicBezTo>
                  <a:pt x="17994" y="11129"/>
                  <a:pt x="18054" y="11152"/>
                  <a:pt x="18058" y="11187"/>
                </a:cubicBezTo>
                <a:cubicBezTo>
                  <a:pt x="18063" y="11230"/>
                  <a:pt x="18062" y="11255"/>
                  <a:pt x="18033" y="11286"/>
                </a:cubicBezTo>
                <a:cubicBezTo>
                  <a:pt x="17976" y="11348"/>
                  <a:pt x="17963" y="11348"/>
                  <a:pt x="17909" y="11336"/>
                </a:cubicBezTo>
                <a:cubicBezTo>
                  <a:pt x="17901" y="11336"/>
                  <a:pt x="17892" y="11336"/>
                  <a:pt x="17884" y="11336"/>
                </a:cubicBezTo>
              </a:path>
              <a:path w="6649" h="2507">
                <a:moveTo>
                  <a:pt x="18827" y="10691"/>
                </a:moveTo>
                <a:cubicBezTo>
                  <a:pt x="18819" y="10674"/>
                  <a:pt x="18810" y="10658"/>
                  <a:pt x="18802" y="10641"/>
                </a:cubicBezTo>
                <a:cubicBezTo>
                  <a:pt x="18739" y="10641"/>
                  <a:pt x="18723" y="10672"/>
                  <a:pt x="18678" y="10716"/>
                </a:cubicBezTo>
                <a:cubicBezTo>
                  <a:pt x="18636" y="10757"/>
                  <a:pt x="18614" y="10795"/>
                  <a:pt x="18579" y="10840"/>
                </a:cubicBezTo>
                <a:cubicBezTo>
                  <a:pt x="18535" y="10898"/>
                  <a:pt x="18513" y="10967"/>
                  <a:pt x="18504" y="11038"/>
                </a:cubicBezTo>
                <a:cubicBezTo>
                  <a:pt x="18492" y="11133"/>
                  <a:pt x="18513" y="11231"/>
                  <a:pt x="18529" y="11311"/>
                </a:cubicBezTo>
                <a:cubicBezTo>
                  <a:pt x="18540" y="11363"/>
                  <a:pt x="18543" y="11432"/>
                  <a:pt x="18604" y="11460"/>
                </a:cubicBezTo>
                <a:cubicBezTo>
                  <a:pt x="18635" y="11474"/>
                  <a:pt x="18713" y="11501"/>
                  <a:pt x="18752" y="11485"/>
                </a:cubicBezTo>
                <a:cubicBezTo>
                  <a:pt x="18817" y="11458"/>
                  <a:pt x="18844" y="11442"/>
                  <a:pt x="18901" y="11385"/>
                </a:cubicBezTo>
                <a:cubicBezTo>
                  <a:pt x="18972" y="11314"/>
                  <a:pt x="18980" y="11282"/>
                  <a:pt x="19025" y="11187"/>
                </a:cubicBezTo>
                <a:cubicBezTo>
                  <a:pt x="19054" y="11125"/>
                  <a:pt x="19050" y="11080"/>
                  <a:pt x="19050" y="11013"/>
                </a:cubicBezTo>
                <a:cubicBezTo>
                  <a:pt x="19050" y="10966"/>
                  <a:pt x="19049" y="10924"/>
                  <a:pt x="19025" y="10889"/>
                </a:cubicBezTo>
                <a:cubicBezTo>
                  <a:pt x="19000" y="10852"/>
                  <a:pt x="18985" y="10825"/>
                  <a:pt x="18951" y="10790"/>
                </a:cubicBezTo>
                <a:cubicBezTo>
                  <a:pt x="18893" y="10732"/>
                  <a:pt x="18883" y="10746"/>
                  <a:pt x="18827" y="10765"/>
                </a:cubicBezTo>
                <a:cubicBezTo>
                  <a:pt x="18763" y="10786"/>
                  <a:pt x="18728" y="10819"/>
                  <a:pt x="18678" y="10864"/>
                </a:cubicBezTo>
                <a:cubicBezTo>
                  <a:pt x="18628" y="10909"/>
                  <a:pt x="18577" y="10957"/>
                  <a:pt x="18554" y="11013"/>
                </a:cubicBezTo>
              </a:path>
              <a:path w="6649" h="2507">
                <a:moveTo>
                  <a:pt x="18380" y="11088"/>
                </a:moveTo>
                <a:cubicBezTo>
                  <a:pt x="18453" y="11088"/>
                  <a:pt x="18511" y="11100"/>
                  <a:pt x="18579" y="11112"/>
                </a:cubicBezTo>
                <a:cubicBezTo>
                  <a:pt x="18663" y="11126"/>
                  <a:pt x="18740" y="11137"/>
                  <a:pt x="18827" y="11137"/>
                </a:cubicBezTo>
                <a:cubicBezTo>
                  <a:pt x="18959" y="11137"/>
                  <a:pt x="19092" y="11137"/>
                  <a:pt x="19224" y="11137"/>
                </a:cubicBezTo>
              </a:path>
              <a:path w="6649" h="2507">
                <a:moveTo>
                  <a:pt x="19794" y="10046"/>
                </a:moveTo>
                <a:cubicBezTo>
                  <a:pt x="19868" y="10046"/>
                  <a:pt x="19943" y="10046"/>
                  <a:pt x="20017" y="10046"/>
                </a:cubicBezTo>
              </a:path>
              <a:path w="6649" h="2507">
                <a:moveTo>
                  <a:pt x="19819" y="10418"/>
                </a:moveTo>
                <a:cubicBezTo>
                  <a:pt x="19885" y="10418"/>
                  <a:pt x="19951" y="10418"/>
                  <a:pt x="20017" y="10418"/>
                </a:cubicBezTo>
              </a:path>
              <a:path w="6649" h="2507">
                <a:moveTo>
                  <a:pt x="20960" y="9674"/>
                </a:moveTo>
                <a:cubicBezTo>
                  <a:pt x="20960" y="9859"/>
                  <a:pt x="20960" y="10040"/>
                  <a:pt x="20935" y="10220"/>
                </a:cubicBezTo>
                <a:cubicBezTo>
                  <a:pt x="20920" y="10324"/>
                  <a:pt x="20868" y="10484"/>
                  <a:pt x="20861" y="10592"/>
                </a:cubicBezTo>
                <a:cubicBezTo>
                  <a:pt x="20861" y="10608"/>
                  <a:pt x="20861" y="10625"/>
                  <a:pt x="20861" y="10641"/>
                </a:cubicBezTo>
              </a:path>
              <a:path w="6649" h="2507">
                <a:moveTo>
                  <a:pt x="20786" y="10046"/>
                </a:moveTo>
                <a:cubicBezTo>
                  <a:pt x="20745" y="10046"/>
                  <a:pt x="20823" y="10030"/>
                  <a:pt x="20861" y="10046"/>
                </a:cubicBezTo>
                <a:cubicBezTo>
                  <a:pt x="20912" y="10067"/>
                  <a:pt x="20947" y="10071"/>
                  <a:pt x="21010" y="10071"/>
                </a:cubicBezTo>
                <a:cubicBezTo>
                  <a:pt x="21101" y="10071"/>
                  <a:pt x="21191" y="10071"/>
                  <a:pt x="21282" y="10071"/>
                </a:cubicBezTo>
              </a:path>
              <a:path w="6649" h="2507">
                <a:moveTo>
                  <a:pt x="21530" y="10269"/>
                </a:moveTo>
                <a:cubicBezTo>
                  <a:pt x="21522" y="10253"/>
                  <a:pt x="21514" y="10236"/>
                  <a:pt x="21506" y="10220"/>
                </a:cubicBezTo>
                <a:cubicBezTo>
                  <a:pt x="21465" y="10220"/>
                  <a:pt x="21423" y="10249"/>
                  <a:pt x="21406" y="10269"/>
                </a:cubicBezTo>
                <a:cubicBezTo>
                  <a:pt x="21381" y="10298"/>
                  <a:pt x="21348" y="10406"/>
                  <a:pt x="21332" y="10443"/>
                </a:cubicBezTo>
                <a:cubicBezTo>
                  <a:pt x="21290" y="10541"/>
                  <a:pt x="21292" y="10652"/>
                  <a:pt x="21357" y="10740"/>
                </a:cubicBezTo>
                <a:cubicBezTo>
                  <a:pt x="21385" y="10740"/>
                  <a:pt x="21396" y="10742"/>
                  <a:pt x="21406" y="10765"/>
                </a:cubicBezTo>
                <a:cubicBezTo>
                  <a:pt x="21453" y="10718"/>
                  <a:pt x="21496" y="10698"/>
                  <a:pt x="21530" y="10641"/>
                </a:cubicBezTo>
                <a:cubicBezTo>
                  <a:pt x="21577" y="10562"/>
                  <a:pt x="21586" y="10498"/>
                  <a:pt x="21605" y="10418"/>
                </a:cubicBezTo>
                <a:cubicBezTo>
                  <a:pt x="21624" y="10339"/>
                  <a:pt x="21630" y="10277"/>
                  <a:pt x="21630" y="10195"/>
                </a:cubicBezTo>
                <a:cubicBezTo>
                  <a:pt x="21630" y="10139"/>
                  <a:pt x="21645" y="10133"/>
                  <a:pt x="21605" y="10120"/>
                </a:cubicBezTo>
                <a:cubicBezTo>
                  <a:pt x="21561" y="10131"/>
                  <a:pt x="21498" y="10163"/>
                  <a:pt x="21530" y="10195"/>
                </a:cubicBezTo>
                <a:cubicBezTo>
                  <a:pt x="21544" y="10209"/>
                  <a:pt x="21574" y="10256"/>
                  <a:pt x="21580" y="10269"/>
                </a:cubicBezTo>
                <a:cubicBezTo>
                  <a:pt x="21595" y="10303"/>
                  <a:pt x="21605" y="10310"/>
                  <a:pt x="21605" y="10368"/>
                </a:cubicBezTo>
                <a:cubicBezTo>
                  <a:pt x="21605" y="10448"/>
                  <a:pt x="21593" y="10525"/>
                  <a:pt x="21580" y="10592"/>
                </a:cubicBezTo>
                <a:cubicBezTo>
                  <a:pt x="21563" y="10683"/>
                  <a:pt x="21579" y="10788"/>
                  <a:pt x="21605" y="10864"/>
                </a:cubicBezTo>
                <a:cubicBezTo>
                  <a:pt x="21618" y="10904"/>
                  <a:pt x="21631" y="10934"/>
                  <a:pt x="21679" y="10939"/>
                </a:cubicBezTo>
                <a:cubicBezTo>
                  <a:pt x="21711" y="10943"/>
                  <a:pt x="21756" y="10910"/>
                  <a:pt x="21779" y="10889"/>
                </a:cubicBezTo>
                <a:cubicBezTo>
                  <a:pt x="21808" y="10859"/>
                  <a:pt x="21819" y="10845"/>
                  <a:pt x="21828" y="10815"/>
                </a:cubicBezTo>
              </a:path>
              <a:path w="6649" h="2507">
                <a:moveTo>
                  <a:pt x="22027" y="10145"/>
                </a:moveTo>
                <a:cubicBezTo>
                  <a:pt x="22027" y="10223"/>
                  <a:pt x="22011" y="10304"/>
                  <a:pt x="22002" y="10368"/>
                </a:cubicBezTo>
                <a:cubicBezTo>
                  <a:pt x="21989" y="10460"/>
                  <a:pt x="21965" y="10548"/>
                  <a:pt x="21952" y="10641"/>
                </a:cubicBezTo>
                <a:cubicBezTo>
                  <a:pt x="21952" y="10686"/>
                  <a:pt x="21955" y="10699"/>
                  <a:pt x="21927" y="10716"/>
                </a:cubicBezTo>
                <a:cubicBezTo>
                  <a:pt x="21956" y="10667"/>
                  <a:pt x="21990" y="10548"/>
                  <a:pt x="22002" y="10492"/>
                </a:cubicBezTo>
                <a:cubicBezTo>
                  <a:pt x="22021" y="10409"/>
                  <a:pt x="22023" y="10365"/>
                  <a:pt x="22076" y="10294"/>
                </a:cubicBezTo>
                <a:cubicBezTo>
                  <a:pt x="22109" y="10250"/>
                  <a:pt x="22150" y="10198"/>
                  <a:pt x="22200" y="10220"/>
                </a:cubicBezTo>
                <a:cubicBezTo>
                  <a:pt x="22264" y="10248"/>
                  <a:pt x="22271" y="10354"/>
                  <a:pt x="22275" y="10418"/>
                </a:cubicBezTo>
                <a:cubicBezTo>
                  <a:pt x="22280" y="10498"/>
                  <a:pt x="22253" y="10563"/>
                  <a:pt x="22250" y="10641"/>
                </a:cubicBezTo>
                <a:cubicBezTo>
                  <a:pt x="22248" y="10682"/>
                  <a:pt x="22250" y="10724"/>
                  <a:pt x="22250" y="10765"/>
                </a:cubicBezTo>
              </a:path>
              <a:path w="6649" h="2507">
                <a:moveTo>
                  <a:pt x="22994" y="10046"/>
                </a:moveTo>
                <a:cubicBezTo>
                  <a:pt x="22946" y="10046"/>
                  <a:pt x="22850" y="10027"/>
                  <a:pt x="22820" y="10071"/>
                </a:cubicBezTo>
                <a:cubicBezTo>
                  <a:pt x="22771" y="10142"/>
                  <a:pt x="22710" y="10218"/>
                  <a:pt x="22671" y="10294"/>
                </a:cubicBezTo>
                <a:cubicBezTo>
                  <a:pt x="22625" y="10382"/>
                  <a:pt x="22622" y="10472"/>
                  <a:pt x="22622" y="10567"/>
                </a:cubicBezTo>
                <a:cubicBezTo>
                  <a:pt x="22622" y="10668"/>
                  <a:pt x="22607" y="10714"/>
                  <a:pt x="22671" y="10790"/>
                </a:cubicBezTo>
                <a:cubicBezTo>
                  <a:pt x="22703" y="10828"/>
                  <a:pt x="22749" y="10815"/>
                  <a:pt x="22796" y="10815"/>
                </a:cubicBezTo>
                <a:cubicBezTo>
                  <a:pt x="22859" y="10815"/>
                  <a:pt x="22881" y="10747"/>
                  <a:pt x="22920" y="10716"/>
                </a:cubicBezTo>
                <a:cubicBezTo>
                  <a:pt x="22993" y="10658"/>
                  <a:pt x="22982" y="10580"/>
                  <a:pt x="23044" y="10517"/>
                </a:cubicBezTo>
                <a:cubicBezTo>
                  <a:pt x="23127" y="10433"/>
                  <a:pt x="23138" y="10371"/>
                  <a:pt x="23168" y="10269"/>
                </a:cubicBezTo>
                <a:cubicBezTo>
                  <a:pt x="23185" y="10210"/>
                  <a:pt x="23192" y="10184"/>
                  <a:pt x="23192" y="10120"/>
                </a:cubicBezTo>
                <a:cubicBezTo>
                  <a:pt x="23192" y="10066"/>
                  <a:pt x="23206" y="10059"/>
                  <a:pt x="23168" y="10046"/>
                </a:cubicBezTo>
                <a:cubicBezTo>
                  <a:pt x="23105" y="10046"/>
                  <a:pt x="23073" y="10077"/>
                  <a:pt x="23019" y="10120"/>
                </a:cubicBezTo>
                <a:cubicBezTo>
                  <a:pt x="22989" y="10150"/>
                  <a:pt x="22978" y="10164"/>
                  <a:pt x="22969" y="10195"/>
                </a:cubicBezTo>
              </a:path>
              <a:path w="6649" h="2507">
                <a:moveTo>
                  <a:pt x="22622" y="10344"/>
                </a:moveTo>
                <a:cubicBezTo>
                  <a:pt x="22710" y="10356"/>
                  <a:pt x="22936" y="10335"/>
                  <a:pt x="23019" y="10368"/>
                </a:cubicBezTo>
                <a:cubicBezTo>
                  <a:pt x="23102" y="10402"/>
                  <a:pt x="23112" y="10418"/>
                  <a:pt x="23217" y="10418"/>
                </a:cubicBezTo>
              </a:path>
              <a:path w="6649" h="2507">
                <a:moveTo>
                  <a:pt x="23515" y="9550"/>
                </a:moveTo>
                <a:cubicBezTo>
                  <a:pt x="23468" y="9530"/>
                  <a:pt x="23434" y="9514"/>
                  <a:pt x="23391" y="9500"/>
                </a:cubicBezTo>
                <a:cubicBezTo>
                  <a:pt x="23304" y="9473"/>
                  <a:pt x="23186" y="9457"/>
                  <a:pt x="23093" y="9451"/>
                </a:cubicBezTo>
                <a:cubicBezTo>
                  <a:pt x="22989" y="9444"/>
                  <a:pt x="22911" y="9415"/>
                  <a:pt x="22820" y="9401"/>
                </a:cubicBezTo>
                <a:cubicBezTo>
                  <a:pt x="22731" y="9387"/>
                  <a:pt x="22636" y="9381"/>
                  <a:pt x="22547" y="9376"/>
                </a:cubicBezTo>
                <a:cubicBezTo>
                  <a:pt x="22362" y="9366"/>
                  <a:pt x="22199" y="9348"/>
                  <a:pt x="22027" y="9327"/>
                </a:cubicBezTo>
                <a:cubicBezTo>
                  <a:pt x="21928" y="9315"/>
                  <a:pt x="21828" y="9309"/>
                  <a:pt x="21729" y="9302"/>
                </a:cubicBezTo>
                <a:cubicBezTo>
                  <a:pt x="21609" y="9293"/>
                  <a:pt x="21511" y="9268"/>
                  <a:pt x="21406" y="9252"/>
                </a:cubicBezTo>
                <a:cubicBezTo>
                  <a:pt x="21317" y="9239"/>
                  <a:pt x="21223" y="9233"/>
                  <a:pt x="21134" y="9227"/>
                </a:cubicBezTo>
                <a:cubicBezTo>
                  <a:pt x="21013" y="9219"/>
                  <a:pt x="20898" y="9243"/>
                  <a:pt x="20786" y="9252"/>
                </a:cubicBezTo>
                <a:cubicBezTo>
                  <a:pt x="20705" y="9259"/>
                  <a:pt x="20648" y="9292"/>
                  <a:pt x="20588" y="9302"/>
                </a:cubicBezTo>
                <a:cubicBezTo>
                  <a:pt x="20494" y="9318"/>
                  <a:pt x="20458" y="9313"/>
                  <a:pt x="20389" y="9376"/>
                </a:cubicBezTo>
                <a:cubicBezTo>
                  <a:pt x="20362" y="9401"/>
                  <a:pt x="20305" y="9466"/>
                  <a:pt x="20290" y="9500"/>
                </a:cubicBezTo>
                <a:cubicBezTo>
                  <a:pt x="20261" y="9564"/>
                  <a:pt x="20226" y="9676"/>
                  <a:pt x="20216" y="9748"/>
                </a:cubicBezTo>
                <a:cubicBezTo>
                  <a:pt x="20206" y="9823"/>
                  <a:pt x="20196" y="9922"/>
                  <a:pt x="20191" y="9996"/>
                </a:cubicBezTo>
                <a:cubicBezTo>
                  <a:pt x="20184" y="10097"/>
                  <a:pt x="20211" y="10210"/>
                  <a:pt x="20216" y="10294"/>
                </a:cubicBezTo>
                <a:cubicBezTo>
                  <a:pt x="20222" y="10394"/>
                  <a:pt x="20218" y="10495"/>
                  <a:pt x="20241" y="10592"/>
                </a:cubicBezTo>
                <a:cubicBezTo>
                  <a:pt x="20263" y="10682"/>
                  <a:pt x="20297" y="10775"/>
                  <a:pt x="20315" y="10864"/>
                </a:cubicBezTo>
                <a:cubicBezTo>
                  <a:pt x="20331" y="10943"/>
                  <a:pt x="20345" y="11032"/>
                  <a:pt x="20365" y="11112"/>
                </a:cubicBezTo>
                <a:cubicBezTo>
                  <a:pt x="20389" y="11209"/>
                  <a:pt x="20404" y="11306"/>
                  <a:pt x="20464" y="11385"/>
                </a:cubicBezTo>
                <a:cubicBezTo>
                  <a:pt x="20499" y="11431"/>
                  <a:pt x="20550" y="11457"/>
                  <a:pt x="20588" y="11485"/>
                </a:cubicBezTo>
                <a:cubicBezTo>
                  <a:pt x="20621" y="11509"/>
                  <a:pt x="20677" y="11545"/>
                  <a:pt x="20712" y="11559"/>
                </a:cubicBezTo>
                <a:cubicBezTo>
                  <a:pt x="20763" y="11579"/>
                  <a:pt x="20806" y="11570"/>
                  <a:pt x="20861" y="11584"/>
                </a:cubicBezTo>
                <a:cubicBezTo>
                  <a:pt x="20960" y="11609"/>
                  <a:pt x="21028" y="11618"/>
                  <a:pt x="21134" y="11633"/>
                </a:cubicBezTo>
                <a:cubicBezTo>
                  <a:pt x="21222" y="11645"/>
                  <a:pt x="21319" y="11666"/>
                  <a:pt x="21406" y="11683"/>
                </a:cubicBezTo>
                <a:cubicBezTo>
                  <a:pt x="21489" y="11699"/>
                  <a:pt x="21569" y="11698"/>
                  <a:pt x="21654" y="11708"/>
                </a:cubicBezTo>
                <a:cubicBezTo>
                  <a:pt x="21755" y="11720"/>
                  <a:pt x="21847" y="11731"/>
                  <a:pt x="21952" y="11733"/>
                </a:cubicBezTo>
                <a:cubicBezTo>
                  <a:pt x="22056" y="11735"/>
                  <a:pt x="22151" y="11715"/>
                  <a:pt x="22250" y="11708"/>
                </a:cubicBezTo>
                <a:cubicBezTo>
                  <a:pt x="22369" y="11700"/>
                  <a:pt x="22482" y="11689"/>
                  <a:pt x="22597" y="11658"/>
                </a:cubicBezTo>
                <a:cubicBezTo>
                  <a:pt x="22733" y="11622"/>
                  <a:pt x="22893" y="11579"/>
                  <a:pt x="23019" y="11534"/>
                </a:cubicBezTo>
                <a:cubicBezTo>
                  <a:pt x="23115" y="11500"/>
                  <a:pt x="23208" y="11439"/>
                  <a:pt x="23292" y="11385"/>
                </a:cubicBezTo>
                <a:cubicBezTo>
                  <a:pt x="23357" y="11343"/>
                  <a:pt x="23375" y="11328"/>
                  <a:pt x="23416" y="11261"/>
                </a:cubicBezTo>
                <a:cubicBezTo>
                  <a:pt x="23450" y="11206"/>
                  <a:pt x="23466" y="11146"/>
                  <a:pt x="23490" y="11088"/>
                </a:cubicBezTo>
                <a:cubicBezTo>
                  <a:pt x="23520" y="11014"/>
                  <a:pt x="23548" y="10940"/>
                  <a:pt x="23564" y="10864"/>
                </a:cubicBezTo>
                <a:cubicBezTo>
                  <a:pt x="23585" y="10767"/>
                  <a:pt x="23608" y="10669"/>
                  <a:pt x="23614" y="10567"/>
                </a:cubicBezTo>
                <a:cubicBezTo>
                  <a:pt x="23626" y="10358"/>
                  <a:pt x="23628" y="10127"/>
                  <a:pt x="23589" y="9922"/>
                </a:cubicBezTo>
                <a:cubicBezTo>
                  <a:pt x="23576" y="9853"/>
                  <a:pt x="23582" y="9765"/>
                  <a:pt x="23564" y="9699"/>
                </a:cubicBezTo>
                <a:cubicBezTo>
                  <a:pt x="23553" y="9659"/>
                  <a:pt x="23527" y="9578"/>
                  <a:pt x="23490" y="9550"/>
                </a:cubicBezTo>
                <a:cubicBezTo>
                  <a:pt x="23438" y="9511"/>
                  <a:pt x="23400" y="9492"/>
                  <a:pt x="23341" y="9475"/>
                </a:cubicBezTo>
                <a:cubicBezTo>
                  <a:pt x="23325" y="9475"/>
                  <a:pt x="23308" y="9475"/>
                  <a:pt x="23292" y="94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56080" y="3616200"/>
            <a:ext cx="1278000" cy="733680"/>
          </a:xfrm>
          <a:custGeom>
            <a:avLst/>
            <a:gdLst/>
            <a:ahLst/>
            <a:rect l="l" t="t" r="r" b="b"/>
            <a:pathLst>
              <a:path w="3548" h="2035">
                <a:moveTo>
                  <a:pt x="12427" y="10294"/>
                </a:moveTo>
                <a:cubicBezTo>
                  <a:pt x="12402" y="10294"/>
                  <a:pt x="12394" y="10294"/>
                  <a:pt x="12378" y="10294"/>
                </a:cubicBezTo>
                <a:cubicBezTo>
                  <a:pt x="12429" y="10288"/>
                  <a:pt x="12449" y="10271"/>
                  <a:pt x="12502" y="10269"/>
                </a:cubicBezTo>
                <a:cubicBezTo>
                  <a:pt x="12896" y="10257"/>
                  <a:pt x="13303" y="10256"/>
                  <a:pt x="13692" y="10294"/>
                </a:cubicBezTo>
                <a:cubicBezTo>
                  <a:pt x="13818" y="10306"/>
                  <a:pt x="13927" y="10324"/>
                  <a:pt x="14039" y="10344"/>
                </a:cubicBezTo>
                <a:cubicBezTo>
                  <a:pt x="14213" y="10376"/>
                  <a:pt x="14410" y="10345"/>
                  <a:pt x="14585" y="10368"/>
                </a:cubicBezTo>
                <a:cubicBezTo>
                  <a:pt x="14622" y="10373"/>
                  <a:pt x="14672" y="10368"/>
                  <a:pt x="14709" y="10368"/>
                </a:cubicBezTo>
              </a:path>
              <a:path w="3548" h="2035">
                <a:moveTo>
                  <a:pt x="13593" y="10716"/>
                </a:moveTo>
                <a:cubicBezTo>
                  <a:pt x="13593" y="10893"/>
                  <a:pt x="13589" y="11068"/>
                  <a:pt x="13568" y="11237"/>
                </a:cubicBezTo>
                <a:cubicBezTo>
                  <a:pt x="13556" y="11334"/>
                  <a:pt x="13554" y="11438"/>
                  <a:pt x="13543" y="11534"/>
                </a:cubicBezTo>
                <a:cubicBezTo>
                  <a:pt x="13533" y="11627"/>
                  <a:pt x="13540" y="11741"/>
                  <a:pt x="13519" y="11832"/>
                </a:cubicBezTo>
                <a:cubicBezTo>
                  <a:pt x="13505" y="11891"/>
                  <a:pt x="13513" y="11973"/>
                  <a:pt x="13494" y="12030"/>
                </a:cubicBezTo>
                <a:cubicBezTo>
                  <a:pt x="13486" y="12047"/>
                  <a:pt x="13477" y="12063"/>
                  <a:pt x="13469" y="12080"/>
                </a:cubicBezTo>
              </a:path>
              <a:path w="3548" h="2035">
                <a:moveTo>
                  <a:pt x="15503" y="10046"/>
                </a:moveTo>
                <a:cubicBezTo>
                  <a:pt x="15624" y="10046"/>
                  <a:pt x="15737" y="10042"/>
                  <a:pt x="15850" y="10071"/>
                </a:cubicBezTo>
                <a:cubicBezTo>
                  <a:pt x="15885" y="10071"/>
                  <a:pt x="15898" y="10080"/>
                  <a:pt x="15900" y="10120"/>
                </a:cubicBezTo>
              </a:path>
              <a:path w="3548" h="2035">
                <a:moveTo>
                  <a:pt x="15429" y="10641"/>
                </a:moveTo>
                <a:cubicBezTo>
                  <a:pt x="15468" y="10553"/>
                  <a:pt x="15446" y="10567"/>
                  <a:pt x="15528" y="10567"/>
                </a:cubicBezTo>
                <a:cubicBezTo>
                  <a:pt x="15601" y="10567"/>
                  <a:pt x="15690" y="10544"/>
                  <a:pt x="15751" y="10517"/>
                </a:cubicBezTo>
                <a:cubicBezTo>
                  <a:pt x="15795" y="10498"/>
                  <a:pt x="15822" y="10492"/>
                  <a:pt x="15875" y="10492"/>
                </a:cubicBezTo>
                <a:cubicBezTo>
                  <a:pt x="15900" y="10492"/>
                  <a:pt x="15908" y="10492"/>
                  <a:pt x="15925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120" y="1768320"/>
            <a:ext cx="581040" cy="339840"/>
          </a:xfrm>
          <a:custGeom>
            <a:avLst/>
            <a:gdLst/>
            <a:ahLst/>
            <a:rect l="l" t="t" r="r" b="b"/>
            <a:pathLst>
              <a:path w="1613" h="944">
                <a:moveTo>
                  <a:pt x="1166" y="5110"/>
                </a:moveTo>
                <a:cubicBezTo>
                  <a:pt x="1201" y="5098"/>
                  <a:pt x="1197" y="5062"/>
                  <a:pt x="1240" y="5035"/>
                </a:cubicBezTo>
                <a:cubicBezTo>
                  <a:pt x="1310" y="4991"/>
                  <a:pt x="1371" y="4968"/>
                  <a:pt x="1439" y="4936"/>
                </a:cubicBezTo>
                <a:cubicBezTo>
                  <a:pt x="1489" y="4912"/>
                  <a:pt x="1515" y="4893"/>
                  <a:pt x="1563" y="4936"/>
                </a:cubicBezTo>
                <a:cubicBezTo>
                  <a:pt x="1613" y="4980"/>
                  <a:pt x="1612" y="4995"/>
                  <a:pt x="1612" y="5060"/>
                </a:cubicBezTo>
                <a:cubicBezTo>
                  <a:pt x="1612" y="5136"/>
                  <a:pt x="1572" y="5170"/>
                  <a:pt x="1538" y="5234"/>
                </a:cubicBezTo>
                <a:cubicBezTo>
                  <a:pt x="1510" y="5286"/>
                  <a:pt x="1478" y="5340"/>
                  <a:pt x="1439" y="5383"/>
                </a:cubicBezTo>
                <a:cubicBezTo>
                  <a:pt x="1414" y="5410"/>
                  <a:pt x="1380" y="5465"/>
                  <a:pt x="1364" y="5432"/>
                </a:cubicBezTo>
                <a:cubicBezTo>
                  <a:pt x="1351" y="5406"/>
                  <a:pt x="1382" y="5362"/>
                  <a:pt x="1389" y="5358"/>
                </a:cubicBezTo>
                <a:cubicBezTo>
                  <a:pt x="1421" y="5342"/>
                  <a:pt x="1414" y="5333"/>
                  <a:pt x="1463" y="5333"/>
                </a:cubicBezTo>
                <a:cubicBezTo>
                  <a:pt x="1497" y="5333"/>
                  <a:pt x="1538" y="5360"/>
                  <a:pt x="1563" y="5383"/>
                </a:cubicBezTo>
                <a:cubicBezTo>
                  <a:pt x="1624" y="5440"/>
                  <a:pt x="1641" y="5490"/>
                  <a:pt x="1687" y="5556"/>
                </a:cubicBezTo>
                <a:cubicBezTo>
                  <a:pt x="1728" y="5614"/>
                  <a:pt x="1705" y="5648"/>
                  <a:pt x="1662" y="5705"/>
                </a:cubicBezTo>
                <a:cubicBezTo>
                  <a:pt x="1625" y="5755"/>
                  <a:pt x="1552" y="5818"/>
                  <a:pt x="1488" y="5829"/>
                </a:cubicBezTo>
                <a:cubicBezTo>
                  <a:pt x="1404" y="5844"/>
                  <a:pt x="1327" y="5854"/>
                  <a:pt x="1240" y="5854"/>
                </a:cubicBezTo>
                <a:cubicBezTo>
                  <a:pt x="1189" y="5854"/>
                  <a:pt x="1154" y="5869"/>
                  <a:pt x="1141" y="5829"/>
                </a:cubicBezTo>
              </a:path>
              <a:path w="1613" h="944">
                <a:moveTo>
                  <a:pt x="2332" y="5060"/>
                </a:moveTo>
                <a:cubicBezTo>
                  <a:pt x="2320" y="4980"/>
                  <a:pt x="2313" y="4986"/>
                  <a:pt x="2232" y="4986"/>
                </a:cubicBezTo>
                <a:cubicBezTo>
                  <a:pt x="2156" y="4986"/>
                  <a:pt x="2152" y="5013"/>
                  <a:pt x="2084" y="5035"/>
                </a:cubicBezTo>
                <a:cubicBezTo>
                  <a:pt x="2036" y="5051"/>
                  <a:pt x="2001" y="5059"/>
                  <a:pt x="1984" y="5110"/>
                </a:cubicBezTo>
                <a:cubicBezTo>
                  <a:pt x="1959" y="5185"/>
                  <a:pt x="2054" y="5199"/>
                  <a:pt x="2084" y="5234"/>
                </a:cubicBezTo>
                <a:cubicBezTo>
                  <a:pt x="2134" y="5293"/>
                  <a:pt x="2208" y="5340"/>
                  <a:pt x="2257" y="5407"/>
                </a:cubicBezTo>
                <a:cubicBezTo>
                  <a:pt x="2319" y="5493"/>
                  <a:pt x="2316" y="5538"/>
                  <a:pt x="2307" y="5631"/>
                </a:cubicBezTo>
                <a:cubicBezTo>
                  <a:pt x="2302" y="5687"/>
                  <a:pt x="2270" y="5738"/>
                  <a:pt x="2208" y="5755"/>
                </a:cubicBezTo>
                <a:cubicBezTo>
                  <a:pt x="2177" y="5763"/>
                  <a:pt x="2101" y="5764"/>
                  <a:pt x="2084" y="5730"/>
                </a:cubicBezTo>
                <a:cubicBezTo>
                  <a:pt x="2068" y="5698"/>
                  <a:pt x="2059" y="5671"/>
                  <a:pt x="2059" y="5631"/>
                </a:cubicBezTo>
                <a:cubicBezTo>
                  <a:pt x="2059" y="5557"/>
                  <a:pt x="2100" y="5498"/>
                  <a:pt x="2133" y="5432"/>
                </a:cubicBezTo>
                <a:cubicBezTo>
                  <a:pt x="2175" y="5348"/>
                  <a:pt x="2205" y="5299"/>
                  <a:pt x="2257" y="5234"/>
                </a:cubicBezTo>
                <a:cubicBezTo>
                  <a:pt x="2294" y="5188"/>
                  <a:pt x="2319" y="5132"/>
                  <a:pt x="2356" y="5085"/>
                </a:cubicBezTo>
              </a:path>
              <a:path w="1613" h="944">
                <a:moveTo>
                  <a:pt x="2753" y="5779"/>
                </a:moveTo>
                <a:cubicBezTo>
                  <a:pt x="2753" y="5846"/>
                  <a:pt x="2753" y="5741"/>
                  <a:pt x="2753" y="57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28840" y="1633680"/>
            <a:ext cx="777960" cy="501480"/>
          </a:xfrm>
          <a:custGeom>
            <a:avLst/>
            <a:gdLst/>
            <a:ahLst/>
            <a:rect l="l" t="t" r="r" b="b"/>
            <a:pathLst>
              <a:path w="2159" h="1390">
                <a:moveTo>
                  <a:pt x="4762" y="4539"/>
                </a:moveTo>
                <a:cubicBezTo>
                  <a:pt x="4762" y="4652"/>
                  <a:pt x="4753" y="4753"/>
                  <a:pt x="4738" y="4862"/>
                </a:cubicBezTo>
                <a:cubicBezTo>
                  <a:pt x="4712" y="5047"/>
                  <a:pt x="4729" y="5286"/>
                  <a:pt x="4762" y="5457"/>
                </a:cubicBezTo>
                <a:cubicBezTo>
                  <a:pt x="4774" y="5518"/>
                  <a:pt x="4772" y="5526"/>
                  <a:pt x="4787" y="5556"/>
                </a:cubicBezTo>
                <a:cubicBezTo>
                  <a:pt x="4787" y="5564"/>
                  <a:pt x="4787" y="5573"/>
                  <a:pt x="4787" y="5581"/>
                </a:cubicBezTo>
              </a:path>
              <a:path w="2159" h="1390">
                <a:moveTo>
                  <a:pt x="3969" y="5904"/>
                </a:moveTo>
                <a:cubicBezTo>
                  <a:pt x="4047" y="5921"/>
                  <a:pt x="4060" y="5907"/>
                  <a:pt x="4142" y="5904"/>
                </a:cubicBezTo>
                <a:cubicBezTo>
                  <a:pt x="4269" y="5899"/>
                  <a:pt x="4389" y="5889"/>
                  <a:pt x="4514" y="5879"/>
                </a:cubicBezTo>
                <a:cubicBezTo>
                  <a:pt x="4929" y="5846"/>
                  <a:pt x="5368" y="5871"/>
                  <a:pt x="5779" y="5904"/>
                </a:cubicBezTo>
                <a:cubicBezTo>
                  <a:pt x="5827" y="5908"/>
                  <a:pt x="6155" y="5914"/>
                  <a:pt x="6102" y="5928"/>
                </a:cubicBezTo>
                <a:cubicBezTo>
                  <a:pt x="6085" y="5928"/>
                  <a:pt x="6069" y="5928"/>
                  <a:pt x="6052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97000" y="2347920"/>
            <a:ext cx="1285920" cy="366840"/>
          </a:xfrm>
          <a:custGeom>
            <a:avLst/>
            <a:gdLst/>
            <a:ahLst/>
            <a:rect l="l" t="t" r="r" b="b"/>
            <a:pathLst>
              <a:path w="3573" h="1018">
                <a:moveTo>
                  <a:pt x="3696" y="6623"/>
                </a:moveTo>
                <a:cubicBezTo>
                  <a:pt x="3696" y="6756"/>
                  <a:pt x="3693" y="7473"/>
                  <a:pt x="3671" y="7466"/>
                </a:cubicBezTo>
              </a:path>
              <a:path w="3573" h="1018">
                <a:moveTo>
                  <a:pt x="3324" y="7045"/>
                </a:moveTo>
                <a:cubicBezTo>
                  <a:pt x="3425" y="7045"/>
                  <a:pt x="3500" y="7065"/>
                  <a:pt x="3597" y="7069"/>
                </a:cubicBezTo>
                <a:cubicBezTo>
                  <a:pt x="3681" y="7072"/>
                  <a:pt x="3738" y="7073"/>
                  <a:pt x="3820" y="7094"/>
                </a:cubicBezTo>
              </a:path>
              <a:path w="3573" h="1018">
                <a:moveTo>
                  <a:pt x="4266" y="7069"/>
                </a:moveTo>
                <a:cubicBezTo>
                  <a:pt x="4199" y="7112"/>
                  <a:pt x="4115" y="7160"/>
                  <a:pt x="4068" y="7218"/>
                </a:cubicBezTo>
                <a:cubicBezTo>
                  <a:pt x="4035" y="7259"/>
                  <a:pt x="4000" y="7339"/>
                  <a:pt x="4018" y="7392"/>
                </a:cubicBezTo>
                <a:cubicBezTo>
                  <a:pt x="4039" y="7454"/>
                  <a:pt x="4061" y="7466"/>
                  <a:pt x="4118" y="7466"/>
                </a:cubicBezTo>
                <a:cubicBezTo>
                  <a:pt x="4172" y="7466"/>
                  <a:pt x="4203" y="7476"/>
                  <a:pt x="4242" y="7441"/>
                </a:cubicBezTo>
                <a:cubicBezTo>
                  <a:pt x="4290" y="7398"/>
                  <a:pt x="4311" y="7380"/>
                  <a:pt x="4316" y="7317"/>
                </a:cubicBezTo>
                <a:cubicBezTo>
                  <a:pt x="4319" y="7276"/>
                  <a:pt x="4316" y="7234"/>
                  <a:pt x="4316" y="7193"/>
                </a:cubicBezTo>
                <a:cubicBezTo>
                  <a:pt x="4316" y="7242"/>
                  <a:pt x="4334" y="7280"/>
                  <a:pt x="4341" y="7317"/>
                </a:cubicBezTo>
                <a:cubicBezTo>
                  <a:pt x="4354" y="7382"/>
                  <a:pt x="4325" y="7409"/>
                  <a:pt x="4390" y="7441"/>
                </a:cubicBezTo>
                <a:cubicBezTo>
                  <a:pt x="4468" y="7480"/>
                  <a:pt x="4487" y="7478"/>
                  <a:pt x="4539" y="7417"/>
                </a:cubicBezTo>
              </a:path>
              <a:path w="3573" h="1018">
                <a:moveTo>
                  <a:pt x="4589" y="7119"/>
                </a:moveTo>
                <a:cubicBezTo>
                  <a:pt x="4589" y="7237"/>
                  <a:pt x="4597" y="7329"/>
                  <a:pt x="4614" y="7441"/>
                </a:cubicBezTo>
                <a:cubicBezTo>
                  <a:pt x="4614" y="7483"/>
                  <a:pt x="4614" y="7508"/>
                  <a:pt x="4614" y="7466"/>
                </a:cubicBezTo>
                <a:cubicBezTo>
                  <a:pt x="4645" y="7424"/>
                  <a:pt x="4638" y="7397"/>
                  <a:pt x="4638" y="7342"/>
                </a:cubicBezTo>
                <a:cubicBezTo>
                  <a:pt x="4638" y="7295"/>
                  <a:pt x="4643" y="7231"/>
                  <a:pt x="4663" y="7193"/>
                </a:cubicBezTo>
                <a:cubicBezTo>
                  <a:pt x="4681" y="7157"/>
                  <a:pt x="4741" y="7110"/>
                  <a:pt x="4762" y="7094"/>
                </a:cubicBezTo>
                <a:cubicBezTo>
                  <a:pt x="4811" y="7055"/>
                  <a:pt x="4871" y="7062"/>
                  <a:pt x="4911" y="7119"/>
                </a:cubicBezTo>
                <a:cubicBezTo>
                  <a:pt x="4947" y="7170"/>
                  <a:pt x="4983" y="7234"/>
                  <a:pt x="4986" y="7293"/>
                </a:cubicBezTo>
                <a:cubicBezTo>
                  <a:pt x="4989" y="7339"/>
                  <a:pt x="4996" y="7398"/>
                  <a:pt x="5011" y="7441"/>
                </a:cubicBezTo>
                <a:cubicBezTo>
                  <a:pt x="5047" y="7545"/>
                  <a:pt x="5035" y="7472"/>
                  <a:pt x="5035" y="7441"/>
                </a:cubicBezTo>
              </a:path>
              <a:path w="3573" h="1018">
                <a:moveTo>
                  <a:pt x="5283" y="6573"/>
                </a:moveTo>
                <a:cubicBezTo>
                  <a:pt x="5342" y="6544"/>
                  <a:pt x="5438" y="6474"/>
                  <a:pt x="5482" y="6573"/>
                </a:cubicBezTo>
                <a:cubicBezTo>
                  <a:pt x="5507" y="6628"/>
                  <a:pt x="5466" y="6663"/>
                  <a:pt x="5432" y="6697"/>
                </a:cubicBezTo>
                <a:cubicBezTo>
                  <a:pt x="5394" y="6734"/>
                  <a:pt x="5383" y="6744"/>
                  <a:pt x="5383" y="6796"/>
                </a:cubicBezTo>
                <a:cubicBezTo>
                  <a:pt x="5383" y="6864"/>
                  <a:pt x="5455" y="6867"/>
                  <a:pt x="5507" y="6871"/>
                </a:cubicBezTo>
                <a:cubicBezTo>
                  <a:pt x="5515" y="6871"/>
                  <a:pt x="5523" y="6871"/>
                  <a:pt x="5531" y="6871"/>
                </a:cubicBezTo>
              </a:path>
              <a:path w="3573" h="1018">
                <a:moveTo>
                  <a:pt x="5755" y="7069"/>
                </a:moveTo>
                <a:cubicBezTo>
                  <a:pt x="5763" y="7177"/>
                  <a:pt x="5781" y="7198"/>
                  <a:pt x="5829" y="7293"/>
                </a:cubicBezTo>
                <a:cubicBezTo>
                  <a:pt x="5868" y="7370"/>
                  <a:pt x="5915" y="7394"/>
                  <a:pt x="5978" y="7441"/>
                </a:cubicBezTo>
                <a:cubicBezTo>
                  <a:pt x="6023" y="7474"/>
                  <a:pt x="6046" y="7491"/>
                  <a:pt x="6102" y="7491"/>
                </a:cubicBezTo>
                <a:cubicBezTo>
                  <a:pt x="6130" y="7491"/>
                  <a:pt x="6141" y="7489"/>
                  <a:pt x="6152" y="7466"/>
                </a:cubicBezTo>
              </a:path>
              <a:path w="3573" h="1018">
                <a:moveTo>
                  <a:pt x="6052" y="7020"/>
                </a:moveTo>
                <a:cubicBezTo>
                  <a:pt x="5996" y="7097"/>
                  <a:pt x="5944" y="7174"/>
                  <a:pt x="5879" y="7243"/>
                </a:cubicBezTo>
                <a:cubicBezTo>
                  <a:pt x="5830" y="7295"/>
                  <a:pt x="5770" y="7358"/>
                  <a:pt x="5730" y="7417"/>
                </a:cubicBezTo>
                <a:cubicBezTo>
                  <a:pt x="5698" y="7465"/>
                  <a:pt x="5672" y="7499"/>
                  <a:pt x="5631" y="7541"/>
                </a:cubicBezTo>
              </a:path>
              <a:path w="3573" h="1018">
                <a:moveTo>
                  <a:pt x="6623" y="6970"/>
                </a:moveTo>
                <a:cubicBezTo>
                  <a:pt x="6603" y="7088"/>
                  <a:pt x="6573" y="7199"/>
                  <a:pt x="6573" y="7317"/>
                </a:cubicBezTo>
                <a:cubicBezTo>
                  <a:pt x="6573" y="7381"/>
                  <a:pt x="6598" y="7425"/>
                  <a:pt x="6598" y="7491"/>
                </a:cubicBezTo>
                <a:cubicBezTo>
                  <a:pt x="6598" y="7458"/>
                  <a:pt x="6598" y="7442"/>
                  <a:pt x="6598" y="7417"/>
                </a:cubicBezTo>
              </a:path>
              <a:path w="3573" h="1018">
                <a:moveTo>
                  <a:pt x="6400" y="7193"/>
                </a:moveTo>
                <a:cubicBezTo>
                  <a:pt x="6496" y="7193"/>
                  <a:pt x="6577" y="7214"/>
                  <a:pt x="6672" y="7218"/>
                </a:cubicBezTo>
                <a:cubicBezTo>
                  <a:pt x="6746" y="7221"/>
                  <a:pt x="6822" y="7218"/>
                  <a:pt x="6896" y="72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78040" y="2446200"/>
            <a:ext cx="28800" cy="260640"/>
          </a:xfrm>
          <a:custGeom>
            <a:avLst/>
            <a:gdLst/>
            <a:ahLst/>
            <a:rect l="l" t="t" r="r" b="b"/>
            <a:pathLst>
              <a:path w="76" h="721">
                <a:moveTo>
                  <a:pt x="7516" y="6796"/>
                </a:moveTo>
                <a:cubicBezTo>
                  <a:pt x="7508" y="6923"/>
                  <a:pt x="7471" y="7041"/>
                  <a:pt x="7466" y="7169"/>
                </a:cubicBezTo>
                <a:cubicBezTo>
                  <a:pt x="7463" y="7239"/>
                  <a:pt x="7441" y="7293"/>
                  <a:pt x="7441" y="7367"/>
                </a:cubicBezTo>
                <a:cubicBezTo>
                  <a:pt x="7441" y="7417"/>
                  <a:pt x="7441" y="7466"/>
                  <a:pt x="7441" y="75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17880" y="482760"/>
            <a:ext cx="4929120" cy="2224080"/>
          </a:xfrm>
          <a:custGeom>
            <a:avLst/>
            <a:gdLst/>
            <a:ahLst/>
            <a:rect l="l" t="t" r="r" b="b"/>
            <a:pathLst>
              <a:path w="13693" h="6178">
                <a:moveTo>
                  <a:pt x="8533" y="7491"/>
                </a:moveTo>
                <a:cubicBezTo>
                  <a:pt x="8578" y="7461"/>
                  <a:pt x="8612" y="7496"/>
                  <a:pt x="8657" y="7466"/>
                </a:cubicBezTo>
                <a:cubicBezTo>
                  <a:pt x="8796" y="7374"/>
                  <a:pt x="8867" y="7253"/>
                  <a:pt x="8979" y="7144"/>
                </a:cubicBezTo>
                <a:cubicBezTo>
                  <a:pt x="9158" y="6968"/>
                  <a:pt x="9325" y="6819"/>
                  <a:pt x="9451" y="6598"/>
                </a:cubicBezTo>
                <a:cubicBezTo>
                  <a:pt x="9539" y="6444"/>
                  <a:pt x="9589" y="6294"/>
                  <a:pt x="9649" y="6127"/>
                </a:cubicBezTo>
                <a:cubicBezTo>
                  <a:pt x="9721" y="5928"/>
                  <a:pt x="9756" y="5743"/>
                  <a:pt x="9773" y="5531"/>
                </a:cubicBezTo>
                <a:cubicBezTo>
                  <a:pt x="9796" y="5238"/>
                  <a:pt x="9759" y="4983"/>
                  <a:pt x="9649" y="4713"/>
                </a:cubicBezTo>
                <a:cubicBezTo>
                  <a:pt x="9562" y="4499"/>
                  <a:pt x="9423" y="4307"/>
                  <a:pt x="9203" y="4217"/>
                </a:cubicBezTo>
                <a:cubicBezTo>
                  <a:pt x="8901" y="4093"/>
                  <a:pt x="8503" y="4209"/>
                  <a:pt x="8384" y="4539"/>
                </a:cubicBezTo>
                <a:cubicBezTo>
                  <a:pt x="8320" y="4718"/>
                  <a:pt x="8436" y="4861"/>
                  <a:pt x="8533" y="4986"/>
                </a:cubicBezTo>
                <a:cubicBezTo>
                  <a:pt x="8604" y="5077"/>
                  <a:pt x="8733" y="5180"/>
                  <a:pt x="8830" y="5234"/>
                </a:cubicBezTo>
                <a:cubicBezTo>
                  <a:pt x="9052" y="5357"/>
                  <a:pt x="9374" y="5457"/>
                  <a:pt x="9624" y="5531"/>
                </a:cubicBezTo>
                <a:cubicBezTo>
                  <a:pt x="9970" y="5633"/>
                  <a:pt x="10317" y="5681"/>
                  <a:pt x="10616" y="5904"/>
                </a:cubicBezTo>
                <a:cubicBezTo>
                  <a:pt x="10817" y="6054"/>
                  <a:pt x="10911" y="6243"/>
                  <a:pt x="10765" y="6474"/>
                </a:cubicBezTo>
                <a:cubicBezTo>
                  <a:pt x="10661" y="6638"/>
                  <a:pt x="10392" y="6705"/>
                  <a:pt x="10220" y="6747"/>
                </a:cubicBezTo>
                <a:cubicBezTo>
                  <a:pt x="10046" y="6789"/>
                  <a:pt x="9754" y="6796"/>
                  <a:pt x="9575" y="6747"/>
                </a:cubicBezTo>
                <a:cubicBezTo>
                  <a:pt x="9466" y="6717"/>
                  <a:pt x="9344" y="6668"/>
                  <a:pt x="9252" y="6598"/>
                </a:cubicBezTo>
                <a:cubicBezTo>
                  <a:pt x="9144" y="6516"/>
                  <a:pt x="9027" y="6421"/>
                  <a:pt x="9004" y="6276"/>
                </a:cubicBezTo>
                <a:cubicBezTo>
                  <a:pt x="8975" y="6096"/>
                  <a:pt x="9028" y="6035"/>
                  <a:pt x="9203" y="6003"/>
                </a:cubicBezTo>
                <a:cubicBezTo>
                  <a:pt x="9333" y="5979"/>
                  <a:pt x="9373" y="6050"/>
                  <a:pt x="9475" y="6102"/>
                </a:cubicBezTo>
                <a:cubicBezTo>
                  <a:pt x="9631" y="6183"/>
                  <a:pt x="9734" y="6343"/>
                  <a:pt x="9897" y="6424"/>
                </a:cubicBezTo>
                <a:cubicBezTo>
                  <a:pt x="10121" y="6535"/>
                  <a:pt x="10377" y="6543"/>
                  <a:pt x="10616" y="6499"/>
                </a:cubicBezTo>
                <a:cubicBezTo>
                  <a:pt x="10736" y="6477"/>
                  <a:pt x="10859" y="6446"/>
                  <a:pt x="10964" y="6375"/>
                </a:cubicBezTo>
                <a:cubicBezTo>
                  <a:pt x="11163" y="6239"/>
                  <a:pt x="11278" y="6044"/>
                  <a:pt x="11286" y="5804"/>
                </a:cubicBezTo>
                <a:cubicBezTo>
                  <a:pt x="11290" y="5696"/>
                  <a:pt x="11236" y="5564"/>
                  <a:pt x="11212" y="5457"/>
                </a:cubicBezTo>
                <a:cubicBezTo>
                  <a:pt x="11173" y="5287"/>
                  <a:pt x="11112" y="5119"/>
                  <a:pt x="11038" y="4961"/>
                </a:cubicBezTo>
                <a:cubicBezTo>
                  <a:pt x="10975" y="4826"/>
                  <a:pt x="10912" y="4719"/>
                  <a:pt x="10840" y="4589"/>
                </a:cubicBezTo>
                <a:cubicBezTo>
                  <a:pt x="10788" y="4495"/>
                  <a:pt x="10754" y="4402"/>
                  <a:pt x="10691" y="4316"/>
                </a:cubicBezTo>
                <a:cubicBezTo>
                  <a:pt x="10659" y="4272"/>
                  <a:pt x="10590" y="4223"/>
                  <a:pt x="10567" y="4192"/>
                </a:cubicBezTo>
                <a:cubicBezTo>
                  <a:pt x="10582" y="4247"/>
                  <a:pt x="10574" y="4312"/>
                  <a:pt x="10592" y="4366"/>
                </a:cubicBezTo>
                <a:cubicBezTo>
                  <a:pt x="10652" y="4549"/>
                  <a:pt x="10709" y="4738"/>
                  <a:pt x="10790" y="4911"/>
                </a:cubicBezTo>
                <a:cubicBezTo>
                  <a:pt x="10933" y="5216"/>
                  <a:pt x="11130" y="5578"/>
                  <a:pt x="11410" y="5779"/>
                </a:cubicBezTo>
                <a:cubicBezTo>
                  <a:pt x="11525" y="5861"/>
                  <a:pt x="11642" y="5901"/>
                  <a:pt x="11782" y="5928"/>
                </a:cubicBezTo>
                <a:cubicBezTo>
                  <a:pt x="11893" y="5950"/>
                  <a:pt x="12072" y="5929"/>
                  <a:pt x="12179" y="5904"/>
                </a:cubicBezTo>
                <a:cubicBezTo>
                  <a:pt x="12410" y="5849"/>
                  <a:pt x="12631" y="5682"/>
                  <a:pt x="12725" y="5457"/>
                </a:cubicBezTo>
                <a:cubicBezTo>
                  <a:pt x="12775" y="5336"/>
                  <a:pt x="12775" y="5213"/>
                  <a:pt x="12774" y="5085"/>
                </a:cubicBezTo>
                <a:cubicBezTo>
                  <a:pt x="12773" y="4937"/>
                  <a:pt x="12734" y="4787"/>
                  <a:pt x="12650" y="4663"/>
                </a:cubicBezTo>
                <a:cubicBezTo>
                  <a:pt x="12558" y="4528"/>
                  <a:pt x="12422" y="4434"/>
                  <a:pt x="12278" y="4366"/>
                </a:cubicBezTo>
                <a:cubicBezTo>
                  <a:pt x="11923" y="4197"/>
                  <a:pt x="11628" y="4473"/>
                  <a:pt x="11559" y="4812"/>
                </a:cubicBezTo>
                <a:cubicBezTo>
                  <a:pt x="11530" y="4955"/>
                  <a:pt x="11565" y="5137"/>
                  <a:pt x="11633" y="5259"/>
                </a:cubicBezTo>
                <a:cubicBezTo>
                  <a:pt x="11677" y="5337"/>
                  <a:pt x="11827" y="5456"/>
                  <a:pt x="11906" y="5507"/>
                </a:cubicBezTo>
                <a:cubicBezTo>
                  <a:pt x="11993" y="5563"/>
                  <a:pt x="12150" y="5607"/>
                  <a:pt x="12254" y="5631"/>
                </a:cubicBezTo>
                <a:cubicBezTo>
                  <a:pt x="12390" y="5663"/>
                  <a:pt x="12567" y="5684"/>
                  <a:pt x="12700" y="5631"/>
                </a:cubicBezTo>
                <a:cubicBezTo>
                  <a:pt x="13079" y="5481"/>
                  <a:pt x="13274" y="5013"/>
                  <a:pt x="13122" y="4638"/>
                </a:cubicBezTo>
                <a:cubicBezTo>
                  <a:pt x="13090" y="4558"/>
                  <a:pt x="13046" y="4535"/>
                  <a:pt x="12998" y="4465"/>
                </a:cubicBezTo>
                <a:cubicBezTo>
                  <a:pt x="12971" y="4425"/>
                  <a:pt x="12916" y="4416"/>
                  <a:pt x="12898" y="4390"/>
                </a:cubicBezTo>
                <a:cubicBezTo>
                  <a:pt x="12932" y="4456"/>
                  <a:pt x="12933" y="4521"/>
                  <a:pt x="12973" y="4589"/>
                </a:cubicBezTo>
                <a:cubicBezTo>
                  <a:pt x="13080" y="4774"/>
                  <a:pt x="13203" y="4934"/>
                  <a:pt x="13320" y="5110"/>
                </a:cubicBezTo>
                <a:cubicBezTo>
                  <a:pt x="13493" y="5370"/>
                  <a:pt x="13661" y="5618"/>
                  <a:pt x="13791" y="5904"/>
                </a:cubicBezTo>
                <a:cubicBezTo>
                  <a:pt x="13842" y="6017"/>
                  <a:pt x="13886" y="6140"/>
                  <a:pt x="13940" y="6251"/>
                </a:cubicBezTo>
                <a:cubicBezTo>
                  <a:pt x="13959" y="6290"/>
                  <a:pt x="13946" y="6238"/>
                  <a:pt x="13965" y="6276"/>
                </a:cubicBezTo>
                <a:cubicBezTo>
                  <a:pt x="13880" y="6151"/>
                  <a:pt x="13805" y="6031"/>
                  <a:pt x="13717" y="5904"/>
                </a:cubicBezTo>
                <a:cubicBezTo>
                  <a:pt x="13630" y="5779"/>
                  <a:pt x="13552" y="5656"/>
                  <a:pt x="13469" y="5531"/>
                </a:cubicBezTo>
                <a:cubicBezTo>
                  <a:pt x="13383" y="5400"/>
                  <a:pt x="13294" y="5274"/>
                  <a:pt x="13221" y="5135"/>
                </a:cubicBezTo>
                <a:cubicBezTo>
                  <a:pt x="13090" y="4889"/>
                  <a:pt x="12957" y="4539"/>
                  <a:pt x="13097" y="4266"/>
                </a:cubicBezTo>
                <a:cubicBezTo>
                  <a:pt x="13135" y="4193"/>
                  <a:pt x="13198" y="4087"/>
                  <a:pt x="13271" y="4043"/>
                </a:cubicBezTo>
                <a:cubicBezTo>
                  <a:pt x="13566" y="3867"/>
                  <a:pt x="13854" y="4103"/>
                  <a:pt x="14015" y="4341"/>
                </a:cubicBezTo>
                <a:cubicBezTo>
                  <a:pt x="14094" y="4458"/>
                  <a:pt x="14132" y="4549"/>
                  <a:pt x="14163" y="4688"/>
                </a:cubicBezTo>
                <a:cubicBezTo>
                  <a:pt x="14187" y="4795"/>
                  <a:pt x="14191" y="4928"/>
                  <a:pt x="14163" y="5035"/>
                </a:cubicBezTo>
                <a:cubicBezTo>
                  <a:pt x="14135" y="5141"/>
                  <a:pt x="14068" y="5234"/>
                  <a:pt x="13990" y="5308"/>
                </a:cubicBezTo>
                <a:cubicBezTo>
                  <a:pt x="13721" y="5563"/>
                  <a:pt x="13258" y="5434"/>
                  <a:pt x="12998" y="5259"/>
                </a:cubicBezTo>
                <a:cubicBezTo>
                  <a:pt x="12859" y="5166"/>
                  <a:pt x="12831" y="5076"/>
                  <a:pt x="12750" y="4961"/>
                </a:cubicBezTo>
                <a:cubicBezTo>
                  <a:pt x="12750" y="4936"/>
                  <a:pt x="12750" y="4928"/>
                  <a:pt x="12750" y="4911"/>
                </a:cubicBezTo>
                <a:cubicBezTo>
                  <a:pt x="12788" y="4913"/>
                  <a:pt x="12829" y="4851"/>
                  <a:pt x="12898" y="4862"/>
                </a:cubicBezTo>
                <a:cubicBezTo>
                  <a:pt x="12986" y="4876"/>
                  <a:pt x="13059" y="4919"/>
                  <a:pt x="13146" y="4936"/>
                </a:cubicBezTo>
                <a:cubicBezTo>
                  <a:pt x="13311" y="4969"/>
                  <a:pt x="13500" y="5025"/>
                  <a:pt x="13667" y="5035"/>
                </a:cubicBezTo>
                <a:cubicBezTo>
                  <a:pt x="13922" y="5051"/>
                  <a:pt x="14208" y="4973"/>
                  <a:pt x="14436" y="4862"/>
                </a:cubicBezTo>
                <a:cubicBezTo>
                  <a:pt x="14729" y="4719"/>
                  <a:pt x="14934" y="4472"/>
                  <a:pt x="14908" y="4142"/>
                </a:cubicBezTo>
                <a:cubicBezTo>
                  <a:pt x="14895" y="3973"/>
                  <a:pt x="14771" y="3852"/>
                  <a:pt x="14684" y="3721"/>
                </a:cubicBezTo>
                <a:cubicBezTo>
                  <a:pt x="14614" y="3616"/>
                  <a:pt x="14566" y="3564"/>
                  <a:pt x="14486" y="3473"/>
                </a:cubicBezTo>
                <a:cubicBezTo>
                  <a:pt x="14419" y="3397"/>
                  <a:pt x="14365" y="3338"/>
                  <a:pt x="14288" y="3274"/>
                </a:cubicBezTo>
                <a:cubicBezTo>
                  <a:pt x="14262" y="3252"/>
                  <a:pt x="14230" y="3263"/>
                  <a:pt x="14213" y="3249"/>
                </a:cubicBezTo>
                <a:cubicBezTo>
                  <a:pt x="14272" y="3402"/>
                  <a:pt x="14296" y="3541"/>
                  <a:pt x="14387" y="3696"/>
                </a:cubicBezTo>
                <a:cubicBezTo>
                  <a:pt x="14610" y="4077"/>
                  <a:pt x="14896" y="4427"/>
                  <a:pt x="15180" y="4762"/>
                </a:cubicBezTo>
                <a:cubicBezTo>
                  <a:pt x="15243" y="4836"/>
                  <a:pt x="15311" y="4918"/>
                  <a:pt x="15379" y="4986"/>
                </a:cubicBezTo>
                <a:cubicBezTo>
                  <a:pt x="15409" y="5016"/>
                  <a:pt x="15423" y="5027"/>
                  <a:pt x="15453" y="5035"/>
                </a:cubicBezTo>
                <a:cubicBezTo>
                  <a:pt x="15431" y="5010"/>
                  <a:pt x="15475" y="5060"/>
                  <a:pt x="15453" y="5035"/>
                </a:cubicBezTo>
                <a:cubicBezTo>
                  <a:pt x="15332" y="4900"/>
                  <a:pt x="15197" y="4773"/>
                  <a:pt x="15106" y="4614"/>
                </a:cubicBezTo>
                <a:cubicBezTo>
                  <a:pt x="15043" y="4503"/>
                  <a:pt x="14952" y="4371"/>
                  <a:pt x="14932" y="4242"/>
                </a:cubicBezTo>
                <a:cubicBezTo>
                  <a:pt x="14908" y="4083"/>
                  <a:pt x="14936" y="3913"/>
                  <a:pt x="15007" y="3770"/>
                </a:cubicBezTo>
                <a:cubicBezTo>
                  <a:pt x="15054" y="3676"/>
                  <a:pt x="15118" y="3606"/>
                  <a:pt x="15205" y="3547"/>
                </a:cubicBezTo>
                <a:cubicBezTo>
                  <a:pt x="15381" y="3428"/>
                  <a:pt x="15619" y="3433"/>
                  <a:pt x="15801" y="3522"/>
                </a:cubicBezTo>
                <a:cubicBezTo>
                  <a:pt x="15908" y="3574"/>
                  <a:pt x="15990" y="3668"/>
                  <a:pt x="16073" y="3746"/>
                </a:cubicBezTo>
                <a:cubicBezTo>
                  <a:pt x="16162" y="3830"/>
                  <a:pt x="16240" y="3949"/>
                  <a:pt x="16321" y="4043"/>
                </a:cubicBezTo>
                <a:cubicBezTo>
                  <a:pt x="16406" y="4142"/>
                  <a:pt x="16484" y="4243"/>
                  <a:pt x="16570" y="4341"/>
                </a:cubicBezTo>
                <a:cubicBezTo>
                  <a:pt x="16482" y="4156"/>
                  <a:pt x="16361" y="3986"/>
                  <a:pt x="16297" y="3795"/>
                </a:cubicBezTo>
                <a:cubicBezTo>
                  <a:pt x="16245" y="3640"/>
                  <a:pt x="16223" y="3534"/>
                  <a:pt x="16247" y="3373"/>
                </a:cubicBezTo>
                <a:cubicBezTo>
                  <a:pt x="16260" y="3283"/>
                  <a:pt x="16280" y="3170"/>
                  <a:pt x="16346" y="3101"/>
                </a:cubicBezTo>
                <a:cubicBezTo>
                  <a:pt x="16413" y="3031"/>
                  <a:pt x="16488" y="2972"/>
                  <a:pt x="16570" y="2927"/>
                </a:cubicBezTo>
                <a:cubicBezTo>
                  <a:pt x="16704" y="2854"/>
                  <a:pt x="16875" y="2863"/>
                  <a:pt x="17016" y="2902"/>
                </a:cubicBezTo>
                <a:cubicBezTo>
                  <a:pt x="17086" y="2921"/>
                  <a:pt x="17169" y="2958"/>
                  <a:pt x="17239" y="3001"/>
                </a:cubicBezTo>
                <a:cubicBezTo>
                  <a:pt x="17300" y="3038"/>
                  <a:pt x="17351" y="3106"/>
                  <a:pt x="17413" y="3150"/>
                </a:cubicBezTo>
                <a:cubicBezTo>
                  <a:pt x="17451" y="3177"/>
                  <a:pt x="17426" y="3195"/>
                  <a:pt x="17462" y="3225"/>
                </a:cubicBezTo>
                <a:cubicBezTo>
                  <a:pt x="17200" y="3079"/>
                  <a:pt x="17055" y="2922"/>
                  <a:pt x="16718" y="2927"/>
                </a:cubicBezTo>
                <a:cubicBezTo>
                  <a:pt x="16624" y="2929"/>
                  <a:pt x="16485" y="2958"/>
                  <a:pt x="16396" y="3001"/>
                </a:cubicBezTo>
                <a:cubicBezTo>
                  <a:pt x="16147" y="3120"/>
                  <a:pt x="16115" y="3261"/>
                  <a:pt x="16148" y="3522"/>
                </a:cubicBezTo>
                <a:cubicBezTo>
                  <a:pt x="16194" y="3884"/>
                  <a:pt x="16517" y="3972"/>
                  <a:pt x="16818" y="3944"/>
                </a:cubicBezTo>
                <a:cubicBezTo>
                  <a:pt x="16977" y="3929"/>
                  <a:pt x="17136" y="3897"/>
                  <a:pt x="17264" y="3795"/>
                </a:cubicBezTo>
                <a:cubicBezTo>
                  <a:pt x="17346" y="3729"/>
                  <a:pt x="17414" y="3704"/>
                  <a:pt x="17462" y="3597"/>
                </a:cubicBezTo>
                <a:cubicBezTo>
                  <a:pt x="17492" y="3531"/>
                  <a:pt x="17481" y="3423"/>
                  <a:pt x="17487" y="3349"/>
                </a:cubicBezTo>
                <a:cubicBezTo>
                  <a:pt x="17492" y="3285"/>
                  <a:pt x="17479" y="3230"/>
                  <a:pt x="17462" y="3175"/>
                </a:cubicBezTo>
                <a:cubicBezTo>
                  <a:pt x="17436" y="3091"/>
                  <a:pt x="17339" y="3035"/>
                  <a:pt x="17314" y="2977"/>
                </a:cubicBezTo>
                <a:cubicBezTo>
                  <a:pt x="17321" y="3018"/>
                  <a:pt x="17284" y="3035"/>
                  <a:pt x="17289" y="3076"/>
                </a:cubicBezTo>
                <a:cubicBezTo>
                  <a:pt x="17333" y="3422"/>
                  <a:pt x="17443" y="3608"/>
                  <a:pt x="17810" y="3547"/>
                </a:cubicBezTo>
                <a:cubicBezTo>
                  <a:pt x="17904" y="3532"/>
                  <a:pt x="17988" y="3501"/>
                  <a:pt x="18033" y="3423"/>
                </a:cubicBezTo>
                <a:cubicBezTo>
                  <a:pt x="18079" y="3345"/>
                  <a:pt x="18031" y="3304"/>
                  <a:pt x="18033" y="3225"/>
                </a:cubicBezTo>
                <a:cubicBezTo>
                  <a:pt x="18035" y="3137"/>
                  <a:pt x="17938" y="3092"/>
                  <a:pt x="17934" y="3001"/>
                </a:cubicBezTo>
                <a:cubicBezTo>
                  <a:pt x="17931" y="2924"/>
                  <a:pt x="17911" y="2869"/>
                  <a:pt x="17934" y="2803"/>
                </a:cubicBezTo>
                <a:cubicBezTo>
                  <a:pt x="17961" y="2726"/>
                  <a:pt x="17963" y="2699"/>
                  <a:pt x="18033" y="2654"/>
                </a:cubicBezTo>
                <a:cubicBezTo>
                  <a:pt x="18094" y="2615"/>
                  <a:pt x="18098" y="2596"/>
                  <a:pt x="18182" y="2604"/>
                </a:cubicBezTo>
                <a:cubicBezTo>
                  <a:pt x="18434" y="2628"/>
                  <a:pt x="18662" y="3006"/>
                  <a:pt x="18827" y="3175"/>
                </a:cubicBezTo>
                <a:cubicBezTo>
                  <a:pt x="18846" y="3195"/>
                  <a:pt x="18833" y="3180"/>
                  <a:pt x="18852" y="3200"/>
                </a:cubicBezTo>
                <a:cubicBezTo>
                  <a:pt x="18836" y="3148"/>
                  <a:pt x="18849" y="3077"/>
                  <a:pt x="18827" y="3026"/>
                </a:cubicBezTo>
                <a:cubicBezTo>
                  <a:pt x="18804" y="2975"/>
                  <a:pt x="18740" y="2935"/>
                  <a:pt x="18728" y="2877"/>
                </a:cubicBezTo>
                <a:cubicBezTo>
                  <a:pt x="18676" y="2632"/>
                  <a:pt x="18734" y="2621"/>
                  <a:pt x="18827" y="2406"/>
                </a:cubicBezTo>
                <a:cubicBezTo>
                  <a:pt x="18835" y="2406"/>
                  <a:pt x="18844" y="2406"/>
                  <a:pt x="18852" y="2406"/>
                </a:cubicBezTo>
                <a:cubicBezTo>
                  <a:pt x="18908" y="2459"/>
                  <a:pt x="18979" y="2499"/>
                  <a:pt x="19050" y="2580"/>
                </a:cubicBezTo>
                <a:cubicBezTo>
                  <a:pt x="19249" y="2807"/>
                  <a:pt x="19488" y="3179"/>
                  <a:pt x="19844" y="3125"/>
                </a:cubicBezTo>
                <a:cubicBezTo>
                  <a:pt x="20079" y="3089"/>
                  <a:pt x="20247" y="2927"/>
                  <a:pt x="20290" y="2704"/>
                </a:cubicBezTo>
                <a:cubicBezTo>
                  <a:pt x="20338" y="2458"/>
                  <a:pt x="20121" y="2271"/>
                  <a:pt x="19993" y="2108"/>
                </a:cubicBezTo>
                <a:cubicBezTo>
                  <a:pt x="19985" y="2108"/>
                  <a:pt x="19976" y="2108"/>
                  <a:pt x="19968" y="2108"/>
                </a:cubicBezTo>
                <a:cubicBezTo>
                  <a:pt x="19983" y="2152"/>
                  <a:pt x="19928" y="2233"/>
                  <a:pt x="19968" y="2307"/>
                </a:cubicBezTo>
                <a:cubicBezTo>
                  <a:pt x="19992" y="2352"/>
                  <a:pt x="20025" y="2490"/>
                  <a:pt x="20067" y="2530"/>
                </a:cubicBezTo>
                <a:cubicBezTo>
                  <a:pt x="20108" y="2569"/>
                  <a:pt x="20257" y="2656"/>
                  <a:pt x="20315" y="2679"/>
                </a:cubicBezTo>
                <a:cubicBezTo>
                  <a:pt x="20456" y="2736"/>
                  <a:pt x="20597" y="2686"/>
                  <a:pt x="20737" y="2679"/>
                </a:cubicBezTo>
                <a:cubicBezTo>
                  <a:pt x="20875" y="2672"/>
                  <a:pt x="21052" y="2651"/>
                  <a:pt x="21183" y="2604"/>
                </a:cubicBezTo>
                <a:cubicBezTo>
                  <a:pt x="21297" y="2563"/>
                  <a:pt x="21425" y="2499"/>
                  <a:pt x="21506" y="2406"/>
                </a:cubicBezTo>
                <a:cubicBezTo>
                  <a:pt x="21572" y="2331"/>
                  <a:pt x="21617" y="2222"/>
                  <a:pt x="21630" y="2133"/>
                </a:cubicBezTo>
                <a:cubicBezTo>
                  <a:pt x="21642" y="2047"/>
                  <a:pt x="21636" y="1976"/>
                  <a:pt x="21605" y="1885"/>
                </a:cubicBezTo>
                <a:cubicBezTo>
                  <a:pt x="21568" y="1778"/>
                  <a:pt x="21486" y="1693"/>
                  <a:pt x="21406" y="1612"/>
                </a:cubicBezTo>
                <a:cubicBezTo>
                  <a:pt x="21242" y="1446"/>
                  <a:pt x="20842" y="1275"/>
                  <a:pt x="20613" y="1364"/>
                </a:cubicBezTo>
                <a:cubicBezTo>
                  <a:pt x="20512" y="1403"/>
                  <a:pt x="20384" y="1435"/>
                  <a:pt x="20414" y="1588"/>
                </a:cubicBezTo>
                <a:cubicBezTo>
                  <a:pt x="20455" y="1794"/>
                  <a:pt x="20538" y="1874"/>
                  <a:pt x="20712" y="2009"/>
                </a:cubicBezTo>
                <a:cubicBezTo>
                  <a:pt x="20836" y="2106"/>
                  <a:pt x="21029" y="2171"/>
                  <a:pt x="21183" y="2208"/>
                </a:cubicBezTo>
                <a:cubicBezTo>
                  <a:pt x="21297" y="2235"/>
                  <a:pt x="21436" y="2233"/>
                  <a:pt x="21555" y="2232"/>
                </a:cubicBezTo>
                <a:cubicBezTo>
                  <a:pt x="21664" y="2231"/>
                  <a:pt x="21778" y="2220"/>
                  <a:pt x="21878" y="2183"/>
                </a:cubicBezTo>
                <a:cubicBezTo>
                  <a:pt x="21969" y="2149"/>
                  <a:pt x="22012" y="2093"/>
                  <a:pt x="22076" y="2059"/>
                </a:cubicBezTo>
                <a:cubicBezTo>
                  <a:pt x="22076" y="2051"/>
                  <a:pt x="22076" y="2042"/>
                  <a:pt x="22076" y="2034"/>
                </a:cubicBezTo>
              </a:path>
              <a:path w="13693" h="6178">
                <a:moveTo>
                  <a:pt x="19670" y="1687"/>
                </a:moveTo>
                <a:cubicBezTo>
                  <a:pt x="19552" y="1660"/>
                  <a:pt x="19574" y="1633"/>
                  <a:pt x="19521" y="1712"/>
                </a:cubicBezTo>
              </a:path>
              <a:path w="13693" h="6178">
                <a:moveTo>
                  <a:pt x="10096" y="5879"/>
                </a:moveTo>
                <a:cubicBezTo>
                  <a:pt x="10096" y="5849"/>
                  <a:pt x="10061" y="5847"/>
                  <a:pt x="10145" y="5779"/>
                </a:cubicBezTo>
                <a:cubicBezTo>
                  <a:pt x="10268" y="5679"/>
                  <a:pt x="10422" y="5593"/>
                  <a:pt x="10567" y="5531"/>
                </a:cubicBezTo>
                <a:cubicBezTo>
                  <a:pt x="10741" y="5456"/>
                  <a:pt x="10904" y="5360"/>
                  <a:pt x="11088" y="5308"/>
                </a:cubicBezTo>
                <a:cubicBezTo>
                  <a:pt x="11261" y="5259"/>
                  <a:pt x="11434" y="5202"/>
                  <a:pt x="11609" y="5159"/>
                </a:cubicBezTo>
                <a:cubicBezTo>
                  <a:pt x="11782" y="5116"/>
                  <a:pt x="11976" y="5089"/>
                  <a:pt x="12154" y="5110"/>
                </a:cubicBezTo>
                <a:cubicBezTo>
                  <a:pt x="12187" y="5118"/>
                  <a:pt x="12221" y="5127"/>
                  <a:pt x="12254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4840" y="1419120"/>
            <a:ext cx="7162560" cy="3189240"/>
          </a:xfrm>
          <a:custGeom>
            <a:avLst/>
            <a:gdLst/>
            <a:ahLst/>
            <a:rect l="l" t="t" r="r" b="b"/>
            <a:pathLst>
              <a:path w="19894" h="8856">
                <a:moveTo>
                  <a:pt x="5259" y="8706"/>
                </a:moveTo>
                <a:cubicBezTo>
                  <a:pt x="5295" y="8768"/>
                  <a:pt x="5289" y="8854"/>
                  <a:pt x="5308" y="8930"/>
                </a:cubicBezTo>
                <a:cubicBezTo>
                  <a:pt x="5346" y="9082"/>
                  <a:pt x="5363" y="9224"/>
                  <a:pt x="5383" y="9376"/>
                </a:cubicBezTo>
                <a:cubicBezTo>
                  <a:pt x="5405" y="9539"/>
                  <a:pt x="5432" y="9681"/>
                  <a:pt x="5432" y="9847"/>
                </a:cubicBezTo>
                <a:cubicBezTo>
                  <a:pt x="5432" y="9984"/>
                  <a:pt x="5436" y="10172"/>
                  <a:pt x="5407" y="10269"/>
                </a:cubicBezTo>
              </a:path>
              <a:path w="19894" h="8856">
                <a:moveTo>
                  <a:pt x="3820" y="10716"/>
                </a:moveTo>
                <a:cubicBezTo>
                  <a:pt x="3977" y="10686"/>
                  <a:pt x="4138" y="10675"/>
                  <a:pt x="4291" y="10641"/>
                </a:cubicBezTo>
                <a:cubicBezTo>
                  <a:pt x="4521" y="10589"/>
                  <a:pt x="4747" y="10503"/>
                  <a:pt x="4986" y="10492"/>
                </a:cubicBezTo>
                <a:cubicBezTo>
                  <a:pt x="5280" y="10478"/>
                  <a:pt x="5632" y="10399"/>
                  <a:pt x="5928" y="10443"/>
                </a:cubicBezTo>
                <a:cubicBezTo>
                  <a:pt x="6137" y="10474"/>
                  <a:pt x="6338" y="10469"/>
                  <a:pt x="6548" y="10492"/>
                </a:cubicBezTo>
                <a:cubicBezTo>
                  <a:pt x="6632" y="10501"/>
                  <a:pt x="6794" y="10537"/>
                  <a:pt x="6871" y="10567"/>
                </a:cubicBezTo>
                <a:cubicBezTo>
                  <a:pt x="6908" y="10581"/>
                  <a:pt x="6868" y="10590"/>
                  <a:pt x="6846" y="10641"/>
                </a:cubicBezTo>
              </a:path>
              <a:path w="19894" h="8856">
                <a:moveTo>
                  <a:pt x="5159" y="11162"/>
                </a:moveTo>
                <a:cubicBezTo>
                  <a:pt x="5101" y="11074"/>
                  <a:pt x="5057" y="10964"/>
                  <a:pt x="4961" y="10914"/>
                </a:cubicBezTo>
                <a:cubicBezTo>
                  <a:pt x="4860" y="10861"/>
                  <a:pt x="4726" y="10848"/>
                  <a:pt x="4614" y="10864"/>
                </a:cubicBezTo>
                <a:cubicBezTo>
                  <a:pt x="4467" y="10885"/>
                  <a:pt x="4357" y="10976"/>
                  <a:pt x="4266" y="11088"/>
                </a:cubicBezTo>
                <a:cubicBezTo>
                  <a:pt x="4206" y="11161"/>
                  <a:pt x="4126" y="11261"/>
                  <a:pt x="4142" y="11361"/>
                </a:cubicBezTo>
                <a:cubicBezTo>
                  <a:pt x="4163" y="11496"/>
                  <a:pt x="4249" y="11566"/>
                  <a:pt x="4341" y="11658"/>
                </a:cubicBezTo>
                <a:cubicBezTo>
                  <a:pt x="4470" y="11788"/>
                  <a:pt x="4580" y="11905"/>
                  <a:pt x="4688" y="12055"/>
                </a:cubicBezTo>
                <a:cubicBezTo>
                  <a:pt x="4748" y="12139"/>
                  <a:pt x="4828" y="12241"/>
                  <a:pt x="4787" y="12353"/>
                </a:cubicBezTo>
                <a:cubicBezTo>
                  <a:pt x="4757" y="12434"/>
                  <a:pt x="4642" y="12588"/>
                  <a:pt x="4564" y="12626"/>
                </a:cubicBezTo>
                <a:cubicBezTo>
                  <a:pt x="4469" y="12672"/>
                  <a:pt x="4297" y="12696"/>
                  <a:pt x="4192" y="12675"/>
                </a:cubicBezTo>
                <a:cubicBezTo>
                  <a:pt x="4084" y="12653"/>
                  <a:pt x="4033" y="12551"/>
                  <a:pt x="4018" y="12452"/>
                </a:cubicBezTo>
                <a:cubicBezTo>
                  <a:pt x="4018" y="12368"/>
                  <a:pt x="4020" y="12334"/>
                  <a:pt x="4043" y="12278"/>
                </a:cubicBezTo>
              </a:path>
              <a:path w="19894" h="8856">
                <a:moveTo>
                  <a:pt x="5085" y="11708"/>
                </a:moveTo>
                <a:cubicBezTo>
                  <a:pt x="5213" y="11734"/>
                  <a:pt x="5304" y="11742"/>
                  <a:pt x="5432" y="11708"/>
                </a:cubicBezTo>
                <a:cubicBezTo>
                  <a:pt x="5560" y="11674"/>
                  <a:pt x="5699" y="11645"/>
                  <a:pt x="5804" y="11559"/>
                </a:cubicBezTo>
                <a:cubicBezTo>
                  <a:pt x="5874" y="11502"/>
                  <a:pt x="5913" y="11440"/>
                  <a:pt x="5953" y="11361"/>
                </a:cubicBezTo>
                <a:cubicBezTo>
                  <a:pt x="5999" y="11269"/>
                  <a:pt x="5927" y="11235"/>
                  <a:pt x="5879" y="11162"/>
                </a:cubicBezTo>
                <a:cubicBezTo>
                  <a:pt x="5829" y="11086"/>
                  <a:pt x="5748" y="11067"/>
                  <a:pt x="5655" y="11063"/>
                </a:cubicBezTo>
                <a:cubicBezTo>
                  <a:pt x="5505" y="11057"/>
                  <a:pt x="5383" y="11157"/>
                  <a:pt x="5283" y="11261"/>
                </a:cubicBezTo>
                <a:cubicBezTo>
                  <a:pt x="5193" y="11354"/>
                  <a:pt x="5124" y="11533"/>
                  <a:pt x="5110" y="11658"/>
                </a:cubicBezTo>
                <a:cubicBezTo>
                  <a:pt x="5096" y="11784"/>
                  <a:pt x="5090" y="11962"/>
                  <a:pt x="5135" y="12080"/>
                </a:cubicBezTo>
                <a:cubicBezTo>
                  <a:pt x="5178" y="12194"/>
                  <a:pt x="5209" y="12263"/>
                  <a:pt x="5308" y="12328"/>
                </a:cubicBezTo>
                <a:cubicBezTo>
                  <a:pt x="5406" y="12392"/>
                  <a:pt x="5494" y="12394"/>
                  <a:pt x="5606" y="12353"/>
                </a:cubicBezTo>
                <a:cubicBezTo>
                  <a:pt x="5684" y="12324"/>
                  <a:pt x="5789" y="12257"/>
                  <a:pt x="5854" y="12204"/>
                </a:cubicBezTo>
                <a:cubicBezTo>
                  <a:pt x="5871" y="12187"/>
                  <a:pt x="5887" y="12171"/>
                  <a:pt x="5904" y="12154"/>
                </a:cubicBezTo>
              </a:path>
              <a:path w="19894" h="8856">
                <a:moveTo>
                  <a:pt x="6524" y="11410"/>
                </a:moveTo>
                <a:cubicBezTo>
                  <a:pt x="6547" y="11322"/>
                  <a:pt x="6561" y="11271"/>
                  <a:pt x="6524" y="11187"/>
                </a:cubicBezTo>
                <a:cubicBezTo>
                  <a:pt x="6501" y="11134"/>
                  <a:pt x="6459" y="11079"/>
                  <a:pt x="6400" y="11063"/>
                </a:cubicBezTo>
                <a:cubicBezTo>
                  <a:pt x="6314" y="11039"/>
                  <a:pt x="6235" y="11081"/>
                  <a:pt x="6176" y="11137"/>
                </a:cubicBezTo>
                <a:cubicBezTo>
                  <a:pt x="6053" y="11252"/>
                  <a:pt x="5973" y="11325"/>
                  <a:pt x="5928" y="11485"/>
                </a:cubicBezTo>
                <a:cubicBezTo>
                  <a:pt x="5887" y="11631"/>
                  <a:pt x="5839" y="11803"/>
                  <a:pt x="5854" y="11956"/>
                </a:cubicBezTo>
                <a:cubicBezTo>
                  <a:pt x="5868" y="12093"/>
                  <a:pt x="5885" y="12230"/>
                  <a:pt x="5953" y="12353"/>
                </a:cubicBezTo>
                <a:cubicBezTo>
                  <a:pt x="6001" y="12440"/>
                  <a:pt x="6077" y="12528"/>
                  <a:pt x="6176" y="12551"/>
                </a:cubicBezTo>
                <a:cubicBezTo>
                  <a:pt x="6269" y="12573"/>
                  <a:pt x="6364" y="12530"/>
                  <a:pt x="6449" y="12502"/>
                </a:cubicBezTo>
                <a:cubicBezTo>
                  <a:pt x="6561" y="12465"/>
                  <a:pt x="6648" y="12396"/>
                  <a:pt x="6722" y="12303"/>
                </a:cubicBezTo>
                <a:cubicBezTo>
                  <a:pt x="6768" y="12234"/>
                  <a:pt x="6781" y="12214"/>
                  <a:pt x="6821" y="12179"/>
                </a:cubicBezTo>
              </a:path>
              <a:path w="19894" h="8856">
                <a:moveTo>
                  <a:pt x="6548" y="10939"/>
                </a:moveTo>
                <a:cubicBezTo>
                  <a:pt x="6508" y="10925"/>
                  <a:pt x="6529" y="10877"/>
                  <a:pt x="6573" y="10864"/>
                </a:cubicBezTo>
                <a:cubicBezTo>
                  <a:pt x="6697" y="10829"/>
                  <a:pt x="6859" y="10876"/>
                  <a:pt x="6970" y="10914"/>
                </a:cubicBezTo>
                <a:cubicBezTo>
                  <a:pt x="7075" y="10950"/>
                  <a:pt x="7096" y="10994"/>
                  <a:pt x="7144" y="11088"/>
                </a:cubicBezTo>
                <a:cubicBezTo>
                  <a:pt x="7182" y="11164"/>
                  <a:pt x="7171" y="11240"/>
                  <a:pt x="7119" y="11311"/>
                </a:cubicBezTo>
                <a:cubicBezTo>
                  <a:pt x="7060" y="11391"/>
                  <a:pt x="6972" y="11448"/>
                  <a:pt x="6896" y="11509"/>
                </a:cubicBezTo>
                <a:cubicBezTo>
                  <a:pt x="6853" y="11544"/>
                  <a:pt x="6811" y="11569"/>
                  <a:pt x="6772" y="11609"/>
                </a:cubicBezTo>
                <a:cubicBezTo>
                  <a:pt x="6826" y="11598"/>
                  <a:pt x="6894" y="11576"/>
                  <a:pt x="6945" y="11559"/>
                </a:cubicBezTo>
                <a:cubicBezTo>
                  <a:pt x="7022" y="11533"/>
                  <a:pt x="7094" y="11529"/>
                  <a:pt x="7169" y="11509"/>
                </a:cubicBezTo>
                <a:cubicBezTo>
                  <a:pt x="7237" y="11491"/>
                  <a:pt x="7266" y="11485"/>
                  <a:pt x="7342" y="11485"/>
                </a:cubicBezTo>
              </a:path>
              <a:path w="19894" h="8856">
                <a:moveTo>
                  <a:pt x="7491" y="11261"/>
                </a:moveTo>
                <a:cubicBezTo>
                  <a:pt x="7557" y="11485"/>
                  <a:pt x="7627" y="11692"/>
                  <a:pt x="7714" y="11906"/>
                </a:cubicBezTo>
                <a:cubicBezTo>
                  <a:pt x="7773" y="12051"/>
                  <a:pt x="7852" y="12187"/>
                  <a:pt x="7913" y="12328"/>
                </a:cubicBezTo>
                <a:cubicBezTo>
                  <a:pt x="7944" y="12400"/>
                  <a:pt x="7959" y="12467"/>
                  <a:pt x="8012" y="12526"/>
                </a:cubicBezTo>
                <a:cubicBezTo>
                  <a:pt x="8063" y="12582"/>
                  <a:pt x="8057" y="12514"/>
                  <a:pt x="8062" y="12477"/>
                </a:cubicBezTo>
              </a:path>
              <a:path w="19894" h="8856">
                <a:moveTo>
                  <a:pt x="8210" y="11237"/>
                </a:moveTo>
                <a:cubicBezTo>
                  <a:pt x="8200" y="11357"/>
                  <a:pt x="8146" y="11422"/>
                  <a:pt x="8111" y="11534"/>
                </a:cubicBezTo>
                <a:cubicBezTo>
                  <a:pt x="8050" y="11726"/>
                  <a:pt x="7950" y="11911"/>
                  <a:pt x="7838" y="12080"/>
                </a:cubicBezTo>
                <a:cubicBezTo>
                  <a:pt x="7745" y="12220"/>
                  <a:pt x="7659" y="12363"/>
                  <a:pt x="7565" y="12502"/>
                </a:cubicBezTo>
                <a:cubicBezTo>
                  <a:pt x="7509" y="12586"/>
                  <a:pt x="7447" y="12668"/>
                  <a:pt x="7392" y="12750"/>
                </a:cubicBezTo>
                <a:cubicBezTo>
                  <a:pt x="7347" y="12818"/>
                  <a:pt x="7379" y="12782"/>
                  <a:pt x="7417" y="12774"/>
                </a:cubicBezTo>
              </a:path>
              <a:path w="19894" h="8856">
                <a:moveTo>
                  <a:pt x="11063" y="9227"/>
                </a:moveTo>
                <a:cubicBezTo>
                  <a:pt x="11041" y="9139"/>
                  <a:pt x="11026" y="9081"/>
                  <a:pt x="10988" y="9004"/>
                </a:cubicBezTo>
                <a:cubicBezTo>
                  <a:pt x="10946" y="8919"/>
                  <a:pt x="10887" y="8894"/>
                  <a:pt x="10815" y="8855"/>
                </a:cubicBezTo>
                <a:cubicBezTo>
                  <a:pt x="10708" y="8798"/>
                  <a:pt x="10616" y="8758"/>
                  <a:pt x="10492" y="8806"/>
                </a:cubicBezTo>
                <a:cubicBezTo>
                  <a:pt x="10377" y="8851"/>
                  <a:pt x="10257" y="8995"/>
                  <a:pt x="10170" y="9079"/>
                </a:cubicBezTo>
                <a:cubicBezTo>
                  <a:pt x="10006" y="9237"/>
                  <a:pt x="9948" y="9453"/>
                  <a:pt x="9922" y="9674"/>
                </a:cubicBezTo>
                <a:cubicBezTo>
                  <a:pt x="9905" y="9815"/>
                  <a:pt x="9913" y="10013"/>
                  <a:pt x="9971" y="10145"/>
                </a:cubicBezTo>
                <a:cubicBezTo>
                  <a:pt x="9999" y="10209"/>
                  <a:pt x="10150" y="10393"/>
                  <a:pt x="10220" y="10418"/>
                </a:cubicBezTo>
                <a:cubicBezTo>
                  <a:pt x="10314" y="10451"/>
                  <a:pt x="10475" y="10424"/>
                  <a:pt x="10567" y="10418"/>
                </a:cubicBezTo>
                <a:cubicBezTo>
                  <a:pt x="10682" y="10410"/>
                  <a:pt x="10771" y="10354"/>
                  <a:pt x="10889" y="10344"/>
                </a:cubicBezTo>
              </a:path>
              <a:path w="19894" h="8856">
                <a:moveTo>
                  <a:pt x="11435" y="8954"/>
                </a:moveTo>
                <a:cubicBezTo>
                  <a:pt x="11366" y="9031"/>
                  <a:pt x="11277" y="9129"/>
                  <a:pt x="11237" y="9227"/>
                </a:cubicBezTo>
                <a:cubicBezTo>
                  <a:pt x="11187" y="9350"/>
                  <a:pt x="11148" y="9541"/>
                  <a:pt x="11137" y="9674"/>
                </a:cubicBezTo>
                <a:cubicBezTo>
                  <a:pt x="11125" y="9825"/>
                  <a:pt x="11125" y="9998"/>
                  <a:pt x="11162" y="10145"/>
                </a:cubicBezTo>
                <a:cubicBezTo>
                  <a:pt x="11184" y="10232"/>
                  <a:pt x="11257" y="10369"/>
                  <a:pt x="11336" y="10418"/>
                </a:cubicBezTo>
                <a:cubicBezTo>
                  <a:pt x="11470" y="10500"/>
                  <a:pt x="11590" y="10478"/>
                  <a:pt x="11733" y="10418"/>
                </a:cubicBezTo>
                <a:cubicBezTo>
                  <a:pt x="11816" y="10383"/>
                  <a:pt x="11964" y="10270"/>
                  <a:pt x="12005" y="10195"/>
                </a:cubicBezTo>
                <a:cubicBezTo>
                  <a:pt x="12067" y="10081"/>
                  <a:pt x="12116" y="9903"/>
                  <a:pt x="12129" y="9773"/>
                </a:cubicBezTo>
                <a:cubicBezTo>
                  <a:pt x="12142" y="9651"/>
                  <a:pt x="12085" y="9508"/>
                  <a:pt x="12030" y="9401"/>
                </a:cubicBezTo>
                <a:cubicBezTo>
                  <a:pt x="11975" y="9295"/>
                  <a:pt x="11891" y="9223"/>
                  <a:pt x="11807" y="9153"/>
                </a:cubicBezTo>
                <a:cubicBezTo>
                  <a:pt x="11722" y="9082"/>
                  <a:pt x="11664" y="9079"/>
                  <a:pt x="11559" y="9079"/>
                </a:cubicBezTo>
                <a:cubicBezTo>
                  <a:pt x="11526" y="9079"/>
                  <a:pt x="11493" y="9079"/>
                  <a:pt x="11460" y="9079"/>
                </a:cubicBezTo>
              </a:path>
              <a:path w="19894" h="8856">
                <a:moveTo>
                  <a:pt x="12576" y="8880"/>
                </a:moveTo>
                <a:cubicBezTo>
                  <a:pt x="12521" y="8859"/>
                  <a:pt x="12508" y="8858"/>
                  <a:pt x="12452" y="8855"/>
                </a:cubicBezTo>
                <a:cubicBezTo>
                  <a:pt x="12315" y="8848"/>
                  <a:pt x="12313" y="8929"/>
                  <a:pt x="12229" y="9004"/>
                </a:cubicBezTo>
                <a:cubicBezTo>
                  <a:pt x="12140" y="9083"/>
                  <a:pt x="12102" y="9172"/>
                  <a:pt x="12154" y="9302"/>
                </a:cubicBezTo>
                <a:cubicBezTo>
                  <a:pt x="12213" y="9448"/>
                  <a:pt x="12279" y="9426"/>
                  <a:pt x="12378" y="9525"/>
                </a:cubicBezTo>
                <a:cubicBezTo>
                  <a:pt x="12475" y="9622"/>
                  <a:pt x="12572" y="9664"/>
                  <a:pt x="12675" y="9748"/>
                </a:cubicBezTo>
                <a:cubicBezTo>
                  <a:pt x="12752" y="9810"/>
                  <a:pt x="12840" y="9924"/>
                  <a:pt x="12898" y="9996"/>
                </a:cubicBezTo>
                <a:cubicBezTo>
                  <a:pt x="12938" y="10046"/>
                  <a:pt x="12958" y="10131"/>
                  <a:pt x="12948" y="10195"/>
                </a:cubicBezTo>
                <a:cubicBezTo>
                  <a:pt x="12939" y="10253"/>
                  <a:pt x="12857" y="10321"/>
                  <a:pt x="12799" y="10344"/>
                </a:cubicBezTo>
                <a:cubicBezTo>
                  <a:pt x="12770" y="10355"/>
                  <a:pt x="12538" y="10420"/>
                  <a:pt x="12526" y="10418"/>
                </a:cubicBezTo>
                <a:cubicBezTo>
                  <a:pt x="12461" y="10408"/>
                  <a:pt x="12296" y="10365"/>
                  <a:pt x="12254" y="10294"/>
                </a:cubicBezTo>
                <a:cubicBezTo>
                  <a:pt x="12226" y="10247"/>
                  <a:pt x="12218" y="10182"/>
                  <a:pt x="12229" y="10120"/>
                </a:cubicBezTo>
                <a:cubicBezTo>
                  <a:pt x="12237" y="10095"/>
                  <a:pt x="12246" y="10071"/>
                  <a:pt x="12254" y="10046"/>
                </a:cubicBezTo>
              </a:path>
              <a:path w="19894" h="8856">
                <a:moveTo>
                  <a:pt x="12576" y="8632"/>
                </a:moveTo>
                <a:cubicBezTo>
                  <a:pt x="12637" y="8526"/>
                  <a:pt x="12641" y="8606"/>
                  <a:pt x="12725" y="8558"/>
                </a:cubicBezTo>
                <a:cubicBezTo>
                  <a:pt x="12782" y="8526"/>
                  <a:pt x="12866" y="8469"/>
                  <a:pt x="12948" y="8508"/>
                </a:cubicBezTo>
                <a:cubicBezTo>
                  <a:pt x="13002" y="8534"/>
                  <a:pt x="13077" y="8590"/>
                  <a:pt x="13122" y="8632"/>
                </a:cubicBezTo>
                <a:cubicBezTo>
                  <a:pt x="13183" y="8689"/>
                  <a:pt x="13178" y="8748"/>
                  <a:pt x="13171" y="8806"/>
                </a:cubicBezTo>
                <a:cubicBezTo>
                  <a:pt x="13159" y="8899"/>
                  <a:pt x="13037" y="9020"/>
                  <a:pt x="12973" y="9079"/>
                </a:cubicBezTo>
                <a:cubicBezTo>
                  <a:pt x="12938" y="9111"/>
                  <a:pt x="12867" y="9164"/>
                  <a:pt x="12824" y="9178"/>
                </a:cubicBezTo>
                <a:cubicBezTo>
                  <a:pt x="12791" y="9178"/>
                  <a:pt x="12783" y="9186"/>
                  <a:pt x="12799" y="9227"/>
                </a:cubicBezTo>
                <a:cubicBezTo>
                  <a:pt x="12944" y="9227"/>
                  <a:pt x="13064" y="9220"/>
                  <a:pt x="13171" y="9178"/>
                </a:cubicBezTo>
                <a:cubicBezTo>
                  <a:pt x="13218" y="9159"/>
                  <a:pt x="13318" y="9178"/>
                  <a:pt x="13370" y="9178"/>
                </a:cubicBezTo>
              </a:path>
              <a:path w="19894" h="8856">
                <a:moveTo>
                  <a:pt x="13618" y="8731"/>
                </a:moveTo>
                <a:cubicBezTo>
                  <a:pt x="13652" y="8824"/>
                  <a:pt x="13695" y="8918"/>
                  <a:pt x="13742" y="9004"/>
                </a:cubicBezTo>
                <a:cubicBezTo>
                  <a:pt x="13809" y="9126"/>
                  <a:pt x="13837" y="9252"/>
                  <a:pt x="13891" y="9376"/>
                </a:cubicBezTo>
                <a:cubicBezTo>
                  <a:pt x="13947" y="9505"/>
                  <a:pt x="13968" y="9638"/>
                  <a:pt x="14015" y="9773"/>
                </a:cubicBezTo>
                <a:cubicBezTo>
                  <a:pt x="14068" y="9927"/>
                  <a:pt x="14151" y="10075"/>
                  <a:pt x="14213" y="10220"/>
                </a:cubicBezTo>
                <a:cubicBezTo>
                  <a:pt x="14238" y="10278"/>
                  <a:pt x="14263" y="10373"/>
                  <a:pt x="14312" y="10418"/>
                </a:cubicBezTo>
                <a:cubicBezTo>
                  <a:pt x="14351" y="10454"/>
                  <a:pt x="14337" y="10305"/>
                  <a:pt x="14337" y="10294"/>
                </a:cubicBezTo>
              </a:path>
              <a:path w="19894" h="8856">
                <a:moveTo>
                  <a:pt x="14511" y="8930"/>
                </a:moveTo>
                <a:cubicBezTo>
                  <a:pt x="14416" y="9033"/>
                  <a:pt x="14367" y="9123"/>
                  <a:pt x="14312" y="9252"/>
                </a:cubicBezTo>
                <a:cubicBezTo>
                  <a:pt x="14251" y="9397"/>
                  <a:pt x="14194" y="9539"/>
                  <a:pt x="14114" y="9674"/>
                </a:cubicBezTo>
                <a:cubicBezTo>
                  <a:pt x="14041" y="9798"/>
                  <a:pt x="13971" y="9925"/>
                  <a:pt x="13891" y="10046"/>
                </a:cubicBezTo>
                <a:cubicBezTo>
                  <a:pt x="13847" y="10114"/>
                  <a:pt x="13799" y="10163"/>
                  <a:pt x="13742" y="10220"/>
                </a:cubicBezTo>
              </a:path>
              <a:path w="19894" h="8856">
                <a:moveTo>
                  <a:pt x="9847" y="9178"/>
                </a:moveTo>
                <a:cubicBezTo>
                  <a:pt x="9808" y="9061"/>
                  <a:pt x="9751" y="8986"/>
                  <a:pt x="9773" y="8855"/>
                </a:cubicBezTo>
                <a:cubicBezTo>
                  <a:pt x="9797" y="8712"/>
                  <a:pt x="9880" y="8548"/>
                  <a:pt x="9971" y="8434"/>
                </a:cubicBezTo>
                <a:cubicBezTo>
                  <a:pt x="10088" y="8288"/>
                  <a:pt x="10241" y="8172"/>
                  <a:pt x="10393" y="8062"/>
                </a:cubicBezTo>
                <a:cubicBezTo>
                  <a:pt x="10607" y="7908"/>
                  <a:pt x="10807" y="7807"/>
                  <a:pt x="11063" y="7739"/>
                </a:cubicBezTo>
                <a:cubicBezTo>
                  <a:pt x="11571" y="7604"/>
                  <a:pt x="12057" y="7551"/>
                  <a:pt x="12576" y="7640"/>
                </a:cubicBezTo>
                <a:cubicBezTo>
                  <a:pt x="12872" y="7691"/>
                  <a:pt x="13170" y="7766"/>
                  <a:pt x="13444" y="7888"/>
                </a:cubicBezTo>
                <a:cubicBezTo>
                  <a:pt x="13692" y="7999"/>
                  <a:pt x="13977" y="8163"/>
                  <a:pt x="14188" y="8334"/>
                </a:cubicBezTo>
                <a:cubicBezTo>
                  <a:pt x="14379" y="8489"/>
                  <a:pt x="14600" y="8734"/>
                  <a:pt x="14709" y="8954"/>
                </a:cubicBezTo>
                <a:cubicBezTo>
                  <a:pt x="14849" y="9237"/>
                  <a:pt x="14963" y="9529"/>
                  <a:pt x="14982" y="9847"/>
                </a:cubicBezTo>
                <a:cubicBezTo>
                  <a:pt x="14997" y="10109"/>
                  <a:pt x="14933" y="10323"/>
                  <a:pt x="14858" y="10567"/>
                </a:cubicBezTo>
                <a:cubicBezTo>
                  <a:pt x="14767" y="10862"/>
                  <a:pt x="14561" y="11124"/>
                  <a:pt x="14312" y="11311"/>
                </a:cubicBezTo>
                <a:cubicBezTo>
                  <a:pt x="13983" y="11558"/>
                  <a:pt x="13601" y="11747"/>
                  <a:pt x="13196" y="11832"/>
                </a:cubicBezTo>
                <a:cubicBezTo>
                  <a:pt x="12758" y="11923"/>
                  <a:pt x="12272" y="11935"/>
                  <a:pt x="11832" y="11857"/>
                </a:cubicBezTo>
                <a:cubicBezTo>
                  <a:pt x="11544" y="11806"/>
                  <a:pt x="11259" y="11717"/>
                  <a:pt x="10988" y="11609"/>
                </a:cubicBezTo>
                <a:cubicBezTo>
                  <a:pt x="10741" y="11510"/>
                  <a:pt x="10515" y="11412"/>
                  <a:pt x="10294" y="11261"/>
                </a:cubicBezTo>
                <a:cubicBezTo>
                  <a:pt x="10091" y="11122"/>
                  <a:pt x="9901" y="10929"/>
                  <a:pt x="9773" y="10716"/>
                </a:cubicBezTo>
                <a:cubicBezTo>
                  <a:pt x="9657" y="10524"/>
                  <a:pt x="9550" y="10290"/>
                  <a:pt x="9500" y="10071"/>
                </a:cubicBezTo>
                <a:cubicBezTo>
                  <a:pt x="9423" y="9737"/>
                  <a:pt x="9478" y="9351"/>
                  <a:pt x="9575" y="9029"/>
                </a:cubicBezTo>
                <a:cubicBezTo>
                  <a:pt x="9630" y="8846"/>
                  <a:pt x="9755" y="8660"/>
                  <a:pt x="9872" y="8508"/>
                </a:cubicBezTo>
                <a:cubicBezTo>
                  <a:pt x="9947" y="8434"/>
                  <a:pt x="9972" y="8409"/>
                  <a:pt x="10021" y="8359"/>
                </a:cubicBezTo>
              </a:path>
              <a:path w="19894" h="8856">
                <a:moveTo>
                  <a:pt x="15726" y="7466"/>
                </a:moveTo>
                <a:cubicBezTo>
                  <a:pt x="15748" y="7530"/>
                  <a:pt x="15765" y="7603"/>
                  <a:pt x="15801" y="7665"/>
                </a:cubicBezTo>
                <a:cubicBezTo>
                  <a:pt x="15884" y="7808"/>
                  <a:pt x="15954" y="7961"/>
                  <a:pt x="16024" y="8111"/>
                </a:cubicBezTo>
                <a:cubicBezTo>
                  <a:pt x="16053" y="8174"/>
                  <a:pt x="16072" y="8254"/>
                  <a:pt x="16098" y="8310"/>
                </a:cubicBezTo>
                <a:cubicBezTo>
                  <a:pt x="16106" y="8318"/>
                  <a:pt x="16115" y="8326"/>
                  <a:pt x="16123" y="8334"/>
                </a:cubicBezTo>
                <a:cubicBezTo>
                  <a:pt x="16087" y="8314"/>
                  <a:pt x="16035" y="8290"/>
                  <a:pt x="15999" y="8260"/>
                </a:cubicBezTo>
                <a:cubicBezTo>
                  <a:pt x="15925" y="8199"/>
                  <a:pt x="15860" y="8128"/>
                  <a:pt x="15776" y="8086"/>
                </a:cubicBezTo>
                <a:cubicBezTo>
                  <a:pt x="15702" y="8049"/>
                  <a:pt x="15584" y="8040"/>
                  <a:pt x="15503" y="8037"/>
                </a:cubicBezTo>
                <a:cubicBezTo>
                  <a:pt x="15403" y="8033"/>
                  <a:pt x="15328" y="8073"/>
                  <a:pt x="15255" y="8136"/>
                </a:cubicBezTo>
                <a:cubicBezTo>
                  <a:pt x="15215" y="8170"/>
                  <a:pt x="15206" y="8221"/>
                  <a:pt x="15180" y="8260"/>
                </a:cubicBezTo>
                <a:cubicBezTo>
                  <a:pt x="15233" y="8313"/>
                  <a:pt x="15190" y="8305"/>
                  <a:pt x="15280" y="8310"/>
                </a:cubicBezTo>
                <a:cubicBezTo>
                  <a:pt x="15360" y="8315"/>
                  <a:pt x="15431" y="8297"/>
                  <a:pt x="15503" y="8260"/>
                </a:cubicBezTo>
                <a:cubicBezTo>
                  <a:pt x="15642" y="8187"/>
                  <a:pt x="15770" y="8099"/>
                  <a:pt x="15900" y="8012"/>
                </a:cubicBezTo>
                <a:cubicBezTo>
                  <a:pt x="15985" y="7955"/>
                  <a:pt x="16063" y="7891"/>
                  <a:pt x="16148" y="7838"/>
                </a:cubicBezTo>
              </a:path>
              <a:path w="19894" h="8856">
                <a:moveTo>
                  <a:pt x="16495" y="7441"/>
                </a:moveTo>
                <a:cubicBezTo>
                  <a:pt x="16616" y="7473"/>
                  <a:pt x="16679" y="7521"/>
                  <a:pt x="16818" y="7491"/>
                </a:cubicBezTo>
                <a:cubicBezTo>
                  <a:pt x="16896" y="7474"/>
                  <a:pt x="16983" y="7414"/>
                  <a:pt x="17041" y="7367"/>
                </a:cubicBezTo>
                <a:cubicBezTo>
                  <a:pt x="17098" y="7320"/>
                  <a:pt x="17158" y="7234"/>
                  <a:pt x="17190" y="7169"/>
                </a:cubicBezTo>
                <a:cubicBezTo>
                  <a:pt x="17228" y="7093"/>
                  <a:pt x="17264" y="6953"/>
                  <a:pt x="17264" y="6871"/>
                </a:cubicBezTo>
                <a:cubicBezTo>
                  <a:pt x="17264" y="6761"/>
                  <a:pt x="17252" y="6620"/>
                  <a:pt x="17190" y="6524"/>
                </a:cubicBezTo>
                <a:cubicBezTo>
                  <a:pt x="17154" y="6468"/>
                  <a:pt x="17073" y="6420"/>
                  <a:pt x="17016" y="6400"/>
                </a:cubicBezTo>
                <a:cubicBezTo>
                  <a:pt x="16932" y="6370"/>
                  <a:pt x="16874" y="6363"/>
                  <a:pt x="16793" y="6400"/>
                </a:cubicBezTo>
                <a:cubicBezTo>
                  <a:pt x="16717" y="6435"/>
                  <a:pt x="16657" y="6499"/>
                  <a:pt x="16619" y="6573"/>
                </a:cubicBezTo>
                <a:cubicBezTo>
                  <a:pt x="16584" y="6641"/>
                  <a:pt x="16563" y="6772"/>
                  <a:pt x="16570" y="6846"/>
                </a:cubicBezTo>
                <a:cubicBezTo>
                  <a:pt x="16580" y="6956"/>
                  <a:pt x="16647" y="7075"/>
                  <a:pt x="16694" y="7169"/>
                </a:cubicBezTo>
                <a:cubicBezTo>
                  <a:pt x="16758" y="7296"/>
                  <a:pt x="16842" y="7420"/>
                  <a:pt x="16917" y="7541"/>
                </a:cubicBezTo>
                <a:cubicBezTo>
                  <a:pt x="17009" y="7689"/>
                  <a:pt x="17093" y="7828"/>
                  <a:pt x="17165" y="7987"/>
                </a:cubicBezTo>
                <a:cubicBezTo>
                  <a:pt x="17259" y="8194"/>
                  <a:pt x="17355" y="8406"/>
                  <a:pt x="17388" y="8632"/>
                </a:cubicBezTo>
                <a:cubicBezTo>
                  <a:pt x="17412" y="8800"/>
                  <a:pt x="17398" y="8937"/>
                  <a:pt x="17363" y="9103"/>
                </a:cubicBezTo>
                <a:cubicBezTo>
                  <a:pt x="17330" y="9260"/>
                  <a:pt x="17293" y="9399"/>
                  <a:pt x="17190" y="9525"/>
                </a:cubicBezTo>
                <a:cubicBezTo>
                  <a:pt x="17084" y="9656"/>
                  <a:pt x="16963" y="9739"/>
                  <a:pt x="16793" y="9773"/>
                </a:cubicBezTo>
                <a:cubicBezTo>
                  <a:pt x="16711" y="9789"/>
                  <a:pt x="16492" y="9781"/>
                  <a:pt x="16421" y="9748"/>
                </a:cubicBezTo>
                <a:cubicBezTo>
                  <a:pt x="16315" y="9700"/>
                  <a:pt x="16210" y="9583"/>
                  <a:pt x="16148" y="9500"/>
                </a:cubicBezTo>
                <a:cubicBezTo>
                  <a:pt x="16005" y="9309"/>
                  <a:pt x="15976" y="9050"/>
                  <a:pt x="15999" y="8781"/>
                </a:cubicBezTo>
                <a:cubicBezTo>
                  <a:pt x="16017" y="8569"/>
                  <a:pt x="16212" y="8406"/>
                  <a:pt x="16346" y="8285"/>
                </a:cubicBezTo>
                <a:cubicBezTo>
                  <a:pt x="16495" y="8150"/>
                  <a:pt x="16599" y="8061"/>
                  <a:pt x="16793" y="7987"/>
                </a:cubicBezTo>
                <a:cubicBezTo>
                  <a:pt x="16999" y="7908"/>
                  <a:pt x="17176" y="7905"/>
                  <a:pt x="17388" y="7913"/>
                </a:cubicBezTo>
                <a:cubicBezTo>
                  <a:pt x="17596" y="7921"/>
                  <a:pt x="17813" y="7983"/>
                  <a:pt x="18008" y="8062"/>
                </a:cubicBezTo>
                <a:cubicBezTo>
                  <a:pt x="18227" y="8150"/>
                  <a:pt x="18423" y="8298"/>
                  <a:pt x="18628" y="8409"/>
                </a:cubicBezTo>
                <a:cubicBezTo>
                  <a:pt x="18915" y="8565"/>
                  <a:pt x="19152" y="8777"/>
                  <a:pt x="19447" y="8930"/>
                </a:cubicBezTo>
                <a:cubicBezTo>
                  <a:pt x="19674" y="9047"/>
                  <a:pt x="19938" y="9128"/>
                  <a:pt x="20191" y="9153"/>
                </a:cubicBezTo>
                <a:cubicBezTo>
                  <a:pt x="20457" y="9180"/>
                  <a:pt x="20691" y="9131"/>
                  <a:pt x="20935" y="9029"/>
                </a:cubicBezTo>
                <a:cubicBezTo>
                  <a:pt x="21155" y="8937"/>
                  <a:pt x="21344" y="8856"/>
                  <a:pt x="21456" y="8632"/>
                </a:cubicBezTo>
                <a:cubicBezTo>
                  <a:pt x="21505" y="8485"/>
                  <a:pt x="21522" y="8437"/>
                  <a:pt x="21530" y="8334"/>
                </a:cubicBezTo>
              </a:path>
              <a:path w="19894" h="8856">
                <a:moveTo>
                  <a:pt x="17859" y="8930"/>
                </a:moveTo>
                <a:cubicBezTo>
                  <a:pt x="17960" y="8882"/>
                  <a:pt x="18039" y="8876"/>
                  <a:pt x="18132" y="8781"/>
                </a:cubicBezTo>
                <a:cubicBezTo>
                  <a:pt x="18243" y="8667"/>
                  <a:pt x="18355" y="8473"/>
                  <a:pt x="18430" y="8334"/>
                </a:cubicBezTo>
                <a:cubicBezTo>
                  <a:pt x="18513" y="8179"/>
                  <a:pt x="18561" y="8034"/>
                  <a:pt x="18604" y="7863"/>
                </a:cubicBezTo>
                <a:cubicBezTo>
                  <a:pt x="18660" y="7642"/>
                  <a:pt x="18712" y="7372"/>
                  <a:pt x="18703" y="7144"/>
                </a:cubicBezTo>
                <a:cubicBezTo>
                  <a:pt x="18696" y="6960"/>
                  <a:pt x="18672" y="6788"/>
                  <a:pt x="18579" y="6623"/>
                </a:cubicBezTo>
                <a:cubicBezTo>
                  <a:pt x="18534" y="6544"/>
                  <a:pt x="18470" y="6475"/>
                  <a:pt x="18380" y="6449"/>
                </a:cubicBezTo>
                <a:cubicBezTo>
                  <a:pt x="18276" y="6419"/>
                  <a:pt x="18231" y="6474"/>
                  <a:pt x="18157" y="6524"/>
                </a:cubicBezTo>
                <a:cubicBezTo>
                  <a:pt x="18046" y="6599"/>
                  <a:pt x="18019" y="6731"/>
                  <a:pt x="17983" y="6846"/>
                </a:cubicBezTo>
                <a:cubicBezTo>
                  <a:pt x="17936" y="6997"/>
                  <a:pt x="17920" y="7159"/>
                  <a:pt x="17934" y="7317"/>
                </a:cubicBezTo>
                <a:cubicBezTo>
                  <a:pt x="17949" y="7485"/>
                  <a:pt x="18007" y="7640"/>
                  <a:pt x="18083" y="7789"/>
                </a:cubicBezTo>
                <a:cubicBezTo>
                  <a:pt x="18165" y="7951"/>
                  <a:pt x="18283" y="8113"/>
                  <a:pt x="18455" y="8186"/>
                </a:cubicBezTo>
                <a:cubicBezTo>
                  <a:pt x="18607" y="8251"/>
                  <a:pt x="18742" y="8279"/>
                  <a:pt x="18901" y="8235"/>
                </a:cubicBezTo>
                <a:cubicBezTo>
                  <a:pt x="19091" y="8182"/>
                  <a:pt x="19168" y="8069"/>
                  <a:pt x="19273" y="7913"/>
                </a:cubicBezTo>
                <a:cubicBezTo>
                  <a:pt x="19348" y="7801"/>
                  <a:pt x="19422" y="7675"/>
                  <a:pt x="19447" y="7541"/>
                </a:cubicBezTo>
                <a:cubicBezTo>
                  <a:pt x="19484" y="7341"/>
                  <a:pt x="19443" y="7095"/>
                  <a:pt x="19422" y="6896"/>
                </a:cubicBezTo>
                <a:cubicBezTo>
                  <a:pt x="19408" y="6766"/>
                  <a:pt x="19388" y="6651"/>
                  <a:pt x="19348" y="6524"/>
                </a:cubicBezTo>
                <a:cubicBezTo>
                  <a:pt x="19319" y="6433"/>
                  <a:pt x="19283" y="6341"/>
                  <a:pt x="19248" y="6251"/>
                </a:cubicBezTo>
                <a:cubicBezTo>
                  <a:pt x="19248" y="6223"/>
                  <a:pt x="19246" y="6212"/>
                  <a:pt x="19224" y="6201"/>
                </a:cubicBezTo>
                <a:cubicBezTo>
                  <a:pt x="19236" y="6281"/>
                  <a:pt x="19232" y="6369"/>
                  <a:pt x="19248" y="6449"/>
                </a:cubicBezTo>
                <a:cubicBezTo>
                  <a:pt x="19283" y="6631"/>
                  <a:pt x="19340" y="6855"/>
                  <a:pt x="19422" y="7020"/>
                </a:cubicBezTo>
                <a:cubicBezTo>
                  <a:pt x="19525" y="7227"/>
                  <a:pt x="19677" y="7357"/>
                  <a:pt x="19893" y="7441"/>
                </a:cubicBezTo>
                <a:cubicBezTo>
                  <a:pt x="19979" y="7474"/>
                  <a:pt x="20019" y="7455"/>
                  <a:pt x="20092" y="7441"/>
                </a:cubicBezTo>
                <a:cubicBezTo>
                  <a:pt x="20184" y="7423"/>
                  <a:pt x="20212" y="7370"/>
                  <a:pt x="20241" y="7293"/>
                </a:cubicBezTo>
                <a:cubicBezTo>
                  <a:pt x="20268" y="7220"/>
                  <a:pt x="20237" y="7065"/>
                  <a:pt x="20216" y="6995"/>
                </a:cubicBezTo>
                <a:cubicBezTo>
                  <a:pt x="20186" y="6897"/>
                  <a:pt x="20134" y="6792"/>
                  <a:pt x="20092" y="6697"/>
                </a:cubicBezTo>
                <a:cubicBezTo>
                  <a:pt x="20040" y="6580"/>
                  <a:pt x="19963" y="6457"/>
                  <a:pt x="19943" y="6325"/>
                </a:cubicBezTo>
                <a:cubicBezTo>
                  <a:pt x="19930" y="6237"/>
                  <a:pt x="19944" y="6157"/>
                  <a:pt x="19968" y="6077"/>
                </a:cubicBezTo>
                <a:cubicBezTo>
                  <a:pt x="19994" y="5990"/>
                  <a:pt x="19989" y="5939"/>
                  <a:pt x="20067" y="5879"/>
                </a:cubicBezTo>
                <a:cubicBezTo>
                  <a:pt x="20117" y="5840"/>
                  <a:pt x="20251" y="5787"/>
                  <a:pt x="20315" y="5779"/>
                </a:cubicBezTo>
                <a:cubicBezTo>
                  <a:pt x="20506" y="5755"/>
                  <a:pt x="20671" y="5902"/>
                  <a:pt x="20811" y="6003"/>
                </a:cubicBezTo>
                <a:cubicBezTo>
                  <a:pt x="20909" y="6074"/>
                  <a:pt x="21004" y="6163"/>
                  <a:pt x="21084" y="6251"/>
                </a:cubicBezTo>
                <a:cubicBezTo>
                  <a:pt x="21148" y="6321"/>
                  <a:pt x="21188" y="6409"/>
                  <a:pt x="21258" y="6474"/>
                </a:cubicBezTo>
                <a:cubicBezTo>
                  <a:pt x="21285" y="6499"/>
                  <a:pt x="21280" y="6474"/>
                  <a:pt x="21307" y="6499"/>
                </a:cubicBezTo>
                <a:cubicBezTo>
                  <a:pt x="21299" y="6491"/>
                  <a:pt x="21290" y="6482"/>
                  <a:pt x="21282" y="6474"/>
                </a:cubicBezTo>
                <a:cubicBezTo>
                  <a:pt x="21195" y="6345"/>
                  <a:pt x="21129" y="6235"/>
                  <a:pt x="21010" y="6127"/>
                </a:cubicBezTo>
                <a:cubicBezTo>
                  <a:pt x="20924" y="6049"/>
                  <a:pt x="20842" y="5999"/>
                  <a:pt x="20737" y="5953"/>
                </a:cubicBezTo>
                <a:cubicBezTo>
                  <a:pt x="20603" y="5895"/>
                  <a:pt x="20477" y="5887"/>
                  <a:pt x="20340" y="5928"/>
                </a:cubicBezTo>
                <a:cubicBezTo>
                  <a:pt x="20198" y="5971"/>
                  <a:pt x="20111" y="6101"/>
                  <a:pt x="20042" y="6226"/>
                </a:cubicBezTo>
                <a:cubicBezTo>
                  <a:pt x="19977" y="6344"/>
                  <a:pt x="19979" y="6475"/>
                  <a:pt x="19993" y="6598"/>
                </a:cubicBezTo>
                <a:cubicBezTo>
                  <a:pt x="20010" y="6751"/>
                  <a:pt x="20078" y="6934"/>
                  <a:pt x="20216" y="7020"/>
                </a:cubicBezTo>
                <a:cubicBezTo>
                  <a:pt x="20300" y="7073"/>
                  <a:pt x="20466" y="7102"/>
                  <a:pt x="20563" y="7094"/>
                </a:cubicBezTo>
                <a:cubicBezTo>
                  <a:pt x="20677" y="7085"/>
                  <a:pt x="20801" y="7020"/>
                  <a:pt x="20886" y="6945"/>
                </a:cubicBezTo>
                <a:cubicBezTo>
                  <a:pt x="21025" y="6823"/>
                  <a:pt x="21116" y="6650"/>
                  <a:pt x="21158" y="6474"/>
                </a:cubicBezTo>
                <a:cubicBezTo>
                  <a:pt x="21191" y="6336"/>
                  <a:pt x="21190" y="6214"/>
                  <a:pt x="21158" y="6077"/>
                </a:cubicBezTo>
                <a:cubicBezTo>
                  <a:pt x="21149" y="6038"/>
                  <a:pt x="21111" y="5960"/>
                  <a:pt x="21109" y="5928"/>
                </a:cubicBezTo>
                <a:cubicBezTo>
                  <a:pt x="21109" y="5900"/>
                  <a:pt x="21112" y="5895"/>
                  <a:pt x="21134" y="5928"/>
                </a:cubicBezTo>
                <a:cubicBezTo>
                  <a:pt x="21196" y="6013"/>
                  <a:pt x="21251" y="6088"/>
                  <a:pt x="21307" y="6176"/>
                </a:cubicBezTo>
                <a:cubicBezTo>
                  <a:pt x="21400" y="6321"/>
                  <a:pt x="21457" y="6468"/>
                  <a:pt x="21530" y="6623"/>
                </a:cubicBezTo>
                <a:cubicBezTo>
                  <a:pt x="21619" y="6811"/>
                  <a:pt x="21710" y="6996"/>
                  <a:pt x="21779" y="7193"/>
                </a:cubicBezTo>
                <a:cubicBezTo>
                  <a:pt x="21846" y="7384"/>
                  <a:pt x="21863" y="7563"/>
                  <a:pt x="21853" y="7764"/>
                </a:cubicBezTo>
                <a:cubicBezTo>
                  <a:pt x="21841" y="7990"/>
                  <a:pt x="21799" y="8278"/>
                  <a:pt x="21530" y="8334"/>
                </a:cubicBezTo>
                <a:cubicBezTo>
                  <a:pt x="21433" y="8354"/>
                  <a:pt x="21347" y="8306"/>
                  <a:pt x="21282" y="8235"/>
                </a:cubicBezTo>
                <a:cubicBezTo>
                  <a:pt x="21170" y="8112"/>
                  <a:pt x="21094" y="7873"/>
                  <a:pt x="21059" y="7714"/>
                </a:cubicBezTo>
                <a:cubicBezTo>
                  <a:pt x="21007" y="7478"/>
                  <a:pt x="20982" y="7258"/>
                  <a:pt x="20960" y="7020"/>
                </a:cubicBezTo>
                <a:cubicBezTo>
                  <a:pt x="20938" y="6784"/>
                  <a:pt x="20896" y="6538"/>
                  <a:pt x="20910" y="6300"/>
                </a:cubicBezTo>
                <a:cubicBezTo>
                  <a:pt x="20930" y="5961"/>
                  <a:pt x="20946" y="5622"/>
                  <a:pt x="20960" y="5283"/>
                </a:cubicBezTo>
                <a:cubicBezTo>
                  <a:pt x="20966" y="5147"/>
                  <a:pt x="20959" y="4972"/>
                  <a:pt x="20935" y="4837"/>
                </a:cubicBezTo>
                <a:cubicBezTo>
                  <a:pt x="20920" y="4752"/>
                  <a:pt x="20889" y="4728"/>
                  <a:pt x="20861" y="4663"/>
                </a:cubicBezTo>
                <a:cubicBezTo>
                  <a:pt x="20853" y="4655"/>
                  <a:pt x="20844" y="4646"/>
                  <a:pt x="20836" y="4638"/>
                </a:cubicBezTo>
                <a:cubicBezTo>
                  <a:pt x="20849" y="4701"/>
                  <a:pt x="20840" y="4777"/>
                  <a:pt x="20861" y="4837"/>
                </a:cubicBezTo>
                <a:cubicBezTo>
                  <a:pt x="20902" y="4956"/>
                  <a:pt x="20996" y="5053"/>
                  <a:pt x="21059" y="5159"/>
                </a:cubicBezTo>
                <a:cubicBezTo>
                  <a:pt x="21148" y="5308"/>
                  <a:pt x="21239" y="5457"/>
                  <a:pt x="21332" y="5606"/>
                </a:cubicBezTo>
                <a:cubicBezTo>
                  <a:pt x="21430" y="5764"/>
                  <a:pt x="21492" y="5939"/>
                  <a:pt x="21580" y="6102"/>
                </a:cubicBezTo>
                <a:cubicBezTo>
                  <a:pt x="21652" y="6236"/>
                  <a:pt x="21704" y="6366"/>
                  <a:pt x="21779" y="6499"/>
                </a:cubicBezTo>
                <a:cubicBezTo>
                  <a:pt x="21806" y="6547"/>
                  <a:pt x="21831" y="6605"/>
                  <a:pt x="21853" y="6648"/>
                </a:cubicBezTo>
                <a:cubicBezTo>
                  <a:pt x="21817" y="6557"/>
                  <a:pt x="21761" y="6464"/>
                  <a:pt x="21729" y="6375"/>
                </a:cubicBezTo>
                <a:cubicBezTo>
                  <a:pt x="21691" y="6270"/>
                  <a:pt x="21642" y="6139"/>
                  <a:pt x="21630" y="6028"/>
                </a:cubicBezTo>
                <a:cubicBezTo>
                  <a:pt x="21606" y="5806"/>
                  <a:pt x="21636" y="5570"/>
                  <a:pt x="21704" y="5358"/>
                </a:cubicBezTo>
                <a:cubicBezTo>
                  <a:pt x="21741" y="5243"/>
                  <a:pt x="21811" y="5074"/>
                  <a:pt x="21903" y="4986"/>
                </a:cubicBezTo>
                <a:cubicBezTo>
                  <a:pt x="21977" y="4915"/>
                  <a:pt x="22034" y="4909"/>
                  <a:pt x="22126" y="4887"/>
                </a:cubicBezTo>
                <a:cubicBezTo>
                  <a:pt x="22249" y="4858"/>
                  <a:pt x="22370" y="4899"/>
                  <a:pt x="22473" y="4986"/>
                </a:cubicBezTo>
                <a:cubicBezTo>
                  <a:pt x="22617" y="5108"/>
                  <a:pt x="22721" y="5250"/>
                  <a:pt x="22820" y="5407"/>
                </a:cubicBezTo>
                <a:cubicBezTo>
                  <a:pt x="22901" y="5535"/>
                  <a:pt x="22967" y="5673"/>
                  <a:pt x="23044" y="5804"/>
                </a:cubicBezTo>
                <a:cubicBezTo>
                  <a:pt x="23079" y="5863"/>
                  <a:pt x="23114" y="5889"/>
                  <a:pt x="23143" y="5928"/>
                </a:cubicBezTo>
              </a:path>
              <a:path w="19894" h="8856">
                <a:moveTo>
                  <a:pt x="22771" y="3944"/>
                </a:moveTo>
                <a:cubicBezTo>
                  <a:pt x="22802" y="4008"/>
                  <a:pt x="22899" y="4056"/>
                  <a:pt x="22944" y="4118"/>
                </a:cubicBezTo>
                <a:cubicBezTo>
                  <a:pt x="23016" y="4217"/>
                  <a:pt x="23072" y="4351"/>
                  <a:pt x="23118" y="4465"/>
                </a:cubicBezTo>
                <a:cubicBezTo>
                  <a:pt x="23154" y="4554"/>
                  <a:pt x="23190" y="4681"/>
                  <a:pt x="23242" y="4762"/>
                </a:cubicBezTo>
                <a:cubicBezTo>
                  <a:pt x="23291" y="4838"/>
                  <a:pt x="23342" y="4908"/>
                  <a:pt x="23391" y="4986"/>
                </a:cubicBezTo>
              </a:path>
              <a:path w="19894" h="8856">
                <a:moveTo>
                  <a:pt x="23688" y="5829"/>
                </a:moveTo>
                <a:cubicBezTo>
                  <a:pt x="23696" y="5829"/>
                  <a:pt x="23705" y="5829"/>
                  <a:pt x="23713" y="5829"/>
                </a:cubicBezTo>
              </a:path>
              <a:path w="19894" h="8856">
                <a:moveTo>
                  <a:pt x="18926" y="5705"/>
                </a:moveTo>
                <a:cubicBezTo>
                  <a:pt x="18850" y="5629"/>
                  <a:pt x="19039" y="5655"/>
                  <a:pt x="19075" y="56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63920" y="4017960"/>
            <a:ext cx="3867120" cy="1778040"/>
          </a:xfrm>
          <a:custGeom>
            <a:avLst/>
            <a:gdLst/>
            <a:ahLst/>
            <a:rect l="l" t="t" r="r" b="b"/>
            <a:pathLst>
              <a:path w="10742" h="4937">
                <a:moveTo>
                  <a:pt x="9624" y="13891"/>
                </a:moveTo>
                <a:cubicBezTo>
                  <a:pt x="9668" y="14037"/>
                  <a:pt x="9709" y="14092"/>
                  <a:pt x="9798" y="14213"/>
                </a:cubicBezTo>
                <a:cubicBezTo>
                  <a:pt x="9887" y="14334"/>
                  <a:pt x="9959" y="14411"/>
                  <a:pt x="10071" y="14511"/>
                </a:cubicBezTo>
                <a:cubicBezTo>
                  <a:pt x="10164" y="14595"/>
                  <a:pt x="10287" y="14689"/>
                  <a:pt x="10418" y="14709"/>
                </a:cubicBezTo>
                <a:cubicBezTo>
                  <a:pt x="10548" y="14729"/>
                  <a:pt x="10712" y="14694"/>
                  <a:pt x="10815" y="14610"/>
                </a:cubicBezTo>
                <a:cubicBezTo>
                  <a:pt x="10911" y="14532"/>
                  <a:pt x="10955" y="14427"/>
                  <a:pt x="10988" y="14312"/>
                </a:cubicBezTo>
                <a:cubicBezTo>
                  <a:pt x="11029" y="14167"/>
                  <a:pt x="11038" y="14041"/>
                  <a:pt x="11038" y="13891"/>
                </a:cubicBezTo>
                <a:cubicBezTo>
                  <a:pt x="11038" y="13721"/>
                  <a:pt x="11031" y="13559"/>
                  <a:pt x="11013" y="13395"/>
                </a:cubicBezTo>
                <a:cubicBezTo>
                  <a:pt x="11004" y="13313"/>
                  <a:pt x="10978" y="13249"/>
                  <a:pt x="10964" y="13171"/>
                </a:cubicBezTo>
                <a:cubicBezTo>
                  <a:pt x="10964" y="13163"/>
                  <a:pt x="10964" y="13154"/>
                  <a:pt x="10964" y="13146"/>
                </a:cubicBezTo>
                <a:cubicBezTo>
                  <a:pt x="10960" y="13154"/>
                  <a:pt x="10943" y="13138"/>
                  <a:pt x="10939" y="13246"/>
                </a:cubicBezTo>
                <a:cubicBezTo>
                  <a:pt x="10932" y="13412"/>
                  <a:pt x="10971" y="13583"/>
                  <a:pt x="11013" y="13742"/>
                </a:cubicBezTo>
                <a:cubicBezTo>
                  <a:pt x="11068" y="13948"/>
                  <a:pt x="11112" y="14155"/>
                  <a:pt x="11162" y="14362"/>
                </a:cubicBezTo>
                <a:cubicBezTo>
                  <a:pt x="11218" y="14592"/>
                  <a:pt x="11273" y="14822"/>
                  <a:pt x="11311" y="15056"/>
                </a:cubicBezTo>
                <a:cubicBezTo>
                  <a:pt x="11347" y="15274"/>
                  <a:pt x="11383" y="15483"/>
                  <a:pt x="11410" y="15701"/>
                </a:cubicBezTo>
                <a:cubicBezTo>
                  <a:pt x="11421" y="15793"/>
                  <a:pt x="11444" y="15993"/>
                  <a:pt x="11485" y="16073"/>
                </a:cubicBezTo>
                <a:cubicBezTo>
                  <a:pt x="11507" y="16096"/>
                  <a:pt x="11512" y="16104"/>
                  <a:pt x="11534" y="16098"/>
                </a:cubicBezTo>
              </a:path>
              <a:path w="10742" h="4937">
                <a:moveTo>
                  <a:pt x="12030" y="13097"/>
                </a:moveTo>
                <a:cubicBezTo>
                  <a:pt x="12059" y="13142"/>
                  <a:pt x="12105" y="13123"/>
                  <a:pt x="12129" y="13171"/>
                </a:cubicBezTo>
                <a:cubicBezTo>
                  <a:pt x="12179" y="13271"/>
                  <a:pt x="12203" y="13386"/>
                  <a:pt x="12229" y="13494"/>
                </a:cubicBezTo>
                <a:cubicBezTo>
                  <a:pt x="12279" y="13701"/>
                  <a:pt x="12333" y="13908"/>
                  <a:pt x="12378" y="14114"/>
                </a:cubicBezTo>
                <a:cubicBezTo>
                  <a:pt x="12417" y="14291"/>
                  <a:pt x="12450" y="14462"/>
                  <a:pt x="12502" y="14635"/>
                </a:cubicBezTo>
                <a:cubicBezTo>
                  <a:pt x="12555" y="14809"/>
                  <a:pt x="12625" y="14948"/>
                  <a:pt x="12700" y="15106"/>
                </a:cubicBezTo>
                <a:cubicBezTo>
                  <a:pt x="12719" y="15147"/>
                  <a:pt x="12733" y="15170"/>
                  <a:pt x="12750" y="15205"/>
                </a:cubicBezTo>
                <a:cubicBezTo>
                  <a:pt x="12729" y="15158"/>
                  <a:pt x="12749" y="15151"/>
                  <a:pt x="12725" y="15106"/>
                </a:cubicBezTo>
                <a:cubicBezTo>
                  <a:pt x="12615" y="14902"/>
                  <a:pt x="12471" y="14689"/>
                  <a:pt x="12328" y="14511"/>
                </a:cubicBezTo>
                <a:cubicBezTo>
                  <a:pt x="12228" y="14386"/>
                  <a:pt x="12096" y="14222"/>
                  <a:pt x="11956" y="14139"/>
                </a:cubicBezTo>
                <a:cubicBezTo>
                  <a:pt x="11830" y="14063"/>
                  <a:pt x="11636" y="13980"/>
                  <a:pt x="11485" y="13990"/>
                </a:cubicBezTo>
                <a:cubicBezTo>
                  <a:pt x="11360" y="13998"/>
                  <a:pt x="11192" y="14112"/>
                  <a:pt x="11137" y="14213"/>
                </a:cubicBezTo>
                <a:cubicBezTo>
                  <a:pt x="11084" y="14311"/>
                  <a:pt x="11082" y="14428"/>
                  <a:pt x="11088" y="14536"/>
                </a:cubicBezTo>
                <a:cubicBezTo>
                  <a:pt x="11103" y="14815"/>
                  <a:pt x="11296" y="15018"/>
                  <a:pt x="11509" y="15180"/>
                </a:cubicBezTo>
                <a:cubicBezTo>
                  <a:pt x="11702" y="15327"/>
                  <a:pt x="11906" y="15333"/>
                  <a:pt x="12129" y="15255"/>
                </a:cubicBezTo>
                <a:cubicBezTo>
                  <a:pt x="12410" y="15157"/>
                  <a:pt x="12507" y="14823"/>
                  <a:pt x="12576" y="14560"/>
                </a:cubicBezTo>
                <a:cubicBezTo>
                  <a:pt x="12613" y="14419"/>
                  <a:pt x="12625" y="14281"/>
                  <a:pt x="12650" y="14139"/>
                </a:cubicBezTo>
                <a:cubicBezTo>
                  <a:pt x="12672" y="14013"/>
                  <a:pt x="12691" y="13891"/>
                  <a:pt x="12725" y="13767"/>
                </a:cubicBezTo>
                <a:cubicBezTo>
                  <a:pt x="12762" y="13630"/>
                  <a:pt x="12804" y="13459"/>
                  <a:pt x="12923" y="13370"/>
                </a:cubicBezTo>
                <a:cubicBezTo>
                  <a:pt x="13026" y="13293"/>
                  <a:pt x="13171" y="13262"/>
                  <a:pt x="13295" y="13320"/>
                </a:cubicBezTo>
                <a:cubicBezTo>
                  <a:pt x="13413" y="13375"/>
                  <a:pt x="13506" y="13474"/>
                  <a:pt x="13593" y="13568"/>
                </a:cubicBezTo>
                <a:cubicBezTo>
                  <a:pt x="13668" y="13649"/>
                  <a:pt x="13729" y="13750"/>
                  <a:pt x="13791" y="13841"/>
                </a:cubicBezTo>
                <a:cubicBezTo>
                  <a:pt x="13824" y="13889"/>
                  <a:pt x="13861" y="13941"/>
                  <a:pt x="13891" y="13990"/>
                </a:cubicBezTo>
                <a:cubicBezTo>
                  <a:pt x="13891" y="13998"/>
                  <a:pt x="13891" y="14007"/>
                  <a:pt x="13891" y="14015"/>
                </a:cubicBezTo>
                <a:cubicBezTo>
                  <a:pt x="13873" y="13984"/>
                  <a:pt x="13883" y="13997"/>
                  <a:pt x="13866" y="13965"/>
                </a:cubicBezTo>
                <a:cubicBezTo>
                  <a:pt x="13826" y="13893"/>
                  <a:pt x="13788" y="13805"/>
                  <a:pt x="13742" y="13742"/>
                </a:cubicBezTo>
                <a:cubicBezTo>
                  <a:pt x="13671" y="13645"/>
                  <a:pt x="13585" y="13542"/>
                  <a:pt x="13494" y="13469"/>
                </a:cubicBezTo>
                <a:cubicBezTo>
                  <a:pt x="13407" y="13400"/>
                  <a:pt x="13336" y="13324"/>
                  <a:pt x="13221" y="13320"/>
                </a:cubicBezTo>
                <a:cubicBezTo>
                  <a:pt x="13114" y="13316"/>
                  <a:pt x="13012" y="13372"/>
                  <a:pt x="12948" y="13444"/>
                </a:cubicBezTo>
                <a:cubicBezTo>
                  <a:pt x="12871" y="13531"/>
                  <a:pt x="12827" y="13681"/>
                  <a:pt x="12799" y="13791"/>
                </a:cubicBezTo>
                <a:cubicBezTo>
                  <a:pt x="12768" y="13916"/>
                  <a:pt x="12772" y="14088"/>
                  <a:pt x="12799" y="14213"/>
                </a:cubicBezTo>
                <a:cubicBezTo>
                  <a:pt x="12842" y="14416"/>
                  <a:pt x="12948" y="14650"/>
                  <a:pt x="13072" y="14808"/>
                </a:cubicBezTo>
                <a:cubicBezTo>
                  <a:pt x="13154" y="14913"/>
                  <a:pt x="13300" y="15051"/>
                  <a:pt x="13444" y="15056"/>
                </a:cubicBezTo>
                <a:cubicBezTo>
                  <a:pt x="13571" y="15060"/>
                  <a:pt x="13714" y="15037"/>
                  <a:pt x="13816" y="14957"/>
                </a:cubicBezTo>
                <a:cubicBezTo>
                  <a:pt x="13923" y="14873"/>
                  <a:pt x="13964" y="14782"/>
                  <a:pt x="14015" y="14660"/>
                </a:cubicBezTo>
                <a:cubicBezTo>
                  <a:pt x="14066" y="14537"/>
                  <a:pt x="14061" y="14417"/>
                  <a:pt x="14064" y="14288"/>
                </a:cubicBezTo>
                <a:cubicBezTo>
                  <a:pt x="14067" y="14179"/>
                  <a:pt x="14028" y="14044"/>
                  <a:pt x="13990" y="13940"/>
                </a:cubicBezTo>
                <a:cubicBezTo>
                  <a:pt x="13959" y="13856"/>
                  <a:pt x="13872" y="13742"/>
                  <a:pt x="13816" y="13667"/>
                </a:cubicBezTo>
                <a:cubicBezTo>
                  <a:pt x="13798" y="13643"/>
                  <a:pt x="13752" y="13630"/>
                  <a:pt x="13742" y="13618"/>
                </a:cubicBezTo>
                <a:cubicBezTo>
                  <a:pt x="13744" y="13646"/>
                  <a:pt x="13693" y="13660"/>
                  <a:pt x="13717" y="13767"/>
                </a:cubicBezTo>
                <a:cubicBezTo>
                  <a:pt x="13769" y="13996"/>
                  <a:pt x="13882" y="14190"/>
                  <a:pt x="14039" y="14362"/>
                </a:cubicBezTo>
                <a:cubicBezTo>
                  <a:pt x="14110" y="14439"/>
                  <a:pt x="14218" y="14536"/>
                  <a:pt x="14312" y="14585"/>
                </a:cubicBezTo>
                <a:cubicBezTo>
                  <a:pt x="14390" y="14625"/>
                  <a:pt x="14483" y="14630"/>
                  <a:pt x="14560" y="14610"/>
                </a:cubicBezTo>
                <a:cubicBezTo>
                  <a:pt x="14641" y="14589"/>
                  <a:pt x="14730" y="14551"/>
                  <a:pt x="14784" y="14486"/>
                </a:cubicBezTo>
                <a:cubicBezTo>
                  <a:pt x="14870" y="14383"/>
                  <a:pt x="14875" y="14140"/>
                  <a:pt x="14858" y="14015"/>
                </a:cubicBezTo>
                <a:cubicBezTo>
                  <a:pt x="14838" y="13869"/>
                  <a:pt x="14771" y="13753"/>
                  <a:pt x="14684" y="13643"/>
                </a:cubicBezTo>
                <a:cubicBezTo>
                  <a:pt x="14579" y="13510"/>
                  <a:pt x="14465" y="13502"/>
                  <a:pt x="14337" y="13419"/>
                </a:cubicBezTo>
                <a:cubicBezTo>
                  <a:pt x="14283" y="13384"/>
                  <a:pt x="14182" y="13333"/>
                  <a:pt x="14139" y="13295"/>
                </a:cubicBezTo>
                <a:cubicBezTo>
                  <a:pt x="14139" y="13271"/>
                  <a:pt x="14139" y="13262"/>
                  <a:pt x="14139" y="13246"/>
                </a:cubicBezTo>
                <a:cubicBezTo>
                  <a:pt x="14255" y="13168"/>
                  <a:pt x="14342" y="13065"/>
                  <a:pt x="14511" y="13047"/>
                </a:cubicBezTo>
                <a:cubicBezTo>
                  <a:pt x="14634" y="13034"/>
                  <a:pt x="14776" y="13039"/>
                  <a:pt x="14858" y="13146"/>
                </a:cubicBezTo>
                <a:cubicBezTo>
                  <a:pt x="14936" y="13248"/>
                  <a:pt x="14856" y="13410"/>
                  <a:pt x="14858" y="13519"/>
                </a:cubicBezTo>
                <a:cubicBezTo>
                  <a:pt x="14861" y="13663"/>
                  <a:pt x="14828" y="13852"/>
                  <a:pt x="14883" y="13990"/>
                </a:cubicBezTo>
                <a:cubicBezTo>
                  <a:pt x="14926" y="14098"/>
                  <a:pt x="15055" y="14198"/>
                  <a:pt x="15156" y="14238"/>
                </a:cubicBezTo>
                <a:cubicBezTo>
                  <a:pt x="15267" y="14282"/>
                  <a:pt x="15388" y="14281"/>
                  <a:pt x="15478" y="14213"/>
                </a:cubicBezTo>
                <a:cubicBezTo>
                  <a:pt x="15545" y="14163"/>
                  <a:pt x="15560" y="14123"/>
                  <a:pt x="15577" y="14039"/>
                </a:cubicBezTo>
                <a:cubicBezTo>
                  <a:pt x="15596" y="13949"/>
                  <a:pt x="15553" y="13803"/>
                  <a:pt x="15528" y="13717"/>
                </a:cubicBezTo>
                <a:cubicBezTo>
                  <a:pt x="15478" y="13548"/>
                  <a:pt x="15397" y="13433"/>
                  <a:pt x="15404" y="13246"/>
                </a:cubicBezTo>
                <a:cubicBezTo>
                  <a:pt x="15408" y="13145"/>
                  <a:pt x="15440" y="12987"/>
                  <a:pt x="15528" y="12923"/>
                </a:cubicBezTo>
                <a:cubicBezTo>
                  <a:pt x="15643" y="12839"/>
                  <a:pt x="15662" y="12816"/>
                  <a:pt x="15825" y="12824"/>
                </a:cubicBezTo>
                <a:cubicBezTo>
                  <a:pt x="15986" y="12832"/>
                  <a:pt x="16061" y="12906"/>
                  <a:pt x="16173" y="12998"/>
                </a:cubicBezTo>
                <a:cubicBezTo>
                  <a:pt x="16246" y="13058"/>
                  <a:pt x="16291" y="13148"/>
                  <a:pt x="16346" y="13221"/>
                </a:cubicBezTo>
                <a:cubicBezTo>
                  <a:pt x="16379" y="13264"/>
                  <a:pt x="16392" y="13305"/>
                  <a:pt x="16421" y="13345"/>
                </a:cubicBezTo>
                <a:cubicBezTo>
                  <a:pt x="16388" y="13345"/>
                  <a:pt x="16379" y="13337"/>
                  <a:pt x="16396" y="13295"/>
                </a:cubicBezTo>
                <a:cubicBezTo>
                  <a:pt x="16347" y="13228"/>
                  <a:pt x="16297" y="13131"/>
                  <a:pt x="16247" y="13072"/>
                </a:cubicBezTo>
                <a:cubicBezTo>
                  <a:pt x="16183" y="12996"/>
                  <a:pt x="16113" y="12897"/>
                  <a:pt x="16024" y="12849"/>
                </a:cubicBezTo>
                <a:cubicBezTo>
                  <a:pt x="15872" y="12768"/>
                  <a:pt x="15734" y="12791"/>
                  <a:pt x="15602" y="12849"/>
                </a:cubicBezTo>
                <a:cubicBezTo>
                  <a:pt x="15440" y="12920"/>
                  <a:pt x="15306" y="13044"/>
                  <a:pt x="15255" y="13221"/>
                </a:cubicBezTo>
                <a:cubicBezTo>
                  <a:pt x="15223" y="13332"/>
                  <a:pt x="15229" y="13456"/>
                  <a:pt x="15255" y="13568"/>
                </a:cubicBezTo>
                <a:cubicBezTo>
                  <a:pt x="15290" y="13719"/>
                  <a:pt x="15424" y="13884"/>
                  <a:pt x="15553" y="13965"/>
                </a:cubicBezTo>
                <a:cubicBezTo>
                  <a:pt x="15655" y="14029"/>
                  <a:pt x="15805" y="14065"/>
                  <a:pt x="15925" y="14064"/>
                </a:cubicBezTo>
                <a:cubicBezTo>
                  <a:pt x="16043" y="14063"/>
                  <a:pt x="16205" y="14020"/>
                  <a:pt x="16297" y="13940"/>
                </a:cubicBezTo>
                <a:cubicBezTo>
                  <a:pt x="16582" y="13691"/>
                  <a:pt x="16569" y="13240"/>
                  <a:pt x="16520" y="12898"/>
                </a:cubicBezTo>
                <a:cubicBezTo>
                  <a:pt x="16498" y="12743"/>
                  <a:pt x="16434" y="12607"/>
                  <a:pt x="16371" y="12477"/>
                </a:cubicBezTo>
                <a:cubicBezTo>
                  <a:pt x="16333" y="12398"/>
                  <a:pt x="16296" y="12327"/>
                  <a:pt x="16247" y="12254"/>
                </a:cubicBezTo>
                <a:cubicBezTo>
                  <a:pt x="16239" y="12254"/>
                  <a:pt x="16230" y="12254"/>
                  <a:pt x="16222" y="12254"/>
                </a:cubicBezTo>
                <a:cubicBezTo>
                  <a:pt x="16228" y="12303"/>
                  <a:pt x="16210" y="12305"/>
                  <a:pt x="16222" y="12353"/>
                </a:cubicBezTo>
                <a:cubicBezTo>
                  <a:pt x="16259" y="12506"/>
                  <a:pt x="16322" y="12647"/>
                  <a:pt x="16371" y="12799"/>
                </a:cubicBezTo>
                <a:cubicBezTo>
                  <a:pt x="16422" y="12957"/>
                  <a:pt x="16444" y="13123"/>
                  <a:pt x="16520" y="13271"/>
                </a:cubicBezTo>
                <a:cubicBezTo>
                  <a:pt x="16589" y="13404"/>
                  <a:pt x="16730" y="13559"/>
                  <a:pt x="16867" y="13618"/>
                </a:cubicBezTo>
                <a:cubicBezTo>
                  <a:pt x="16967" y="13661"/>
                  <a:pt x="17066" y="13646"/>
                  <a:pt x="17165" y="13618"/>
                </a:cubicBezTo>
                <a:cubicBezTo>
                  <a:pt x="17281" y="13586"/>
                  <a:pt x="17314" y="13517"/>
                  <a:pt x="17363" y="13419"/>
                </a:cubicBezTo>
                <a:cubicBezTo>
                  <a:pt x="17414" y="13318"/>
                  <a:pt x="17456" y="13163"/>
                  <a:pt x="17462" y="13047"/>
                </a:cubicBezTo>
                <a:cubicBezTo>
                  <a:pt x="17469" y="12911"/>
                  <a:pt x="17436" y="12782"/>
                  <a:pt x="17413" y="12650"/>
                </a:cubicBezTo>
                <a:cubicBezTo>
                  <a:pt x="17393" y="12534"/>
                  <a:pt x="17377" y="12409"/>
                  <a:pt x="17314" y="12303"/>
                </a:cubicBezTo>
                <a:cubicBezTo>
                  <a:pt x="17296" y="12273"/>
                  <a:pt x="17246" y="12241"/>
                  <a:pt x="17239" y="12229"/>
                </a:cubicBezTo>
                <a:cubicBezTo>
                  <a:pt x="17239" y="12237"/>
                  <a:pt x="17239" y="12246"/>
                  <a:pt x="17239" y="12254"/>
                </a:cubicBezTo>
                <a:cubicBezTo>
                  <a:pt x="17271" y="12348"/>
                  <a:pt x="17302" y="12432"/>
                  <a:pt x="17338" y="12526"/>
                </a:cubicBezTo>
                <a:cubicBezTo>
                  <a:pt x="17380" y="12635"/>
                  <a:pt x="17424" y="12751"/>
                  <a:pt x="17487" y="12849"/>
                </a:cubicBezTo>
                <a:cubicBezTo>
                  <a:pt x="17557" y="12958"/>
                  <a:pt x="17688" y="13139"/>
                  <a:pt x="17810" y="13196"/>
                </a:cubicBezTo>
                <a:cubicBezTo>
                  <a:pt x="17877" y="13227"/>
                  <a:pt x="17958" y="13184"/>
                  <a:pt x="18008" y="13196"/>
                </a:cubicBezTo>
                <a:cubicBezTo>
                  <a:pt x="18035" y="13112"/>
                  <a:pt x="18097" y="13144"/>
                  <a:pt x="18107" y="13022"/>
                </a:cubicBezTo>
                <a:cubicBezTo>
                  <a:pt x="18123" y="12835"/>
                  <a:pt x="18079" y="12625"/>
                  <a:pt x="18008" y="12452"/>
                </a:cubicBezTo>
                <a:cubicBezTo>
                  <a:pt x="17963" y="12343"/>
                  <a:pt x="17908" y="12268"/>
                  <a:pt x="17884" y="12154"/>
                </a:cubicBezTo>
                <a:cubicBezTo>
                  <a:pt x="17866" y="12070"/>
                  <a:pt x="17821" y="11935"/>
                  <a:pt x="17884" y="11857"/>
                </a:cubicBezTo>
                <a:cubicBezTo>
                  <a:pt x="17943" y="11784"/>
                  <a:pt x="17952" y="11788"/>
                  <a:pt x="18033" y="11757"/>
                </a:cubicBezTo>
                <a:cubicBezTo>
                  <a:pt x="18141" y="11716"/>
                  <a:pt x="18272" y="11801"/>
                  <a:pt x="18355" y="11857"/>
                </a:cubicBezTo>
                <a:cubicBezTo>
                  <a:pt x="18507" y="11959"/>
                  <a:pt x="18591" y="12101"/>
                  <a:pt x="18678" y="12254"/>
                </a:cubicBezTo>
                <a:cubicBezTo>
                  <a:pt x="18741" y="12365"/>
                  <a:pt x="18784" y="12493"/>
                  <a:pt x="18827" y="12601"/>
                </a:cubicBezTo>
                <a:cubicBezTo>
                  <a:pt x="18814" y="12571"/>
                  <a:pt x="18838" y="12632"/>
                  <a:pt x="18827" y="12601"/>
                </a:cubicBezTo>
                <a:cubicBezTo>
                  <a:pt x="18745" y="12379"/>
                  <a:pt x="18646" y="12165"/>
                  <a:pt x="18604" y="11931"/>
                </a:cubicBezTo>
                <a:cubicBezTo>
                  <a:pt x="18585" y="11827"/>
                  <a:pt x="18581" y="11763"/>
                  <a:pt x="18604" y="11658"/>
                </a:cubicBezTo>
                <a:cubicBezTo>
                  <a:pt x="18615" y="11608"/>
                  <a:pt x="18645" y="11621"/>
                  <a:pt x="18653" y="11584"/>
                </a:cubicBezTo>
                <a:cubicBezTo>
                  <a:pt x="18697" y="11624"/>
                  <a:pt x="18782" y="11648"/>
                  <a:pt x="18827" y="11708"/>
                </a:cubicBezTo>
                <a:cubicBezTo>
                  <a:pt x="18884" y="11785"/>
                  <a:pt x="18905" y="11898"/>
                  <a:pt x="18951" y="11981"/>
                </a:cubicBezTo>
                <a:cubicBezTo>
                  <a:pt x="19014" y="12095"/>
                  <a:pt x="19059" y="12164"/>
                  <a:pt x="19149" y="12254"/>
                </a:cubicBezTo>
                <a:cubicBezTo>
                  <a:pt x="19256" y="12361"/>
                  <a:pt x="19380" y="12448"/>
                  <a:pt x="19521" y="12502"/>
                </a:cubicBezTo>
                <a:cubicBezTo>
                  <a:pt x="19613" y="12537"/>
                  <a:pt x="19726" y="12523"/>
                  <a:pt x="19819" y="12502"/>
                </a:cubicBezTo>
                <a:cubicBezTo>
                  <a:pt x="19947" y="12473"/>
                  <a:pt x="20038" y="12389"/>
                  <a:pt x="20092" y="12278"/>
                </a:cubicBezTo>
                <a:cubicBezTo>
                  <a:pt x="20151" y="12155"/>
                  <a:pt x="20159" y="11893"/>
                  <a:pt x="20141" y="11757"/>
                </a:cubicBezTo>
                <a:cubicBezTo>
                  <a:pt x="20125" y="11636"/>
                  <a:pt x="20076" y="11531"/>
                  <a:pt x="20017" y="11435"/>
                </a:cubicBezTo>
                <a:cubicBezTo>
                  <a:pt x="19953" y="11331"/>
                  <a:pt x="19903" y="11269"/>
                  <a:pt x="19794" y="11212"/>
                </a:cubicBezTo>
                <a:cubicBezTo>
                  <a:pt x="19689" y="11157"/>
                  <a:pt x="19554" y="11143"/>
                  <a:pt x="19447" y="11187"/>
                </a:cubicBezTo>
                <a:cubicBezTo>
                  <a:pt x="19295" y="11249"/>
                  <a:pt x="19209" y="11435"/>
                  <a:pt x="19199" y="11584"/>
                </a:cubicBezTo>
                <a:cubicBezTo>
                  <a:pt x="19192" y="11688"/>
                  <a:pt x="19223" y="11838"/>
                  <a:pt x="19273" y="11931"/>
                </a:cubicBezTo>
                <a:cubicBezTo>
                  <a:pt x="19330" y="12037"/>
                  <a:pt x="19394" y="12113"/>
                  <a:pt x="19496" y="12179"/>
                </a:cubicBezTo>
                <a:cubicBezTo>
                  <a:pt x="19634" y="12269"/>
                  <a:pt x="19860" y="12330"/>
                  <a:pt x="20017" y="12254"/>
                </a:cubicBezTo>
                <a:cubicBezTo>
                  <a:pt x="20242" y="12145"/>
                  <a:pt x="20215" y="11926"/>
                  <a:pt x="20191" y="11733"/>
                </a:cubicBezTo>
                <a:cubicBezTo>
                  <a:pt x="20181" y="11655"/>
                  <a:pt x="20162" y="11601"/>
                  <a:pt x="20141" y="11534"/>
                </a:cubicBezTo>
                <a:cubicBezTo>
                  <a:pt x="20133" y="11526"/>
                  <a:pt x="20125" y="11517"/>
                  <a:pt x="20117" y="11509"/>
                </a:cubicBezTo>
                <a:cubicBezTo>
                  <a:pt x="20137" y="11615"/>
                  <a:pt x="20166" y="11705"/>
                  <a:pt x="20191" y="11807"/>
                </a:cubicBezTo>
                <a:cubicBezTo>
                  <a:pt x="20242" y="12013"/>
                  <a:pt x="20307" y="12217"/>
                  <a:pt x="20340" y="12427"/>
                </a:cubicBezTo>
                <a:cubicBezTo>
                  <a:pt x="20376" y="12656"/>
                  <a:pt x="20365" y="12868"/>
                  <a:pt x="20340" y="13097"/>
                </a:cubicBezTo>
                <a:cubicBezTo>
                  <a:pt x="20317" y="13306"/>
                  <a:pt x="20276" y="13480"/>
                  <a:pt x="20166" y="13667"/>
                </a:cubicBezTo>
                <a:cubicBezTo>
                  <a:pt x="20056" y="13855"/>
                  <a:pt x="19880" y="14004"/>
                  <a:pt x="19695" y="14114"/>
                </a:cubicBezTo>
                <a:cubicBezTo>
                  <a:pt x="19457" y="14255"/>
                  <a:pt x="19222" y="14283"/>
                  <a:pt x="19000" y="14114"/>
                </a:cubicBezTo>
                <a:cubicBezTo>
                  <a:pt x="18855" y="14004"/>
                  <a:pt x="18761" y="13829"/>
                  <a:pt x="18678" y="13667"/>
                </a:cubicBezTo>
                <a:cubicBezTo>
                  <a:pt x="18633" y="13533"/>
                  <a:pt x="18623" y="13497"/>
                  <a:pt x="18579" y="13419"/>
                </a:cubicBezTo>
              </a:path>
              <a:path w="10742" h="4937">
                <a:moveTo>
                  <a:pt x="16991" y="11733"/>
                </a:moveTo>
                <a:cubicBezTo>
                  <a:pt x="16975" y="11733"/>
                  <a:pt x="16958" y="11733"/>
                  <a:pt x="16942" y="11733"/>
                </a:cubicBezTo>
                <a:cubicBezTo>
                  <a:pt x="16983" y="11691"/>
                  <a:pt x="17012" y="11659"/>
                  <a:pt x="17041" y="116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1760" y="1714680"/>
            <a:ext cx="590400" cy="411120"/>
          </a:xfrm>
          <a:custGeom>
            <a:avLst/>
            <a:gdLst/>
            <a:ahLst/>
            <a:rect l="l" t="t" r="r" b="b"/>
            <a:pathLst>
              <a:path w="1638" h="1143">
                <a:moveTo>
                  <a:pt x="1240" y="4762"/>
                </a:moveTo>
                <a:cubicBezTo>
                  <a:pt x="1230" y="4801"/>
                  <a:pt x="1215" y="4817"/>
                  <a:pt x="1215" y="4862"/>
                </a:cubicBezTo>
                <a:cubicBezTo>
                  <a:pt x="1215" y="4940"/>
                  <a:pt x="1210" y="5012"/>
                  <a:pt x="1191" y="5085"/>
                </a:cubicBezTo>
                <a:cubicBezTo>
                  <a:pt x="1169" y="5168"/>
                  <a:pt x="1138" y="5260"/>
                  <a:pt x="1116" y="5333"/>
                </a:cubicBezTo>
                <a:cubicBezTo>
                  <a:pt x="1110" y="5353"/>
                  <a:pt x="1116" y="5386"/>
                  <a:pt x="1116" y="5407"/>
                </a:cubicBezTo>
                <a:cubicBezTo>
                  <a:pt x="1154" y="5380"/>
                  <a:pt x="1168" y="5383"/>
                  <a:pt x="1215" y="5383"/>
                </a:cubicBezTo>
                <a:cubicBezTo>
                  <a:pt x="1281" y="5383"/>
                  <a:pt x="1303" y="5404"/>
                  <a:pt x="1364" y="5407"/>
                </a:cubicBezTo>
                <a:cubicBezTo>
                  <a:pt x="1418" y="5410"/>
                  <a:pt x="1536" y="5405"/>
                  <a:pt x="1588" y="5383"/>
                </a:cubicBezTo>
                <a:cubicBezTo>
                  <a:pt x="1610" y="5360"/>
                  <a:pt x="1615" y="5352"/>
                  <a:pt x="1637" y="5358"/>
                </a:cubicBezTo>
              </a:path>
              <a:path w="1638" h="1143">
                <a:moveTo>
                  <a:pt x="1712" y="4812"/>
                </a:moveTo>
                <a:cubicBezTo>
                  <a:pt x="1712" y="4891"/>
                  <a:pt x="1696" y="4963"/>
                  <a:pt x="1687" y="5035"/>
                </a:cubicBezTo>
                <a:cubicBezTo>
                  <a:pt x="1673" y="5146"/>
                  <a:pt x="1708" y="5249"/>
                  <a:pt x="1712" y="5358"/>
                </a:cubicBezTo>
                <a:cubicBezTo>
                  <a:pt x="1718" y="5519"/>
                  <a:pt x="1730" y="5710"/>
                  <a:pt x="1687" y="5854"/>
                </a:cubicBezTo>
                <a:cubicBezTo>
                  <a:pt x="1673" y="5901"/>
                  <a:pt x="1678" y="5920"/>
                  <a:pt x="1662" y="5854"/>
                </a:cubicBezTo>
              </a:path>
              <a:path w="1638" h="1143">
                <a:moveTo>
                  <a:pt x="1984" y="5159"/>
                </a:moveTo>
                <a:cubicBezTo>
                  <a:pt x="1979" y="5252"/>
                  <a:pt x="1936" y="5389"/>
                  <a:pt x="1960" y="5482"/>
                </a:cubicBezTo>
                <a:cubicBezTo>
                  <a:pt x="1972" y="5530"/>
                  <a:pt x="1983" y="5628"/>
                  <a:pt x="2034" y="5655"/>
                </a:cubicBezTo>
                <a:cubicBezTo>
                  <a:pt x="2138" y="5710"/>
                  <a:pt x="2124" y="5652"/>
                  <a:pt x="2183" y="5606"/>
                </a:cubicBezTo>
                <a:cubicBezTo>
                  <a:pt x="2243" y="5559"/>
                  <a:pt x="2271" y="5513"/>
                  <a:pt x="2282" y="5432"/>
                </a:cubicBezTo>
                <a:cubicBezTo>
                  <a:pt x="2291" y="5365"/>
                  <a:pt x="2294" y="5244"/>
                  <a:pt x="2257" y="5184"/>
                </a:cubicBezTo>
                <a:cubicBezTo>
                  <a:pt x="2217" y="5118"/>
                  <a:pt x="2149" y="5092"/>
                  <a:pt x="2108" y="5035"/>
                </a:cubicBezTo>
                <a:cubicBezTo>
                  <a:pt x="2066" y="4976"/>
                  <a:pt x="2031" y="4979"/>
                  <a:pt x="1984" y="4936"/>
                </a:cubicBezTo>
                <a:cubicBezTo>
                  <a:pt x="1950" y="4905"/>
                  <a:pt x="1953" y="4876"/>
                  <a:pt x="1935" y="4911"/>
                </a:cubicBezTo>
              </a:path>
              <a:path w="1638" h="1143">
                <a:moveTo>
                  <a:pt x="2356" y="5407"/>
                </a:moveTo>
                <a:cubicBezTo>
                  <a:pt x="2356" y="5459"/>
                  <a:pt x="2359" y="5457"/>
                  <a:pt x="2307" y="5457"/>
                </a:cubicBezTo>
              </a:path>
              <a:path w="1638" h="1143">
                <a:moveTo>
                  <a:pt x="2729" y="5829"/>
                </a:moveTo>
                <a:cubicBezTo>
                  <a:pt x="2737" y="5821"/>
                  <a:pt x="2745" y="5812"/>
                  <a:pt x="2753" y="58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1840" y="1660680"/>
            <a:ext cx="1197000" cy="428400"/>
          </a:xfrm>
          <a:custGeom>
            <a:avLst/>
            <a:gdLst/>
            <a:ahLst/>
            <a:rect l="l" t="t" r="r" b="b"/>
            <a:pathLst>
              <a:path w="3325" h="1191">
                <a:moveTo>
                  <a:pt x="4242" y="4614"/>
                </a:moveTo>
                <a:cubicBezTo>
                  <a:pt x="4242" y="4717"/>
                  <a:pt x="4226" y="4812"/>
                  <a:pt x="4217" y="4911"/>
                </a:cubicBezTo>
                <a:cubicBezTo>
                  <a:pt x="4205" y="5042"/>
                  <a:pt x="4203" y="5178"/>
                  <a:pt x="4192" y="5308"/>
                </a:cubicBezTo>
                <a:cubicBezTo>
                  <a:pt x="4183" y="5412"/>
                  <a:pt x="4182" y="5505"/>
                  <a:pt x="4167" y="5606"/>
                </a:cubicBezTo>
                <a:cubicBezTo>
                  <a:pt x="4166" y="5616"/>
                  <a:pt x="4167" y="5772"/>
                  <a:pt x="4167" y="5705"/>
                </a:cubicBezTo>
              </a:path>
              <a:path w="3325" h="1191">
                <a:moveTo>
                  <a:pt x="3894" y="5259"/>
                </a:moveTo>
                <a:cubicBezTo>
                  <a:pt x="3958" y="5250"/>
                  <a:pt x="3997" y="5234"/>
                  <a:pt x="4068" y="5234"/>
                </a:cubicBezTo>
                <a:cubicBezTo>
                  <a:pt x="4170" y="5234"/>
                  <a:pt x="4265" y="5272"/>
                  <a:pt x="4366" y="5283"/>
                </a:cubicBezTo>
                <a:cubicBezTo>
                  <a:pt x="4391" y="5283"/>
                  <a:pt x="4415" y="5283"/>
                  <a:pt x="4440" y="5283"/>
                </a:cubicBezTo>
              </a:path>
              <a:path w="3325" h="1191">
                <a:moveTo>
                  <a:pt x="4936" y="5333"/>
                </a:moveTo>
                <a:cubicBezTo>
                  <a:pt x="4948" y="5374"/>
                  <a:pt x="4961" y="5450"/>
                  <a:pt x="4961" y="5407"/>
                </a:cubicBezTo>
                <a:cubicBezTo>
                  <a:pt x="4952" y="5371"/>
                  <a:pt x="4934" y="5318"/>
                  <a:pt x="4911" y="5283"/>
                </a:cubicBezTo>
                <a:cubicBezTo>
                  <a:pt x="4876" y="5230"/>
                  <a:pt x="4845" y="5234"/>
                  <a:pt x="4787" y="5234"/>
                </a:cubicBezTo>
                <a:cubicBezTo>
                  <a:pt x="4746" y="5234"/>
                  <a:pt x="4685" y="5302"/>
                  <a:pt x="4663" y="5333"/>
                </a:cubicBezTo>
                <a:cubicBezTo>
                  <a:pt x="4614" y="5402"/>
                  <a:pt x="4555" y="5496"/>
                  <a:pt x="4539" y="5581"/>
                </a:cubicBezTo>
                <a:cubicBezTo>
                  <a:pt x="4528" y="5639"/>
                  <a:pt x="4531" y="5712"/>
                  <a:pt x="4564" y="5755"/>
                </a:cubicBezTo>
                <a:cubicBezTo>
                  <a:pt x="4629" y="5755"/>
                  <a:pt x="4664" y="5724"/>
                  <a:pt x="4713" y="5680"/>
                </a:cubicBezTo>
                <a:cubicBezTo>
                  <a:pt x="4757" y="5640"/>
                  <a:pt x="4778" y="5562"/>
                  <a:pt x="4787" y="5507"/>
                </a:cubicBezTo>
                <a:cubicBezTo>
                  <a:pt x="4796" y="5450"/>
                  <a:pt x="4812" y="5419"/>
                  <a:pt x="4812" y="5358"/>
                </a:cubicBezTo>
                <a:cubicBezTo>
                  <a:pt x="4812" y="5425"/>
                  <a:pt x="4826" y="5470"/>
                  <a:pt x="4837" y="5531"/>
                </a:cubicBezTo>
                <a:cubicBezTo>
                  <a:pt x="4851" y="5609"/>
                  <a:pt x="4829" y="5621"/>
                  <a:pt x="4887" y="5680"/>
                </a:cubicBezTo>
                <a:cubicBezTo>
                  <a:pt x="4924" y="5717"/>
                  <a:pt x="4949" y="5713"/>
                  <a:pt x="4986" y="5680"/>
                </a:cubicBezTo>
                <a:cubicBezTo>
                  <a:pt x="4994" y="5672"/>
                  <a:pt x="5003" y="5663"/>
                  <a:pt x="5011" y="5655"/>
                </a:cubicBezTo>
              </a:path>
              <a:path w="3325" h="1191">
                <a:moveTo>
                  <a:pt x="5135" y="5358"/>
                </a:moveTo>
                <a:cubicBezTo>
                  <a:pt x="5116" y="5448"/>
                  <a:pt x="5110" y="5515"/>
                  <a:pt x="5110" y="5606"/>
                </a:cubicBezTo>
                <a:cubicBezTo>
                  <a:pt x="5110" y="5634"/>
                  <a:pt x="5110" y="5803"/>
                  <a:pt x="5110" y="5755"/>
                </a:cubicBezTo>
                <a:cubicBezTo>
                  <a:pt x="5145" y="5708"/>
                  <a:pt x="5135" y="5668"/>
                  <a:pt x="5135" y="5606"/>
                </a:cubicBezTo>
                <a:cubicBezTo>
                  <a:pt x="5135" y="5553"/>
                  <a:pt x="5162" y="5481"/>
                  <a:pt x="5184" y="5432"/>
                </a:cubicBezTo>
                <a:cubicBezTo>
                  <a:pt x="5216" y="5362"/>
                  <a:pt x="5255" y="5284"/>
                  <a:pt x="5333" y="5259"/>
                </a:cubicBezTo>
                <a:cubicBezTo>
                  <a:pt x="5361" y="5250"/>
                  <a:pt x="5417" y="5254"/>
                  <a:pt x="5432" y="5283"/>
                </a:cubicBezTo>
                <a:cubicBezTo>
                  <a:pt x="5460" y="5339"/>
                  <a:pt x="5479" y="5417"/>
                  <a:pt x="5482" y="5482"/>
                </a:cubicBezTo>
                <a:cubicBezTo>
                  <a:pt x="5486" y="5554"/>
                  <a:pt x="5502" y="5611"/>
                  <a:pt x="5507" y="5680"/>
                </a:cubicBezTo>
                <a:cubicBezTo>
                  <a:pt x="5512" y="5750"/>
                  <a:pt x="5494" y="5784"/>
                  <a:pt x="5507" y="5779"/>
                </a:cubicBezTo>
                <a:cubicBezTo>
                  <a:pt x="5539" y="5779"/>
                  <a:pt x="5547" y="5771"/>
                  <a:pt x="5531" y="5730"/>
                </a:cubicBezTo>
              </a:path>
              <a:path w="3325" h="1191">
                <a:moveTo>
                  <a:pt x="5829" y="4713"/>
                </a:moveTo>
                <a:cubicBezTo>
                  <a:pt x="5878" y="4688"/>
                  <a:pt x="5955" y="4637"/>
                  <a:pt x="6003" y="4688"/>
                </a:cubicBezTo>
                <a:cubicBezTo>
                  <a:pt x="6055" y="4744"/>
                  <a:pt x="6074" y="4803"/>
                  <a:pt x="6028" y="4862"/>
                </a:cubicBezTo>
                <a:cubicBezTo>
                  <a:pt x="5993" y="4906"/>
                  <a:pt x="5944" y="4924"/>
                  <a:pt x="5904" y="4961"/>
                </a:cubicBezTo>
                <a:cubicBezTo>
                  <a:pt x="5875" y="4988"/>
                  <a:pt x="5863" y="5000"/>
                  <a:pt x="5854" y="5035"/>
                </a:cubicBezTo>
                <a:cubicBezTo>
                  <a:pt x="5936" y="5035"/>
                  <a:pt x="6001" y="5039"/>
                  <a:pt x="6077" y="5011"/>
                </a:cubicBezTo>
              </a:path>
              <a:path w="3325" h="1191">
                <a:moveTo>
                  <a:pt x="6672" y="4887"/>
                </a:moveTo>
                <a:cubicBezTo>
                  <a:pt x="6607" y="5024"/>
                  <a:pt x="6525" y="5140"/>
                  <a:pt x="6474" y="5283"/>
                </a:cubicBezTo>
                <a:cubicBezTo>
                  <a:pt x="6443" y="5369"/>
                  <a:pt x="6404" y="5462"/>
                  <a:pt x="6424" y="5556"/>
                </a:cubicBezTo>
                <a:cubicBezTo>
                  <a:pt x="6443" y="5646"/>
                  <a:pt x="6451" y="5685"/>
                  <a:pt x="6548" y="5705"/>
                </a:cubicBezTo>
                <a:cubicBezTo>
                  <a:pt x="6604" y="5716"/>
                  <a:pt x="6703" y="5665"/>
                  <a:pt x="6747" y="5631"/>
                </a:cubicBezTo>
                <a:cubicBezTo>
                  <a:pt x="6791" y="5597"/>
                  <a:pt x="6897" y="5458"/>
                  <a:pt x="6921" y="5407"/>
                </a:cubicBezTo>
                <a:cubicBezTo>
                  <a:pt x="6946" y="5353"/>
                  <a:pt x="6974" y="5167"/>
                  <a:pt x="6970" y="5110"/>
                </a:cubicBezTo>
                <a:cubicBezTo>
                  <a:pt x="6965" y="5043"/>
                  <a:pt x="6936" y="4944"/>
                  <a:pt x="6896" y="4887"/>
                </a:cubicBezTo>
                <a:cubicBezTo>
                  <a:pt x="6875" y="4857"/>
                  <a:pt x="6824" y="4787"/>
                  <a:pt x="6796" y="4837"/>
                </a:cubicBezTo>
                <a:cubicBezTo>
                  <a:pt x="6796" y="4845"/>
                  <a:pt x="6796" y="4854"/>
                  <a:pt x="6796" y="4862"/>
                </a:cubicBezTo>
              </a:path>
              <a:path w="3325" h="1191">
                <a:moveTo>
                  <a:pt x="6325" y="5358"/>
                </a:moveTo>
                <a:cubicBezTo>
                  <a:pt x="6428" y="5358"/>
                  <a:pt x="6524" y="5374"/>
                  <a:pt x="6623" y="5383"/>
                </a:cubicBezTo>
                <a:cubicBezTo>
                  <a:pt x="6759" y="5395"/>
                  <a:pt x="6911" y="5382"/>
                  <a:pt x="7045" y="5407"/>
                </a:cubicBezTo>
                <a:cubicBezTo>
                  <a:pt x="7103" y="5418"/>
                  <a:pt x="7230" y="5374"/>
                  <a:pt x="7218" y="5432"/>
                </a:cubicBezTo>
                <a:cubicBezTo>
                  <a:pt x="7196" y="5454"/>
                  <a:pt x="7191" y="5463"/>
                  <a:pt x="7169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20880"/>
            <a:ext cx="4653000" cy="1073160"/>
          </a:xfrm>
          <a:custGeom>
            <a:avLst/>
            <a:gdLst/>
            <a:ahLst/>
            <a:rect l="l" t="t" r="r" b="b"/>
            <a:pathLst>
              <a:path w="12924" h="2978">
                <a:moveTo>
                  <a:pt x="3299" y="6474"/>
                </a:moveTo>
                <a:cubicBezTo>
                  <a:pt x="3335" y="6465"/>
                  <a:pt x="3365" y="6453"/>
                  <a:pt x="3398" y="6449"/>
                </a:cubicBezTo>
                <a:cubicBezTo>
                  <a:pt x="3479" y="6438"/>
                  <a:pt x="3567" y="6433"/>
                  <a:pt x="3646" y="6424"/>
                </a:cubicBezTo>
                <a:cubicBezTo>
                  <a:pt x="3752" y="6413"/>
                  <a:pt x="3865" y="6409"/>
                  <a:pt x="3969" y="6400"/>
                </a:cubicBezTo>
                <a:cubicBezTo>
                  <a:pt x="4116" y="6387"/>
                  <a:pt x="4268" y="6378"/>
                  <a:pt x="4415" y="6375"/>
                </a:cubicBezTo>
                <a:cubicBezTo>
                  <a:pt x="4591" y="6371"/>
                  <a:pt x="4762" y="6336"/>
                  <a:pt x="4936" y="6325"/>
                </a:cubicBezTo>
                <a:cubicBezTo>
                  <a:pt x="5134" y="6313"/>
                  <a:pt x="5334" y="6304"/>
                  <a:pt x="5531" y="6300"/>
                </a:cubicBezTo>
                <a:cubicBezTo>
                  <a:pt x="5715" y="6297"/>
                  <a:pt x="5892" y="6276"/>
                  <a:pt x="6077" y="6276"/>
                </a:cubicBezTo>
                <a:cubicBezTo>
                  <a:pt x="6206" y="6276"/>
                  <a:pt x="6326" y="6263"/>
                  <a:pt x="6449" y="6251"/>
                </a:cubicBezTo>
                <a:cubicBezTo>
                  <a:pt x="6548" y="6242"/>
                  <a:pt x="6598" y="6251"/>
                  <a:pt x="6697" y="6251"/>
                </a:cubicBezTo>
              </a:path>
              <a:path w="12924" h="2978">
                <a:moveTo>
                  <a:pt x="4440" y="7268"/>
                </a:moveTo>
                <a:cubicBezTo>
                  <a:pt x="4430" y="7238"/>
                  <a:pt x="4419" y="7226"/>
                  <a:pt x="4390" y="7193"/>
                </a:cubicBezTo>
                <a:cubicBezTo>
                  <a:pt x="4367" y="7167"/>
                  <a:pt x="4303" y="7131"/>
                  <a:pt x="4266" y="7144"/>
                </a:cubicBezTo>
                <a:cubicBezTo>
                  <a:pt x="4218" y="7160"/>
                  <a:pt x="4124" y="7221"/>
                  <a:pt x="4093" y="7268"/>
                </a:cubicBezTo>
                <a:cubicBezTo>
                  <a:pt x="4068" y="7306"/>
                  <a:pt x="4003" y="7395"/>
                  <a:pt x="4018" y="7441"/>
                </a:cubicBezTo>
                <a:cubicBezTo>
                  <a:pt x="4039" y="7502"/>
                  <a:pt x="4098" y="7551"/>
                  <a:pt x="4142" y="7590"/>
                </a:cubicBezTo>
                <a:cubicBezTo>
                  <a:pt x="4216" y="7656"/>
                  <a:pt x="4292" y="7701"/>
                  <a:pt x="4341" y="7789"/>
                </a:cubicBezTo>
                <a:cubicBezTo>
                  <a:pt x="4380" y="7858"/>
                  <a:pt x="4403" y="7874"/>
                  <a:pt x="4390" y="7938"/>
                </a:cubicBezTo>
                <a:cubicBezTo>
                  <a:pt x="4375" y="8011"/>
                  <a:pt x="4349" y="7970"/>
                  <a:pt x="4291" y="7987"/>
                </a:cubicBezTo>
                <a:cubicBezTo>
                  <a:pt x="4228" y="8006"/>
                  <a:pt x="4131" y="8022"/>
                  <a:pt x="4068" y="7987"/>
                </a:cubicBezTo>
                <a:cubicBezTo>
                  <a:pt x="4068" y="7962"/>
                  <a:pt x="4068" y="7954"/>
                  <a:pt x="4043" y="7962"/>
                </a:cubicBezTo>
              </a:path>
              <a:path w="12924" h="2978">
                <a:moveTo>
                  <a:pt x="4514" y="7689"/>
                </a:moveTo>
                <a:cubicBezTo>
                  <a:pt x="4628" y="7657"/>
                  <a:pt x="4666" y="7614"/>
                  <a:pt x="4762" y="7565"/>
                </a:cubicBezTo>
                <a:cubicBezTo>
                  <a:pt x="4884" y="7502"/>
                  <a:pt x="4888" y="7509"/>
                  <a:pt x="4961" y="7392"/>
                </a:cubicBezTo>
                <a:cubicBezTo>
                  <a:pt x="4984" y="7369"/>
                  <a:pt x="4992" y="7365"/>
                  <a:pt x="4986" y="7342"/>
                </a:cubicBezTo>
                <a:cubicBezTo>
                  <a:pt x="4929" y="7342"/>
                  <a:pt x="4914" y="7364"/>
                  <a:pt x="4862" y="7392"/>
                </a:cubicBezTo>
                <a:cubicBezTo>
                  <a:pt x="4791" y="7430"/>
                  <a:pt x="4753" y="7470"/>
                  <a:pt x="4713" y="7541"/>
                </a:cubicBezTo>
                <a:cubicBezTo>
                  <a:pt x="4675" y="7608"/>
                  <a:pt x="4623" y="7684"/>
                  <a:pt x="4638" y="7764"/>
                </a:cubicBezTo>
                <a:cubicBezTo>
                  <a:pt x="4650" y="7827"/>
                  <a:pt x="4686" y="7857"/>
                  <a:pt x="4738" y="7888"/>
                </a:cubicBezTo>
                <a:cubicBezTo>
                  <a:pt x="4818" y="7937"/>
                  <a:pt x="4852" y="7945"/>
                  <a:pt x="4936" y="7913"/>
                </a:cubicBezTo>
              </a:path>
              <a:path w="12924" h="2978">
                <a:moveTo>
                  <a:pt x="5482" y="7441"/>
                </a:moveTo>
                <a:cubicBezTo>
                  <a:pt x="5525" y="7420"/>
                  <a:pt x="5546" y="7417"/>
                  <a:pt x="5507" y="7392"/>
                </a:cubicBezTo>
                <a:cubicBezTo>
                  <a:pt x="5471" y="7401"/>
                  <a:pt x="5407" y="7409"/>
                  <a:pt x="5383" y="7441"/>
                </a:cubicBezTo>
                <a:cubicBezTo>
                  <a:pt x="5341" y="7496"/>
                  <a:pt x="5286" y="7578"/>
                  <a:pt x="5259" y="7640"/>
                </a:cubicBezTo>
                <a:cubicBezTo>
                  <a:pt x="5199" y="7779"/>
                  <a:pt x="5203" y="7807"/>
                  <a:pt x="5259" y="7962"/>
                </a:cubicBezTo>
                <a:cubicBezTo>
                  <a:pt x="5289" y="8044"/>
                  <a:pt x="5404" y="8056"/>
                  <a:pt x="5482" y="8037"/>
                </a:cubicBezTo>
                <a:cubicBezTo>
                  <a:pt x="5525" y="8015"/>
                  <a:pt x="5537" y="8011"/>
                  <a:pt x="5556" y="7987"/>
                </a:cubicBezTo>
              </a:path>
              <a:path w="12924" h="2978">
                <a:moveTo>
                  <a:pt x="5779" y="7094"/>
                </a:moveTo>
                <a:cubicBezTo>
                  <a:pt x="5885" y="7023"/>
                  <a:pt x="5884" y="6990"/>
                  <a:pt x="5953" y="6995"/>
                </a:cubicBezTo>
                <a:cubicBezTo>
                  <a:pt x="5969" y="7017"/>
                  <a:pt x="6011" y="7065"/>
                  <a:pt x="6003" y="7094"/>
                </a:cubicBezTo>
                <a:cubicBezTo>
                  <a:pt x="5985" y="7156"/>
                  <a:pt x="5922" y="7200"/>
                  <a:pt x="5879" y="7243"/>
                </a:cubicBezTo>
                <a:cubicBezTo>
                  <a:pt x="5850" y="7272"/>
                  <a:pt x="5838" y="7281"/>
                  <a:pt x="5829" y="7317"/>
                </a:cubicBezTo>
                <a:cubicBezTo>
                  <a:pt x="5897" y="7358"/>
                  <a:pt x="5946" y="7320"/>
                  <a:pt x="6028" y="7317"/>
                </a:cubicBezTo>
                <a:cubicBezTo>
                  <a:pt x="6053" y="7317"/>
                  <a:pt x="6077" y="7317"/>
                  <a:pt x="6102" y="7317"/>
                </a:cubicBezTo>
              </a:path>
              <a:path w="12924" h="2978">
                <a:moveTo>
                  <a:pt x="6697" y="7193"/>
                </a:moveTo>
                <a:cubicBezTo>
                  <a:pt x="6612" y="7310"/>
                  <a:pt x="6562" y="7412"/>
                  <a:pt x="6499" y="7541"/>
                </a:cubicBezTo>
                <a:cubicBezTo>
                  <a:pt x="6448" y="7647"/>
                  <a:pt x="6401" y="7741"/>
                  <a:pt x="6424" y="7863"/>
                </a:cubicBezTo>
                <a:cubicBezTo>
                  <a:pt x="6445" y="7974"/>
                  <a:pt x="6486" y="8021"/>
                  <a:pt x="6598" y="8037"/>
                </a:cubicBezTo>
                <a:cubicBezTo>
                  <a:pt x="6718" y="8054"/>
                  <a:pt x="6792" y="7988"/>
                  <a:pt x="6871" y="7913"/>
                </a:cubicBezTo>
                <a:cubicBezTo>
                  <a:pt x="6932" y="7856"/>
                  <a:pt x="7031" y="7722"/>
                  <a:pt x="7045" y="7640"/>
                </a:cubicBezTo>
                <a:cubicBezTo>
                  <a:pt x="7071" y="7488"/>
                  <a:pt x="7039" y="7393"/>
                  <a:pt x="6970" y="7268"/>
                </a:cubicBezTo>
                <a:cubicBezTo>
                  <a:pt x="6925" y="7186"/>
                  <a:pt x="6877" y="7160"/>
                  <a:pt x="6796" y="7119"/>
                </a:cubicBezTo>
                <a:cubicBezTo>
                  <a:pt x="6739" y="7090"/>
                  <a:pt x="6705" y="7080"/>
                  <a:pt x="6648" y="7119"/>
                </a:cubicBezTo>
                <a:cubicBezTo>
                  <a:pt x="6640" y="7127"/>
                  <a:pt x="6631" y="7136"/>
                  <a:pt x="6623" y="7144"/>
                </a:cubicBezTo>
              </a:path>
              <a:path w="12924" h="2978">
                <a:moveTo>
                  <a:pt x="6300" y="7689"/>
                </a:moveTo>
                <a:cubicBezTo>
                  <a:pt x="6420" y="7689"/>
                  <a:pt x="6529" y="7712"/>
                  <a:pt x="6648" y="7714"/>
                </a:cubicBezTo>
                <a:cubicBezTo>
                  <a:pt x="6858" y="7717"/>
                  <a:pt x="7060" y="7733"/>
                  <a:pt x="7268" y="7739"/>
                </a:cubicBezTo>
                <a:cubicBezTo>
                  <a:pt x="7371" y="7742"/>
                  <a:pt x="7461" y="7764"/>
                  <a:pt x="7565" y="7764"/>
                </a:cubicBezTo>
              </a:path>
              <a:path w="12924" h="2978">
                <a:moveTo>
                  <a:pt x="7938" y="5829"/>
                </a:moveTo>
                <a:cubicBezTo>
                  <a:pt x="7981" y="5796"/>
                  <a:pt x="8004" y="5804"/>
                  <a:pt x="8062" y="5804"/>
                </a:cubicBezTo>
                <a:cubicBezTo>
                  <a:pt x="8128" y="5804"/>
                  <a:pt x="8171" y="5783"/>
                  <a:pt x="8235" y="5779"/>
                </a:cubicBezTo>
                <a:cubicBezTo>
                  <a:pt x="8317" y="5774"/>
                  <a:pt x="8401" y="5779"/>
                  <a:pt x="8483" y="5779"/>
                </a:cubicBezTo>
              </a:path>
              <a:path w="12924" h="2978">
                <a:moveTo>
                  <a:pt x="7913" y="6152"/>
                </a:moveTo>
                <a:cubicBezTo>
                  <a:pt x="7992" y="6152"/>
                  <a:pt x="8061" y="6132"/>
                  <a:pt x="8136" y="6127"/>
                </a:cubicBezTo>
                <a:cubicBezTo>
                  <a:pt x="8255" y="6118"/>
                  <a:pt x="8369" y="6106"/>
                  <a:pt x="8483" y="6102"/>
                </a:cubicBezTo>
                <a:cubicBezTo>
                  <a:pt x="8556" y="6099"/>
                  <a:pt x="8610" y="6120"/>
                  <a:pt x="8682" y="6127"/>
                </a:cubicBezTo>
              </a:path>
              <a:path w="12924" h="2978">
                <a:moveTo>
                  <a:pt x="10096" y="5060"/>
                </a:moveTo>
                <a:cubicBezTo>
                  <a:pt x="10096" y="5367"/>
                  <a:pt x="10129" y="5715"/>
                  <a:pt x="10071" y="6003"/>
                </a:cubicBezTo>
                <a:cubicBezTo>
                  <a:pt x="10071" y="6044"/>
                  <a:pt x="10071" y="6052"/>
                  <a:pt x="10071" y="6077"/>
                </a:cubicBezTo>
              </a:path>
              <a:path w="12924" h="2978">
                <a:moveTo>
                  <a:pt x="9227" y="6176"/>
                </a:moveTo>
                <a:cubicBezTo>
                  <a:pt x="9309" y="6207"/>
                  <a:pt x="9311" y="6188"/>
                  <a:pt x="9376" y="6176"/>
                </a:cubicBezTo>
                <a:cubicBezTo>
                  <a:pt x="9809" y="6095"/>
                  <a:pt x="10404" y="6130"/>
                  <a:pt x="10840" y="6152"/>
                </a:cubicBezTo>
                <a:cubicBezTo>
                  <a:pt x="10955" y="6158"/>
                  <a:pt x="11069" y="6176"/>
                  <a:pt x="11187" y="6176"/>
                </a:cubicBezTo>
                <a:cubicBezTo>
                  <a:pt x="11261" y="6176"/>
                  <a:pt x="11336" y="6176"/>
                  <a:pt x="11410" y="6176"/>
                </a:cubicBezTo>
              </a:path>
              <a:path w="12924" h="2978">
                <a:moveTo>
                  <a:pt x="9624" y="6697"/>
                </a:moveTo>
                <a:cubicBezTo>
                  <a:pt x="9596" y="6669"/>
                  <a:pt x="9560" y="6635"/>
                  <a:pt x="9525" y="6623"/>
                </a:cubicBezTo>
                <a:cubicBezTo>
                  <a:pt x="9470" y="6605"/>
                  <a:pt x="9393" y="6624"/>
                  <a:pt x="9351" y="6648"/>
                </a:cubicBezTo>
                <a:cubicBezTo>
                  <a:pt x="9296" y="6679"/>
                  <a:pt x="9231" y="6727"/>
                  <a:pt x="9178" y="6772"/>
                </a:cubicBezTo>
                <a:cubicBezTo>
                  <a:pt x="9118" y="6822"/>
                  <a:pt x="9066" y="6903"/>
                  <a:pt x="9029" y="6970"/>
                </a:cubicBezTo>
                <a:cubicBezTo>
                  <a:pt x="8978" y="7062"/>
                  <a:pt x="8954" y="7139"/>
                  <a:pt x="8954" y="7243"/>
                </a:cubicBezTo>
                <a:cubicBezTo>
                  <a:pt x="8954" y="7320"/>
                  <a:pt x="8950" y="7380"/>
                  <a:pt x="9004" y="7441"/>
                </a:cubicBezTo>
                <a:cubicBezTo>
                  <a:pt x="9056" y="7500"/>
                  <a:pt x="9130" y="7537"/>
                  <a:pt x="9203" y="7565"/>
                </a:cubicBezTo>
                <a:cubicBezTo>
                  <a:pt x="9314" y="7608"/>
                  <a:pt x="9408" y="7615"/>
                  <a:pt x="9525" y="7615"/>
                </a:cubicBezTo>
              </a:path>
              <a:path w="12924" h="2978">
                <a:moveTo>
                  <a:pt x="10220" y="6945"/>
                </a:moveTo>
                <a:cubicBezTo>
                  <a:pt x="10152" y="6888"/>
                  <a:pt x="10155" y="6896"/>
                  <a:pt x="10071" y="6896"/>
                </a:cubicBezTo>
                <a:cubicBezTo>
                  <a:pt x="10038" y="6896"/>
                  <a:pt x="9975" y="6949"/>
                  <a:pt x="9947" y="6970"/>
                </a:cubicBezTo>
                <a:cubicBezTo>
                  <a:pt x="9894" y="7010"/>
                  <a:pt x="9853" y="7061"/>
                  <a:pt x="9823" y="7119"/>
                </a:cubicBezTo>
                <a:cubicBezTo>
                  <a:pt x="9790" y="7181"/>
                  <a:pt x="9751" y="7245"/>
                  <a:pt x="9748" y="7317"/>
                </a:cubicBezTo>
                <a:cubicBezTo>
                  <a:pt x="9745" y="7384"/>
                  <a:pt x="9740" y="7445"/>
                  <a:pt x="9798" y="7491"/>
                </a:cubicBezTo>
                <a:cubicBezTo>
                  <a:pt x="9862" y="7542"/>
                  <a:pt x="9941" y="7561"/>
                  <a:pt x="10021" y="7565"/>
                </a:cubicBezTo>
                <a:cubicBezTo>
                  <a:pt x="10070" y="7568"/>
                  <a:pt x="10133" y="7545"/>
                  <a:pt x="10170" y="7516"/>
                </a:cubicBezTo>
                <a:cubicBezTo>
                  <a:pt x="10200" y="7492"/>
                  <a:pt x="10248" y="7422"/>
                  <a:pt x="10244" y="7392"/>
                </a:cubicBezTo>
                <a:cubicBezTo>
                  <a:pt x="10239" y="7353"/>
                  <a:pt x="10217" y="7271"/>
                  <a:pt x="10195" y="7243"/>
                </a:cubicBezTo>
                <a:cubicBezTo>
                  <a:pt x="10167" y="7215"/>
                  <a:pt x="10158" y="7202"/>
                  <a:pt x="10170" y="7169"/>
                </a:cubicBezTo>
              </a:path>
              <a:path w="12924" h="2978">
                <a:moveTo>
                  <a:pt x="10567" y="6697"/>
                </a:moveTo>
                <a:cubicBezTo>
                  <a:pt x="10573" y="6761"/>
                  <a:pt x="10575" y="6832"/>
                  <a:pt x="10592" y="6896"/>
                </a:cubicBezTo>
                <a:cubicBezTo>
                  <a:pt x="10609" y="6960"/>
                  <a:pt x="10621" y="7033"/>
                  <a:pt x="10641" y="7094"/>
                </a:cubicBezTo>
                <a:cubicBezTo>
                  <a:pt x="10665" y="7166"/>
                  <a:pt x="10687" y="7241"/>
                  <a:pt x="10691" y="7317"/>
                </a:cubicBezTo>
                <a:cubicBezTo>
                  <a:pt x="10694" y="7367"/>
                  <a:pt x="10701" y="7466"/>
                  <a:pt x="10716" y="7516"/>
                </a:cubicBezTo>
                <a:cubicBezTo>
                  <a:pt x="10727" y="7553"/>
                  <a:pt x="10740" y="7546"/>
                  <a:pt x="10740" y="7590"/>
                </a:cubicBezTo>
              </a:path>
              <a:path w="12924" h="2978">
                <a:moveTo>
                  <a:pt x="10393" y="7094"/>
                </a:moveTo>
                <a:cubicBezTo>
                  <a:pt x="10481" y="7086"/>
                  <a:pt x="10550" y="7069"/>
                  <a:pt x="10641" y="7069"/>
                </a:cubicBezTo>
                <a:cubicBezTo>
                  <a:pt x="10732" y="7069"/>
                  <a:pt x="10823" y="7069"/>
                  <a:pt x="10914" y="7069"/>
                </a:cubicBezTo>
              </a:path>
              <a:path w="12924" h="2978">
                <a:moveTo>
                  <a:pt x="10740" y="6499"/>
                </a:moveTo>
                <a:cubicBezTo>
                  <a:pt x="10749" y="6471"/>
                  <a:pt x="10774" y="6452"/>
                  <a:pt x="10815" y="6449"/>
                </a:cubicBezTo>
                <a:cubicBezTo>
                  <a:pt x="10875" y="6445"/>
                  <a:pt x="10908" y="6468"/>
                  <a:pt x="10964" y="6474"/>
                </a:cubicBezTo>
                <a:cubicBezTo>
                  <a:pt x="11015" y="6479"/>
                  <a:pt x="11013" y="6503"/>
                  <a:pt x="11013" y="6548"/>
                </a:cubicBezTo>
                <a:cubicBezTo>
                  <a:pt x="11013" y="6583"/>
                  <a:pt x="10978" y="6638"/>
                  <a:pt x="10964" y="6672"/>
                </a:cubicBezTo>
                <a:cubicBezTo>
                  <a:pt x="10950" y="6707"/>
                  <a:pt x="10910" y="6769"/>
                  <a:pt x="10964" y="6796"/>
                </a:cubicBezTo>
                <a:cubicBezTo>
                  <a:pt x="11019" y="6823"/>
                  <a:pt x="11068" y="6821"/>
                  <a:pt x="11137" y="6821"/>
                </a:cubicBezTo>
                <a:cubicBezTo>
                  <a:pt x="11154" y="6821"/>
                  <a:pt x="11170" y="6821"/>
                  <a:pt x="11187" y="6821"/>
                </a:cubicBezTo>
              </a:path>
              <a:path w="12924" h="2978">
                <a:moveTo>
                  <a:pt x="12204" y="6672"/>
                </a:moveTo>
                <a:cubicBezTo>
                  <a:pt x="12197" y="6646"/>
                  <a:pt x="12182" y="6587"/>
                  <a:pt x="12154" y="6573"/>
                </a:cubicBezTo>
                <a:cubicBezTo>
                  <a:pt x="12132" y="6562"/>
                  <a:pt x="12078" y="6529"/>
                  <a:pt x="12055" y="6524"/>
                </a:cubicBezTo>
                <a:cubicBezTo>
                  <a:pt x="12002" y="6513"/>
                  <a:pt x="11926" y="6520"/>
                  <a:pt x="11881" y="6548"/>
                </a:cubicBezTo>
                <a:cubicBezTo>
                  <a:pt x="11826" y="6582"/>
                  <a:pt x="11786" y="6635"/>
                  <a:pt x="11733" y="6672"/>
                </a:cubicBezTo>
                <a:cubicBezTo>
                  <a:pt x="11638" y="6739"/>
                  <a:pt x="11615" y="6843"/>
                  <a:pt x="11559" y="6945"/>
                </a:cubicBezTo>
                <a:cubicBezTo>
                  <a:pt x="11516" y="7022"/>
                  <a:pt x="11484" y="7098"/>
                  <a:pt x="11509" y="7193"/>
                </a:cubicBezTo>
                <a:cubicBezTo>
                  <a:pt x="11522" y="7244"/>
                  <a:pt x="11563" y="7312"/>
                  <a:pt x="11609" y="7342"/>
                </a:cubicBezTo>
                <a:cubicBezTo>
                  <a:pt x="11686" y="7392"/>
                  <a:pt x="11732" y="7355"/>
                  <a:pt x="11807" y="7342"/>
                </a:cubicBezTo>
                <a:cubicBezTo>
                  <a:pt x="11898" y="7327"/>
                  <a:pt x="11924" y="7312"/>
                  <a:pt x="11981" y="7243"/>
                </a:cubicBezTo>
                <a:cubicBezTo>
                  <a:pt x="12018" y="7198"/>
                  <a:pt x="12067" y="7127"/>
                  <a:pt x="12080" y="7069"/>
                </a:cubicBezTo>
                <a:cubicBezTo>
                  <a:pt x="12092" y="7017"/>
                  <a:pt x="12075" y="6915"/>
                  <a:pt x="12055" y="6871"/>
                </a:cubicBezTo>
                <a:cubicBezTo>
                  <a:pt x="12040" y="6839"/>
                  <a:pt x="12024" y="6745"/>
                  <a:pt x="12005" y="6722"/>
                </a:cubicBezTo>
                <a:cubicBezTo>
                  <a:pt x="11990" y="6704"/>
                  <a:pt x="11979" y="6687"/>
                  <a:pt x="11956" y="6672"/>
                </a:cubicBezTo>
              </a:path>
              <a:path w="12924" h="2978">
                <a:moveTo>
                  <a:pt x="11534" y="7094"/>
                </a:moveTo>
                <a:cubicBezTo>
                  <a:pt x="11688" y="7094"/>
                  <a:pt x="11830" y="7084"/>
                  <a:pt x="11981" y="7069"/>
                </a:cubicBezTo>
                <a:cubicBezTo>
                  <a:pt x="12130" y="7054"/>
                  <a:pt x="12286" y="7072"/>
                  <a:pt x="12427" y="7094"/>
                </a:cubicBezTo>
                <a:cubicBezTo>
                  <a:pt x="12493" y="7104"/>
                  <a:pt x="12533" y="7100"/>
                  <a:pt x="12601" y="7119"/>
                </a:cubicBezTo>
              </a:path>
              <a:path w="12924" h="2978">
                <a:moveTo>
                  <a:pt x="12576" y="5978"/>
                </a:moveTo>
                <a:cubicBezTo>
                  <a:pt x="12745" y="5978"/>
                  <a:pt x="12967" y="5936"/>
                  <a:pt x="13122" y="5953"/>
                </a:cubicBezTo>
                <a:cubicBezTo>
                  <a:pt x="13179" y="5959"/>
                  <a:pt x="13230" y="5993"/>
                  <a:pt x="13295" y="5978"/>
                </a:cubicBezTo>
                <a:cubicBezTo>
                  <a:pt x="13353" y="5959"/>
                  <a:pt x="13360" y="5950"/>
                  <a:pt x="13395" y="5953"/>
                </a:cubicBezTo>
              </a:path>
              <a:path w="12924" h="2978">
                <a:moveTo>
                  <a:pt x="12948" y="5556"/>
                </a:moveTo>
                <a:cubicBezTo>
                  <a:pt x="12973" y="5556"/>
                  <a:pt x="12981" y="5556"/>
                  <a:pt x="12998" y="5556"/>
                </a:cubicBezTo>
              </a:path>
              <a:path w="12924" h="2978">
                <a:moveTo>
                  <a:pt x="12998" y="6251"/>
                </a:moveTo>
                <a:cubicBezTo>
                  <a:pt x="12932" y="6251"/>
                  <a:pt x="13013" y="6251"/>
                  <a:pt x="13022" y="6251"/>
                </a:cubicBezTo>
              </a:path>
              <a:path w="12924" h="2978">
                <a:moveTo>
                  <a:pt x="14337" y="5234"/>
                </a:moveTo>
                <a:cubicBezTo>
                  <a:pt x="14307" y="5284"/>
                  <a:pt x="14312" y="5321"/>
                  <a:pt x="14312" y="5383"/>
                </a:cubicBezTo>
                <a:cubicBezTo>
                  <a:pt x="14312" y="5473"/>
                  <a:pt x="14300" y="5544"/>
                  <a:pt x="14288" y="5631"/>
                </a:cubicBezTo>
                <a:cubicBezTo>
                  <a:pt x="14278" y="5704"/>
                  <a:pt x="14308" y="5759"/>
                  <a:pt x="14312" y="5829"/>
                </a:cubicBezTo>
                <a:cubicBezTo>
                  <a:pt x="14316" y="5899"/>
                  <a:pt x="14329" y="5997"/>
                  <a:pt x="14288" y="6052"/>
                </a:cubicBezTo>
              </a:path>
              <a:path w="12924" h="2978">
                <a:moveTo>
                  <a:pt x="13717" y="6028"/>
                </a:moveTo>
                <a:cubicBezTo>
                  <a:pt x="13769" y="6053"/>
                  <a:pt x="13801" y="6052"/>
                  <a:pt x="13866" y="6052"/>
                </a:cubicBezTo>
                <a:cubicBezTo>
                  <a:pt x="14092" y="6052"/>
                  <a:pt x="14313" y="6046"/>
                  <a:pt x="14536" y="6028"/>
                </a:cubicBezTo>
                <a:cubicBezTo>
                  <a:pt x="14928" y="5996"/>
                  <a:pt x="15332" y="6028"/>
                  <a:pt x="15726" y="6028"/>
                </a:cubicBezTo>
              </a:path>
              <a:path w="12924" h="2978">
                <a:moveTo>
                  <a:pt x="13791" y="6375"/>
                </a:moveTo>
                <a:cubicBezTo>
                  <a:pt x="13749" y="6386"/>
                  <a:pt x="13702" y="6396"/>
                  <a:pt x="13667" y="6424"/>
                </a:cubicBezTo>
                <a:cubicBezTo>
                  <a:pt x="13622" y="6460"/>
                  <a:pt x="13561" y="6518"/>
                  <a:pt x="13543" y="6573"/>
                </a:cubicBezTo>
                <a:cubicBezTo>
                  <a:pt x="13515" y="6655"/>
                  <a:pt x="13494" y="6709"/>
                  <a:pt x="13494" y="6796"/>
                </a:cubicBezTo>
                <a:cubicBezTo>
                  <a:pt x="13494" y="6871"/>
                  <a:pt x="13497" y="6909"/>
                  <a:pt x="13543" y="6970"/>
                </a:cubicBezTo>
                <a:cubicBezTo>
                  <a:pt x="13598" y="7044"/>
                  <a:pt x="13642" y="7044"/>
                  <a:pt x="13717" y="7069"/>
                </a:cubicBezTo>
                <a:cubicBezTo>
                  <a:pt x="13788" y="7092"/>
                  <a:pt x="13838" y="7094"/>
                  <a:pt x="13915" y="7094"/>
                </a:cubicBezTo>
                <a:cubicBezTo>
                  <a:pt x="13981" y="7094"/>
                  <a:pt x="14012" y="7062"/>
                  <a:pt x="14064" y="7045"/>
                </a:cubicBezTo>
                <a:cubicBezTo>
                  <a:pt x="14089" y="7045"/>
                  <a:pt x="14097" y="7045"/>
                  <a:pt x="14089" y="7020"/>
                </a:cubicBezTo>
              </a:path>
              <a:path w="12924" h="2978">
                <a:moveTo>
                  <a:pt x="14288" y="6598"/>
                </a:moveTo>
                <a:cubicBezTo>
                  <a:pt x="14256" y="6555"/>
                  <a:pt x="14269" y="6548"/>
                  <a:pt x="14213" y="6548"/>
                </a:cubicBezTo>
                <a:cubicBezTo>
                  <a:pt x="14170" y="6548"/>
                  <a:pt x="14143" y="6593"/>
                  <a:pt x="14114" y="6623"/>
                </a:cubicBezTo>
                <a:cubicBezTo>
                  <a:pt x="14065" y="6673"/>
                  <a:pt x="14044" y="6729"/>
                  <a:pt x="14039" y="6796"/>
                </a:cubicBezTo>
                <a:cubicBezTo>
                  <a:pt x="14035" y="6847"/>
                  <a:pt x="14030" y="6885"/>
                  <a:pt x="14064" y="6921"/>
                </a:cubicBezTo>
                <a:cubicBezTo>
                  <a:pt x="14111" y="6971"/>
                  <a:pt x="14148" y="6991"/>
                  <a:pt x="14213" y="6995"/>
                </a:cubicBezTo>
                <a:cubicBezTo>
                  <a:pt x="14270" y="6998"/>
                  <a:pt x="14320" y="7007"/>
                  <a:pt x="14362" y="6970"/>
                </a:cubicBezTo>
                <a:cubicBezTo>
                  <a:pt x="14399" y="6937"/>
                  <a:pt x="14408" y="6893"/>
                  <a:pt x="14412" y="6846"/>
                </a:cubicBezTo>
                <a:cubicBezTo>
                  <a:pt x="14416" y="6797"/>
                  <a:pt x="14419" y="6758"/>
                  <a:pt x="14387" y="6722"/>
                </a:cubicBezTo>
                <a:cubicBezTo>
                  <a:pt x="14379" y="6714"/>
                  <a:pt x="14370" y="6705"/>
                  <a:pt x="14362" y="6697"/>
                </a:cubicBezTo>
              </a:path>
              <a:path w="12924" h="2978">
                <a:moveTo>
                  <a:pt x="14660" y="6573"/>
                </a:moveTo>
                <a:cubicBezTo>
                  <a:pt x="14542" y="6573"/>
                  <a:pt x="14595" y="6586"/>
                  <a:pt x="14511" y="6623"/>
                </a:cubicBezTo>
                <a:cubicBezTo>
                  <a:pt x="14487" y="6634"/>
                  <a:pt x="14460" y="6672"/>
                  <a:pt x="14511" y="6697"/>
                </a:cubicBezTo>
                <a:cubicBezTo>
                  <a:pt x="14548" y="6716"/>
                  <a:pt x="14599" y="6729"/>
                  <a:pt x="14635" y="6747"/>
                </a:cubicBezTo>
                <a:cubicBezTo>
                  <a:pt x="14696" y="6777"/>
                  <a:pt x="14759" y="6822"/>
                  <a:pt x="14808" y="6871"/>
                </a:cubicBezTo>
                <a:cubicBezTo>
                  <a:pt x="14846" y="6909"/>
                  <a:pt x="14858" y="6917"/>
                  <a:pt x="14858" y="6970"/>
                </a:cubicBezTo>
                <a:cubicBezTo>
                  <a:pt x="14858" y="6990"/>
                  <a:pt x="14832" y="7062"/>
                  <a:pt x="14808" y="7069"/>
                </a:cubicBezTo>
                <a:cubicBezTo>
                  <a:pt x="14765" y="7082"/>
                  <a:pt x="14633" y="7082"/>
                  <a:pt x="14610" y="7045"/>
                </a:cubicBezTo>
                <a:cubicBezTo>
                  <a:pt x="14592" y="7017"/>
                  <a:pt x="14585" y="6982"/>
                  <a:pt x="14585" y="6945"/>
                </a:cubicBezTo>
                <a:cubicBezTo>
                  <a:pt x="14585" y="6920"/>
                  <a:pt x="14585" y="6896"/>
                  <a:pt x="14585" y="6871"/>
                </a:cubicBezTo>
              </a:path>
              <a:path w="12924" h="2978">
                <a:moveTo>
                  <a:pt x="14858" y="6300"/>
                </a:moveTo>
                <a:cubicBezTo>
                  <a:pt x="14866" y="6300"/>
                  <a:pt x="14875" y="6300"/>
                  <a:pt x="14883" y="6300"/>
                </a:cubicBezTo>
                <a:cubicBezTo>
                  <a:pt x="14883" y="6357"/>
                  <a:pt x="14873" y="6378"/>
                  <a:pt x="14858" y="6424"/>
                </a:cubicBezTo>
                <a:cubicBezTo>
                  <a:pt x="14844" y="6467"/>
                  <a:pt x="14864" y="6458"/>
                  <a:pt x="14833" y="6499"/>
                </a:cubicBezTo>
                <a:cubicBezTo>
                  <a:pt x="14879" y="6560"/>
                  <a:pt x="14831" y="6537"/>
                  <a:pt x="14932" y="6548"/>
                </a:cubicBezTo>
              </a:path>
              <a:path w="12924" h="2978">
                <a:moveTo>
                  <a:pt x="15627" y="6449"/>
                </a:moveTo>
                <a:cubicBezTo>
                  <a:pt x="15627" y="6382"/>
                  <a:pt x="15618" y="6357"/>
                  <a:pt x="15602" y="6325"/>
                </a:cubicBezTo>
                <a:cubicBezTo>
                  <a:pt x="15602" y="6297"/>
                  <a:pt x="15600" y="6286"/>
                  <a:pt x="15577" y="6276"/>
                </a:cubicBezTo>
                <a:cubicBezTo>
                  <a:pt x="15534" y="6308"/>
                  <a:pt x="15501" y="6292"/>
                  <a:pt x="15453" y="6325"/>
                </a:cubicBezTo>
                <a:cubicBezTo>
                  <a:pt x="15404" y="6358"/>
                  <a:pt x="15380" y="6448"/>
                  <a:pt x="15354" y="6499"/>
                </a:cubicBezTo>
                <a:cubicBezTo>
                  <a:pt x="15306" y="6593"/>
                  <a:pt x="15260" y="6641"/>
                  <a:pt x="15255" y="6747"/>
                </a:cubicBezTo>
                <a:cubicBezTo>
                  <a:pt x="15250" y="6854"/>
                  <a:pt x="15264" y="6925"/>
                  <a:pt x="15354" y="6995"/>
                </a:cubicBezTo>
                <a:cubicBezTo>
                  <a:pt x="15400" y="7031"/>
                  <a:pt x="15497" y="7042"/>
                  <a:pt x="15553" y="7045"/>
                </a:cubicBezTo>
                <a:cubicBezTo>
                  <a:pt x="15617" y="7049"/>
                  <a:pt x="15694" y="7021"/>
                  <a:pt x="15751" y="6995"/>
                </a:cubicBezTo>
                <a:cubicBezTo>
                  <a:pt x="15798" y="6974"/>
                  <a:pt x="15861" y="6922"/>
                  <a:pt x="15875" y="6871"/>
                </a:cubicBezTo>
                <a:cubicBezTo>
                  <a:pt x="15890" y="6815"/>
                  <a:pt x="15867" y="6722"/>
                  <a:pt x="15850" y="6672"/>
                </a:cubicBezTo>
                <a:cubicBezTo>
                  <a:pt x="15822" y="6590"/>
                  <a:pt x="15758" y="6571"/>
                  <a:pt x="15701" y="6524"/>
                </a:cubicBezTo>
                <a:cubicBezTo>
                  <a:pt x="15653" y="6485"/>
                  <a:pt x="15620" y="6467"/>
                  <a:pt x="15577" y="6424"/>
                </a:cubicBezTo>
              </a:path>
              <a:path w="12924" h="2978">
                <a:moveTo>
                  <a:pt x="15205" y="6796"/>
                </a:moveTo>
                <a:cubicBezTo>
                  <a:pt x="15319" y="6796"/>
                  <a:pt x="15416" y="6783"/>
                  <a:pt x="15528" y="6772"/>
                </a:cubicBezTo>
                <a:cubicBezTo>
                  <a:pt x="15651" y="6760"/>
                  <a:pt x="15778" y="6757"/>
                  <a:pt x="15900" y="6747"/>
                </a:cubicBezTo>
                <a:cubicBezTo>
                  <a:pt x="16011" y="6738"/>
                  <a:pt x="16117" y="6745"/>
                  <a:pt x="16222" y="67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95880" y="2867040"/>
            <a:ext cx="2840040" cy="507960"/>
          </a:xfrm>
          <a:custGeom>
            <a:avLst/>
            <a:gdLst/>
            <a:ahLst/>
            <a:rect l="l" t="t" r="r" b="b"/>
            <a:pathLst>
              <a:path w="7889" h="1415">
                <a:moveTo>
                  <a:pt x="12452" y="8409"/>
                </a:moveTo>
                <a:cubicBezTo>
                  <a:pt x="12426" y="8347"/>
                  <a:pt x="12439" y="8334"/>
                  <a:pt x="12378" y="8334"/>
                </a:cubicBezTo>
                <a:cubicBezTo>
                  <a:pt x="12314" y="8334"/>
                  <a:pt x="12177" y="8310"/>
                  <a:pt x="12129" y="8359"/>
                </a:cubicBezTo>
                <a:cubicBezTo>
                  <a:pt x="12090" y="8399"/>
                  <a:pt x="12054" y="8445"/>
                  <a:pt x="12005" y="8483"/>
                </a:cubicBezTo>
                <a:cubicBezTo>
                  <a:pt x="11965" y="8514"/>
                  <a:pt x="11982" y="8579"/>
                  <a:pt x="11956" y="8632"/>
                </a:cubicBezTo>
                <a:cubicBezTo>
                  <a:pt x="11926" y="8692"/>
                  <a:pt x="11929" y="8735"/>
                  <a:pt x="11956" y="8806"/>
                </a:cubicBezTo>
                <a:cubicBezTo>
                  <a:pt x="11975" y="8857"/>
                  <a:pt x="12019" y="8915"/>
                  <a:pt x="12055" y="8954"/>
                </a:cubicBezTo>
                <a:cubicBezTo>
                  <a:pt x="12109" y="9012"/>
                  <a:pt x="12179" y="9071"/>
                  <a:pt x="12254" y="9079"/>
                </a:cubicBezTo>
                <a:cubicBezTo>
                  <a:pt x="12308" y="9085"/>
                  <a:pt x="12379" y="9110"/>
                  <a:pt x="12427" y="9103"/>
                </a:cubicBezTo>
                <a:cubicBezTo>
                  <a:pt x="12460" y="9095"/>
                  <a:pt x="12493" y="9087"/>
                  <a:pt x="12526" y="9079"/>
                </a:cubicBezTo>
              </a:path>
              <a:path w="7889" h="1415">
                <a:moveTo>
                  <a:pt x="12948" y="8558"/>
                </a:moveTo>
                <a:cubicBezTo>
                  <a:pt x="12883" y="8475"/>
                  <a:pt x="12909" y="8483"/>
                  <a:pt x="12824" y="8483"/>
                </a:cubicBezTo>
                <a:cubicBezTo>
                  <a:pt x="12794" y="8483"/>
                  <a:pt x="12706" y="8547"/>
                  <a:pt x="12700" y="8558"/>
                </a:cubicBezTo>
                <a:cubicBezTo>
                  <a:pt x="12667" y="8614"/>
                  <a:pt x="12613" y="8673"/>
                  <a:pt x="12601" y="8731"/>
                </a:cubicBezTo>
                <a:cubicBezTo>
                  <a:pt x="12588" y="8796"/>
                  <a:pt x="12606" y="8886"/>
                  <a:pt x="12650" y="8930"/>
                </a:cubicBezTo>
                <a:cubicBezTo>
                  <a:pt x="12698" y="8978"/>
                  <a:pt x="12782" y="8998"/>
                  <a:pt x="12849" y="9004"/>
                </a:cubicBezTo>
                <a:cubicBezTo>
                  <a:pt x="12956" y="9013"/>
                  <a:pt x="12977" y="8996"/>
                  <a:pt x="13047" y="8954"/>
                </a:cubicBezTo>
                <a:cubicBezTo>
                  <a:pt x="13090" y="8928"/>
                  <a:pt x="13117" y="8923"/>
                  <a:pt x="13122" y="8855"/>
                </a:cubicBezTo>
                <a:cubicBezTo>
                  <a:pt x="13126" y="8800"/>
                  <a:pt x="13096" y="8750"/>
                  <a:pt x="13072" y="8706"/>
                </a:cubicBezTo>
                <a:cubicBezTo>
                  <a:pt x="13052" y="8666"/>
                  <a:pt x="13053" y="8650"/>
                  <a:pt x="13022" y="8657"/>
                </a:cubicBezTo>
              </a:path>
              <a:path w="7889" h="1415">
                <a:moveTo>
                  <a:pt x="13444" y="8558"/>
                </a:moveTo>
                <a:cubicBezTo>
                  <a:pt x="13378" y="8558"/>
                  <a:pt x="13312" y="8558"/>
                  <a:pt x="13246" y="8558"/>
                </a:cubicBezTo>
                <a:cubicBezTo>
                  <a:pt x="13246" y="8681"/>
                  <a:pt x="13261" y="8585"/>
                  <a:pt x="13345" y="8657"/>
                </a:cubicBezTo>
                <a:cubicBezTo>
                  <a:pt x="13384" y="8691"/>
                  <a:pt x="13402" y="8745"/>
                  <a:pt x="13444" y="8781"/>
                </a:cubicBezTo>
                <a:cubicBezTo>
                  <a:pt x="13500" y="8829"/>
                  <a:pt x="13520" y="8850"/>
                  <a:pt x="13543" y="8930"/>
                </a:cubicBezTo>
                <a:cubicBezTo>
                  <a:pt x="13564" y="9006"/>
                  <a:pt x="13523" y="8986"/>
                  <a:pt x="13494" y="9029"/>
                </a:cubicBezTo>
                <a:cubicBezTo>
                  <a:pt x="13453" y="9089"/>
                  <a:pt x="13463" y="9079"/>
                  <a:pt x="13395" y="9079"/>
                </a:cubicBezTo>
                <a:cubicBezTo>
                  <a:pt x="13322" y="9079"/>
                  <a:pt x="13351" y="9036"/>
                  <a:pt x="13295" y="9004"/>
                </a:cubicBezTo>
                <a:cubicBezTo>
                  <a:pt x="13287" y="9004"/>
                  <a:pt x="13279" y="9004"/>
                  <a:pt x="13271" y="9004"/>
                </a:cubicBezTo>
              </a:path>
              <a:path w="7889" h="1415">
                <a:moveTo>
                  <a:pt x="13444" y="8210"/>
                </a:moveTo>
                <a:cubicBezTo>
                  <a:pt x="13435" y="8166"/>
                  <a:pt x="13409" y="8091"/>
                  <a:pt x="13469" y="8062"/>
                </a:cubicBezTo>
                <a:cubicBezTo>
                  <a:pt x="13500" y="8047"/>
                  <a:pt x="13559" y="8040"/>
                  <a:pt x="13593" y="8037"/>
                </a:cubicBezTo>
                <a:cubicBezTo>
                  <a:pt x="13645" y="8033"/>
                  <a:pt x="13676" y="8050"/>
                  <a:pt x="13717" y="8062"/>
                </a:cubicBezTo>
                <a:cubicBezTo>
                  <a:pt x="13785" y="8083"/>
                  <a:pt x="13767" y="8110"/>
                  <a:pt x="13767" y="8186"/>
                </a:cubicBezTo>
                <a:cubicBezTo>
                  <a:pt x="13767" y="8244"/>
                  <a:pt x="13736" y="8263"/>
                  <a:pt x="13717" y="8310"/>
                </a:cubicBezTo>
                <a:cubicBezTo>
                  <a:pt x="13699" y="8353"/>
                  <a:pt x="13726" y="8395"/>
                  <a:pt x="13742" y="8409"/>
                </a:cubicBezTo>
                <a:cubicBezTo>
                  <a:pt x="13776" y="8439"/>
                  <a:pt x="13781" y="8466"/>
                  <a:pt x="13816" y="8483"/>
                </a:cubicBezTo>
              </a:path>
              <a:path w="7889" h="1415">
                <a:moveTo>
                  <a:pt x="14684" y="8558"/>
                </a:moveTo>
                <a:cubicBezTo>
                  <a:pt x="14679" y="8514"/>
                  <a:pt x="14680" y="8437"/>
                  <a:pt x="14635" y="8409"/>
                </a:cubicBezTo>
                <a:cubicBezTo>
                  <a:pt x="14596" y="8385"/>
                  <a:pt x="14592" y="8359"/>
                  <a:pt x="14536" y="8359"/>
                </a:cubicBezTo>
                <a:cubicBezTo>
                  <a:pt x="14508" y="8359"/>
                  <a:pt x="14394" y="8392"/>
                  <a:pt x="14362" y="8409"/>
                </a:cubicBezTo>
                <a:cubicBezTo>
                  <a:pt x="14240" y="8474"/>
                  <a:pt x="14216" y="8530"/>
                  <a:pt x="14139" y="8632"/>
                </a:cubicBezTo>
                <a:cubicBezTo>
                  <a:pt x="14074" y="8719"/>
                  <a:pt x="14077" y="8752"/>
                  <a:pt x="14089" y="8855"/>
                </a:cubicBezTo>
                <a:cubicBezTo>
                  <a:pt x="14096" y="8915"/>
                  <a:pt x="14137" y="8968"/>
                  <a:pt x="14188" y="9004"/>
                </a:cubicBezTo>
                <a:cubicBezTo>
                  <a:pt x="14278" y="9068"/>
                  <a:pt x="14365" y="9059"/>
                  <a:pt x="14461" y="9079"/>
                </a:cubicBezTo>
                <a:cubicBezTo>
                  <a:pt x="14497" y="9087"/>
                  <a:pt x="14646" y="9108"/>
                  <a:pt x="14684" y="9079"/>
                </a:cubicBezTo>
                <a:cubicBezTo>
                  <a:pt x="14722" y="9050"/>
                  <a:pt x="14781" y="8983"/>
                  <a:pt x="14784" y="8930"/>
                </a:cubicBezTo>
                <a:cubicBezTo>
                  <a:pt x="14788" y="8847"/>
                  <a:pt x="14801" y="8729"/>
                  <a:pt x="14759" y="8657"/>
                </a:cubicBezTo>
                <a:cubicBezTo>
                  <a:pt x="14733" y="8612"/>
                  <a:pt x="14710" y="8511"/>
                  <a:pt x="14660" y="8483"/>
                </a:cubicBezTo>
                <a:cubicBezTo>
                  <a:pt x="14652" y="8483"/>
                  <a:pt x="14643" y="8483"/>
                  <a:pt x="14635" y="8483"/>
                </a:cubicBezTo>
              </a:path>
              <a:path w="7889" h="1415">
                <a:moveTo>
                  <a:pt x="14039" y="8806"/>
                </a:moveTo>
                <a:cubicBezTo>
                  <a:pt x="14031" y="8798"/>
                  <a:pt x="14023" y="8789"/>
                  <a:pt x="14015" y="8781"/>
                </a:cubicBezTo>
                <a:cubicBezTo>
                  <a:pt x="14251" y="8781"/>
                  <a:pt x="14509" y="8744"/>
                  <a:pt x="14734" y="8806"/>
                </a:cubicBezTo>
              </a:path>
              <a:path w="7889" h="1415">
                <a:moveTo>
                  <a:pt x="15751" y="8855"/>
                </a:moveTo>
                <a:cubicBezTo>
                  <a:pt x="15916" y="8855"/>
                  <a:pt x="16082" y="8855"/>
                  <a:pt x="16247" y="8855"/>
                </a:cubicBezTo>
              </a:path>
              <a:path w="7889" h="1415">
                <a:moveTo>
                  <a:pt x="15726" y="9227"/>
                </a:moveTo>
                <a:cubicBezTo>
                  <a:pt x="15931" y="9227"/>
                  <a:pt x="16128" y="9245"/>
                  <a:pt x="16321" y="9178"/>
                </a:cubicBezTo>
              </a:path>
              <a:path w="7889" h="1415">
                <a:moveTo>
                  <a:pt x="17314" y="8260"/>
                </a:moveTo>
                <a:cubicBezTo>
                  <a:pt x="17302" y="8210"/>
                  <a:pt x="17290" y="8210"/>
                  <a:pt x="17239" y="8210"/>
                </a:cubicBezTo>
                <a:cubicBezTo>
                  <a:pt x="17188" y="8210"/>
                  <a:pt x="17153" y="8201"/>
                  <a:pt x="17115" y="8235"/>
                </a:cubicBezTo>
                <a:cubicBezTo>
                  <a:pt x="17056" y="8288"/>
                  <a:pt x="17007" y="8344"/>
                  <a:pt x="16966" y="8409"/>
                </a:cubicBezTo>
                <a:cubicBezTo>
                  <a:pt x="16900" y="8513"/>
                  <a:pt x="16903" y="8592"/>
                  <a:pt x="16917" y="8706"/>
                </a:cubicBezTo>
                <a:cubicBezTo>
                  <a:pt x="16924" y="8764"/>
                  <a:pt x="16952" y="8836"/>
                  <a:pt x="16991" y="8880"/>
                </a:cubicBezTo>
                <a:cubicBezTo>
                  <a:pt x="17045" y="8942"/>
                  <a:pt x="17123" y="8985"/>
                  <a:pt x="17190" y="9029"/>
                </a:cubicBezTo>
                <a:cubicBezTo>
                  <a:pt x="17281" y="9089"/>
                  <a:pt x="17331" y="9079"/>
                  <a:pt x="17438" y="9079"/>
                </a:cubicBezTo>
                <a:cubicBezTo>
                  <a:pt x="17504" y="9079"/>
                  <a:pt x="17521" y="9079"/>
                  <a:pt x="17562" y="9079"/>
                </a:cubicBezTo>
              </a:path>
              <a:path w="7889" h="1415">
                <a:moveTo>
                  <a:pt x="17859" y="8806"/>
                </a:moveTo>
                <a:cubicBezTo>
                  <a:pt x="17880" y="8734"/>
                  <a:pt x="17929" y="8638"/>
                  <a:pt x="17909" y="8558"/>
                </a:cubicBezTo>
                <a:cubicBezTo>
                  <a:pt x="17894" y="8497"/>
                  <a:pt x="17870" y="8477"/>
                  <a:pt x="17835" y="8434"/>
                </a:cubicBezTo>
                <a:cubicBezTo>
                  <a:pt x="17800" y="8391"/>
                  <a:pt x="17737" y="8409"/>
                  <a:pt x="17686" y="8409"/>
                </a:cubicBezTo>
                <a:cubicBezTo>
                  <a:pt x="17657" y="8409"/>
                  <a:pt x="17568" y="8473"/>
                  <a:pt x="17562" y="8483"/>
                </a:cubicBezTo>
                <a:cubicBezTo>
                  <a:pt x="17534" y="8530"/>
                  <a:pt x="17483" y="8651"/>
                  <a:pt x="17487" y="8706"/>
                </a:cubicBezTo>
                <a:cubicBezTo>
                  <a:pt x="17492" y="8775"/>
                  <a:pt x="17558" y="8900"/>
                  <a:pt x="17611" y="8930"/>
                </a:cubicBezTo>
                <a:cubicBezTo>
                  <a:pt x="17650" y="8952"/>
                  <a:pt x="17737" y="8954"/>
                  <a:pt x="17785" y="8954"/>
                </a:cubicBezTo>
                <a:cubicBezTo>
                  <a:pt x="17854" y="8954"/>
                  <a:pt x="17953" y="8927"/>
                  <a:pt x="17983" y="8855"/>
                </a:cubicBezTo>
                <a:cubicBezTo>
                  <a:pt x="18001" y="8812"/>
                  <a:pt x="17978" y="8694"/>
                  <a:pt x="17959" y="8657"/>
                </a:cubicBezTo>
                <a:cubicBezTo>
                  <a:pt x="17942" y="8623"/>
                  <a:pt x="17910" y="8620"/>
                  <a:pt x="17884" y="8582"/>
                </a:cubicBezTo>
              </a:path>
              <a:path w="7889" h="1415">
                <a:moveTo>
                  <a:pt x="18256" y="8409"/>
                </a:moveTo>
                <a:cubicBezTo>
                  <a:pt x="18186" y="8409"/>
                  <a:pt x="18143" y="8415"/>
                  <a:pt x="18107" y="8434"/>
                </a:cubicBezTo>
                <a:cubicBezTo>
                  <a:pt x="18060" y="8458"/>
                  <a:pt x="18093" y="8477"/>
                  <a:pt x="18107" y="8508"/>
                </a:cubicBezTo>
                <a:cubicBezTo>
                  <a:pt x="18119" y="8534"/>
                  <a:pt x="18220" y="8617"/>
                  <a:pt x="18256" y="8632"/>
                </a:cubicBezTo>
                <a:cubicBezTo>
                  <a:pt x="18324" y="8660"/>
                  <a:pt x="18379" y="8667"/>
                  <a:pt x="18430" y="8731"/>
                </a:cubicBezTo>
                <a:cubicBezTo>
                  <a:pt x="18476" y="8788"/>
                  <a:pt x="18479" y="8862"/>
                  <a:pt x="18479" y="8930"/>
                </a:cubicBezTo>
                <a:cubicBezTo>
                  <a:pt x="18479" y="8975"/>
                  <a:pt x="18448" y="9020"/>
                  <a:pt x="18405" y="9029"/>
                </a:cubicBezTo>
                <a:cubicBezTo>
                  <a:pt x="18341" y="9043"/>
                  <a:pt x="18282" y="9020"/>
                  <a:pt x="18231" y="9004"/>
                </a:cubicBezTo>
                <a:cubicBezTo>
                  <a:pt x="18196" y="9004"/>
                  <a:pt x="18184" y="8994"/>
                  <a:pt x="18182" y="8954"/>
                </a:cubicBezTo>
              </a:path>
              <a:path w="7889" h="1415">
                <a:moveTo>
                  <a:pt x="18306" y="8086"/>
                </a:moveTo>
                <a:cubicBezTo>
                  <a:pt x="18286" y="8046"/>
                  <a:pt x="18277" y="8040"/>
                  <a:pt x="18281" y="8012"/>
                </a:cubicBezTo>
                <a:cubicBezTo>
                  <a:pt x="18324" y="8001"/>
                  <a:pt x="18364" y="7974"/>
                  <a:pt x="18405" y="7962"/>
                </a:cubicBezTo>
                <a:cubicBezTo>
                  <a:pt x="18430" y="7962"/>
                  <a:pt x="18438" y="7962"/>
                  <a:pt x="18455" y="7962"/>
                </a:cubicBezTo>
              </a:path>
              <a:path w="7889" h="1415">
                <a:moveTo>
                  <a:pt x="18554" y="7987"/>
                </a:moveTo>
                <a:cubicBezTo>
                  <a:pt x="18590" y="8071"/>
                  <a:pt x="18575" y="8054"/>
                  <a:pt x="18554" y="8136"/>
                </a:cubicBezTo>
                <a:cubicBezTo>
                  <a:pt x="18546" y="8169"/>
                  <a:pt x="18508" y="8248"/>
                  <a:pt x="18529" y="8285"/>
                </a:cubicBezTo>
                <a:cubicBezTo>
                  <a:pt x="18553" y="8329"/>
                  <a:pt x="18554" y="8334"/>
                  <a:pt x="18604" y="8334"/>
                </a:cubicBezTo>
              </a:path>
              <a:path w="7889" h="1415">
                <a:moveTo>
                  <a:pt x="19571" y="8210"/>
                </a:moveTo>
                <a:cubicBezTo>
                  <a:pt x="19550" y="8147"/>
                  <a:pt x="19549" y="8090"/>
                  <a:pt x="19496" y="8086"/>
                </a:cubicBezTo>
                <a:cubicBezTo>
                  <a:pt x="19435" y="8081"/>
                  <a:pt x="19402" y="8085"/>
                  <a:pt x="19348" y="8111"/>
                </a:cubicBezTo>
                <a:cubicBezTo>
                  <a:pt x="19278" y="8144"/>
                  <a:pt x="19207" y="8186"/>
                  <a:pt x="19149" y="8235"/>
                </a:cubicBezTo>
                <a:cubicBezTo>
                  <a:pt x="19091" y="8284"/>
                  <a:pt x="19018" y="8363"/>
                  <a:pt x="19000" y="8434"/>
                </a:cubicBezTo>
                <a:cubicBezTo>
                  <a:pt x="18982" y="8506"/>
                  <a:pt x="19000" y="8599"/>
                  <a:pt x="19025" y="8657"/>
                </a:cubicBezTo>
                <a:cubicBezTo>
                  <a:pt x="19093" y="8818"/>
                  <a:pt x="19123" y="8790"/>
                  <a:pt x="19248" y="8880"/>
                </a:cubicBezTo>
                <a:cubicBezTo>
                  <a:pt x="19334" y="8941"/>
                  <a:pt x="19388" y="8930"/>
                  <a:pt x="19496" y="8930"/>
                </a:cubicBezTo>
                <a:cubicBezTo>
                  <a:pt x="19545" y="8930"/>
                  <a:pt x="19631" y="8883"/>
                  <a:pt x="19670" y="8855"/>
                </a:cubicBezTo>
                <a:cubicBezTo>
                  <a:pt x="19752" y="8796"/>
                  <a:pt x="19747" y="8745"/>
                  <a:pt x="19769" y="8657"/>
                </a:cubicBezTo>
                <a:cubicBezTo>
                  <a:pt x="19790" y="8573"/>
                  <a:pt x="19773" y="8517"/>
                  <a:pt x="19720" y="8434"/>
                </a:cubicBezTo>
                <a:cubicBezTo>
                  <a:pt x="19684" y="8379"/>
                  <a:pt x="19675" y="8341"/>
                  <a:pt x="19621" y="8310"/>
                </a:cubicBezTo>
                <a:cubicBezTo>
                  <a:pt x="19577" y="8288"/>
                  <a:pt x="19565" y="8285"/>
                  <a:pt x="19546" y="8260"/>
                </a:cubicBezTo>
              </a:path>
              <a:path w="7889" h="1415">
                <a:moveTo>
                  <a:pt x="18901" y="8508"/>
                </a:moveTo>
                <a:cubicBezTo>
                  <a:pt x="18956" y="8475"/>
                  <a:pt x="19007" y="8483"/>
                  <a:pt x="19075" y="8483"/>
                </a:cubicBezTo>
                <a:cubicBezTo>
                  <a:pt x="19248" y="8483"/>
                  <a:pt x="19457" y="8450"/>
                  <a:pt x="19621" y="8508"/>
                </a:cubicBezTo>
                <a:cubicBezTo>
                  <a:pt x="19727" y="8545"/>
                  <a:pt x="19729" y="8558"/>
                  <a:pt x="19819" y="8558"/>
                </a:cubicBezTo>
              </a:path>
              <a:path w="7889" h="1415">
                <a:moveTo>
                  <a:pt x="16991" y="9327"/>
                </a:moveTo>
                <a:cubicBezTo>
                  <a:pt x="17082" y="9327"/>
                  <a:pt x="17109" y="9369"/>
                  <a:pt x="17190" y="9376"/>
                </a:cubicBezTo>
                <a:cubicBezTo>
                  <a:pt x="18004" y="9446"/>
                  <a:pt x="18853" y="9376"/>
                  <a:pt x="19670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34040" y="3419640"/>
            <a:ext cx="1081080" cy="312480"/>
          </a:xfrm>
          <a:custGeom>
            <a:avLst/>
            <a:gdLst/>
            <a:ahLst/>
            <a:rect l="l" t="t" r="r" b="b"/>
            <a:pathLst>
              <a:path w="3002" h="869">
                <a:moveTo>
                  <a:pt x="17462" y="9624"/>
                </a:moveTo>
                <a:cubicBezTo>
                  <a:pt x="17470" y="9624"/>
                  <a:pt x="17479" y="9624"/>
                  <a:pt x="17487" y="9624"/>
                </a:cubicBezTo>
                <a:cubicBezTo>
                  <a:pt x="17457" y="9601"/>
                  <a:pt x="17415" y="9591"/>
                  <a:pt x="17388" y="9624"/>
                </a:cubicBezTo>
                <a:cubicBezTo>
                  <a:pt x="17322" y="9704"/>
                  <a:pt x="17274" y="9651"/>
                  <a:pt x="17190" y="9748"/>
                </a:cubicBezTo>
                <a:cubicBezTo>
                  <a:pt x="17140" y="9805"/>
                  <a:pt x="17062" y="9824"/>
                  <a:pt x="17041" y="9897"/>
                </a:cubicBezTo>
                <a:cubicBezTo>
                  <a:pt x="17025" y="9954"/>
                  <a:pt x="17033" y="10070"/>
                  <a:pt x="17066" y="10120"/>
                </a:cubicBezTo>
                <a:cubicBezTo>
                  <a:pt x="17118" y="10200"/>
                  <a:pt x="17174" y="10173"/>
                  <a:pt x="17239" y="10220"/>
                </a:cubicBezTo>
                <a:cubicBezTo>
                  <a:pt x="17310" y="10271"/>
                  <a:pt x="17323" y="10269"/>
                  <a:pt x="17413" y="10269"/>
                </a:cubicBezTo>
              </a:path>
              <a:path w="3002" h="869">
                <a:moveTo>
                  <a:pt x="17909" y="9823"/>
                </a:moveTo>
                <a:cubicBezTo>
                  <a:pt x="17865" y="9823"/>
                  <a:pt x="17788" y="9806"/>
                  <a:pt x="17760" y="9847"/>
                </a:cubicBezTo>
                <a:cubicBezTo>
                  <a:pt x="17714" y="9913"/>
                  <a:pt x="17704" y="9966"/>
                  <a:pt x="17661" y="10046"/>
                </a:cubicBezTo>
                <a:cubicBezTo>
                  <a:pt x="17636" y="10094"/>
                  <a:pt x="17635" y="10143"/>
                  <a:pt x="17661" y="10195"/>
                </a:cubicBezTo>
                <a:cubicBezTo>
                  <a:pt x="17687" y="10247"/>
                  <a:pt x="17734" y="10284"/>
                  <a:pt x="17785" y="10294"/>
                </a:cubicBezTo>
                <a:cubicBezTo>
                  <a:pt x="17878" y="10313"/>
                  <a:pt x="17973" y="10283"/>
                  <a:pt x="18058" y="10269"/>
                </a:cubicBezTo>
                <a:cubicBezTo>
                  <a:pt x="18161" y="10252"/>
                  <a:pt x="18146" y="10217"/>
                  <a:pt x="18182" y="10145"/>
                </a:cubicBezTo>
                <a:cubicBezTo>
                  <a:pt x="18209" y="10091"/>
                  <a:pt x="18222" y="10056"/>
                  <a:pt x="18182" y="9996"/>
                </a:cubicBezTo>
                <a:cubicBezTo>
                  <a:pt x="18174" y="9988"/>
                  <a:pt x="18165" y="9979"/>
                  <a:pt x="18157" y="9971"/>
                </a:cubicBezTo>
              </a:path>
              <a:path w="3002" h="869">
                <a:moveTo>
                  <a:pt x="18430" y="9674"/>
                </a:moveTo>
                <a:cubicBezTo>
                  <a:pt x="18430" y="9737"/>
                  <a:pt x="18446" y="9798"/>
                  <a:pt x="18455" y="9847"/>
                </a:cubicBezTo>
                <a:cubicBezTo>
                  <a:pt x="18467" y="9912"/>
                  <a:pt x="18467" y="9980"/>
                  <a:pt x="18479" y="10046"/>
                </a:cubicBezTo>
                <a:cubicBezTo>
                  <a:pt x="18489" y="10102"/>
                  <a:pt x="18489" y="10142"/>
                  <a:pt x="18504" y="10195"/>
                </a:cubicBezTo>
                <a:cubicBezTo>
                  <a:pt x="18519" y="10248"/>
                  <a:pt x="18569" y="10320"/>
                  <a:pt x="18579" y="10344"/>
                </a:cubicBezTo>
                <a:cubicBezTo>
                  <a:pt x="18579" y="10352"/>
                  <a:pt x="18579" y="10360"/>
                  <a:pt x="18579" y="10368"/>
                </a:cubicBezTo>
              </a:path>
              <a:path w="3002" h="869">
                <a:moveTo>
                  <a:pt x="18157" y="9897"/>
                </a:moveTo>
                <a:cubicBezTo>
                  <a:pt x="18256" y="9897"/>
                  <a:pt x="18356" y="9897"/>
                  <a:pt x="18455" y="9897"/>
                </a:cubicBezTo>
              </a:path>
              <a:path w="3002" h="869">
                <a:moveTo>
                  <a:pt x="18628" y="9624"/>
                </a:moveTo>
                <a:cubicBezTo>
                  <a:pt x="18679" y="9561"/>
                  <a:pt x="18670" y="9550"/>
                  <a:pt x="18752" y="9550"/>
                </a:cubicBezTo>
                <a:cubicBezTo>
                  <a:pt x="18853" y="9550"/>
                  <a:pt x="18856" y="9558"/>
                  <a:pt x="18926" y="9599"/>
                </a:cubicBezTo>
                <a:cubicBezTo>
                  <a:pt x="18991" y="9637"/>
                  <a:pt x="18958" y="9636"/>
                  <a:pt x="18951" y="9674"/>
                </a:cubicBezTo>
                <a:cubicBezTo>
                  <a:pt x="18939" y="9740"/>
                  <a:pt x="18940" y="9785"/>
                  <a:pt x="18901" y="9823"/>
                </a:cubicBezTo>
                <a:cubicBezTo>
                  <a:pt x="18861" y="9862"/>
                  <a:pt x="18876" y="9918"/>
                  <a:pt x="18876" y="9971"/>
                </a:cubicBezTo>
                <a:cubicBezTo>
                  <a:pt x="18876" y="10039"/>
                  <a:pt x="18913" y="10036"/>
                  <a:pt x="18951" y="10071"/>
                </a:cubicBezTo>
                <a:cubicBezTo>
                  <a:pt x="18990" y="10110"/>
                  <a:pt x="18991" y="10126"/>
                  <a:pt x="19025" y="10120"/>
                </a:cubicBezTo>
              </a:path>
              <a:path w="3002" h="869">
                <a:moveTo>
                  <a:pt x="19645" y="9624"/>
                </a:moveTo>
                <a:cubicBezTo>
                  <a:pt x="19567" y="9526"/>
                  <a:pt x="19591" y="9539"/>
                  <a:pt x="19496" y="9550"/>
                </a:cubicBezTo>
                <a:cubicBezTo>
                  <a:pt x="19494" y="9550"/>
                  <a:pt x="19383" y="9612"/>
                  <a:pt x="19372" y="9624"/>
                </a:cubicBezTo>
                <a:cubicBezTo>
                  <a:pt x="19323" y="9678"/>
                  <a:pt x="19316" y="9771"/>
                  <a:pt x="19273" y="9823"/>
                </a:cubicBezTo>
                <a:cubicBezTo>
                  <a:pt x="19255" y="9845"/>
                  <a:pt x="19235" y="9916"/>
                  <a:pt x="19248" y="9971"/>
                </a:cubicBezTo>
                <a:cubicBezTo>
                  <a:pt x="19268" y="10057"/>
                  <a:pt x="19317" y="10083"/>
                  <a:pt x="19372" y="10120"/>
                </a:cubicBezTo>
                <a:cubicBezTo>
                  <a:pt x="19451" y="10173"/>
                  <a:pt x="19446" y="10195"/>
                  <a:pt x="19546" y="10195"/>
                </a:cubicBezTo>
                <a:cubicBezTo>
                  <a:pt x="19632" y="10195"/>
                  <a:pt x="19652" y="10203"/>
                  <a:pt x="19720" y="10145"/>
                </a:cubicBezTo>
                <a:cubicBezTo>
                  <a:pt x="19782" y="10093"/>
                  <a:pt x="19815" y="10098"/>
                  <a:pt x="19844" y="9996"/>
                </a:cubicBezTo>
                <a:cubicBezTo>
                  <a:pt x="19861" y="9938"/>
                  <a:pt x="19835" y="9875"/>
                  <a:pt x="19819" y="9823"/>
                </a:cubicBezTo>
                <a:cubicBezTo>
                  <a:pt x="19798" y="9752"/>
                  <a:pt x="19764" y="9683"/>
                  <a:pt x="19720" y="9624"/>
                </a:cubicBezTo>
                <a:cubicBezTo>
                  <a:pt x="19688" y="9581"/>
                  <a:pt x="19659" y="9539"/>
                  <a:pt x="19621" y="9500"/>
                </a:cubicBezTo>
              </a:path>
              <a:path w="3002" h="869">
                <a:moveTo>
                  <a:pt x="19199" y="9823"/>
                </a:moveTo>
                <a:cubicBezTo>
                  <a:pt x="19355" y="9823"/>
                  <a:pt x="19482" y="9799"/>
                  <a:pt x="19621" y="9773"/>
                </a:cubicBezTo>
                <a:cubicBezTo>
                  <a:pt x="19755" y="9748"/>
                  <a:pt x="19842" y="9815"/>
                  <a:pt x="19968" y="9823"/>
                </a:cubicBezTo>
                <a:cubicBezTo>
                  <a:pt x="19993" y="9823"/>
                  <a:pt x="20017" y="9823"/>
                  <a:pt x="20042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74960" y="3830760"/>
            <a:ext cx="5546880" cy="1081080"/>
          </a:xfrm>
          <a:custGeom>
            <a:avLst/>
            <a:gdLst/>
            <a:ahLst/>
            <a:rect l="l" t="t" r="r" b="b"/>
            <a:pathLst>
              <a:path w="15405" h="3003">
                <a:moveTo>
                  <a:pt x="8682" y="11658"/>
                </a:moveTo>
                <a:cubicBezTo>
                  <a:pt x="8682" y="11604"/>
                  <a:pt x="8694" y="11566"/>
                  <a:pt x="8632" y="11559"/>
                </a:cubicBezTo>
                <a:cubicBezTo>
                  <a:pt x="8550" y="11550"/>
                  <a:pt x="8484" y="11571"/>
                  <a:pt x="8409" y="11584"/>
                </a:cubicBezTo>
                <a:cubicBezTo>
                  <a:pt x="8337" y="11596"/>
                  <a:pt x="8275" y="11618"/>
                  <a:pt x="8210" y="11658"/>
                </a:cubicBezTo>
                <a:cubicBezTo>
                  <a:pt x="8132" y="11706"/>
                  <a:pt x="8081" y="11778"/>
                  <a:pt x="8037" y="11857"/>
                </a:cubicBezTo>
                <a:cubicBezTo>
                  <a:pt x="7986" y="11949"/>
                  <a:pt x="7963" y="12052"/>
                  <a:pt x="8012" y="12154"/>
                </a:cubicBezTo>
                <a:cubicBezTo>
                  <a:pt x="8056" y="12245"/>
                  <a:pt x="8151" y="12282"/>
                  <a:pt x="8235" y="12328"/>
                </a:cubicBezTo>
                <a:cubicBezTo>
                  <a:pt x="8315" y="12372"/>
                  <a:pt x="8418" y="12398"/>
                  <a:pt x="8508" y="12402"/>
                </a:cubicBezTo>
                <a:cubicBezTo>
                  <a:pt x="8591" y="12405"/>
                  <a:pt x="8656" y="12406"/>
                  <a:pt x="8731" y="12378"/>
                </a:cubicBezTo>
              </a:path>
              <a:path w="15405" h="3003">
                <a:moveTo>
                  <a:pt x="9227" y="11832"/>
                </a:moveTo>
                <a:cubicBezTo>
                  <a:pt x="9196" y="11779"/>
                  <a:pt x="9181" y="11726"/>
                  <a:pt x="9128" y="11708"/>
                </a:cubicBezTo>
                <a:cubicBezTo>
                  <a:pt x="9097" y="11698"/>
                  <a:pt x="9008" y="11743"/>
                  <a:pt x="8979" y="11757"/>
                </a:cubicBezTo>
                <a:cubicBezTo>
                  <a:pt x="8917" y="11786"/>
                  <a:pt x="8887" y="11847"/>
                  <a:pt x="8855" y="11906"/>
                </a:cubicBezTo>
                <a:cubicBezTo>
                  <a:pt x="8823" y="11967"/>
                  <a:pt x="8787" y="12033"/>
                  <a:pt x="8806" y="12105"/>
                </a:cubicBezTo>
                <a:cubicBezTo>
                  <a:pt x="8829" y="12189"/>
                  <a:pt x="8886" y="12223"/>
                  <a:pt x="8930" y="12278"/>
                </a:cubicBezTo>
                <a:cubicBezTo>
                  <a:pt x="8999" y="12365"/>
                  <a:pt x="9069" y="12378"/>
                  <a:pt x="9178" y="12378"/>
                </a:cubicBezTo>
                <a:cubicBezTo>
                  <a:pt x="9214" y="12378"/>
                  <a:pt x="9290" y="12344"/>
                  <a:pt x="9302" y="12303"/>
                </a:cubicBezTo>
                <a:cubicBezTo>
                  <a:pt x="9318" y="12247"/>
                  <a:pt x="9327" y="12189"/>
                  <a:pt x="9327" y="12129"/>
                </a:cubicBezTo>
                <a:cubicBezTo>
                  <a:pt x="9327" y="12057"/>
                  <a:pt x="9319" y="12021"/>
                  <a:pt x="9302" y="11956"/>
                </a:cubicBezTo>
                <a:cubicBezTo>
                  <a:pt x="9302" y="11948"/>
                  <a:pt x="9302" y="11939"/>
                  <a:pt x="9302" y="11931"/>
                </a:cubicBezTo>
              </a:path>
              <a:path w="15405" h="3003">
                <a:moveTo>
                  <a:pt x="9575" y="11708"/>
                </a:moveTo>
                <a:cubicBezTo>
                  <a:pt x="9491" y="11727"/>
                  <a:pt x="9418" y="11726"/>
                  <a:pt x="9376" y="11782"/>
                </a:cubicBezTo>
                <a:cubicBezTo>
                  <a:pt x="9391" y="11841"/>
                  <a:pt x="9425" y="11846"/>
                  <a:pt x="9475" y="11881"/>
                </a:cubicBezTo>
                <a:cubicBezTo>
                  <a:pt x="9544" y="11930"/>
                  <a:pt x="9691" y="11994"/>
                  <a:pt x="9748" y="12055"/>
                </a:cubicBezTo>
                <a:cubicBezTo>
                  <a:pt x="9795" y="12105"/>
                  <a:pt x="9850" y="12156"/>
                  <a:pt x="9872" y="12229"/>
                </a:cubicBezTo>
                <a:cubicBezTo>
                  <a:pt x="9886" y="12275"/>
                  <a:pt x="9852" y="12299"/>
                  <a:pt x="9823" y="12328"/>
                </a:cubicBezTo>
                <a:cubicBezTo>
                  <a:pt x="9786" y="12365"/>
                  <a:pt x="9750" y="12353"/>
                  <a:pt x="9699" y="12353"/>
                </a:cubicBezTo>
                <a:cubicBezTo>
                  <a:pt x="9644" y="12353"/>
                  <a:pt x="9615" y="12334"/>
                  <a:pt x="9575" y="12303"/>
                </a:cubicBezTo>
              </a:path>
              <a:path w="15405" h="3003">
                <a:moveTo>
                  <a:pt x="9723" y="11237"/>
                </a:moveTo>
                <a:cubicBezTo>
                  <a:pt x="9715" y="11220"/>
                  <a:pt x="9707" y="11204"/>
                  <a:pt x="9699" y="11187"/>
                </a:cubicBezTo>
                <a:cubicBezTo>
                  <a:pt x="9744" y="11187"/>
                  <a:pt x="9758" y="11165"/>
                  <a:pt x="9798" y="11162"/>
                </a:cubicBezTo>
                <a:cubicBezTo>
                  <a:pt x="9834" y="11159"/>
                  <a:pt x="9935" y="11174"/>
                  <a:pt x="9971" y="11187"/>
                </a:cubicBezTo>
                <a:cubicBezTo>
                  <a:pt x="10002" y="11198"/>
                  <a:pt x="10124" y="11239"/>
                  <a:pt x="10145" y="11286"/>
                </a:cubicBezTo>
                <a:cubicBezTo>
                  <a:pt x="10158" y="11314"/>
                  <a:pt x="10132" y="11367"/>
                  <a:pt x="10120" y="11385"/>
                </a:cubicBezTo>
                <a:cubicBezTo>
                  <a:pt x="10090" y="11431"/>
                  <a:pt x="10027" y="11453"/>
                  <a:pt x="10021" y="11509"/>
                </a:cubicBezTo>
                <a:cubicBezTo>
                  <a:pt x="10014" y="11573"/>
                  <a:pt x="10062" y="11547"/>
                  <a:pt x="10096" y="11559"/>
                </a:cubicBezTo>
                <a:cubicBezTo>
                  <a:pt x="10144" y="11583"/>
                  <a:pt x="10158" y="11592"/>
                  <a:pt x="10195" y="11584"/>
                </a:cubicBezTo>
              </a:path>
              <a:path w="15405" h="3003">
                <a:moveTo>
                  <a:pt x="10939" y="11683"/>
                </a:moveTo>
                <a:cubicBezTo>
                  <a:pt x="10939" y="11610"/>
                  <a:pt x="10917" y="11664"/>
                  <a:pt x="10889" y="11609"/>
                </a:cubicBezTo>
                <a:cubicBezTo>
                  <a:pt x="10872" y="11575"/>
                  <a:pt x="10863" y="11584"/>
                  <a:pt x="10815" y="11584"/>
                </a:cubicBezTo>
                <a:cubicBezTo>
                  <a:pt x="10773" y="11584"/>
                  <a:pt x="10723" y="11630"/>
                  <a:pt x="10691" y="11658"/>
                </a:cubicBezTo>
                <a:cubicBezTo>
                  <a:pt x="10635" y="11708"/>
                  <a:pt x="10586" y="11742"/>
                  <a:pt x="10542" y="11807"/>
                </a:cubicBezTo>
                <a:cubicBezTo>
                  <a:pt x="10497" y="11875"/>
                  <a:pt x="10478" y="11957"/>
                  <a:pt x="10443" y="12030"/>
                </a:cubicBezTo>
                <a:cubicBezTo>
                  <a:pt x="10409" y="12102"/>
                  <a:pt x="10401" y="12182"/>
                  <a:pt x="10443" y="12254"/>
                </a:cubicBezTo>
                <a:cubicBezTo>
                  <a:pt x="10479" y="12317"/>
                  <a:pt x="10522" y="12351"/>
                  <a:pt x="10592" y="12378"/>
                </a:cubicBezTo>
                <a:cubicBezTo>
                  <a:pt x="10670" y="12408"/>
                  <a:pt x="10781" y="12417"/>
                  <a:pt x="10864" y="12402"/>
                </a:cubicBezTo>
                <a:cubicBezTo>
                  <a:pt x="10948" y="12387"/>
                  <a:pt x="11026" y="12330"/>
                  <a:pt x="11088" y="12278"/>
                </a:cubicBezTo>
                <a:cubicBezTo>
                  <a:pt x="11176" y="12205"/>
                  <a:pt x="11187" y="12110"/>
                  <a:pt x="11187" y="12005"/>
                </a:cubicBezTo>
                <a:cubicBezTo>
                  <a:pt x="11187" y="11914"/>
                  <a:pt x="11152" y="11862"/>
                  <a:pt x="11112" y="11782"/>
                </a:cubicBezTo>
                <a:cubicBezTo>
                  <a:pt x="11075" y="11707"/>
                  <a:pt x="11022" y="11685"/>
                  <a:pt x="10964" y="11633"/>
                </a:cubicBezTo>
                <a:cubicBezTo>
                  <a:pt x="10956" y="11625"/>
                  <a:pt x="10947" y="11617"/>
                  <a:pt x="10939" y="11609"/>
                </a:cubicBezTo>
              </a:path>
              <a:path w="15405" h="3003">
                <a:moveTo>
                  <a:pt x="10393" y="11981"/>
                </a:moveTo>
                <a:cubicBezTo>
                  <a:pt x="10585" y="11981"/>
                  <a:pt x="10776" y="11992"/>
                  <a:pt x="10964" y="12005"/>
                </a:cubicBezTo>
                <a:cubicBezTo>
                  <a:pt x="11013" y="12005"/>
                  <a:pt x="11063" y="12005"/>
                  <a:pt x="11112" y="12005"/>
                </a:cubicBezTo>
              </a:path>
              <a:path w="15405" h="3003">
                <a:moveTo>
                  <a:pt x="11609" y="12204"/>
                </a:moveTo>
                <a:cubicBezTo>
                  <a:pt x="11648" y="12194"/>
                  <a:pt x="11663" y="12179"/>
                  <a:pt x="11708" y="12179"/>
                </a:cubicBezTo>
                <a:cubicBezTo>
                  <a:pt x="11753" y="12179"/>
                  <a:pt x="11776" y="12154"/>
                  <a:pt x="11832" y="12154"/>
                </a:cubicBezTo>
                <a:cubicBezTo>
                  <a:pt x="11879" y="12154"/>
                  <a:pt x="11959" y="12142"/>
                  <a:pt x="12005" y="12129"/>
                </a:cubicBezTo>
                <a:cubicBezTo>
                  <a:pt x="12061" y="12113"/>
                  <a:pt x="12130" y="12090"/>
                  <a:pt x="12179" y="12080"/>
                </a:cubicBezTo>
                <a:cubicBezTo>
                  <a:pt x="12221" y="12080"/>
                  <a:pt x="12229" y="12080"/>
                  <a:pt x="12254" y="12080"/>
                </a:cubicBezTo>
                <a:cubicBezTo>
                  <a:pt x="12267" y="12040"/>
                  <a:pt x="12265" y="12070"/>
                  <a:pt x="12278" y="12030"/>
                </a:cubicBezTo>
              </a:path>
              <a:path w="15405" h="3003">
                <a:moveTo>
                  <a:pt x="11981" y="11782"/>
                </a:moveTo>
                <a:cubicBezTo>
                  <a:pt x="12005" y="11782"/>
                  <a:pt x="12013" y="11782"/>
                  <a:pt x="12005" y="11807"/>
                </a:cubicBezTo>
              </a:path>
              <a:path w="15405" h="3003">
                <a:moveTo>
                  <a:pt x="11906" y="12427"/>
                </a:moveTo>
                <a:cubicBezTo>
                  <a:pt x="11934" y="12399"/>
                  <a:pt x="11943" y="12386"/>
                  <a:pt x="11931" y="12353"/>
                </a:cubicBezTo>
              </a:path>
              <a:path w="15405" h="3003">
                <a:moveTo>
                  <a:pt x="13022" y="11633"/>
                </a:moveTo>
                <a:cubicBezTo>
                  <a:pt x="13022" y="11603"/>
                  <a:pt x="13014" y="11567"/>
                  <a:pt x="12998" y="11559"/>
                </a:cubicBezTo>
                <a:cubicBezTo>
                  <a:pt x="12958" y="11539"/>
                  <a:pt x="12926" y="11575"/>
                  <a:pt x="12898" y="11584"/>
                </a:cubicBezTo>
                <a:cubicBezTo>
                  <a:pt x="12862" y="11596"/>
                  <a:pt x="12823" y="11621"/>
                  <a:pt x="12799" y="11658"/>
                </a:cubicBezTo>
                <a:cubicBezTo>
                  <a:pt x="12765" y="11711"/>
                  <a:pt x="12735" y="11770"/>
                  <a:pt x="12725" y="11832"/>
                </a:cubicBezTo>
                <a:cubicBezTo>
                  <a:pt x="12717" y="11882"/>
                  <a:pt x="12690" y="11985"/>
                  <a:pt x="12700" y="12030"/>
                </a:cubicBezTo>
                <a:cubicBezTo>
                  <a:pt x="12715" y="12098"/>
                  <a:pt x="12742" y="12143"/>
                  <a:pt x="12774" y="12204"/>
                </a:cubicBezTo>
                <a:cubicBezTo>
                  <a:pt x="12812" y="12276"/>
                  <a:pt x="12897" y="12320"/>
                  <a:pt x="12973" y="12353"/>
                </a:cubicBezTo>
                <a:cubicBezTo>
                  <a:pt x="13049" y="12386"/>
                  <a:pt x="13072" y="12362"/>
                  <a:pt x="13146" y="12353"/>
                </a:cubicBezTo>
              </a:path>
              <a:path w="15405" h="3003">
                <a:moveTo>
                  <a:pt x="13568" y="11757"/>
                </a:moveTo>
                <a:cubicBezTo>
                  <a:pt x="13545" y="11706"/>
                  <a:pt x="13539" y="11661"/>
                  <a:pt x="13494" y="11658"/>
                </a:cubicBezTo>
                <a:cubicBezTo>
                  <a:pt x="13429" y="11653"/>
                  <a:pt x="13397" y="11669"/>
                  <a:pt x="13345" y="11708"/>
                </a:cubicBezTo>
                <a:cubicBezTo>
                  <a:pt x="13289" y="11750"/>
                  <a:pt x="13230" y="11800"/>
                  <a:pt x="13196" y="11857"/>
                </a:cubicBezTo>
                <a:cubicBezTo>
                  <a:pt x="13139" y="11953"/>
                  <a:pt x="13130" y="11986"/>
                  <a:pt x="13146" y="12080"/>
                </a:cubicBezTo>
                <a:cubicBezTo>
                  <a:pt x="13160" y="12160"/>
                  <a:pt x="13195" y="12186"/>
                  <a:pt x="13271" y="12229"/>
                </a:cubicBezTo>
                <a:cubicBezTo>
                  <a:pt x="13334" y="12265"/>
                  <a:pt x="13398" y="12254"/>
                  <a:pt x="13469" y="12254"/>
                </a:cubicBezTo>
                <a:cubicBezTo>
                  <a:pt x="13526" y="12254"/>
                  <a:pt x="13580" y="12257"/>
                  <a:pt x="13618" y="12204"/>
                </a:cubicBezTo>
                <a:cubicBezTo>
                  <a:pt x="13657" y="12150"/>
                  <a:pt x="13667" y="12120"/>
                  <a:pt x="13667" y="12055"/>
                </a:cubicBezTo>
                <a:cubicBezTo>
                  <a:pt x="13667" y="12001"/>
                  <a:pt x="13649" y="11927"/>
                  <a:pt x="13618" y="11881"/>
                </a:cubicBezTo>
                <a:cubicBezTo>
                  <a:pt x="13596" y="11848"/>
                  <a:pt x="13545" y="11809"/>
                  <a:pt x="13519" y="11782"/>
                </a:cubicBezTo>
              </a:path>
              <a:path w="15405" h="3003">
                <a:moveTo>
                  <a:pt x="14015" y="11658"/>
                </a:moveTo>
                <a:cubicBezTo>
                  <a:pt x="13941" y="11638"/>
                  <a:pt x="13892" y="11633"/>
                  <a:pt x="13816" y="11633"/>
                </a:cubicBezTo>
                <a:cubicBezTo>
                  <a:pt x="13762" y="11633"/>
                  <a:pt x="13735" y="11674"/>
                  <a:pt x="13717" y="11683"/>
                </a:cubicBezTo>
                <a:cubicBezTo>
                  <a:pt x="13680" y="11701"/>
                  <a:pt x="13682" y="11719"/>
                  <a:pt x="13717" y="11757"/>
                </a:cubicBezTo>
                <a:cubicBezTo>
                  <a:pt x="13762" y="11807"/>
                  <a:pt x="13818" y="11838"/>
                  <a:pt x="13866" y="11881"/>
                </a:cubicBezTo>
                <a:cubicBezTo>
                  <a:pt x="13942" y="11948"/>
                  <a:pt x="14016" y="12006"/>
                  <a:pt x="14089" y="12080"/>
                </a:cubicBezTo>
                <a:cubicBezTo>
                  <a:pt x="14128" y="12119"/>
                  <a:pt x="14139" y="12151"/>
                  <a:pt x="14139" y="12204"/>
                </a:cubicBezTo>
                <a:cubicBezTo>
                  <a:pt x="14139" y="12277"/>
                  <a:pt x="14080" y="12257"/>
                  <a:pt x="14039" y="12278"/>
                </a:cubicBezTo>
                <a:cubicBezTo>
                  <a:pt x="13998" y="12299"/>
                  <a:pt x="13920" y="12324"/>
                  <a:pt x="13866" y="12303"/>
                </a:cubicBezTo>
                <a:cubicBezTo>
                  <a:pt x="13834" y="12291"/>
                  <a:pt x="13775" y="12238"/>
                  <a:pt x="13767" y="12229"/>
                </a:cubicBezTo>
                <a:cubicBezTo>
                  <a:pt x="13744" y="12206"/>
                  <a:pt x="13736" y="12202"/>
                  <a:pt x="13742" y="12179"/>
                </a:cubicBezTo>
              </a:path>
              <a:path w="15405" h="3003">
                <a:moveTo>
                  <a:pt x="14015" y="11237"/>
                </a:moveTo>
                <a:cubicBezTo>
                  <a:pt x="14052" y="11198"/>
                  <a:pt x="14061" y="11187"/>
                  <a:pt x="14114" y="11187"/>
                </a:cubicBezTo>
                <a:cubicBezTo>
                  <a:pt x="14179" y="11187"/>
                  <a:pt x="14204" y="11197"/>
                  <a:pt x="14263" y="11212"/>
                </a:cubicBezTo>
                <a:cubicBezTo>
                  <a:pt x="14294" y="11220"/>
                  <a:pt x="14370" y="11227"/>
                  <a:pt x="14387" y="11261"/>
                </a:cubicBezTo>
                <a:cubicBezTo>
                  <a:pt x="14404" y="11294"/>
                  <a:pt x="14382" y="11339"/>
                  <a:pt x="14362" y="11361"/>
                </a:cubicBezTo>
                <a:cubicBezTo>
                  <a:pt x="14324" y="11402"/>
                  <a:pt x="14278" y="11423"/>
                  <a:pt x="14238" y="11460"/>
                </a:cubicBezTo>
                <a:cubicBezTo>
                  <a:pt x="14205" y="11490"/>
                  <a:pt x="14159" y="11557"/>
                  <a:pt x="14188" y="11609"/>
                </a:cubicBezTo>
                <a:cubicBezTo>
                  <a:pt x="14211" y="11649"/>
                  <a:pt x="14276" y="11686"/>
                  <a:pt x="14312" y="11708"/>
                </a:cubicBezTo>
                <a:cubicBezTo>
                  <a:pt x="14360" y="11737"/>
                  <a:pt x="14409" y="11738"/>
                  <a:pt x="14461" y="11757"/>
                </a:cubicBezTo>
              </a:path>
              <a:path w="15405" h="3003">
                <a:moveTo>
                  <a:pt x="14982" y="11782"/>
                </a:moveTo>
                <a:cubicBezTo>
                  <a:pt x="15005" y="11805"/>
                  <a:pt x="15013" y="11809"/>
                  <a:pt x="15007" y="11832"/>
                </a:cubicBezTo>
                <a:cubicBezTo>
                  <a:pt x="15036" y="11846"/>
                  <a:pt x="15082" y="11894"/>
                  <a:pt x="15106" y="11931"/>
                </a:cubicBezTo>
                <a:cubicBezTo>
                  <a:pt x="15140" y="11985"/>
                  <a:pt x="15145" y="12035"/>
                  <a:pt x="15180" y="12080"/>
                </a:cubicBezTo>
                <a:cubicBezTo>
                  <a:pt x="15222" y="12133"/>
                  <a:pt x="15255" y="12180"/>
                  <a:pt x="15304" y="12229"/>
                </a:cubicBezTo>
                <a:cubicBezTo>
                  <a:pt x="15342" y="12267"/>
                  <a:pt x="15351" y="12278"/>
                  <a:pt x="15404" y="12278"/>
                </a:cubicBezTo>
              </a:path>
              <a:path w="15405" h="3003">
                <a:moveTo>
                  <a:pt x="15379" y="11857"/>
                </a:moveTo>
                <a:cubicBezTo>
                  <a:pt x="15338" y="11857"/>
                  <a:pt x="15314" y="11866"/>
                  <a:pt x="15280" y="11881"/>
                </a:cubicBezTo>
                <a:cubicBezTo>
                  <a:pt x="15217" y="11908"/>
                  <a:pt x="15171" y="11956"/>
                  <a:pt x="15106" y="11981"/>
                </a:cubicBezTo>
                <a:cubicBezTo>
                  <a:pt x="15030" y="12010"/>
                  <a:pt x="14959" y="12050"/>
                  <a:pt x="14883" y="12080"/>
                </a:cubicBezTo>
                <a:cubicBezTo>
                  <a:pt x="14795" y="12115"/>
                  <a:pt x="14733" y="12167"/>
                  <a:pt x="14660" y="12229"/>
                </a:cubicBezTo>
              </a:path>
              <a:path w="15405" h="3003">
                <a:moveTo>
                  <a:pt x="13072" y="12626"/>
                </a:moveTo>
                <a:cubicBezTo>
                  <a:pt x="13206" y="12605"/>
                  <a:pt x="13335" y="12580"/>
                  <a:pt x="13469" y="12576"/>
                </a:cubicBezTo>
                <a:cubicBezTo>
                  <a:pt x="13649" y="12571"/>
                  <a:pt x="13834" y="12529"/>
                  <a:pt x="14015" y="12551"/>
                </a:cubicBezTo>
                <a:cubicBezTo>
                  <a:pt x="14174" y="12570"/>
                  <a:pt x="14325" y="12576"/>
                  <a:pt x="14486" y="12576"/>
                </a:cubicBezTo>
                <a:cubicBezTo>
                  <a:pt x="14782" y="12576"/>
                  <a:pt x="15093" y="12596"/>
                  <a:pt x="15379" y="12551"/>
                </a:cubicBezTo>
                <a:cubicBezTo>
                  <a:pt x="15420" y="12551"/>
                  <a:pt x="15428" y="12551"/>
                  <a:pt x="15453" y="12551"/>
                </a:cubicBezTo>
              </a:path>
              <a:path w="15405" h="3003">
                <a:moveTo>
                  <a:pt x="13295" y="12799"/>
                </a:moveTo>
                <a:cubicBezTo>
                  <a:pt x="13266" y="12755"/>
                  <a:pt x="13251" y="12731"/>
                  <a:pt x="13196" y="12725"/>
                </a:cubicBezTo>
                <a:cubicBezTo>
                  <a:pt x="13101" y="12714"/>
                  <a:pt x="12988" y="12719"/>
                  <a:pt x="12898" y="12750"/>
                </a:cubicBezTo>
                <a:cubicBezTo>
                  <a:pt x="12859" y="12763"/>
                  <a:pt x="12793" y="12781"/>
                  <a:pt x="12774" y="12824"/>
                </a:cubicBezTo>
                <a:cubicBezTo>
                  <a:pt x="12749" y="12881"/>
                  <a:pt x="12782" y="12922"/>
                  <a:pt x="12824" y="12948"/>
                </a:cubicBezTo>
                <a:cubicBezTo>
                  <a:pt x="12900" y="12995"/>
                  <a:pt x="12970" y="13047"/>
                  <a:pt x="13047" y="13097"/>
                </a:cubicBezTo>
                <a:cubicBezTo>
                  <a:pt x="13135" y="13154"/>
                  <a:pt x="13219" y="13223"/>
                  <a:pt x="13295" y="13295"/>
                </a:cubicBezTo>
                <a:cubicBezTo>
                  <a:pt x="13342" y="13339"/>
                  <a:pt x="13394" y="13397"/>
                  <a:pt x="13370" y="13469"/>
                </a:cubicBezTo>
                <a:cubicBezTo>
                  <a:pt x="13344" y="13548"/>
                  <a:pt x="13321" y="13555"/>
                  <a:pt x="13246" y="13593"/>
                </a:cubicBezTo>
                <a:cubicBezTo>
                  <a:pt x="13174" y="13629"/>
                  <a:pt x="13101" y="13618"/>
                  <a:pt x="13022" y="13618"/>
                </a:cubicBezTo>
                <a:cubicBezTo>
                  <a:pt x="12971" y="13618"/>
                  <a:pt x="12883" y="13586"/>
                  <a:pt x="12849" y="13543"/>
                </a:cubicBezTo>
                <a:cubicBezTo>
                  <a:pt x="12838" y="13529"/>
                  <a:pt x="12887" y="13433"/>
                  <a:pt x="12898" y="13419"/>
                </a:cubicBezTo>
                <a:cubicBezTo>
                  <a:pt x="12906" y="13411"/>
                  <a:pt x="12915" y="13403"/>
                  <a:pt x="12923" y="13395"/>
                </a:cubicBezTo>
              </a:path>
              <a:path w="15405" h="3003">
                <a:moveTo>
                  <a:pt x="13717" y="13295"/>
                </a:moveTo>
                <a:cubicBezTo>
                  <a:pt x="13717" y="13354"/>
                  <a:pt x="13739" y="13371"/>
                  <a:pt x="13742" y="13419"/>
                </a:cubicBezTo>
                <a:cubicBezTo>
                  <a:pt x="13747" y="13483"/>
                  <a:pt x="13774" y="13491"/>
                  <a:pt x="13791" y="13543"/>
                </a:cubicBezTo>
                <a:cubicBezTo>
                  <a:pt x="13803" y="13579"/>
                  <a:pt x="13808" y="13603"/>
                  <a:pt x="13816" y="13618"/>
                </a:cubicBezTo>
                <a:cubicBezTo>
                  <a:pt x="13816" y="13643"/>
                  <a:pt x="13816" y="13651"/>
                  <a:pt x="13816" y="13618"/>
                </a:cubicBezTo>
              </a:path>
              <a:path w="15405" h="3003">
                <a:moveTo>
                  <a:pt x="13742" y="12824"/>
                </a:moveTo>
                <a:cubicBezTo>
                  <a:pt x="13742" y="12799"/>
                  <a:pt x="13742" y="12791"/>
                  <a:pt x="13767" y="12799"/>
                </a:cubicBezTo>
              </a:path>
              <a:path w="15405" h="3003">
                <a:moveTo>
                  <a:pt x="13866" y="13221"/>
                </a:moveTo>
                <a:cubicBezTo>
                  <a:pt x="13895" y="13260"/>
                  <a:pt x="13925" y="13320"/>
                  <a:pt x="13940" y="13370"/>
                </a:cubicBezTo>
                <a:cubicBezTo>
                  <a:pt x="13955" y="13418"/>
                  <a:pt x="13978" y="13470"/>
                  <a:pt x="13990" y="13519"/>
                </a:cubicBezTo>
                <a:cubicBezTo>
                  <a:pt x="14000" y="13558"/>
                  <a:pt x="14015" y="13585"/>
                  <a:pt x="14039" y="13618"/>
                </a:cubicBezTo>
                <a:cubicBezTo>
                  <a:pt x="14039" y="13682"/>
                  <a:pt x="14018" y="13533"/>
                  <a:pt x="14015" y="13519"/>
                </a:cubicBezTo>
                <a:cubicBezTo>
                  <a:pt x="14002" y="13465"/>
                  <a:pt x="13994" y="13401"/>
                  <a:pt x="13990" y="13345"/>
                </a:cubicBezTo>
                <a:cubicBezTo>
                  <a:pt x="13987" y="13300"/>
                  <a:pt x="13997" y="13233"/>
                  <a:pt x="14015" y="13196"/>
                </a:cubicBezTo>
                <a:cubicBezTo>
                  <a:pt x="14045" y="13134"/>
                  <a:pt x="14095" y="13144"/>
                  <a:pt x="14139" y="13122"/>
                </a:cubicBezTo>
                <a:cubicBezTo>
                  <a:pt x="14182" y="13100"/>
                  <a:pt x="14223" y="13108"/>
                  <a:pt x="14263" y="13146"/>
                </a:cubicBezTo>
                <a:cubicBezTo>
                  <a:pt x="14333" y="13212"/>
                  <a:pt x="14334" y="13237"/>
                  <a:pt x="14362" y="13320"/>
                </a:cubicBezTo>
                <a:cubicBezTo>
                  <a:pt x="14382" y="13378"/>
                  <a:pt x="14412" y="13468"/>
                  <a:pt x="14436" y="13519"/>
                </a:cubicBezTo>
                <a:cubicBezTo>
                  <a:pt x="14451" y="13552"/>
                  <a:pt x="14487" y="13589"/>
                  <a:pt x="14511" y="13618"/>
                </a:cubicBezTo>
              </a:path>
              <a:path w="15405" h="3003">
                <a:moveTo>
                  <a:pt x="14412" y="12675"/>
                </a:moveTo>
                <a:cubicBezTo>
                  <a:pt x="14446" y="12641"/>
                  <a:pt x="14479" y="12603"/>
                  <a:pt x="14536" y="12626"/>
                </a:cubicBezTo>
                <a:cubicBezTo>
                  <a:pt x="14573" y="12641"/>
                  <a:pt x="14623" y="12668"/>
                  <a:pt x="14660" y="12675"/>
                </a:cubicBezTo>
                <a:cubicBezTo>
                  <a:pt x="14713" y="12686"/>
                  <a:pt x="14752" y="12686"/>
                  <a:pt x="14759" y="12750"/>
                </a:cubicBezTo>
                <a:cubicBezTo>
                  <a:pt x="14763" y="12784"/>
                  <a:pt x="14750" y="12825"/>
                  <a:pt x="14734" y="12849"/>
                </a:cubicBezTo>
                <a:cubicBezTo>
                  <a:pt x="14710" y="12885"/>
                  <a:pt x="14673" y="12907"/>
                  <a:pt x="14660" y="12948"/>
                </a:cubicBezTo>
                <a:cubicBezTo>
                  <a:pt x="14654" y="12968"/>
                  <a:pt x="14690" y="13038"/>
                  <a:pt x="14709" y="13047"/>
                </a:cubicBezTo>
                <a:cubicBezTo>
                  <a:pt x="14744" y="13047"/>
                  <a:pt x="14762" y="13052"/>
                  <a:pt x="14784" y="13072"/>
                </a:cubicBezTo>
              </a:path>
              <a:path w="15405" h="3003">
                <a:moveTo>
                  <a:pt x="15056" y="12998"/>
                </a:moveTo>
                <a:cubicBezTo>
                  <a:pt x="15114" y="13055"/>
                  <a:pt x="15155" y="13111"/>
                  <a:pt x="15205" y="13171"/>
                </a:cubicBezTo>
                <a:cubicBezTo>
                  <a:pt x="15252" y="13228"/>
                  <a:pt x="15285" y="13287"/>
                  <a:pt x="15329" y="13345"/>
                </a:cubicBezTo>
                <a:cubicBezTo>
                  <a:pt x="15361" y="13387"/>
                  <a:pt x="15396" y="13492"/>
                  <a:pt x="15429" y="13519"/>
                </a:cubicBezTo>
                <a:cubicBezTo>
                  <a:pt x="15466" y="13549"/>
                  <a:pt x="15473" y="13558"/>
                  <a:pt x="15503" y="13568"/>
                </a:cubicBezTo>
              </a:path>
              <a:path w="15405" h="3003">
                <a:moveTo>
                  <a:pt x="15478" y="13122"/>
                </a:moveTo>
                <a:cubicBezTo>
                  <a:pt x="15468" y="13160"/>
                  <a:pt x="15430" y="13212"/>
                  <a:pt x="15404" y="13246"/>
                </a:cubicBezTo>
                <a:cubicBezTo>
                  <a:pt x="15357" y="13309"/>
                  <a:pt x="15264" y="13328"/>
                  <a:pt x="15205" y="13370"/>
                </a:cubicBezTo>
                <a:cubicBezTo>
                  <a:pt x="15123" y="13429"/>
                  <a:pt x="15078" y="13476"/>
                  <a:pt x="14982" y="13519"/>
                </a:cubicBezTo>
              </a:path>
              <a:path w="15405" h="3003">
                <a:moveTo>
                  <a:pt x="15974" y="12129"/>
                </a:moveTo>
                <a:cubicBezTo>
                  <a:pt x="16012" y="12102"/>
                  <a:pt x="16026" y="12105"/>
                  <a:pt x="16073" y="12105"/>
                </a:cubicBezTo>
                <a:cubicBezTo>
                  <a:pt x="16131" y="12105"/>
                  <a:pt x="16189" y="12105"/>
                  <a:pt x="16247" y="12105"/>
                </a:cubicBezTo>
              </a:path>
              <a:path w="15405" h="3003">
                <a:moveTo>
                  <a:pt x="16049" y="12328"/>
                </a:moveTo>
                <a:cubicBezTo>
                  <a:pt x="16132" y="12328"/>
                  <a:pt x="16214" y="12328"/>
                  <a:pt x="16297" y="12328"/>
                </a:cubicBezTo>
              </a:path>
              <a:path w="15405" h="3003">
                <a:moveTo>
                  <a:pt x="17661" y="11559"/>
                </a:moveTo>
                <a:cubicBezTo>
                  <a:pt x="17588" y="11559"/>
                  <a:pt x="17555" y="11567"/>
                  <a:pt x="17487" y="11584"/>
                </a:cubicBezTo>
                <a:cubicBezTo>
                  <a:pt x="17459" y="11591"/>
                  <a:pt x="17383" y="11634"/>
                  <a:pt x="17363" y="11658"/>
                </a:cubicBezTo>
                <a:cubicBezTo>
                  <a:pt x="17297" y="11735"/>
                  <a:pt x="17240" y="11841"/>
                  <a:pt x="17190" y="11931"/>
                </a:cubicBezTo>
                <a:cubicBezTo>
                  <a:pt x="17164" y="11978"/>
                  <a:pt x="17128" y="12100"/>
                  <a:pt x="17140" y="12154"/>
                </a:cubicBezTo>
                <a:cubicBezTo>
                  <a:pt x="17154" y="12215"/>
                  <a:pt x="17216" y="12275"/>
                  <a:pt x="17264" y="12303"/>
                </a:cubicBezTo>
                <a:cubicBezTo>
                  <a:pt x="17332" y="12343"/>
                  <a:pt x="17410" y="12328"/>
                  <a:pt x="17487" y="12328"/>
                </a:cubicBezTo>
                <a:cubicBezTo>
                  <a:pt x="17594" y="12328"/>
                  <a:pt x="17661" y="12320"/>
                  <a:pt x="17760" y="12278"/>
                </a:cubicBezTo>
                <a:cubicBezTo>
                  <a:pt x="17820" y="12249"/>
                  <a:pt x="17846" y="12235"/>
                  <a:pt x="17884" y="12204"/>
                </a:cubicBezTo>
              </a:path>
              <a:path w="15405" h="3003">
                <a:moveTo>
                  <a:pt x="18182" y="11633"/>
                </a:moveTo>
                <a:cubicBezTo>
                  <a:pt x="18169" y="11597"/>
                  <a:pt x="18151" y="11609"/>
                  <a:pt x="18107" y="11609"/>
                </a:cubicBezTo>
                <a:cubicBezTo>
                  <a:pt x="18062" y="11609"/>
                  <a:pt x="17990" y="11647"/>
                  <a:pt x="17959" y="11683"/>
                </a:cubicBezTo>
                <a:cubicBezTo>
                  <a:pt x="17909" y="11742"/>
                  <a:pt x="17863" y="11857"/>
                  <a:pt x="17859" y="11931"/>
                </a:cubicBezTo>
                <a:cubicBezTo>
                  <a:pt x="17855" y="12005"/>
                  <a:pt x="17864" y="12046"/>
                  <a:pt x="17909" y="12105"/>
                </a:cubicBezTo>
                <a:cubicBezTo>
                  <a:pt x="17959" y="12170"/>
                  <a:pt x="18058" y="12175"/>
                  <a:pt x="18132" y="12179"/>
                </a:cubicBezTo>
                <a:cubicBezTo>
                  <a:pt x="18191" y="12182"/>
                  <a:pt x="18241" y="12180"/>
                  <a:pt x="18281" y="12129"/>
                </a:cubicBezTo>
                <a:cubicBezTo>
                  <a:pt x="18316" y="12085"/>
                  <a:pt x="18382" y="11997"/>
                  <a:pt x="18355" y="11931"/>
                </a:cubicBezTo>
                <a:cubicBezTo>
                  <a:pt x="18334" y="11877"/>
                  <a:pt x="18315" y="11842"/>
                  <a:pt x="18306" y="11782"/>
                </a:cubicBezTo>
              </a:path>
              <a:path w="15405" h="3003">
                <a:moveTo>
                  <a:pt x="18802" y="11485"/>
                </a:moveTo>
                <a:cubicBezTo>
                  <a:pt x="18749" y="11499"/>
                  <a:pt x="18669" y="11506"/>
                  <a:pt x="18628" y="11534"/>
                </a:cubicBezTo>
                <a:cubicBezTo>
                  <a:pt x="18620" y="11542"/>
                  <a:pt x="18612" y="11551"/>
                  <a:pt x="18604" y="11559"/>
                </a:cubicBezTo>
                <a:cubicBezTo>
                  <a:pt x="18621" y="11629"/>
                  <a:pt x="18645" y="11612"/>
                  <a:pt x="18703" y="11633"/>
                </a:cubicBezTo>
                <a:cubicBezTo>
                  <a:pt x="18793" y="11665"/>
                  <a:pt x="18882" y="11719"/>
                  <a:pt x="18951" y="11782"/>
                </a:cubicBezTo>
                <a:cubicBezTo>
                  <a:pt x="19013" y="11838"/>
                  <a:pt x="19025" y="11851"/>
                  <a:pt x="19025" y="11931"/>
                </a:cubicBezTo>
                <a:cubicBezTo>
                  <a:pt x="19025" y="11975"/>
                  <a:pt x="19015" y="12053"/>
                  <a:pt x="18976" y="12080"/>
                </a:cubicBezTo>
                <a:cubicBezTo>
                  <a:pt x="18948" y="12100"/>
                  <a:pt x="18883" y="12126"/>
                  <a:pt x="18852" y="12129"/>
                </a:cubicBezTo>
                <a:cubicBezTo>
                  <a:pt x="18844" y="12129"/>
                  <a:pt x="18835" y="12129"/>
                  <a:pt x="18827" y="12129"/>
                </a:cubicBezTo>
              </a:path>
              <a:path w="15405" h="3003">
                <a:moveTo>
                  <a:pt x="19025" y="11261"/>
                </a:moveTo>
                <a:cubicBezTo>
                  <a:pt x="19003" y="11239"/>
                  <a:pt x="18998" y="11231"/>
                  <a:pt x="18976" y="11237"/>
                </a:cubicBezTo>
                <a:cubicBezTo>
                  <a:pt x="18989" y="11184"/>
                  <a:pt x="19012" y="11196"/>
                  <a:pt x="19050" y="11162"/>
                </a:cubicBezTo>
                <a:cubicBezTo>
                  <a:pt x="19092" y="11124"/>
                  <a:pt x="19143" y="11137"/>
                  <a:pt x="19199" y="11137"/>
                </a:cubicBezTo>
                <a:cubicBezTo>
                  <a:pt x="19253" y="11137"/>
                  <a:pt x="19282" y="11150"/>
                  <a:pt x="19323" y="11187"/>
                </a:cubicBezTo>
                <a:cubicBezTo>
                  <a:pt x="19369" y="11228"/>
                  <a:pt x="19392" y="11270"/>
                  <a:pt x="19372" y="11336"/>
                </a:cubicBezTo>
                <a:cubicBezTo>
                  <a:pt x="19356" y="11389"/>
                  <a:pt x="19348" y="11406"/>
                  <a:pt x="19348" y="11460"/>
                </a:cubicBezTo>
                <a:cubicBezTo>
                  <a:pt x="19348" y="11468"/>
                  <a:pt x="19348" y="11477"/>
                  <a:pt x="19348" y="11485"/>
                </a:cubicBezTo>
              </a:path>
              <a:path w="15405" h="3003">
                <a:moveTo>
                  <a:pt x="19496" y="11485"/>
                </a:moveTo>
                <a:cubicBezTo>
                  <a:pt x="19504" y="11485"/>
                  <a:pt x="19513" y="11485"/>
                  <a:pt x="19521" y="11485"/>
                </a:cubicBezTo>
                <a:cubicBezTo>
                  <a:pt x="19532" y="11518"/>
                  <a:pt x="19557" y="11516"/>
                  <a:pt x="19571" y="11559"/>
                </a:cubicBezTo>
                <a:cubicBezTo>
                  <a:pt x="19585" y="11602"/>
                  <a:pt x="19635" y="11646"/>
                  <a:pt x="19645" y="11683"/>
                </a:cubicBezTo>
                <a:cubicBezTo>
                  <a:pt x="19666" y="11759"/>
                  <a:pt x="19699" y="11814"/>
                  <a:pt x="19745" y="11881"/>
                </a:cubicBezTo>
                <a:cubicBezTo>
                  <a:pt x="19782" y="11934"/>
                  <a:pt x="19801" y="11963"/>
                  <a:pt x="19844" y="12005"/>
                </a:cubicBezTo>
              </a:path>
              <a:path w="15405" h="3003">
                <a:moveTo>
                  <a:pt x="19993" y="11485"/>
                </a:moveTo>
                <a:cubicBezTo>
                  <a:pt x="19970" y="11492"/>
                  <a:pt x="19939" y="11526"/>
                  <a:pt x="19918" y="11559"/>
                </a:cubicBezTo>
                <a:cubicBezTo>
                  <a:pt x="19879" y="11620"/>
                  <a:pt x="19834" y="11672"/>
                  <a:pt x="19794" y="11733"/>
                </a:cubicBezTo>
                <a:cubicBezTo>
                  <a:pt x="19742" y="11814"/>
                  <a:pt x="19680" y="11906"/>
                  <a:pt x="19621" y="11981"/>
                </a:cubicBezTo>
                <a:cubicBezTo>
                  <a:pt x="19561" y="12040"/>
                  <a:pt x="19538" y="12068"/>
                  <a:pt x="19521" y="12129"/>
                </a:cubicBezTo>
              </a:path>
              <a:path w="15405" h="3003">
                <a:moveTo>
                  <a:pt x="21382" y="11460"/>
                </a:moveTo>
                <a:cubicBezTo>
                  <a:pt x="21369" y="11420"/>
                  <a:pt x="21333" y="11435"/>
                  <a:pt x="21282" y="11435"/>
                </a:cubicBezTo>
                <a:cubicBezTo>
                  <a:pt x="21247" y="11435"/>
                  <a:pt x="21192" y="11472"/>
                  <a:pt x="21158" y="11485"/>
                </a:cubicBezTo>
                <a:cubicBezTo>
                  <a:pt x="21111" y="11504"/>
                  <a:pt x="21073" y="11528"/>
                  <a:pt x="21034" y="11559"/>
                </a:cubicBezTo>
                <a:cubicBezTo>
                  <a:pt x="21081" y="11595"/>
                  <a:pt x="21127" y="11591"/>
                  <a:pt x="21183" y="11609"/>
                </a:cubicBezTo>
                <a:cubicBezTo>
                  <a:pt x="21274" y="11639"/>
                  <a:pt x="21350" y="11690"/>
                  <a:pt x="21406" y="11757"/>
                </a:cubicBezTo>
                <a:cubicBezTo>
                  <a:pt x="21441" y="11799"/>
                  <a:pt x="21476" y="11847"/>
                  <a:pt x="21456" y="11906"/>
                </a:cubicBezTo>
                <a:cubicBezTo>
                  <a:pt x="21446" y="11936"/>
                  <a:pt x="21387" y="12044"/>
                  <a:pt x="21357" y="12055"/>
                </a:cubicBezTo>
                <a:cubicBezTo>
                  <a:pt x="21285" y="12081"/>
                  <a:pt x="21257" y="12072"/>
                  <a:pt x="21183" y="12055"/>
                </a:cubicBezTo>
                <a:cubicBezTo>
                  <a:pt x="21133" y="12043"/>
                  <a:pt x="21088" y="12066"/>
                  <a:pt x="21059" y="12005"/>
                </a:cubicBezTo>
                <a:cubicBezTo>
                  <a:pt x="21051" y="11980"/>
                  <a:pt x="21042" y="11956"/>
                  <a:pt x="21034" y="11931"/>
                </a:cubicBezTo>
              </a:path>
              <a:path w="15405" h="3003">
                <a:moveTo>
                  <a:pt x="21704" y="11633"/>
                </a:moveTo>
                <a:cubicBezTo>
                  <a:pt x="21721" y="11718"/>
                  <a:pt x="21704" y="11742"/>
                  <a:pt x="21704" y="11832"/>
                </a:cubicBezTo>
                <a:cubicBezTo>
                  <a:pt x="21704" y="11896"/>
                  <a:pt x="21679" y="11940"/>
                  <a:pt x="21679" y="12005"/>
                </a:cubicBezTo>
                <a:cubicBezTo>
                  <a:pt x="21679" y="12050"/>
                  <a:pt x="21694" y="12066"/>
                  <a:pt x="21704" y="12105"/>
                </a:cubicBezTo>
              </a:path>
              <a:path w="15405" h="3003">
                <a:moveTo>
                  <a:pt x="21704" y="11311"/>
                </a:moveTo>
                <a:cubicBezTo>
                  <a:pt x="21644" y="11291"/>
                  <a:pt x="21693" y="11302"/>
                  <a:pt x="21729" y="11311"/>
                </a:cubicBezTo>
              </a:path>
              <a:path w="15405" h="3003">
                <a:moveTo>
                  <a:pt x="21853" y="11733"/>
                </a:moveTo>
                <a:cubicBezTo>
                  <a:pt x="21857" y="11771"/>
                  <a:pt x="21858" y="11846"/>
                  <a:pt x="21878" y="11881"/>
                </a:cubicBezTo>
                <a:cubicBezTo>
                  <a:pt x="21899" y="11918"/>
                  <a:pt x="21922" y="11962"/>
                  <a:pt x="21927" y="12005"/>
                </a:cubicBezTo>
                <a:cubicBezTo>
                  <a:pt x="21935" y="12077"/>
                  <a:pt x="21943" y="12035"/>
                  <a:pt x="21927" y="12005"/>
                </a:cubicBezTo>
                <a:cubicBezTo>
                  <a:pt x="21895" y="11945"/>
                  <a:pt x="21915" y="11941"/>
                  <a:pt x="21927" y="11881"/>
                </a:cubicBezTo>
                <a:cubicBezTo>
                  <a:pt x="21943" y="11799"/>
                  <a:pt x="21970" y="11723"/>
                  <a:pt x="22027" y="11658"/>
                </a:cubicBezTo>
                <a:cubicBezTo>
                  <a:pt x="22058" y="11623"/>
                  <a:pt x="22097" y="11566"/>
                  <a:pt x="22151" y="11584"/>
                </a:cubicBezTo>
                <a:cubicBezTo>
                  <a:pt x="22183" y="11595"/>
                  <a:pt x="22211" y="11658"/>
                  <a:pt x="22225" y="11683"/>
                </a:cubicBezTo>
                <a:cubicBezTo>
                  <a:pt x="22259" y="11743"/>
                  <a:pt x="22288" y="11815"/>
                  <a:pt x="22299" y="11881"/>
                </a:cubicBezTo>
                <a:cubicBezTo>
                  <a:pt x="22308" y="11936"/>
                  <a:pt x="22314" y="11986"/>
                  <a:pt x="22349" y="12030"/>
                </a:cubicBezTo>
                <a:cubicBezTo>
                  <a:pt x="22357" y="12038"/>
                  <a:pt x="22366" y="12047"/>
                  <a:pt x="22374" y="12055"/>
                </a:cubicBezTo>
              </a:path>
              <a:path w="15405" h="3003">
                <a:moveTo>
                  <a:pt x="22225" y="11013"/>
                </a:moveTo>
                <a:cubicBezTo>
                  <a:pt x="22263" y="10990"/>
                  <a:pt x="22323" y="10973"/>
                  <a:pt x="22374" y="10988"/>
                </a:cubicBezTo>
                <a:cubicBezTo>
                  <a:pt x="22428" y="11004"/>
                  <a:pt x="22490" y="11011"/>
                  <a:pt x="22523" y="11063"/>
                </a:cubicBezTo>
                <a:cubicBezTo>
                  <a:pt x="22548" y="11103"/>
                  <a:pt x="22562" y="11189"/>
                  <a:pt x="22547" y="11237"/>
                </a:cubicBezTo>
                <a:cubicBezTo>
                  <a:pt x="22508" y="11364"/>
                  <a:pt x="22419" y="11426"/>
                  <a:pt x="22399" y="11559"/>
                </a:cubicBezTo>
                <a:cubicBezTo>
                  <a:pt x="22393" y="11597"/>
                  <a:pt x="22444" y="11624"/>
                  <a:pt x="22473" y="11633"/>
                </a:cubicBezTo>
                <a:cubicBezTo>
                  <a:pt x="22481" y="11633"/>
                  <a:pt x="22490" y="11633"/>
                  <a:pt x="22498" y="11633"/>
                </a:cubicBezTo>
              </a:path>
              <a:path w="15405" h="3003">
                <a:moveTo>
                  <a:pt x="22671" y="11708"/>
                </a:moveTo>
                <a:cubicBezTo>
                  <a:pt x="22683" y="11756"/>
                  <a:pt x="22719" y="11790"/>
                  <a:pt x="22771" y="11807"/>
                </a:cubicBezTo>
                <a:cubicBezTo>
                  <a:pt x="22824" y="11825"/>
                  <a:pt x="22865" y="11877"/>
                  <a:pt x="22920" y="11906"/>
                </a:cubicBezTo>
                <a:cubicBezTo>
                  <a:pt x="22978" y="11937"/>
                  <a:pt x="23041" y="11966"/>
                  <a:pt x="23093" y="12005"/>
                </a:cubicBezTo>
                <a:cubicBezTo>
                  <a:pt x="23103" y="12012"/>
                  <a:pt x="23168" y="12080"/>
                  <a:pt x="23168" y="12080"/>
                </a:cubicBezTo>
                <a:cubicBezTo>
                  <a:pt x="23168" y="12088"/>
                  <a:pt x="23168" y="12097"/>
                  <a:pt x="23168" y="12105"/>
                </a:cubicBezTo>
              </a:path>
              <a:path w="15405" h="3003">
                <a:moveTo>
                  <a:pt x="23118" y="11633"/>
                </a:moveTo>
                <a:cubicBezTo>
                  <a:pt x="23103" y="11694"/>
                  <a:pt x="23067" y="11694"/>
                  <a:pt x="23019" y="11733"/>
                </a:cubicBezTo>
                <a:cubicBezTo>
                  <a:pt x="22927" y="11809"/>
                  <a:pt x="22850" y="11892"/>
                  <a:pt x="22746" y="11956"/>
                </a:cubicBezTo>
                <a:cubicBezTo>
                  <a:pt x="22693" y="11988"/>
                  <a:pt x="22649" y="12022"/>
                  <a:pt x="22597" y="12055"/>
                </a:cubicBezTo>
              </a:path>
              <a:path w="15405" h="3003">
                <a:moveTo>
                  <a:pt x="21183" y="12378"/>
                </a:moveTo>
                <a:cubicBezTo>
                  <a:pt x="21280" y="12357"/>
                  <a:pt x="21384" y="12339"/>
                  <a:pt x="21481" y="12328"/>
                </a:cubicBezTo>
                <a:cubicBezTo>
                  <a:pt x="21683" y="12305"/>
                  <a:pt x="21931" y="12312"/>
                  <a:pt x="22126" y="12303"/>
                </a:cubicBezTo>
                <a:cubicBezTo>
                  <a:pt x="22356" y="12293"/>
                  <a:pt x="22589" y="12303"/>
                  <a:pt x="22820" y="12303"/>
                </a:cubicBezTo>
              </a:path>
              <a:path w="15405" h="3003">
                <a:moveTo>
                  <a:pt x="21382" y="12601"/>
                </a:moveTo>
                <a:cubicBezTo>
                  <a:pt x="21334" y="12601"/>
                  <a:pt x="21295" y="12602"/>
                  <a:pt x="21258" y="12626"/>
                </a:cubicBezTo>
                <a:cubicBezTo>
                  <a:pt x="21216" y="12653"/>
                  <a:pt x="21138" y="12710"/>
                  <a:pt x="21109" y="12750"/>
                </a:cubicBezTo>
                <a:cubicBezTo>
                  <a:pt x="21076" y="12796"/>
                  <a:pt x="21022" y="12867"/>
                  <a:pt x="21010" y="12923"/>
                </a:cubicBezTo>
                <a:cubicBezTo>
                  <a:pt x="20999" y="12976"/>
                  <a:pt x="20966" y="13067"/>
                  <a:pt x="20985" y="13122"/>
                </a:cubicBezTo>
                <a:cubicBezTo>
                  <a:pt x="21007" y="13186"/>
                  <a:pt x="21017" y="13239"/>
                  <a:pt x="21059" y="13295"/>
                </a:cubicBezTo>
                <a:cubicBezTo>
                  <a:pt x="21094" y="13342"/>
                  <a:pt x="21163" y="13324"/>
                  <a:pt x="21208" y="13345"/>
                </a:cubicBezTo>
                <a:cubicBezTo>
                  <a:pt x="21272" y="13375"/>
                  <a:pt x="21286" y="13359"/>
                  <a:pt x="21357" y="13345"/>
                </a:cubicBezTo>
              </a:path>
              <a:path w="15405" h="3003">
                <a:moveTo>
                  <a:pt x="21704" y="12750"/>
                </a:moveTo>
                <a:cubicBezTo>
                  <a:pt x="21697" y="12728"/>
                  <a:pt x="21665" y="12705"/>
                  <a:pt x="21630" y="12725"/>
                </a:cubicBezTo>
                <a:cubicBezTo>
                  <a:pt x="21587" y="12749"/>
                  <a:pt x="21557" y="12778"/>
                  <a:pt x="21530" y="12824"/>
                </a:cubicBezTo>
                <a:cubicBezTo>
                  <a:pt x="21495" y="12884"/>
                  <a:pt x="21481" y="12904"/>
                  <a:pt x="21481" y="12973"/>
                </a:cubicBezTo>
                <a:cubicBezTo>
                  <a:pt x="21481" y="13047"/>
                  <a:pt x="21477" y="13070"/>
                  <a:pt x="21530" y="13122"/>
                </a:cubicBezTo>
                <a:cubicBezTo>
                  <a:pt x="21565" y="13157"/>
                  <a:pt x="21606" y="13167"/>
                  <a:pt x="21654" y="13171"/>
                </a:cubicBezTo>
                <a:cubicBezTo>
                  <a:pt x="21676" y="13173"/>
                  <a:pt x="21743" y="13144"/>
                  <a:pt x="21754" y="13122"/>
                </a:cubicBezTo>
                <a:cubicBezTo>
                  <a:pt x="21776" y="13078"/>
                  <a:pt x="21779" y="13024"/>
                  <a:pt x="21779" y="12973"/>
                </a:cubicBezTo>
                <a:cubicBezTo>
                  <a:pt x="21779" y="12881"/>
                  <a:pt x="21770" y="12854"/>
                  <a:pt x="21754" y="12774"/>
                </a:cubicBezTo>
              </a:path>
              <a:path w="15405" h="3003">
                <a:moveTo>
                  <a:pt x="22126" y="12675"/>
                </a:moveTo>
                <a:cubicBezTo>
                  <a:pt x="22073" y="12675"/>
                  <a:pt x="22046" y="12676"/>
                  <a:pt x="22002" y="12700"/>
                </a:cubicBezTo>
                <a:cubicBezTo>
                  <a:pt x="21957" y="12724"/>
                  <a:pt x="21894" y="12750"/>
                  <a:pt x="21878" y="12774"/>
                </a:cubicBezTo>
                <a:cubicBezTo>
                  <a:pt x="21894" y="12822"/>
                  <a:pt x="21926" y="12806"/>
                  <a:pt x="21977" y="12824"/>
                </a:cubicBezTo>
                <a:cubicBezTo>
                  <a:pt x="22041" y="12847"/>
                  <a:pt x="22077" y="12850"/>
                  <a:pt x="22126" y="12898"/>
                </a:cubicBezTo>
                <a:cubicBezTo>
                  <a:pt x="22196" y="12967"/>
                  <a:pt x="22157" y="13009"/>
                  <a:pt x="22101" y="13097"/>
                </a:cubicBezTo>
                <a:cubicBezTo>
                  <a:pt x="22074" y="13140"/>
                  <a:pt x="21973" y="13181"/>
                  <a:pt x="21927" y="13196"/>
                </a:cubicBezTo>
                <a:cubicBezTo>
                  <a:pt x="21882" y="13210"/>
                  <a:pt x="21834" y="13200"/>
                  <a:pt x="21803" y="13171"/>
                </a:cubicBezTo>
                <a:cubicBezTo>
                  <a:pt x="21773" y="13144"/>
                  <a:pt x="21779" y="13134"/>
                  <a:pt x="21779" y="13097"/>
                </a:cubicBezTo>
              </a:path>
              <a:path w="15405" h="3003">
                <a:moveTo>
                  <a:pt x="22151" y="12452"/>
                </a:moveTo>
                <a:cubicBezTo>
                  <a:pt x="22181" y="12429"/>
                  <a:pt x="22212" y="12405"/>
                  <a:pt x="22250" y="12402"/>
                </a:cubicBezTo>
                <a:cubicBezTo>
                  <a:pt x="22330" y="12396"/>
                  <a:pt x="22382" y="12381"/>
                  <a:pt x="22448" y="12402"/>
                </a:cubicBezTo>
                <a:cubicBezTo>
                  <a:pt x="22491" y="12416"/>
                  <a:pt x="22477" y="12459"/>
                  <a:pt x="22448" y="12502"/>
                </a:cubicBezTo>
                <a:cubicBezTo>
                  <a:pt x="22413" y="12554"/>
                  <a:pt x="22331" y="12587"/>
                  <a:pt x="22324" y="12650"/>
                </a:cubicBezTo>
                <a:cubicBezTo>
                  <a:pt x="22318" y="12703"/>
                  <a:pt x="22361" y="12700"/>
                  <a:pt x="22399" y="12700"/>
                </a:cubicBezTo>
                <a:cubicBezTo>
                  <a:pt x="22407" y="12700"/>
                  <a:pt x="22415" y="12700"/>
                  <a:pt x="22423" y="12700"/>
                </a:cubicBezTo>
              </a:path>
              <a:path w="15405" h="3003">
                <a:moveTo>
                  <a:pt x="22622" y="12750"/>
                </a:moveTo>
                <a:cubicBezTo>
                  <a:pt x="22657" y="12810"/>
                  <a:pt x="22696" y="12849"/>
                  <a:pt x="22746" y="12898"/>
                </a:cubicBezTo>
                <a:cubicBezTo>
                  <a:pt x="22779" y="12931"/>
                  <a:pt x="22812" y="12965"/>
                  <a:pt x="22845" y="12998"/>
                </a:cubicBezTo>
                <a:cubicBezTo>
                  <a:pt x="22853" y="13006"/>
                  <a:pt x="22862" y="13014"/>
                  <a:pt x="22870" y="13022"/>
                </a:cubicBezTo>
              </a:path>
              <a:path w="15405" h="3003">
                <a:moveTo>
                  <a:pt x="22920" y="12774"/>
                </a:moveTo>
                <a:cubicBezTo>
                  <a:pt x="22836" y="12810"/>
                  <a:pt x="22859" y="12820"/>
                  <a:pt x="22796" y="12874"/>
                </a:cubicBezTo>
                <a:cubicBezTo>
                  <a:pt x="22730" y="12930"/>
                  <a:pt x="22661" y="12983"/>
                  <a:pt x="22597" y="13047"/>
                </a:cubicBezTo>
                <a:cubicBezTo>
                  <a:pt x="22547" y="13097"/>
                  <a:pt x="22531" y="13113"/>
                  <a:pt x="22498" y="13146"/>
                </a:cubicBezTo>
              </a:path>
              <a:path w="15405" h="3003">
                <a:moveTo>
                  <a:pt x="17810" y="11683"/>
                </a:moveTo>
                <a:cubicBezTo>
                  <a:pt x="17920" y="11715"/>
                  <a:pt x="17985" y="11750"/>
                  <a:pt x="18083" y="11807"/>
                </a:cubicBezTo>
                <a:cubicBezTo>
                  <a:pt x="18174" y="11859"/>
                  <a:pt x="18256" y="11898"/>
                  <a:pt x="18355" y="11931"/>
                </a:cubicBezTo>
                <a:cubicBezTo>
                  <a:pt x="18479" y="11973"/>
                  <a:pt x="18608" y="12005"/>
                  <a:pt x="18728" y="12055"/>
                </a:cubicBezTo>
                <a:cubicBezTo>
                  <a:pt x="18854" y="12108"/>
                  <a:pt x="18975" y="12154"/>
                  <a:pt x="19100" y="12204"/>
                </a:cubicBezTo>
                <a:cubicBezTo>
                  <a:pt x="19158" y="12229"/>
                  <a:pt x="19215" y="12253"/>
                  <a:pt x="19273" y="12278"/>
                </a:cubicBezTo>
              </a:path>
              <a:path w="15405" h="3003">
                <a:moveTo>
                  <a:pt x="21134" y="12774"/>
                </a:moveTo>
                <a:cubicBezTo>
                  <a:pt x="21235" y="12803"/>
                  <a:pt x="21334" y="12814"/>
                  <a:pt x="21431" y="12849"/>
                </a:cubicBezTo>
                <a:cubicBezTo>
                  <a:pt x="21551" y="12893"/>
                  <a:pt x="21686" y="12969"/>
                  <a:pt x="21803" y="13022"/>
                </a:cubicBezTo>
                <a:cubicBezTo>
                  <a:pt x="21930" y="13080"/>
                  <a:pt x="22056" y="13149"/>
                  <a:pt x="22175" y="13221"/>
                </a:cubicBezTo>
                <a:cubicBezTo>
                  <a:pt x="22283" y="13286"/>
                  <a:pt x="22404" y="13324"/>
                  <a:pt x="22523" y="13370"/>
                </a:cubicBezTo>
              </a:path>
              <a:path w="15405" h="3003">
                <a:moveTo>
                  <a:pt x="20662" y="11485"/>
                </a:moveTo>
                <a:cubicBezTo>
                  <a:pt x="20631" y="11465"/>
                  <a:pt x="20602" y="11420"/>
                  <a:pt x="20588" y="11410"/>
                </a:cubicBezTo>
                <a:cubicBezTo>
                  <a:pt x="20578" y="11403"/>
                  <a:pt x="20539" y="11386"/>
                  <a:pt x="20538" y="11385"/>
                </a:cubicBezTo>
                <a:cubicBezTo>
                  <a:pt x="20552" y="11426"/>
                  <a:pt x="20574" y="11471"/>
                  <a:pt x="20588" y="11509"/>
                </a:cubicBezTo>
                <a:cubicBezTo>
                  <a:pt x="20605" y="11558"/>
                  <a:pt x="20615" y="11605"/>
                  <a:pt x="20638" y="11658"/>
                </a:cubicBezTo>
                <a:cubicBezTo>
                  <a:pt x="20677" y="11750"/>
                  <a:pt x="20720" y="11841"/>
                  <a:pt x="20762" y="11931"/>
                </a:cubicBezTo>
                <a:cubicBezTo>
                  <a:pt x="20808" y="12031"/>
                  <a:pt x="20849" y="12165"/>
                  <a:pt x="20910" y="12254"/>
                </a:cubicBezTo>
                <a:cubicBezTo>
                  <a:pt x="20951" y="12314"/>
                  <a:pt x="21021" y="12382"/>
                  <a:pt x="21084" y="12427"/>
                </a:cubicBezTo>
                <a:cubicBezTo>
                  <a:pt x="21147" y="12472"/>
                  <a:pt x="21216" y="12481"/>
                  <a:pt x="21282" y="12502"/>
                </a:cubicBezTo>
                <a:cubicBezTo>
                  <a:pt x="21380" y="12533"/>
                  <a:pt x="21504" y="12566"/>
                  <a:pt x="21605" y="12576"/>
                </a:cubicBezTo>
                <a:cubicBezTo>
                  <a:pt x="21972" y="12614"/>
                  <a:pt x="22384" y="12588"/>
                  <a:pt x="22746" y="12551"/>
                </a:cubicBezTo>
                <a:cubicBezTo>
                  <a:pt x="22854" y="12540"/>
                  <a:pt x="22962" y="12545"/>
                  <a:pt x="23068" y="12526"/>
                </a:cubicBezTo>
                <a:cubicBezTo>
                  <a:pt x="23127" y="12516"/>
                  <a:pt x="23213" y="12521"/>
                  <a:pt x="23267" y="12502"/>
                </a:cubicBezTo>
                <a:cubicBezTo>
                  <a:pt x="23327" y="12481"/>
                  <a:pt x="23344" y="12449"/>
                  <a:pt x="23366" y="12402"/>
                </a:cubicBezTo>
                <a:cubicBezTo>
                  <a:pt x="23388" y="12355"/>
                  <a:pt x="23389" y="12338"/>
                  <a:pt x="23391" y="12278"/>
                </a:cubicBezTo>
                <a:cubicBezTo>
                  <a:pt x="23394" y="12192"/>
                  <a:pt x="23367" y="12109"/>
                  <a:pt x="23341" y="12030"/>
                </a:cubicBezTo>
                <a:cubicBezTo>
                  <a:pt x="23314" y="11946"/>
                  <a:pt x="23293" y="11866"/>
                  <a:pt x="23267" y="11782"/>
                </a:cubicBezTo>
                <a:cubicBezTo>
                  <a:pt x="23237" y="11687"/>
                  <a:pt x="23221" y="11585"/>
                  <a:pt x="23217" y="11485"/>
                </a:cubicBezTo>
                <a:cubicBezTo>
                  <a:pt x="23214" y="11392"/>
                  <a:pt x="23209" y="11279"/>
                  <a:pt x="23192" y="11187"/>
                </a:cubicBezTo>
                <a:cubicBezTo>
                  <a:pt x="23177" y="11103"/>
                  <a:pt x="23162" y="11020"/>
                  <a:pt x="23143" y="10939"/>
                </a:cubicBezTo>
                <a:cubicBezTo>
                  <a:pt x="23129" y="10877"/>
                  <a:pt x="23122" y="10824"/>
                  <a:pt x="23093" y="10765"/>
                </a:cubicBezTo>
                <a:cubicBezTo>
                  <a:pt x="23064" y="10707"/>
                  <a:pt x="23001" y="10659"/>
                  <a:pt x="22944" y="10641"/>
                </a:cubicBezTo>
                <a:cubicBezTo>
                  <a:pt x="22814" y="10600"/>
                  <a:pt x="22673" y="10676"/>
                  <a:pt x="22572" y="10691"/>
                </a:cubicBezTo>
                <a:cubicBezTo>
                  <a:pt x="22453" y="10709"/>
                  <a:pt x="22320" y="10727"/>
                  <a:pt x="22200" y="10740"/>
                </a:cubicBezTo>
                <a:cubicBezTo>
                  <a:pt x="22067" y="10754"/>
                  <a:pt x="21937" y="10802"/>
                  <a:pt x="21803" y="10815"/>
                </a:cubicBezTo>
                <a:cubicBezTo>
                  <a:pt x="21643" y="10830"/>
                  <a:pt x="21491" y="10868"/>
                  <a:pt x="21332" y="10889"/>
                </a:cubicBezTo>
                <a:cubicBezTo>
                  <a:pt x="21114" y="10918"/>
                  <a:pt x="20902" y="10944"/>
                  <a:pt x="20687" y="10988"/>
                </a:cubicBezTo>
                <a:cubicBezTo>
                  <a:pt x="20602" y="11005"/>
                  <a:pt x="20565" y="11001"/>
                  <a:pt x="20489" y="109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18200" y="1347840"/>
            <a:ext cx="1492560" cy="1108080"/>
          </a:xfrm>
          <a:custGeom>
            <a:avLst/>
            <a:gdLst/>
            <a:ahLst/>
            <a:rect l="l" t="t" r="r" b="b"/>
            <a:pathLst>
              <a:path w="4144" h="3076">
                <a:moveTo>
                  <a:pt x="20315" y="3969"/>
                </a:moveTo>
                <a:cubicBezTo>
                  <a:pt x="20367" y="4008"/>
                  <a:pt x="20412" y="4054"/>
                  <a:pt x="20464" y="4093"/>
                </a:cubicBezTo>
                <a:cubicBezTo>
                  <a:pt x="20549" y="4157"/>
                  <a:pt x="20637" y="4217"/>
                  <a:pt x="20687" y="4316"/>
                </a:cubicBezTo>
                <a:cubicBezTo>
                  <a:pt x="20739" y="4419"/>
                  <a:pt x="20759" y="4550"/>
                  <a:pt x="20762" y="4663"/>
                </a:cubicBezTo>
                <a:cubicBezTo>
                  <a:pt x="20766" y="4815"/>
                  <a:pt x="20762" y="4921"/>
                  <a:pt x="20712" y="5060"/>
                </a:cubicBezTo>
                <a:cubicBezTo>
                  <a:pt x="20647" y="5243"/>
                  <a:pt x="20560" y="5364"/>
                  <a:pt x="20389" y="5457"/>
                </a:cubicBezTo>
                <a:cubicBezTo>
                  <a:pt x="20253" y="5531"/>
                  <a:pt x="20163" y="5539"/>
                  <a:pt x="20017" y="5531"/>
                </a:cubicBezTo>
                <a:cubicBezTo>
                  <a:pt x="19863" y="5523"/>
                  <a:pt x="19734" y="5475"/>
                  <a:pt x="19621" y="5358"/>
                </a:cubicBezTo>
                <a:cubicBezTo>
                  <a:pt x="19537" y="5271"/>
                  <a:pt x="19466" y="5111"/>
                  <a:pt x="19496" y="4986"/>
                </a:cubicBezTo>
                <a:cubicBezTo>
                  <a:pt x="19515" y="4906"/>
                  <a:pt x="19562" y="4905"/>
                  <a:pt x="19621" y="4887"/>
                </a:cubicBezTo>
                <a:cubicBezTo>
                  <a:pt x="19656" y="4887"/>
                  <a:pt x="19673" y="4882"/>
                  <a:pt x="19695" y="4862"/>
                </a:cubicBezTo>
              </a:path>
              <a:path w="4144" h="3076">
                <a:moveTo>
                  <a:pt x="20712" y="4440"/>
                </a:moveTo>
                <a:cubicBezTo>
                  <a:pt x="20696" y="4572"/>
                  <a:pt x="20670" y="4601"/>
                  <a:pt x="20786" y="4663"/>
                </a:cubicBezTo>
                <a:cubicBezTo>
                  <a:pt x="20848" y="4696"/>
                  <a:pt x="20907" y="4741"/>
                  <a:pt x="20985" y="4713"/>
                </a:cubicBezTo>
                <a:cubicBezTo>
                  <a:pt x="20996" y="4709"/>
                  <a:pt x="21114" y="4632"/>
                  <a:pt x="21109" y="4614"/>
                </a:cubicBezTo>
                <a:cubicBezTo>
                  <a:pt x="21093" y="4551"/>
                  <a:pt x="21055" y="4511"/>
                  <a:pt x="21010" y="4465"/>
                </a:cubicBezTo>
                <a:cubicBezTo>
                  <a:pt x="20973" y="4427"/>
                  <a:pt x="20939" y="4402"/>
                  <a:pt x="20886" y="4390"/>
                </a:cubicBezTo>
                <a:cubicBezTo>
                  <a:pt x="20862" y="4385"/>
                  <a:pt x="20885" y="4398"/>
                  <a:pt x="20861" y="4390"/>
                </a:cubicBezTo>
                <a:cubicBezTo>
                  <a:pt x="20903" y="4386"/>
                  <a:pt x="20976" y="4388"/>
                  <a:pt x="21010" y="4366"/>
                </a:cubicBezTo>
                <a:cubicBezTo>
                  <a:pt x="21085" y="4317"/>
                  <a:pt x="21177" y="4270"/>
                  <a:pt x="21233" y="4192"/>
                </a:cubicBezTo>
                <a:cubicBezTo>
                  <a:pt x="21297" y="4103"/>
                  <a:pt x="21364" y="3994"/>
                  <a:pt x="21406" y="3894"/>
                </a:cubicBezTo>
                <a:cubicBezTo>
                  <a:pt x="21434" y="3828"/>
                  <a:pt x="21425" y="3825"/>
                  <a:pt x="21431" y="3770"/>
                </a:cubicBezTo>
                <a:cubicBezTo>
                  <a:pt x="21380" y="3796"/>
                  <a:pt x="21378" y="3817"/>
                  <a:pt x="21357" y="3870"/>
                </a:cubicBezTo>
                <a:cubicBezTo>
                  <a:pt x="21310" y="3990"/>
                  <a:pt x="21307" y="4088"/>
                  <a:pt x="21307" y="4217"/>
                </a:cubicBezTo>
                <a:cubicBezTo>
                  <a:pt x="21307" y="4326"/>
                  <a:pt x="21314" y="4423"/>
                  <a:pt x="21431" y="4465"/>
                </a:cubicBezTo>
                <a:cubicBezTo>
                  <a:pt x="21562" y="4512"/>
                  <a:pt x="21724" y="4485"/>
                  <a:pt x="21853" y="4440"/>
                </a:cubicBezTo>
                <a:cubicBezTo>
                  <a:pt x="21942" y="4395"/>
                  <a:pt x="21965" y="4381"/>
                  <a:pt x="22027" y="4366"/>
                </a:cubicBezTo>
              </a:path>
              <a:path w="4144" h="3076">
                <a:moveTo>
                  <a:pt x="20886" y="5407"/>
                </a:moveTo>
                <a:cubicBezTo>
                  <a:pt x="20837" y="5413"/>
                  <a:pt x="20826" y="5399"/>
                  <a:pt x="20786" y="5432"/>
                </a:cubicBezTo>
                <a:cubicBezTo>
                  <a:pt x="20741" y="5469"/>
                  <a:pt x="20685" y="5553"/>
                  <a:pt x="20662" y="5606"/>
                </a:cubicBezTo>
                <a:cubicBezTo>
                  <a:pt x="20620" y="5704"/>
                  <a:pt x="20568" y="5828"/>
                  <a:pt x="20538" y="5928"/>
                </a:cubicBezTo>
                <a:cubicBezTo>
                  <a:pt x="20483" y="6109"/>
                  <a:pt x="20468" y="6312"/>
                  <a:pt x="20489" y="6499"/>
                </a:cubicBezTo>
                <a:cubicBezTo>
                  <a:pt x="20501" y="6608"/>
                  <a:pt x="20573" y="6782"/>
                  <a:pt x="20687" y="6821"/>
                </a:cubicBezTo>
                <a:cubicBezTo>
                  <a:pt x="20769" y="6849"/>
                  <a:pt x="20936" y="6806"/>
                  <a:pt x="21010" y="6772"/>
                </a:cubicBezTo>
                <a:cubicBezTo>
                  <a:pt x="21124" y="6719"/>
                  <a:pt x="21208" y="6647"/>
                  <a:pt x="21282" y="6548"/>
                </a:cubicBezTo>
                <a:cubicBezTo>
                  <a:pt x="21339" y="6472"/>
                  <a:pt x="21381" y="6374"/>
                  <a:pt x="21357" y="6276"/>
                </a:cubicBezTo>
                <a:cubicBezTo>
                  <a:pt x="21349" y="6259"/>
                  <a:pt x="21340" y="6243"/>
                  <a:pt x="21332" y="6226"/>
                </a:cubicBezTo>
              </a:path>
              <a:path w="4144" h="3076">
                <a:moveTo>
                  <a:pt x="21034" y="6077"/>
                </a:moveTo>
                <a:cubicBezTo>
                  <a:pt x="20927" y="6059"/>
                  <a:pt x="20919" y="6051"/>
                  <a:pt x="20861" y="6052"/>
                </a:cubicBezTo>
                <a:cubicBezTo>
                  <a:pt x="20869" y="5985"/>
                  <a:pt x="20876" y="5953"/>
                  <a:pt x="20935" y="5904"/>
                </a:cubicBezTo>
                <a:cubicBezTo>
                  <a:pt x="21037" y="5821"/>
                  <a:pt x="21123" y="5749"/>
                  <a:pt x="21258" y="5730"/>
                </a:cubicBezTo>
                <a:cubicBezTo>
                  <a:pt x="21340" y="5718"/>
                  <a:pt x="21422" y="5754"/>
                  <a:pt x="21456" y="5829"/>
                </a:cubicBezTo>
                <a:cubicBezTo>
                  <a:pt x="21509" y="5946"/>
                  <a:pt x="21521" y="6100"/>
                  <a:pt x="21530" y="6226"/>
                </a:cubicBezTo>
                <a:cubicBezTo>
                  <a:pt x="21536" y="6311"/>
                  <a:pt x="21536" y="6456"/>
                  <a:pt x="21605" y="6524"/>
                </a:cubicBezTo>
                <a:cubicBezTo>
                  <a:pt x="21621" y="6532"/>
                  <a:pt x="21638" y="6540"/>
                  <a:pt x="21654" y="6548"/>
                </a:cubicBezTo>
              </a:path>
              <a:path w="4144" h="3076">
                <a:moveTo>
                  <a:pt x="21903" y="6276"/>
                </a:moveTo>
                <a:cubicBezTo>
                  <a:pt x="21837" y="6099"/>
                  <a:pt x="21846" y="6135"/>
                  <a:pt x="21729" y="6028"/>
                </a:cubicBezTo>
                <a:cubicBezTo>
                  <a:pt x="21687" y="5990"/>
                  <a:pt x="21619" y="5938"/>
                  <a:pt x="21605" y="5879"/>
                </a:cubicBezTo>
                <a:cubicBezTo>
                  <a:pt x="21591" y="5819"/>
                  <a:pt x="21592" y="5698"/>
                  <a:pt x="21630" y="5655"/>
                </a:cubicBezTo>
                <a:cubicBezTo>
                  <a:pt x="21685" y="5591"/>
                  <a:pt x="21723" y="5581"/>
                  <a:pt x="21803" y="5581"/>
                </a:cubicBezTo>
                <a:cubicBezTo>
                  <a:pt x="21862" y="5581"/>
                  <a:pt x="21888" y="5584"/>
                  <a:pt x="21927" y="5606"/>
                </a:cubicBezTo>
              </a:path>
              <a:path w="4144" h="3076">
                <a:moveTo>
                  <a:pt x="21977" y="5680"/>
                </a:moveTo>
                <a:cubicBezTo>
                  <a:pt x="21950" y="5671"/>
                  <a:pt x="21918" y="5657"/>
                  <a:pt x="21878" y="5631"/>
                </a:cubicBezTo>
                <a:cubicBezTo>
                  <a:pt x="21818" y="5591"/>
                  <a:pt x="21806" y="5518"/>
                  <a:pt x="21803" y="5457"/>
                </a:cubicBezTo>
                <a:cubicBezTo>
                  <a:pt x="21799" y="5384"/>
                  <a:pt x="21799" y="5325"/>
                  <a:pt x="21828" y="5259"/>
                </a:cubicBezTo>
                <a:cubicBezTo>
                  <a:pt x="21863" y="5189"/>
                  <a:pt x="21890" y="5159"/>
                  <a:pt x="21952" y="5135"/>
                </a:cubicBezTo>
              </a:path>
              <a:path w="4144" h="3076">
                <a:moveTo>
                  <a:pt x="22473" y="5184"/>
                </a:moveTo>
                <a:cubicBezTo>
                  <a:pt x="22446" y="5164"/>
                  <a:pt x="22413" y="5145"/>
                  <a:pt x="22374" y="5159"/>
                </a:cubicBezTo>
                <a:cubicBezTo>
                  <a:pt x="22285" y="5191"/>
                  <a:pt x="22256" y="5241"/>
                  <a:pt x="22200" y="5308"/>
                </a:cubicBezTo>
                <a:cubicBezTo>
                  <a:pt x="22159" y="5357"/>
                  <a:pt x="22065" y="5455"/>
                  <a:pt x="22101" y="5531"/>
                </a:cubicBezTo>
                <a:cubicBezTo>
                  <a:pt x="22156" y="5646"/>
                  <a:pt x="22251" y="5525"/>
                  <a:pt x="22299" y="5482"/>
                </a:cubicBezTo>
                <a:cubicBezTo>
                  <a:pt x="22350" y="5437"/>
                  <a:pt x="22408" y="5352"/>
                  <a:pt x="22423" y="5283"/>
                </a:cubicBezTo>
                <a:cubicBezTo>
                  <a:pt x="22438" y="5216"/>
                  <a:pt x="22448" y="5156"/>
                  <a:pt x="22448" y="5085"/>
                </a:cubicBezTo>
                <a:cubicBezTo>
                  <a:pt x="22448" y="5058"/>
                  <a:pt x="22450" y="4989"/>
                  <a:pt x="22399" y="5011"/>
                </a:cubicBezTo>
                <a:cubicBezTo>
                  <a:pt x="22357" y="5029"/>
                  <a:pt x="22349" y="5035"/>
                  <a:pt x="22299" y="5035"/>
                </a:cubicBezTo>
                <a:cubicBezTo>
                  <a:pt x="22326" y="5044"/>
                  <a:pt x="22345" y="5053"/>
                  <a:pt x="22349" y="5085"/>
                </a:cubicBezTo>
                <a:cubicBezTo>
                  <a:pt x="22355" y="5129"/>
                  <a:pt x="22365" y="5113"/>
                  <a:pt x="22374" y="5085"/>
                </a:cubicBezTo>
              </a:path>
              <a:path w="4144" h="3076">
                <a:moveTo>
                  <a:pt x="22671" y="4887"/>
                </a:moveTo>
                <a:cubicBezTo>
                  <a:pt x="22599" y="4858"/>
                  <a:pt x="22625" y="4866"/>
                  <a:pt x="22572" y="4936"/>
                </a:cubicBezTo>
                <a:cubicBezTo>
                  <a:pt x="22539" y="4979"/>
                  <a:pt x="22491" y="5010"/>
                  <a:pt x="22473" y="5035"/>
                </a:cubicBezTo>
                <a:cubicBezTo>
                  <a:pt x="22528" y="5068"/>
                  <a:pt x="22602" y="5066"/>
                  <a:pt x="22671" y="5085"/>
                </a:cubicBezTo>
                <a:cubicBezTo>
                  <a:pt x="22768" y="5111"/>
                  <a:pt x="22850" y="5193"/>
                  <a:pt x="22895" y="5283"/>
                </a:cubicBezTo>
                <a:cubicBezTo>
                  <a:pt x="22964" y="5421"/>
                  <a:pt x="22969" y="5527"/>
                  <a:pt x="22969" y="5680"/>
                </a:cubicBezTo>
                <a:cubicBezTo>
                  <a:pt x="22969" y="5804"/>
                  <a:pt x="22998" y="5961"/>
                  <a:pt x="22944" y="6077"/>
                </a:cubicBezTo>
                <a:cubicBezTo>
                  <a:pt x="22922" y="6100"/>
                  <a:pt x="22917" y="6108"/>
                  <a:pt x="22895" y="6102"/>
                </a:cubicBezTo>
                <a:cubicBezTo>
                  <a:pt x="22810" y="6090"/>
                  <a:pt x="22810" y="6056"/>
                  <a:pt x="22771" y="5978"/>
                </a:cubicBezTo>
                <a:cubicBezTo>
                  <a:pt x="22724" y="5883"/>
                  <a:pt x="22746" y="5760"/>
                  <a:pt x="22746" y="5655"/>
                </a:cubicBezTo>
                <a:cubicBezTo>
                  <a:pt x="22746" y="5486"/>
                  <a:pt x="22769" y="5298"/>
                  <a:pt x="22820" y="5135"/>
                </a:cubicBezTo>
                <a:cubicBezTo>
                  <a:pt x="22869" y="5013"/>
                  <a:pt x="22885" y="4974"/>
                  <a:pt x="22895" y="4887"/>
                </a:cubicBezTo>
              </a:path>
              <a:path w="4144" h="3076">
                <a:moveTo>
                  <a:pt x="22944" y="4663"/>
                </a:moveTo>
                <a:cubicBezTo>
                  <a:pt x="22893" y="4571"/>
                  <a:pt x="22880" y="4561"/>
                  <a:pt x="22796" y="4638"/>
                </a:cubicBezTo>
                <a:cubicBezTo>
                  <a:pt x="22738" y="4692"/>
                  <a:pt x="22743" y="4771"/>
                  <a:pt x="22721" y="4837"/>
                </a:cubicBezTo>
                <a:cubicBezTo>
                  <a:pt x="22713" y="4854"/>
                  <a:pt x="22704" y="4870"/>
                  <a:pt x="22696" y="4887"/>
                </a:cubicBezTo>
              </a:path>
              <a:path w="4144" h="3076">
                <a:moveTo>
                  <a:pt x="22944" y="4862"/>
                </a:moveTo>
                <a:cubicBezTo>
                  <a:pt x="23163" y="4990"/>
                  <a:pt x="23313" y="5037"/>
                  <a:pt x="23391" y="5283"/>
                </a:cubicBezTo>
                <a:cubicBezTo>
                  <a:pt x="23452" y="5475"/>
                  <a:pt x="23440" y="5681"/>
                  <a:pt x="23440" y="5879"/>
                </a:cubicBezTo>
                <a:cubicBezTo>
                  <a:pt x="23440" y="6050"/>
                  <a:pt x="23426" y="6234"/>
                  <a:pt x="23391" y="6400"/>
                </a:cubicBezTo>
                <a:cubicBezTo>
                  <a:pt x="23372" y="6457"/>
                  <a:pt x="23363" y="6500"/>
                  <a:pt x="23366" y="6449"/>
                </a:cubicBezTo>
                <a:cubicBezTo>
                  <a:pt x="23392" y="6332"/>
                  <a:pt x="23465" y="6226"/>
                  <a:pt x="23540" y="6127"/>
                </a:cubicBezTo>
                <a:cubicBezTo>
                  <a:pt x="23573" y="6086"/>
                  <a:pt x="23606" y="6044"/>
                  <a:pt x="23639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43200" y="2963880"/>
            <a:ext cx="36720" cy="366840"/>
          </a:xfrm>
          <a:custGeom>
            <a:avLst/>
            <a:gdLst/>
            <a:ahLst/>
            <a:rect l="l" t="t" r="r" b="b"/>
            <a:pathLst>
              <a:path w="101" h="1018">
                <a:moveTo>
                  <a:pt x="10120" y="8235"/>
                </a:moveTo>
                <a:cubicBezTo>
                  <a:pt x="10129" y="8301"/>
                  <a:pt x="10161" y="8337"/>
                  <a:pt x="10170" y="8409"/>
                </a:cubicBezTo>
                <a:cubicBezTo>
                  <a:pt x="10180" y="8492"/>
                  <a:pt x="10195" y="8542"/>
                  <a:pt x="10195" y="8632"/>
                </a:cubicBezTo>
                <a:cubicBezTo>
                  <a:pt x="10195" y="8739"/>
                  <a:pt x="10190" y="8827"/>
                  <a:pt x="10170" y="8930"/>
                </a:cubicBezTo>
                <a:cubicBezTo>
                  <a:pt x="10160" y="8980"/>
                  <a:pt x="10194" y="9073"/>
                  <a:pt x="10195" y="9079"/>
                </a:cubicBezTo>
                <a:cubicBezTo>
                  <a:pt x="10207" y="9150"/>
                  <a:pt x="10189" y="9191"/>
                  <a:pt x="10220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84720" y="3348000"/>
            <a:ext cx="598320" cy="9720"/>
          </a:xfrm>
          <a:custGeom>
            <a:avLst/>
            <a:gdLst/>
            <a:ahLst/>
            <a:rect l="l" t="t" r="r" b="b"/>
            <a:pathLst>
              <a:path w="1663" h="26">
                <a:moveTo>
                  <a:pt x="9401" y="9327"/>
                </a:moveTo>
                <a:cubicBezTo>
                  <a:pt x="9554" y="9327"/>
                  <a:pt x="9697" y="9317"/>
                  <a:pt x="9847" y="9302"/>
                </a:cubicBezTo>
                <a:cubicBezTo>
                  <a:pt x="10243" y="9262"/>
                  <a:pt x="10664" y="9302"/>
                  <a:pt x="11063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86080" y="3402000"/>
            <a:ext cx="241200" cy="349200"/>
          </a:xfrm>
          <a:custGeom>
            <a:avLst/>
            <a:gdLst/>
            <a:ahLst/>
            <a:rect l="l" t="t" r="r" b="b"/>
            <a:pathLst>
              <a:path w="671" h="968">
                <a:moveTo>
                  <a:pt x="9699" y="9500"/>
                </a:moveTo>
                <a:cubicBezTo>
                  <a:pt x="9686" y="9461"/>
                  <a:pt x="9651" y="9453"/>
                  <a:pt x="9599" y="9451"/>
                </a:cubicBezTo>
                <a:cubicBezTo>
                  <a:pt x="9549" y="9449"/>
                  <a:pt x="9515" y="9458"/>
                  <a:pt x="9475" y="9475"/>
                </a:cubicBezTo>
                <a:cubicBezTo>
                  <a:pt x="9394" y="9510"/>
                  <a:pt x="9375" y="9534"/>
                  <a:pt x="9327" y="9599"/>
                </a:cubicBezTo>
                <a:cubicBezTo>
                  <a:pt x="9294" y="9643"/>
                  <a:pt x="9229" y="9701"/>
                  <a:pt x="9203" y="9748"/>
                </a:cubicBezTo>
                <a:cubicBezTo>
                  <a:pt x="9175" y="9800"/>
                  <a:pt x="9136" y="9911"/>
                  <a:pt x="9128" y="9971"/>
                </a:cubicBezTo>
                <a:cubicBezTo>
                  <a:pt x="9117" y="10052"/>
                  <a:pt x="9120" y="10154"/>
                  <a:pt x="9153" y="10220"/>
                </a:cubicBezTo>
                <a:cubicBezTo>
                  <a:pt x="9188" y="10289"/>
                  <a:pt x="9223" y="10321"/>
                  <a:pt x="9277" y="10368"/>
                </a:cubicBezTo>
                <a:cubicBezTo>
                  <a:pt x="9349" y="10431"/>
                  <a:pt x="9376" y="10418"/>
                  <a:pt x="9475" y="10418"/>
                </a:cubicBezTo>
                <a:cubicBezTo>
                  <a:pt x="9581" y="10418"/>
                  <a:pt x="9657" y="10440"/>
                  <a:pt x="9723" y="10368"/>
                </a:cubicBezTo>
                <a:cubicBezTo>
                  <a:pt x="9769" y="10318"/>
                  <a:pt x="9752" y="10362"/>
                  <a:pt x="9798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0280" y="3537000"/>
            <a:ext cx="125640" cy="160200"/>
          </a:xfrm>
          <a:custGeom>
            <a:avLst/>
            <a:gdLst/>
            <a:ahLst/>
            <a:rect l="l" t="t" r="r" b="b"/>
            <a:pathLst>
              <a:path w="349" h="447">
                <a:moveTo>
                  <a:pt x="10071" y="9922"/>
                </a:moveTo>
                <a:cubicBezTo>
                  <a:pt x="10062" y="9896"/>
                  <a:pt x="10028" y="9862"/>
                  <a:pt x="10021" y="9847"/>
                </a:cubicBezTo>
                <a:cubicBezTo>
                  <a:pt x="10006" y="9812"/>
                  <a:pt x="9993" y="9823"/>
                  <a:pt x="9947" y="9823"/>
                </a:cubicBezTo>
                <a:cubicBezTo>
                  <a:pt x="9871" y="9823"/>
                  <a:pt x="9890" y="9858"/>
                  <a:pt x="9823" y="9897"/>
                </a:cubicBezTo>
                <a:cubicBezTo>
                  <a:pt x="9795" y="9913"/>
                  <a:pt x="9739" y="9998"/>
                  <a:pt x="9723" y="10046"/>
                </a:cubicBezTo>
                <a:cubicBezTo>
                  <a:pt x="9705" y="10099"/>
                  <a:pt x="9726" y="10176"/>
                  <a:pt x="9748" y="10195"/>
                </a:cubicBezTo>
                <a:cubicBezTo>
                  <a:pt x="9812" y="10251"/>
                  <a:pt x="9780" y="10269"/>
                  <a:pt x="9872" y="10269"/>
                </a:cubicBezTo>
                <a:cubicBezTo>
                  <a:pt x="9926" y="10269"/>
                  <a:pt x="9950" y="10210"/>
                  <a:pt x="9996" y="10195"/>
                </a:cubicBezTo>
                <a:cubicBezTo>
                  <a:pt x="10061" y="10173"/>
                  <a:pt x="10068" y="10111"/>
                  <a:pt x="10071" y="10046"/>
                </a:cubicBezTo>
                <a:cubicBezTo>
                  <a:pt x="10075" y="9958"/>
                  <a:pt x="10038" y="9952"/>
                  <a:pt x="10021" y="9897"/>
                </a:cubicBezTo>
                <a:cubicBezTo>
                  <a:pt x="10021" y="9872"/>
                  <a:pt x="10021" y="9848"/>
                  <a:pt x="10021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97200" y="3463920"/>
            <a:ext cx="61920" cy="268200"/>
          </a:xfrm>
          <a:custGeom>
            <a:avLst/>
            <a:gdLst/>
            <a:ahLst/>
            <a:rect l="l" t="t" r="r" b="b"/>
            <a:pathLst>
              <a:path w="175" h="745">
                <a:moveTo>
                  <a:pt x="10269" y="9624"/>
                </a:moveTo>
                <a:cubicBezTo>
                  <a:pt x="10269" y="9683"/>
                  <a:pt x="10290" y="9718"/>
                  <a:pt x="10294" y="9773"/>
                </a:cubicBezTo>
                <a:cubicBezTo>
                  <a:pt x="10299" y="9846"/>
                  <a:pt x="10327" y="9906"/>
                  <a:pt x="10344" y="9971"/>
                </a:cubicBezTo>
                <a:cubicBezTo>
                  <a:pt x="10366" y="10053"/>
                  <a:pt x="10388" y="10110"/>
                  <a:pt x="10393" y="10195"/>
                </a:cubicBezTo>
                <a:cubicBezTo>
                  <a:pt x="10394" y="10206"/>
                  <a:pt x="10412" y="10336"/>
                  <a:pt x="10418" y="10344"/>
                </a:cubicBezTo>
                <a:cubicBezTo>
                  <a:pt x="10443" y="10379"/>
                  <a:pt x="10418" y="10352"/>
                  <a:pt x="10393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2920" y="3562200"/>
            <a:ext cx="177840" cy="9720"/>
          </a:xfrm>
          <a:custGeom>
            <a:avLst/>
            <a:gdLst/>
            <a:ahLst/>
            <a:rect l="l" t="t" r="r" b="b"/>
            <a:pathLst>
              <a:path w="497" h="26">
                <a:moveTo>
                  <a:pt x="10145" y="9922"/>
                </a:moveTo>
                <a:cubicBezTo>
                  <a:pt x="10159" y="9880"/>
                  <a:pt x="10193" y="9897"/>
                  <a:pt x="10244" y="9897"/>
                </a:cubicBezTo>
                <a:cubicBezTo>
                  <a:pt x="10376" y="9897"/>
                  <a:pt x="10509" y="9897"/>
                  <a:pt x="10641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7760" y="3456000"/>
            <a:ext cx="196560" cy="276120"/>
          </a:xfrm>
          <a:custGeom>
            <a:avLst/>
            <a:gdLst/>
            <a:ahLst/>
            <a:rect l="l" t="t" r="r" b="b"/>
            <a:pathLst>
              <a:path w="546" h="770">
                <a:moveTo>
                  <a:pt x="11187" y="9748"/>
                </a:moveTo>
                <a:cubicBezTo>
                  <a:pt x="11182" y="9688"/>
                  <a:pt x="11191" y="9605"/>
                  <a:pt x="11112" y="9599"/>
                </a:cubicBezTo>
                <a:cubicBezTo>
                  <a:pt x="11051" y="9595"/>
                  <a:pt x="11011" y="9615"/>
                  <a:pt x="10964" y="9624"/>
                </a:cubicBezTo>
                <a:cubicBezTo>
                  <a:pt x="10895" y="9638"/>
                  <a:pt x="10858" y="9685"/>
                  <a:pt x="10815" y="9748"/>
                </a:cubicBezTo>
                <a:cubicBezTo>
                  <a:pt x="10755" y="9836"/>
                  <a:pt x="10720" y="9863"/>
                  <a:pt x="10716" y="9971"/>
                </a:cubicBezTo>
                <a:cubicBezTo>
                  <a:pt x="10713" y="10046"/>
                  <a:pt x="10701" y="10129"/>
                  <a:pt x="10740" y="10195"/>
                </a:cubicBezTo>
                <a:cubicBezTo>
                  <a:pt x="10785" y="10272"/>
                  <a:pt x="10843" y="10313"/>
                  <a:pt x="10914" y="10344"/>
                </a:cubicBezTo>
                <a:cubicBezTo>
                  <a:pt x="10969" y="10368"/>
                  <a:pt x="11050" y="10385"/>
                  <a:pt x="11112" y="10368"/>
                </a:cubicBezTo>
                <a:cubicBezTo>
                  <a:pt x="11194" y="10346"/>
                  <a:pt x="11173" y="10305"/>
                  <a:pt x="11237" y="10269"/>
                </a:cubicBezTo>
                <a:cubicBezTo>
                  <a:pt x="11289" y="10240"/>
                  <a:pt x="11254" y="10048"/>
                  <a:pt x="11237" y="9996"/>
                </a:cubicBezTo>
                <a:cubicBezTo>
                  <a:pt x="11215" y="9928"/>
                  <a:pt x="11152" y="9837"/>
                  <a:pt x="11112" y="9773"/>
                </a:cubicBezTo>
                <a:cubicBezTo>
                  <a:pt x="11090" y="9750"/>
                  <a:pt x="11085" y="9742"/>
                  <a:pt x="11063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21040" y="3589200"/>
            <a:ext cx="376200" cy="9720"/>
          </a:xfrm>
          <a:custGeom>
            <a:avLst/>
            <a:gdLst/>
            <a:ahLst/>
            <a:rect l="l" t="t" r="r" b="b"/>
            <a:pathLst>
              <a:path w="1043" h="26">
                <a:moveTo>
                  <a:pt x="10616" y="9996"/>
                </a:moveTo>
                <a:cubicBezTo>
                  <a:pt x="10677" y="9996"/>
                  <a:pt x="10711" y="9978"/>
                  <a:pt x="10765" y="9971"/>
                </a:cubicBezTo>
                <a:cubicBezTo>
                  <a:pt x="10891" y="9954"/>
                  <a:pt x="11020" y="9981"/>
                  <a:pt x="11137" y="9996"/>
                </a:cubicBezTo>
                <a:cubicBezTo>
                  <a:pt x="11304" y="10017"/>
                  <a:pt x="11489" y="9996"/>
                  <a:pt x="11658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960" y="1731960"/>
            <a:ext cx="482400" cy="438120"/>
          </a:xfrm>
          <a:custGeom>
            <a:avLst/>
            <a:gdLst/>
            <a:ahLst/>
            <a:rect l="l" t="t" r="r" b="b"/>
            <a:pathLst>
              <a:path w="1341" h="1217">
                <a:moveTo>
                  <a:pt x="2232" y="4837"/>
                </a:moveTo>
                <a:cubicBezTo>
                  <a:pt x="2232" y="4917"/>
                  <a:pt x="2221" y="4992"/>
                  <a:pt x="2208" y="5060"/>
                </a:cubicBezTo>
                <a:cubicBezTo>
                  <a:pt x="2190" y="5153"/>
                  <a:pt x="2160" y="5181"/>
                  <a:pt x="2108" y="5259"/>
                </a:cubicBezTo>
                <a:cubicBezTo>
                  <a:pt x="2095" y="5279"/>
                  <a:pt x="2048" y="5374"/>
                  <a:pt x="2034" y="5383"/>
                </a:cubicBezTo>
                <a:cubicBezTo>
                  <a:pt x="2009" y="5383"/>
                  <a:pt x="2001" y="5383"/>
                  <a:pt x="2009" y="5407"/>
                </a:cubicBezTo>
                <a:cubicBezTo>
                  <a:pt x="2054" y="5407"/>
                  <a:pt x="2068" y="5387"/>
                  <a:pt x="2108" y="5383"/>
                </a:cubicBezTo>
                <a:cubicBezTo>
                  <a:pt x="2179" y="5375"/>
                  <a:pt x="2239" y="5373"/>
                  <a:pt x="2307" y="5358"/>
                </a:cubicBezTo>
                <a:cubicBezTo>
                  <a:pt x="2384" y="5341"/>
                  <a:pt x="2491" y="5386"/>
                  <a:pt x="2530" y="5333"/>
                </a:cubicBezTo>
                <a:cubicBezTo>
                  <a:pt x="2556" y="5298"/>
                  <a:pt x="2555" y="5302"/>
                  <a:pt x="2555" y="5259"/>
                </a:cubicBezTo>
              </a:path>
              <a:path w="1341" h="1217">
                <a:moveTo>
                  <a:pt x="2505" y="4812"/>
                </a:moveTo>
                <a:cubicBezTo>
                  <a:pt x="2538" y="4867"/>
                  <a:pt x="2530" y="4918"/>
                  <a:pt x="2530" y="4986"/>
                </a:cubicBezTo>
                <a:cubicBezTo>
                  <a:pt x="2530" y="5130"/>
                  <a:pt x="2518" y="5268"/>
                  <a:pt x="2505" y="5407"/>
                </a:cubicBezTo>
                <a:cubicBezTo>
                  <a:pt x="2493" y="5530"/>
                  <a:pt x="2463" y="5766"/>
                  <a:pt x="2480" y="5879"/>
                </a:cubicBezTo>
                <a:cubicBezTo>
                  <a:pt x="2484" y="5908"/>
                  <a:pt x="2505" y="5914"/>
                  <a:pt x="2505" y="5953"/>
                </a:cubicBezTo>
                <a:cubicBezTo>
                  <a:pt x="2476" y="5915"/>
                  <a:pt x="2480" y="5902"/>
                  <a:pt x="2480" y="5854"/>
                </a:cubicBezTo>
              </a:path>
              <a:path w="1341" h="1217">
                <a:moveTo>
                  <a:pt x="2778" y="5110"/>
                </a:moveTo>
                <a:cubicBezTo>
                  <a:pt x="2807" y="5052"/>
                  <a:pt x="2831" y="5007"/>
                  <a:pt x="2877" y="4961"/>
                </a:cubicBezTo>
                <a:cubicBezTo>
                  <a:pt x="2927" y="4911"/>
                  <a:pt x="2927" y="4881"/>
                  <a:pt x="3001" y="4862"/>
                </a:cubicBezTo>
                <a:cubicBezTo>
                  <a:pt x="3073" y="4844"/>
                  <a:pt x="3087" y="4843"/>
                  <a:pt x="3150" y="4862"/>
                </a:cubicBezTo>
                <a:cubicBezTo>
                  <a:pt x="3204" y="4878"/>
                  <a:pt x="3231" y="4927"/>
                  <a:pt x="3249" y="4986"/>
                </a:cubicBezTo>
                <a:cubicBezTo>
                  <a:pt x="3270" y="5055"/>
                  <a:pt x="3242" y="5166"/>
                  <a:pt x="3225" y="5234"/>
                </a:cubicBezTo>
                <a:cubicBezTo>
                  <a:pt x="3199" y="5338"/>
                  <a:pt x="3141" y="5411"/>
                  <a:pt x="3101" y="5507"/>
                </a:cubicBezTo>
                <a:cubicBezTo>
                  <a:pt x="3064" y="5597"/>
                  <a:pt x="3042" y="5691"/>
                  <a:pt x="3001" y="5779"/>
                </a:cubicBezTo>
                <a:cubicBezTo>
                  <a:pt x="2975" y="5835"/>
                  <a:pt x="2942" y="5894"/>
                  <a:pt x="2927" y="5953"/>
                </a:cubicBezTo>
                <a:cubicBezTo>
                  <a:pt x="2927" y="5981"/>
                  <a:pt x="2925" y="5992"/>
                  <a:pt x="2902" y="6003"/>
                </a:cubicBezTo>
                <a:cubicBezTo>
                  <a:pt x="2912" y="5963"/>
                  <a:pt x="2930" y="5930"/>
                  <a:pt x="2977" y="5928"/>
                </a:cubicBezTo>
                <a:cubicBezTo>
                  <a:pt x="3030" y="5925"/>
                  <a:pt x="3058" y="5939"/>
                  <a:pt x="3101" y="5953"/>
                </a:cubicBezTo>
                <a:cubicBezTo>
                  <a:pt x="3135" y="5964"/>
                  <a:pt x="3223" y="5972"/>
                  <a:pt x="3249" y="6003"/>
                </a:cubicBezTo>
                <a:cubicBezTo>
                  <a:pt x="3249" y="6011"/>
                  <a:pt x="3249" y="6020"/>
                  <a:pt x="3249" y="6028"/>
                </a:cubicBezTo>
              </a:path>
              <a:path w="1341" h="1217">
                <a:moveTo>
                  <a:pt x="3349" y="6003"/>
                </a:moveTo>
                <a:cubicBezTo>
                  <a:pt x="3349" y="5978"/>
                  <a:pt x="3349" y="5970"/>
                  <a:pt x="3324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7120" y="1677960"/>
            <a:ext cx="3143160" cy="563760"/>
          </a:xfrm>
          <a:custGeom>
            <a:avLst/>
            <a:gdLst/>
            <a:ahLst/>
            <a:rect l="l" t="t" r="r" b="b"/>
            <a:pathLst>
              <a:path w="8732" h="1564">
                <a:moveTo>
                  <a:pt x="4589" y="5383"/>
                </a:moveTo>
                <a:cubicBezTo>
                  <a:pt x="4589" y="5337"/>
                  <a:pt x="4587" y="5293"/>
                  <a:pt x="4564" y="5259"/>
                </a:cubicBezTo>
                <a:cubicBezTo>
                  <a:pt x="4556" y="5251"/>
                  <a:pt x="4547" y="5242"/>
                  <a:pt x="4539" y="5234"/>
                </a:cubicBezTo>
                <a:cubicBezTo>
                  <a:pt x="4482" y="5248"/>
                  <a:pt x="4447" y="5279"/>
                  <a:pt x="4415" y="5333"/>
                </a:cubicBezTo>
                <a:cubicBezTo>
                  <a:pt x="4374" y="5403"/>
                  <a:pt x="4335" y="5465"/>
                  <a:pt x="4291" y="5531"/>
                </a:cubicBezTo>
                <a:cubicBezTo>
                  <a:pt x="4251" y="5590"/>
                  <a:pt x="4245" y="5687"/>
                  <a:pt x="4242" y="5755"/>
                </a:cubicBezTo>
                <a:cubicBezTo>
                  <a:pt x="4238" y="5835"/>
                  <a:pt x="4289" y="5832"/>
                  <a:pt x="4341" y="5879"/>
                </a:cubicBezTo>
                <a:cubicBezTo>
                  <a:pt x="4400" y="5932"/>
                  <a:pt x="4462" y="5926"/>
                  <a:pt x="4539" y="5904"/>
                </a:cubicBezTo>
                <a:cubicBezTo>
                  <a:pt x="4583" y="5882"/>
                  <a:pt x="4595" y="5879"/>
                  <a:pt x="4614" y="5854"/>
                </a:cubicBezTo>
              </a:path>
              <a:path w="8732" h="1564">
                <a:moveTo>
                  <a:pt x="4961" y="5482"/>
                </a:moveTo>
                <a:cubicBezTo>
                  <a:pt x="4937" y="5603"/>
                  <a:pt x="4885" y="5709"/>
                  <a:pt x="4936" y="5829"/>
                </a:cubicBezTo>
                <a:cubicBezTo>
                  <a:pt x="4948" y="5858"/>
                  <a:pt x="5033" y="5888"/>
                  <a:pt x="5060" y="5879"/>
                </a:cubicBezTo>
                <a:cubicBezTo>
                  <a:pt x="5116" y="5860"/>
                  <a:pt x="5180" y="5804"/>
                  <a:pt x="5209" y="5755"/>
                </a:cubicBezTo>
                <a:cubicBezTo>
                  <a:pt x="5248" y="5689"/>
                  <a:pt x="5298" y="5610"/>
                  <a:pt x="5283" y="5531"/>
                </a:cubicBezTo>
                <a:cubicBezTo>
                  <a:pt x="5277" y="5497"/>
                  <a:pt x="5213" y="5399"/>
                  <a:pt x="5184" y="5383"/>
                </a:cubicBezTo>
                <a:cubicBezTo>
                  <a:pt x="5151" y="5365"/>
                  <a:pt x="5076" y="5344"/>
                  <a:pt x="5035" y="5358"/>
                </a:cubicBezTo>
                <a:cubicBezTo>
                  <a:pt x="4952" y="5386"/>
                  <a:pt x="4978" y="5422"/>
                  <a:pt x="5035" y="5432"/>
                </a:cubicBezTo>
              </a:path>
              <a:path w="8732" h="1564">
                <a:moveTo>
                  <a:pt x="5854" y="5085"/>
                </a:moveTo>
                <a:cubicBezTo>
                  <a:pt x="5847" y="5165"/>
                  <a:pt x="5814" y="5232"/>
                  <a:pt x="5804" y="5308"/>
                </a:cubicBezTo>
                <a:cubicBezTo>
                  <a:pt x="5778" y="5505"/>
                  <a:pt x="5898" y="6038"/>
                  <a:pt x="5779" y="5879"/>
                </a:cubicBezTo>
                <a:cubicBezTo>
                  <a:pt x="5779" y="5871"/>
                  <a:pt x="5779" y="5862"/>
                  <a:pt x="5779" y="5854"/>
                </a:cubicBezTo>
              </a:path>
              <a:path w="8732" h="1564">
                <a:moveTo>
                  <a:pt x="5507" y="5507"/>
                </a:moveTo>
                <a:cubicBezTo>
                  <a:pt x="5651" y="5507"/>
                  <a:pt x="5786" y="5496"/>
                  <a:pt x="5928" y="5482"/>
                </a:cubicBezTo>
                <a:cubicBezTo>
                  <a:pt x="6012" y="5482"/>
                  <a:pt x="6046" y="5480"/>
                  <a:pt x="6102" y="5457"/>
                </a:cubicBezTo>
              </a:path>
              <a:path w="8732" h="1564">
                <a:moveTo>
                  <a:pt x="6846" y="4663"/>
                </a:moveTo>
                <a:cubicBezTo>
                  <a:pt x="6767" y="4774"/>
                  <a:pt x="6671" y="4906"/>
                  <a:pt x="6623" y="5035"/>
                </a:cubicBezTo>
                <a:cubicBezTo>
                  <a:pt x="6562" y="5201"/>
                  <a:pt x="6493" y="5358"/>
                  <a:pt x="6449" y="5531"/>
                </a:cubicBezTo>
                <a:cubicBezTo>
                  <a:pt x="6419" y="5648"/>
                  <a:pt x="6424" y="5759"/>
                  <a:pt x="6424" y="5879"/>
                </a:cubicBezTo>
                <a:cubicBezTo>
                  <a:pt x="6424" y="5971"/>
                  <a:pt x="6441" y="6038"/>
                  <a:pt x="6548" y="6052"/>
                </a:cubicBezTo>
                <a:cubicBezTo>
                  <a:pt x="6565" y="6044"/>
                  <a:pt x="6581" y="6036"/>
                  <a:pt x="6598" y="6028"/>
                </a:cubicBezTo>
              </a:path>
              <a:path w="8732" h="1564">
                <a:moveTo>
                  <a:pt x="7193" y="4762"/>
                </a:moveTo>
                <a:cubicBezTo>
                  <a:pt x="7333" y="4707"/>
                  <a:pt x="7460" y="4693"/>
                  <a:pt x="7615" y="4688"/>
                </a:cubicBezTo>
                <a:cubicBezTo>
                  <a:pt x="7684" y="4686"/>
                  <a:pt x="7733" y="4697"/>
                  <a:pt x="7789" y="4663"/>
                </a:cubicBezTo>
              </a:path>
              <a:path w="8732" h="1564">
                <a:moveTo>
                  <a:pt x="7317" y="4837"/>
                </a:moveTo>
                <a:cubicBezTo>
                  <a:pt x="7298" y="4951"/>
                  <a:pt x="7268" y="5047"/>
                  <a:pt x="7268" y="5159"/>
                </a:cubicBezTo>
                <a:cubicBezTo>
                  <a:pt x="7268" y="5194"/>
                  <a:pt x="7290" y="5231"/>
                  <a:pt x="7317" y="5234"/>
                </a:cubicBezTo>
                <a:cubicBezTo>
                  <a:pt x="7353" y="5239"/>
                  <a:pt x="7369" y="5207"/>
                  <a:pt x="7392" y="5184"/>
                </a:cubicBezTo>
              </a:path>
              <a:path w="8732" h="1564">
                <a:moveTo>
                  <a:pt x="7615" y="4862"/>
                </a:moveTo>
                <a:cubicBezTo>
                  <a:pt x="7577" y="4988"/>
                  <a:pt x="7565" y="5038"/>
                  <a:pt x="7565" y="5159"/>
                </a:cubicBezTo>
                <a:cubicBezTo>
                  <a:pt x="7565" y="5191"/>
                  <a:pt x="7564" y="5266"/>
                  <a:pt x="7590" y="5283"/>
                </a:cubicBezTo>
                <a:cubicBezTo>
                  <a:pt x="7598" y="5283"/>
                  <a:pt x="7607" y="5283"/>
                  <a:pt x="7615" y="5283"/>
                </a:cubicBezTo>
              </a:path>
              <a:path w="8732" h="1564">
                <a:moveTo>
                  <a:pt x="8235" y="4787"/>
                </a:moveTo>
                <a:cubicBezTo>
                  <a:pt x="8166" y="4900"/>
                  <a:pt x="8090" y="5015"/>
                  <a:pt x="8037" y="5135"/>
                </a:cubicBezTo>
                <a:cubicBezTo>
                  <a:pt x="7987" y="5247"/>
                  <a:pt x="7968" y="5373"/>
                  <a:pt x="7913" y="5482"/>
                </a:cubicBezTo>
                <a:cubicBezTo>
                  <a:pt x="7860" y="5588"/>
                  <a:pt x="7806" y="5691"/>
                  <a:pt x="7764" y="5804"/>
                </a:cubicBezTo>
                <a:cubicBezTo>
                  <a:pt x="7736" y="5881"/>
                  <a:pt x="7720" y="5983"/>
                  <a:pt x="7689" y="6052"/>
                </a:cubicBezTo>
                <a:cubicBezTo>
                  <a:pt x="7660" y="6116"/>
                  <a:pt x="7661" y="6091"/>
                  <a:pt x="7689" y="6077"/>
                </a:cubicBezTo>
              </a:path>
              <a:path w="8732" h="1564">
                <a:moveTo>
                  <a:pt x="8086" y="5606"/>
                </a:moveTo>
                <a:cubicBezTo>
                  <a:pt x="8216" y="5614"/>
                  <a:pt x="8228" y="5594"/>
                  <a:pt x="8285" y="5680"/>
                </a:cubicBezTo>
                <a:cubicBezTo>
                  <a:pt x="8326" y="5741"/>
                  <a:pt x="8303" y="5792"/>
                  <a:pt x="8260" y="5854"/>
                </a:cubicBezTo>
                <a:cubicBezTo>
                  <a:pt x="8222" y="5908"/>
                  <a:pt x="8199" y="5974"/>
                  <a:pt x="8161" y="6028"/>
                </a:cubicBezTo>
                <a:cubicBezTo>
                  <a:pt x="8138" y="6060"/>
                  <a:pt x="8115" y="6087"/>
                  <a:pt x="8111" y="6127"/>
                </a:cubicBezTo>
                <a:cubicBezTo>
                  <a:pt x="8104" y="6189"/>
                  <a:pt x="8169" y="6176"/>
                  <a:pt x="8210" y="6176"/>
                </a:cubicBezTo>
                <a:cubicBezTo>
                  <a:pt x="8264" y="6176"/>
                  <a:pt x="8305" y="6159"/>
                  <a:pt x="8359" y="6152"/>
                </a:cubicBezTo>
              </a:path>
              <a:path w="8732" h="1564">
                <a:moveTo>
                  <a:pt x="8657" y="5680"/>
                </a:moveTo>
                <a:cubicBezTo>
                  <a:pt x="8759" y="5662"/>
                  <a:pt x="8853" y="5636"/>
                  <a:pt x="8954" y="5631"/>
                </a:cubicBezTo>
                <a:cubicBezTo>
                  <a:pt x="8971" y="5631"/>
                  <a:pt x="8987" y="5631"/>
                  <a:pt x="9004" y="5631"/>
                </a:cubicBezTo>
              </a:path>
              <a:path w="8732" h="1564">
                <a:moveTo>
                  <a:pt x="9351" y="5581"/>
                </a:moveTo>
                <a:cubicBezTo>
                  <a:pt x="9378" y="5676"/>
                  <a:pt x="9409" y="5764"/>
                  <a:pt x="9451" y="5854"/>
                </a:cubicBezTo>
                <a:cubicBezTo>
                  <a:pt x="9476" y="5907"/>
                  <a:pt x="9511" y="5960"/>
                  <a:pt x="9550" y="6003"/>
                </a:cubicBezTo>
                <a:cubicBezTo>
                  <a:pt x="9578" y="6034"/>
                  <a:pt x="9586" y="6028"/>
                  <a:pt x="9624" y="6028"/>
                </a:cubicBezTo>
              </a:path>
              <a:path w="8732" h="1564">
                <a:moveTo>
                  <a:pt x="9649" y="5581"/>
                </a:moveTo>
                <a:cubicBezTo>
                  <a:pt x="9554" y="5659"/>
                  <a:pt x="9468" y="5728"/>
                  <a:pt x="9401" y="5829"/>
                </a:cubicBezTo>
                <a:cubicBezTo>
                  <a:pt x="9357" y="5896"/>
                  <a:pt x="9326" y="5944"/>
                  <a:pt x="9277" y="6003"/>
                </a:cubicBezTo>
                <a:cubicBezTo>
                  <a:pt x="9268" y="6014"/>
                  <a:pt x="9184" y="6111"/>
                  <a:pt x="9203" y="6052"/>
                </a:cubicBezTo>
                <a:cubicBezTo>
                  <a:pt x="9211" y="6036"/>
                  <a:pt x="9219" y="6019"/>
                  <a:pt x="9227" y="6003"/>
                </a:cubicBezTo>
              </a:path>
              <a:path w="8732" h="1564">
                <a:moveTo>
                  <a:pt x="9872" y="4837"/>
                </a:moveTo>
                <a:cubicBezTo>
                  <a:pt x="9904" y="4821"/>
                  <a:pt x="9940" y="4819"/>
                  <a:pt x="9971" y="4862"/>
                </a:cubicBezTo>
                <a:cubicBezTo>
                  <a:pt x="10017" y="4926"/>
                  <a:pt x="10046" y="5012"/>
                  <a:pt x="10071" y="5085"/>
                </a:cubicBezTo>
                <a:cubicBezTo>
                  <a:pt x="10120" y="5226"/>
                  <a:pt x="10186" y="5406"/>
                  <a:pt x="10170" y="5556"/>
                </a:cubicBezTo>
                <a:cubicBezTo>
                  <a:pt x="10159" y="5660"/>
                  <a:pt x="10120" y="5810"/>
                  <a:pt x="10071" y="5904"/>
                </a:cubicBezTo>
                <a:cubicBezTo>
                  <a:pt x="10031" y="5981"/>
                  <a:pt x="9981" y="6065"/>
                  <a:pt x="9922" y="6127"/>
                </a:cubicBezTo>
                <a:cubicBezTo>
                  <a:pt x="9892" y="6159"/>
                  <a:pt x="9839" y="6215"/>
                  <a:pt x="9798" y="6226"/>
                </a:cubicBezTo>
                <a:cubicBezTo>
                  <a:pt x="9736" y="6243"/>
                  <a:pt x="9760" y="6213"/>
                  <a:pt x="9748" y="6176"/>
                </a:cubicBezTo>
              </a:path>
              <a:path w="8732" h="1564">
                <a:moveTo>
                  <a:pt x="10988" y="5581"/>
                </a:moveTo>
                <a:cubicBezTo>
                  <a:pt x="11019" y="5612"/>
                  <a:pt x="10998" y="5558"/>
                  <a:pt x="10964" y="5531"/>
                </a:cubicBezTo>
                <a:cubicBezTo>
                  <a:pt x="10908" y="5486"/>
                  <a:pt x="10868" y="5498"/>
                  <a:pt x="10815" y="5507"/>
                </a:cubicBezTo>
                <a:cubicBezTo>
                  <a:pt x="10743" y="5519"/>
                  <a:pt x="10685" y="5571"/>
                  <a:pt x="10641" y="5631"/>
                </a:cubicBezTo>
                <a:cubicBezTo>
                  <a:pt x="10604" y="5682"/>
                  <a:pt x="10549" y="5794"/>
                  <a:pt x="10542" y="5854"/>
                </a:cubicBezTo>
                <a:cubicBezTo>
                  <a:pt x="10533" y="5931"/>
                  <a:pt x="10519" y="6030"/>
                  <a:pt x="10592" y="6077"/>
                </a:cubicBezTo>
                <a:cubicBezTo>
                  <a:pt x="10667" y="6126"/>
                  <a:pt x="10710" y="6138"/>
                  <a:pt x="10790" y="6102"/>
                </a:cubicBezTo>
                <a:cubicBezTo>
                  <a:pt x="10807" y="6094"/>
                  <a:pt x="10823" y="6085"/>
                  <a:pt x="10840" y="6077"/>
                </a:cubicBezTo>
              </a:path>
              <a:path w="8732" h="1564">
                <a:moveTo>
                  <a:pt x="11137" y="5755"/>
                </a:moveTo>
                <a:cubicBezTo>
                  <a:pt x="11094" y="5865"/>
                  <a:pt x="11020" y="5965"/>
                  <a:pt x="11088" y="6077"/>
                </a:cubicBezTo>
                <a:cubicBezTo>
                  <a:pt x="11127" y="6142"/>
                  <a:pt x="11182" y="6127"/>
                  <a:pt x="11237" y="6152"/>
                </a:cubicBezTo>
                <a:cubicBezTo>
                  <a:pt x="11303" y="6182"/>
                  <a:pt x="11373" y="6151"/>
                  <a:pt x="11435" y="6102"/>
                </a:cubicBezTo>
                <a:cubicBezTo>
                  <a:pt x="11557" y="6006"/>
                  <a:pt x="11553" y="5906"/>
                  <a:pt x="11509" y="5779"/>
                </a:cubicBezTo>
                <a:cubicBezTo>
                  <a:pt x="11484" y="5705"/>
                  <a:pt x="11426" y="5687"/>
                  <a:pt x="11361" y="5655"/>
                </a:cubicBezTo>
                <a:cubicBezTo>
                  <a:pt x="11352" y="5650"/>
                  <a:pt x="11244" y="5599"/>
                  <a:pt x="11237" y="5606"/>
                </a:cubicBezTo>
                <a:cubicBezTo>
                  <a:pt x="11237" y="5614"/>
                  <a:pt x="11237" y="5623"/>
                  <a:pt x="11237" y="5631"/>
                </a:cubicBezTo>
              </a:path>
              <a:path w="8732" h="1564">
                <a:moveTo>
                  <a:pt x="11807" y="5531"/>
                </a:moveTo>
                <a:cubicBezTo>
                  <a:pt x="11773" y="5540"/>
                  <a:pt x="11594" y="5563"/>
                  <a:pt x="11609" y="5631"/>
                </a:cubicBezTo>
                <a:cubicBezTo>
                  <a:pt x="11621" y="5688"/>
                  <a:pt x="11667" y="5732"/>
                  <a:pt x="11708" y="5779"/>
                </a:cubicBezTo>
                <a:cubicBezTo>
                  <a:pt x="11763" y="5842"/>
                  <a:pt x="11857" y="5864"/>
                  <a:pt x="11881" y="5953"/>
                </a:cubicBezTo>
                <a:cubicBezTo>
                  <a:pt x="11892" y="5993"/>
                  <a:pt x="11919" y="6059"/>
                  <a:pt x="11857" y="6077"/>
                </a:cubicBezTo>
                <a:cubicBezTo>
                  <a:pt x="11818" y="6088"/>
                  <a:pt x="11679" y="6094"/>
                  <a:pt x="11658" y="6052"/>
                </a:cubicBezTo>
                <a:cubicBezTo>
                  <a:pt x="11658" y="6044"/>
                  <a:pt x="11658" y="6036"/>
                  <a:pt x="11658" y="6028"/>
                </a:cubicBezTo>
              </a:path>
              <a:path w="8732" h="1564">
                <a:moveTo>
                  <a:pt x="12452" y="5457"/>
                </a:moveTo>
                <a:cubicBezTo>
                  <a:pt x="12511" y="5575"/>
                  <a:pt x="12564" y="5690"/>
                  <a:pt x="12626" y="5804"/>
                </a:cubicBezTo>
                <a:cubicBezTo>
                  <a:pt x="12672" y="5890"/>
                  <a:pt x="12722" y="5988"/>
                  <a:pt x="12799" y="6052"/>
                </a:cubicBezTo>
                <a:cubicBezTo>
                  <a:pt x="12846" y="6091"/>
                  <a:pt x="12882" y="6110"/>
                  <a:pt x="12923" y="6152"/>
                </a:cubicBezTo>
                <a:cubicBezTo>
                  <a:pt x="12965" y="6138"/>
                  <a:pt x="12966" y="6104"/>
                  <a:pt x="12973" y="6052"/>
                </a:cubicBezTo>
              </a:path>
              <a:path w="8732" h="1564">
                <a:moveTo>
                  <a:pt x="12898" y="5581"/>
                </a:moveTo>
                <a:cubicBezTo>
                  <a:pt x="12800" y="5692"/>
                  <a:pt x="12709" y="5782"/>
                  <a:pt x="12601" y="5879"/>
                </a:cubicBezTo>
                <a:cubicBezTo>
                  <a:pt x="12517" y="5955"/>
                  <a:pt x="12403" y="6019"/>
                  <a:pt x="12328" y="6102"/>
                </a:cubicBezTo>
                <a:cubicBezTo>
                  <a:pt x="12303" y="6152"/>
                  <a:pt x="12295" y="6168"/>
                  <a:pt x="12254" y="61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55880" y="2419200"/>
            <a:ext cx="1268280" cy="1206720"/>
          </a:xfrm>
          <a:custGeom>
            <a:avLst/>
            <a:gdLst/>
            <a:ahLst/>
            <a:rect l="l" t="t" r="r" b="b"/>
            <a:pathLst>
              <a:path w="3523" h="3350">
                <a:moveTo>
                  <a:pt x="7665" y="6722"/>
                </a:moveTo>
                <a:cubicBezTo>
                  <a:pt x="7665" y="6767"/>
                  <a:pt x="7673" y="6777"/>
                  <a:pt x="7665" y="6821"/>
                </a:cubicBezTo>
                <a:cubicBezTo>
                  <a:pt x="7646" y="6929"/>
                  <a:pt x="7656" y="7035"/>
                  <a:pt x="7640" y="7144"/>
                </a:cubicBezTo>
                <a:cubicBezTo>
                  <a:pt x="7622" y="7267"/>
                  <a:pt x="7599" y="7389"/>
                  <a:pt x="7615" y="7516"/>
                </a:cubicBezTo>
                <a:cubicBezTo>
                  <a:pt x="7636" y="7681"/>
                  <a:pt x="7653" y="7845"/>
                  <a:pt x="7665" y="8012"/>
                </a:cubicBezTo>
                <a:cubicBezTo>
                  <a:pt x="7671" y="8091"/>
                  <a:pt x="7680" y="8158"/>
                  <a:pt x="7689" y="8235"/>
                </a:cubicBezTo>
                <a:cubicBezTo>
                  <a:pt x="7697" y="8298"/>
                  <a:pt x="7704" y="8277"/>
                  <a:pt x="7689" y="8235"/>
                </a:cubicBezTo>
                <a:cubicBezTo>
                  <a:pt x="7656" y="8141"/>
                  <a:pt x="7598" y="8057"/>
                  <a:pt x="7565" y="7962"/>
                </a:cubicBezTo>
                <a:cubicBezTo>
                  <a:pt x="7535" y="7873"/>
                  <a:pt x="7482" y="7801"/>
                  <a:pt x="7441" y="7714"/>
                </a:cubicBezTo>
                <a:cubicBezTo>
                  <a:pt x="7415" y="7659"/>
                  <a:pt x="7394" y="7559"/>
                  <a:pt x="7367" y="7516"/>
                </a:cubicBezTo>
                <a:cubicBezTo>
                  <a:pt x="7342" y="7491"/>
                  <a:pt x="7334" y="7483"/>
                  <a:pt x="7317" y="7466"/>
                </a:cubicBezTo>
                <a:cubicBezTo>
                  <a:pt x="7336" y="7522"/>
                  <a:pt x="7341" y="7579"/>
                  <a:pt x="7367" y="7640"/>
                </a:cubicBezTo>
                <a:cubicBezTo>
                  <a:pt x="7407" y="7733"/>
                  <a:pt x="7453" y="7819"/>
                  <a:pt x="7491" y="7913"/>
                </a:cubicBezTo>
                <a:cubicBezTo>
                  <a:pt x="7514" y="7970"/>
                  <a:pt x="7537" y="8137"/>
                  <a:pt x="7590" y="8186"/>
                </a:cubicBezTo>
                <a:cubicBezTo>
                  <a:pt x="7629" y="8221"/>
                  <a:pt x="7624" y="8195"/>
                  <a:pt x="7665" y="8210"/>
                </a:cubicBezTo>
                <a:cubicBezTo>
                  <a:pt x="7699" y="8171"/>
                  <a:pt x="7760" y="8099"/>
                  <a:pt x="7789" y="8037"/>
                </a:cubicBezTo>
                <a:cubicBezTo>
                  <a:pt x="7855" y="7897"/>
                  <a:pt x="7908" y="7750"/>
                  <a:pt x="7987" y="7615"/>
                </a:cubicBezTo>
                <a:cubicBezTo>
                  <a:pt x="8035" y="7533"/>
                  <a:pt x="8094" y="7486"/>
                  <a:pt x="8161" y="7441"/>
                </a:cubicBezTo>
              </a:path>
              <a:path w="3523" h="3350">
                <a:moveTo>
                  <a:pt x="5879" y="8657"/>
                </a:moveTo>
                <a:cubicBezTo>
                  <a:pt x="5851" y="8629"/>
                  <a:pt x="5842" y="8615"/>
                  <a:pt x="5854" y="8582"/>
                </a:cubicBezTo>
                <a:cubicBezTo>
                  <a:pt x="5904" y="8615"/>
                  <a:pt x="5887" y="8635"/>
                  <a:pt x="5904" y="8706"/>
                </a:cubicBezTo>
                <a:cubicBezTo>
                  <a:pt x="5934" y="8831"/>
                  <a:pt x="5928" y="8949"/>
                  <a:pt x="5928" y="9079"/>
                </a:cubicBezTo>
                <a:cubicBezTo>
                  <a:pt x="5928" y="9303"/>
                  <a:pt x="5953" y="9524"/>
                  <a:pt x="5953" y="9748"/>
                </a:cubicBezTo>
                <a:cubicBezTo>
                  <a:pt x="5953" y="9856"/>
                  <a:pt x="5953" y="9963"/>
                  <a:pt x="5953" y="10071"/>
                </a:cubicBezTo>
                <a:cubicBezTo>
                  <a:pt x="5891" y="10024"/>
                  <a:pt x="5922" y="10069"/>
                  <a:pt x="5879" y="9971"/>
                </a:cubicBezTo>
              </a:path>
              <a:path w="3523" h="3350">
                <a:moveTo>
                  <a:pt x="5432" y="9327"/>
                </a:moveTo>
                <a:cubicBezTo>
                  <a:pt x="5438" y="9308"/>
                  <a:pt x="5550" y="9259"/>
                  <a:pt x="5581" y="9252"/>
                </a:cubicBezTo>
                <a:cubicBezTo>
                  <a:pt x="5676" y="9230"/>
                  <a:pt x="5780" y="9227"/>
                  <a:pt x="5879" y="9227"/>
                </a:cubicBezTo>
                <a:cubicBezTo>
                  <a:pt x="6026" y="9227"/>
                  <a:pt x="6130" y="9233"/>
                  <a:pt x="6251" y="9178"/>
                </a:cubicBezTo>
                <a:cubicBezTo>
                  <a:pt x="6286" y="9178"/>
                  <a:pt x="6303" y="9173"/>
                  <a:pt x="6325" y="9153"/>
                </a:cubicBezTo>
              </a:path>
              <a:path w="3523" h="3350">
                <a:moveTo>
                  <a:pt x="6697" y="9004"/>
                </a:moveTo>
                <a:cubicBezTo>
                  <a:pt x="6730" y="8946"/>
                  <a:pt x="6738" y="8942"/>
                  <a:pt x="6747" y="8880"/>
                </a:cubicBezTo>
                <a:cubicBezTo>
                  <a:pt x="6701" y="8852"/>
                  <a:pt x="6633" y="8842"/>
                  <a:pt x="6573" y="8855"/>
                </a:cubicBezTo>
                <a:cubicBezTo>
                  <a:pt x="6441" y="8884"/>
                  <a:pt x="6394" y="8975"/>
                  <a:pt x="6325" y="9079"/>
                </a:cubicBezTo>
                <a:cubicBezTo>
                  <a:pt x="6252" y="9189"/>
                  <a:pt x="6196" y="9319"/>
                  <a:pt x="6176" y="9451"/>
                </a:cubicBezTo>
                <a:cubicBezTo>
                  <a:pt x="6162" y="9544"/>
                  <a:pt x="6179" y="9706"/>
                  <a:pt x="6251" y="9748"/>
                </a:cubicBezTo>
                <a:cubicBezTo>
                  <a:pt x="6310" y="9782"/>
                  <a:pt x="6390" y="9790"/>
                  <a:pt x="6449" y="9748"/>
                </a:cubicBezTo>
                <a:cubicBezTo>
                  <a:pt x="6537" y="9685"/>
                  <a:pt x="6600" y="9593"/>
                  <a:pt x="6648" y="9500"/>
                </a:cubicBezTo>
                <a:cubicBezTo>
                  <a:pt x="6706" y="9389"/>
                  <a:pt x="6689" y="9269"/>
                  <a:pt x="6722" y="9153"/>
                </a:cubicBezTo>
                <a:cubicBezTo>
                  <a:pt x="6744" y="9077"/>
                  <a:pt x="6753" y="9004"/>
                  <a:pt x="6772" y="8930"/>
                </a:cubicBezTo>
                <a:cubicBezTo>
                  <a:pt x="6729" y="8962"/>
                  <a:pt x="6725" y="9004"/>
                  <a:pt x="6722" y="9079"/>
                </a:cubicBezTo>
                <a:cubicBezTo>
                  <a:pt x="6714" y="9279"/>
                  <a:pt x="6715" y="9480"/>
                  <a:pt x="6747" y="9674"/>
                </a:cubicBezTo>
                <a:cubicBezTo>
                  <a:pt x="6758" y="9743"/>
                  <a:pt x="6765" y="9737"/>
                  <a:pt x="6821" y="9748"/>
                </a:cubicBezTo>
                <a:cubicBezTo>
                  <a:pt x="6906" y="9765"/>
                  <a:pt x="6883" y="9742"/>
                  <a:pt x="6921" y="9674"/>
                </a:cubicBezTo>
              </a:path>
              <a:path w="3523" h="3350">
                <a:moveTo>
                  <a:pt x="7094" y="8880"/>
                </a:moveTo>
                <a:cubicBezTo>
                  <a:pt x="7094" y="9000"/>
                  <a:pt x="7073" y="9108"/>
                  <a:pt x="7069" y="9227"/>
                </a:cubicBezTo>
                <a:cubicBezTo>
                  <a:pt x="7065" y="9346"/>
                  <a:pt x="7125" y="9481"/>
                  <a:pt x="7094" y="9599"/>
                </a:cubicBezTo>
                <a:cubicBezTo>
                  <a:pt x="7084" y="9637"/>
                  <a:pt x="7069" y="9838"/>
                  <a:pt x="7069" y="9699"/>
                </a:cubicBezTo>
                <a:cubicBezTo>
                  <a:pt x="7086" y="9599"/>
                  <a:pt x="7097" y="9501"/>
                  <a:pt x="7119" y="9401"/>
                </a:cubicBezTo>
                <a:cubicBezTo>
                  <a:pt x="7156" y="9235"/>
                  <a:pt x="7200" y="9106"/>
                  <a:pt x="7268" y="8954"/>
                </a:cubicBezTo>
                <a:cubicBezTo>
                  <a:pt x="7299" y="8885"/>
                  <a:pt x="7332" y="8836"/>
                  <a:pt x="7392" y="8806"/>
                </a:cubicBezTo>
                <a:cubicBezTo>
                  <a:pt x="7432" y="8786"/>
                  <a:pt x="7438" y="8777"/>
                  <a:pt x="7466" y="8781"/>
                </a:cubicBezTo>
                <a:cubicBezTo>
                  <a:pt x="7515" y="8818"/>
                  <a:pt x="7512" y="8824"/>
                  <a:pt x="7541" y="8880"/>
                </a:cubicBezTo>
                <a:cubicBezTo>
                  <a:pt x="7580" y="8955"/>
                  <a:pt x="7578" y="9095"/>
                  <a:pt x="7565" y="9178"/>
                </a:cubicBezTo>
                <a:cubicBezTo>
                  <a:pt x="7547" y="9287"/>
                  <a:pt x="7521" y="9412"/>
                  <a:pt x="7541" y="9525"/>
                </a:cubicBezTo>
                <a:cubicBezTo>
                  <a:pt x="7550" y="9573"/>
                  <a:pt x="7561" y="9714"/>
                  <a:pt x="7590" y="9748"/>
                </a:cubicBezTo>
                <a:cubicBezTo>
                  <a:pt x="7598" y="9748"/>
                  <a:pt x="7607" y="9748"/>
                  <a:pt x="7615" y="9748"/>
                </a:cubicBezTo>
              </a:path>
              <a:path w="3523" h="3350">
                <a:moveTo>
                  <a:pt x="8285" y="8880"/>
                </a:moveTo>
                <a:cubicBezTo>
                  <a:pt x="8371" y="8966"/>
                  <a:pt x="8448" y="9046"/>
                  <a:pt x="8508" y="9153"/>
                </a:cubicBezTo>
                <a:cubicBezTo>
                  <a:pt x="8591" y="9300"/>
                  <a:pt x="8681" y="9450"/>
                  <a:pt x="8756" y="9599"/>
                </a:cubicBezTo>
                <a:cubicBezTo>
                  <a:pt x="8790" y="9666"/>
                  <a:pt x="8822" y="9732"/>
                  <a:pt x="8905" y="9748"/>
                </a:cubicBezTo>
                <a:cubicBezTo>
                  <a:pt x="8940" y="9748"/>
                  <a:pt x="8953" y="9739"/>
                  <a:pt x="8954" y="9699"/>
                </a:cubicBezTo>
              </a:path>
              <a:path w="3523" h="3350">
                <a:moveTo>
                  <a:pt x="8930" y="8706"/>
                </a:moveTo>
                <a:cubicBezTo>
                  <a:pt x="8857" y="8815"/>
                  <a:pt x="8777" y="8920"/>
                  <a:pt x="8706" y="9029"/>
                </a:cubicBezTo>
                <a:cubicBezTo>
                  <a:pt x="8607" y="9182"/>
                  <a:pt x="8530" y="9343"/>
                  <a:pt x="8434" y="9500"/>
                </a:cubicBezTo>
                <a:cubicBezTo>
                  <a:pt x="8367" y="9610"/>
                  <a:pt x="8266" y="9705"/>
                  <a:pt x="8210" y="9823"/>
                </a:cubicBezTo>
                <a:cubicBezTo>
                  <a:pt x="8147" y="9954"/>
                  <a:pt x="8199" y="9847"/>
                  <a:pt x="8136" y="99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9200" y="1482840"/>
            <a:ext cx="3805200" cy="1982520"/>
          </a:xfrm>
          <a:custGeom>
            <a:avLst/>
            <a:gdLst/>
            <a:ahLst/>
            <a:rect l="l" t="t" r="r" b="b"/>
            <a:pathLst>
              <a:path w="10568" h="5507">
                <a:moveTo>
                  <a:pt x="10096" y="9153"/>
                </a:moveTo>
                <a:cubicBezTo>
                  <a:pt x="10123" y="9181"/>
                  <a:pt x="10131" y="9195"/>
                  <a:pt x="10120" y="9227"/>
                </a:cubicBezTo>
                <a:cubicBezTo>
                  <a:pt x="10044" y="9227"/>
                  <a:pt x="9978" y="9255"/>
                  <a:pt x="9971" y="9178"/>
                </a:cubicBezTo>
                <a:cubicBezTo>
                  <a:pt x="9969" y="9153"/>
                  <a:pt x="10017" y="9110"/>
                  <a:pt x="10046" y="9103"/>
                </a:cubicBezTo>
                <a:cubicBezTo>
                  <a:pt x="10071" y="9103"/>
                  <a:pt x="10079" y="9103"/>
                  <a:pt x="10096" y="9103"/>
                </a:cubicBezTo>
                <a:cubicBezTo>
                  <a:pt x="10091" y="9133"/>
                  <a:pt x="10079" y="9198"/>
                  <a:pt x="10046" y="9227"/>
                </a:cubicBezTo>
                <a:cubicBezTo>
                  <a:pt x="10038" y="9227"/>
                  <a:pt x="10029" y="9227"/>
                  <a:pt x="10021" y="9227"/>
                </a:cubicBezTo>
              </a:path>
              <a:path w="10568" h="5507">
                <a:moveTo>
                  <a:pt x="10964" y="8781"/>
                </a:moveTo>
                <a:cubicBezTo>
                  <a:pt x="10957" y="8731"/>
                  <a:pt x="10932" y="8685"/>
                  <a:pt x="10889" y="8657"/>
                </a:cubicBezTo>
                <a:cubicBezTo>
                  <a:pt x="10849" y="8631"/>
                  <a:pt x="10744" y="8691"/>
                  <a:pt x="10716" y="8706"/>
                </a:cubicBezTo>
                <a:cubicBezTo>
                  <a:pt x="10654" y="8739"/>
                  <a:pt x="10585" y="8868"/>
                  <a:pt x="10567" y="8930"/>
                </a:cubicBezTo>
                <a:cubicBezTo>
                  <a:pt x="10524" y="9080"/>
                  <a:pt x="10526" y="9184"/>
                  <a:pt x="10542" y="9327"/>
                </a:cubicBezTo>
                <a:cubicBezTo>
                  <a:pt x="10552" y="9414"/>
                  <a:pt x="10592" y="9490"/>
                  <a:pt x="10666" y="9550"/>
                </a:cubicBezTo>
                <a:cubicBezTo>
                  <a:pt x="10729" y="9601"/>
                  <a:pt x="10856" y="9639"/>
                  <a:pt x="10939" y="9624"/>
                </a:cubicBezTo>
                <a:cubicBezTo>
                  <a:pt x="10955" y="9616"/>
                  <a:pt x="10972" y="9607"/>
                  <a:pt x="10988" y="9599"/>
                </a:cubicBezTo>
              </a:path>
              <a:path w="10568" h="5507">
                <a:moveTo>
                  <a:pt x="11460" y="8855"/>
                </a:moveTo>
                <a:cubicBezTo>
                  <a:pt x="11362" y="8869"/>
                  <a:pt x="11390" y="8910"/>
                  <a:pt x="11361" y="9004"/>
                </a:cubicBezTo>
                <a:cubicBezTo>
                  <a:pt x="11327" y="9115"/>
                  <a:pt x="11297" y="9259"/>
                  <a:pt x="11311" y="9376"/>
                </a:cubicBezTo>
                <a:cubicBezTo>
                  <a:pt x="11321" y="9462"/>
                  <a:pt x="11364" y="9513"/>
                  <a:pt x="11435" y="9550"/>
                </a:cubicBezTo>
                <a:cubicBezTo>
                  <a:pt x="11579" y="9624"/>
                  <a:pt x="11593" y="9539"/>
                  <a:pt x="11708" y="9451"/>
                </a:cubicBezTo>
                <a:cubicBezTo>
                  <a:pt x="11795" y="9384"/>
                  <a:pt x="11898" y="9250"/>
                  <a:pt x="11956" y="9153"/>
                </a:cubicBezTo>
                <a:cubicBezTo>
                  <a:pt x="12000" y="9079"/>
                  <a:pt x="11981" y="9038"/>
                  <a:pt x="11956" y="9004"/>
                </a:cubicBezTo>
                <a:cubicBezTo>
                  <a:pt x="11912" y="8944"/>
                  <a:pt x="11890" y="8936"/>
                  <a:pt x="11807" y="8930"/>
                </a:cubicBezTo>
                <a:cubicBezTo>
                  <a:pt x="11774" y="8928"/>
                  <a:pt x="11741" y="8930"/>
                  <a:pt x="11708" y="8930"/>
                </a:cubicBezTo>
              </a:path>
              <a:path w="10568" h="5507">
                <a:moveTo>
                  <a:pt x="12551" y="8706"/>
                </a:moveTo>
                <a:cubicBezTo>
                  <a:pt x="12444" y="8706"/>
                  <a:pt x="12466" y="8738"/>
                  <a:pt x="12353" y="8781"/>
                </a:cubicBezTo>
                <a:cubicBezTo>
                  <a:pt x="12278" y="8809"/>
                  <a:pt x="12281" y="8783"/>
                  <a:pt x="12229" y="8855"/>
                </a:cubicBezTo>
                <a:cubicBezTo>
                  <a:pt x="12284" y="8869"/>
                  <a:pt x="12301" y="8909"/>
                  <a:pt x="12353" y="8930"/>
                </a:cubicBezTo>
                <a:cubicBezTo>
                  <a:pt x="12456" y="8972"/>
                  <a:pt x="12577" y="9053"/>
                  <a:pt x="12675" y="9079"/>
                </a:cubicBezTo>
                <a:cubicBezTo>
                  <a:pt x="12791" y="9109"/>
                  <a:pt x="12842" y="9151"/>
                  <a:pt x="12923" y="9252"/>
                </a:cubicBezTo>
                <a:cubicBezTo>
                  <a:pt x="12961" y="9299"/>
                  <a:pt x="12960" y="9419"/>
                  <a:pt x="12898" y="9451"/>
                </a:cubicBezTo>
                <a:cubicBezTo>
                  <a:pt x="12856" y="9472"/>
                  <a:pt x="12776" y="9498"/>
                  <a:pt x="12725" y="9500"/>
                </a:cubicBezTo>
                <a:cubicBezTo>
                  <a:pt x="12629" y="9504"/>
                  <a:pt x="12518" y="9502"/>
                  <a:pt x="12427" y="9475"/>
                </a:cubicBezTo>
                <a:cubicBezTo>
                  <a:pt x="12363" y="9456"/>
                  <a:pt x="12381" y="9422"/>
                  <a:pt x="12353" y="9376"/>
                </a:cubicBezTo>
              </a:path>
              <a:path w="10568" h="5507">
                <a:moveTo>
                  <a:pt x="13295" y="8806"/>
                </a:moveTo>
                <a:cubicBezTo>
                  <a:pt x="13432" y="8935"/>
                  <a:pt x="13498" y="9008"/>
                  <a:pt x="13618" y="9153"/>
                </a:cubicBezTo>
                <a:cubicBezTo>
                  <a:pt x="13698" y="9250"/>
                  <a:pt x="13723" y="9359"/>
                  <a:pt x="13791" y="9451"/>
                </a:cubicBezTo>
                <a:cubicBezTo>
                  <a:pt x="13797" y="9458"/>
                  <a:pt x="13897" y="9498"/>
                  <a:pt x="13915" y="9500"/>
                </a:cubicBezTo>
                <a:cubicBezTo>
                  <a:pt x="13956" y="9505"/>
                  <a:pt x="13981" y="9465"/>
                  <a:pt x="14015" y="9451"/>
                </a:cubicBezTo>
              </a:path>
              <a:path w="10568" h="5507">
                <a:moveTo>
                  <a:pt x="14139" y="8781"/>
                </a:moveTo>
                <a:cubicBezTo>
                  <a:pt x="14103" y="8845"/>
                  <a:pt x="14082" y="8878"/>
                  <a:pt x="14015" y="8930"/>
                </a:cubicBezTo>
                <a:cubicBezTo>
                  <a:pt x="13919" y="9004"/>
                  <a:pt x="13792" y="9031"/>
                  <a:pt x="13692" y="9103"/>
                </a:cubicBezTo>
                <a:cubicBezTo>
                  <a:pt x="13547" y="9207"/>
                  <a:pt x="13460" y="9315"/>
                  <a:pt x="13345" y="9451"/>
                </a:cubicBezTo>
                <a:cubicBezTo>
                  <a:pt x="13295" y="9510"/>
                  <a:pt x="13249" y="9557"/>
                  <a:pt x="13196" y="9599"/>
                </a:cubicBezTo>
              </a:path>
              <a:path w="10568" h="5507">
                <a:moveTo>
                  <a:pt x="14486" y="6747"/>
                </a:moveTo>
                <a:cubicBezTo>
                  <a:pt x="14533" y="6868"/>
                  <a:pt x="14577" y="7033"/>
                  <a:pt x="14684" y="7119"/>
                </a:cubicBezTo>
                <a:cubicBezTo>
                  <a:pt x="14810" y="7221"/>
                  <a:pt x="15017" y="7214"/>
                  <a:pt x="15156" y="7144"/>
                </a:cubicBezTo>
                <a:cubicBezTo>
                  <a:pt x="15292" y="7075"/>
                  <a:pt x="15340" y="6949"/>
                  <a:pt x="15404" y="6821"/>
                </a:cubicBezTo>
                <a:cubicBezTo>
                  <a:pt x="15480" y="6668"/>
                  <a:pt x="15481" y="6539"/>
                  <a:pt x="15503" y="6375"/>
                </a:cubicBezTo>
                <a:cubicBezTo>
                  <a:pt x="15517" y="6271"/>
                  <a:pt x="15550" y="6025"/>
                  <a:pt x="15478" y="5928"/>
                </a:cubicBezTo>
                <a:cubicBezTo>
                  <a:pt x="15425" y="5856"/>
                  <a:pt x="15315" y="5832"/>
                  <a:pt x="15230" y="5854"/>
                </a:cubicBezTo>
                <a:cubicBezTo>
                  <a:pt x="15152" y="5874"/>
                  <a:pt x="15074" y="6036"/>
                  <a:pt x="15056" y="6102"/>
                </a:cubicBezTo>
                <a:cubicBezTo>
                  <a:pt x="15009" y="6278"/>
                  <a:pt x="15007" y="6441"/>
                  <a:pt x="15007" y="6623"/>
                </a:cubicBezTo>
                <a:cubicBezTo>
                  <a:pt x="15007" y="6864"/>
                  <a:pt x="15045" y="7101"/>
                  <a:pt x="15056" y="7342"/>
                </a:cubicBezTo>
                <a:cubicBezTo>
                  <a:pt x="15067" y="7593"/>
                  <a:pt x="15075" y="7863"/>
                  <a:pt x="15032" y="8111"/>
                </a:cubicBezTo>
                <a:cubicBezTo>
                  <a:pt x="15007" y="8258"/>
                  <a:pt x="14965" y="8376"/>
                  <a:pt x="14908" y="8508"/>
                </a:cubicBezTo>
                <a:cubicBezTo>
                  <a:pt x="14877" y="8580"/>
                  <a:pt x="14856" y="8599"/>
                  <a:pt x="14808" y="8657"/>
                </a:cubicBezTo>
                <a:cubicBezTo>
                  <a:pt x="14637" y="8583"/>
                  <a:pt x="14672" y="8555"/>
                  <a:pt x="14560" y="8359"/>
                </a:cubicBezTo>
                <a:cubicBezTo>
                  <a:pt x="14462" y="8187"/>
                  <a:pt x="14420" y="8058"/>
                  <a:pt x="14387" y="7863"/>
                </a:cubicBezTo>
                <a:cubicBezTo>
                  <a:pt x="14358" y="7692"/>
                  <a:pt x="14371" y="7565"/>
                  <a:pt x="14461" y="7417"/>
                </a:cubicBezTo>
                <a:cubicBezTo>
                  <a:pt x="14528" y="7306"/>
                  <a:pt x="14631" y="7260"/>
                  <a:pt x="14759" y="7243"/>
                </a:cubicBezTo>
                <a:cubicBezTo>
                  <a:pt x="14948" y="7218"/>
                  <a:pt x="15096" y="7363"/>
                  <a:pt x="15230" y="7466"/>
                </a:cubicBezTo>
                <a:cubicBezTo>
                  <a:pt x="15353" y="7560"/>
                  <a:pt x="15427" y="7661"/>
                  <a:pt x="15503" y="7789"/>
                </a:cubicBezTo>
                <a:cubicBezTo>
                  <a:pt x="15539" y="7849"/>
                  <a:pt x="15544" y="7886"/>
                  <a:pt x="15602" y="7913"/>
                </a:cubicBezTo>
                <a:cubicBezTo>
                  <a:pt x="15627" y="7913"/>
                  <a:pt x="15635" y="7913"/>
                  <a:pt x="15627" y="7888"/>
                </a:cubicBezTo>
              </a:path>
              <a:path w="10568" h="5507">
                <a:moveTo>
                  <a:pt x="15230" y="7466"/>
                </a:moveTo>
                <a:cubicBezTo>
                  <a:pt x="15369" y="7552"/>
                  <a:pt x="15320" y="7556"/>
                  <a:pt x="15453" y="7466"/>
                </a:cubicBezTo>
                <a:cubicBezTo>
                  <a:pt x="15561" y="7393"/>
                  <a:pt x="15613" y="7326"/>
                  <a:pt x="15677" y="7218"/>
                </a:cubicBezTo>
                <a:cubicBezTo>
                  <a:pt x="15741" y="7110"/>
                  <a:pt x="15751" y="7072"/>
                  <a:pt x="15751" y="6945"/>
                </a:cubicBezTo>
                <a:cubicBezTo>
                  <a:pt x="15751" y="6856"/>
                  <a:pt x="15736" y="6745"/>
                  <a:pt x="15677" y="6672"/>
                </a:cubicBezTo>
                <a:cubicBezTo>
                  <a:pt x="15654" y="6650"/>
                  <a:pt x="15649" y="6642"/>
                  <a:pt x="15627" y="6648"/>
                </a:cubicBezTo>
                <a:cubicBezTo>
                  <a:pt x="15552" y="6702"/>
                  <a:pt x="15500" y="6742"/>
                  <a:pt x="15478" y="6871"/>
                </a:cubicBezTo>
                <a:cubicBezTo>
                  <a:pt x="15457" y="6994"/>
                  <a:pt x="15494" y="7126"/>
                  <a:pt x="15528" y="7243"/>
                </a:cubicBezTo>
                <a:cubicBezTo>
                  <a:pt x="15563" y="7364"/>
                  <a:pt x="15613" y="7441"/>
                  <a:pt x="15726" y="7491"/>
                </a:cubicBezTo>
                <a:cubicBezTo>
                  <a:pt x="15743" y="7491"/>
                  <a:pt x="15759" y="7491"/>
                  <a:pt x="15776" y="7491"/>
                </a:cubicBezTo>
                <a:cubicBezTo>
                  <a:pt x="15817" y="7460"/>
                  <a:pt x="15904" y="7418"/>
                  <a:pt x="15925" y="7367"/>
                </a:cubicBezTo>
                <a:cubicBezTo>
                  <a:pt x="15960" y="7284"/>
                  <a:pt x="15971" y="7184"/>
                  <a:pt x="15974" y="7094"/>
                </a:cubicBezTo>
                <a:cubicBezTo>
                  <a:pt x="15979" y="6965"/>
                  <a:pt x="15961" y="6848"/>
                  <a:pt x="15949" y="6722"/>
                </a:cubicBezTo>
                <a:cubicBezTo>
                  <a:pt x="15939" y="6621"/>
                  <a:pt x="15942" y="6626"/>
                  <a:pt x="15900" y="6548"/>
                </a:cubicBezTo>
                <a:cubicBezTo>
                  <a:pt x="15891" y="6616"/>
                  <a:pt x="15890" y="6635"/>
                  <a:pt x="15900" y="6722"/>
                </a:cubicBezTo>
                <a:cubicBezTo>
                  <a:pt x="15912" y="6829"/>
                  <a:pt x="15915" y="6973"/>
                  <a:pt x="15974" y="7069"/>
                </a:cubicBezTo>
                <a:cubicBezTo>
                  <a:pt x="16006" y="7122"/>
                  <a:pt x="16065" y="7160"/>
                  <a:pt x="16098" y="7193"/>
                </a:cubicBezTo>
                <a:cubicBezTo>
                  <a:pt x="16121" y="7173"/>
                  <a:pt x="16180" y="7162"/>
                  <a:pt x="16197" y="7119"/>
                </a:cubicBezTo>
                <a:cubicBezTo>
                  <a:pt x="16227" y="7045"/>
                  <a:pt x="16240" y="6901"/>
                  <a:pt x="16247" y="6821"/>
                </a:cubicBezTo>
                <a:cubicBezTo>
                  <a:pt x="16260" y="6666"/>
                  <a:pt x="16292" y="6545"/>
                  <a:pt x="16346" y="6400"/>
                </a:cubicBezTo>
                <a:cubicBezTo>
                  <a:pt x="16377" y="6316"/>
                  <a:pt x="16394" y="6189"/>
                  <a:pt x="16520" y="6201"/>
                </a:cubicBezTo>
                <a:cubicBezTo>
                  <a:pt x="16580" y="6207"/>
                  <a:pt x="16610" y="6256"/>
                  <a:pt x="16644" y="6300"/>
                </a:cubicBezTo>
                <a:cubicBezTo>
                  <a:pt x="16677" y="6342"/>
                  <a:pt x="16698" y="6446"/>
                  <a:pt x="16718" y="6499"/>
                </a:cubicBezTo>
                <a:cubicBezTo>
                  <a:pt x="16718" y="6515"/>
                  <a:pt x="16718" y="6532"/>
                  <a:pt x="16718" y="6548"/>
                </a:cubicBezTo>
                <a:cubicBezTo>
                  <a:pt x="16678" y="6550"/>
                  <a:pt x="16729" y="6587"/>
                  <a:pt x="16718" y="6548"/>
                </a:cubicBezTo>
                <a:cubicBezTo>
                  <a:pt x="16701" y="6489"/>
                  <a:pt x="16675" y="6429"/>
                  <a:pt x="16644" y="6375"/>
                </a:cubicBezTo>
                <a:cubicBezTo>
                  <a:pt x="16595" y="6290"/>
                  <a:pt x="16591" y="6314"/>
                  <a:pt x="16520" y="6276"/>
                </a:cubicBezTo>
                <a:cubicBezTo>
                  <a:pt x="16371" y="6350"/>
                  <a:pt x="16297" y="6355"/>
                  <a:pt x="16247" y="6548"/>
                </a:cubicBezTo>
                <a:cubicBezTo>
                  <a:pt x="16218" y="6659"/>
                  <a:pt x="16225" y="6809"/>
                  <a:pt x="16247" y="6921"/>
                </a:cubicBezTo>
                <a:cubicBezTo>
                  <a:pt x="16259" y="6982"/>
                  <a:pt x="16315" y="7040"/>
                  <a:pt x="16371" y="7069"/>
                </a:cubicBezTo>
                <a:cubicBezTo>
                  <a:pt x="16388" y="7069"/>
                  <a:pt x="16404" y="7069"/>
                  <a:pt x="16421" y="7069"/>
                </a:cubicBezTo>
                <a:cubicBezTo>
                  <a:pt x="16469" y="7021"/>
                  <a:pt x="16513" y="6981"/>
                  <a:pt x="16545" y="6921"/>
                </a:cubicBezTo>
                <a:cubicBezTo>
                  <a:pt x="16589" y="6839"/>
                  <a:pt x="16613" y="6762"/>
                  <a:pt x="16619" y="6672"/>
                </a:cubicBezTo>
                <a:cubicBezTo>
                  <a:pt x="16624" y="6591"/>
                  <a:pt x="16651" y="6416"/>
                  <a:pt x="16594" y="6350"/>
                </a:cubicBezTo>
                <a:cubicBezTo>
                  <a:pt x="16576" y="6329"/>
                  <a:pt x="16569" y="6364"/>
                  <a:pt x="16545" y="6350"/>
                </a:cubicBezTo>
                <a:cubicBezTo>
                  <a:pt x="16555" y="6481"/>
                  <a:pt x="16579" y="6589"/>
                  <a:pt x="16594" y="6722"/>
                </a:cubicBezTo>
                <a:cubicBezTo>
                  <a:pt x="16612" y="6883"/>
                  <a:pt x="16650" y="6992"/>
                  <a:pt x="16694" y="7144"/>
                </a:cubicBezTo>
                <a:cubicBezTo>
                  <a:pt x="16733" y="7277"/>
                  <a:pt x="16743" y="7404"/>
                  <a:pt x="16743" y="7541"/>
                </a:cubicBezTo>
                <a:cubicBezTo>
                  <a:pt x="16743" y="7634"/>
                  <a:pt x="16718" y="7732"/>
                  <a:pt x="16669" y="7813"/>
                </a:cubicBezTo>
                <a:cubicBezTo>
                  <a:pt x="16626" y="7884"/>
                  <a:pt x="16551" y="7938"/>
                  <a:pt x="16470" y="7938"/>
                </a:cubicBezTo>
                <a:cubicBezTo>
                  <a:pt x="16385" y="7938"/>
                  <a:pt x="16306" y="7896"/>
                  <a:pt x="16272" y="7813"/>
                </a:cubicBezTo>
                <a:cubicBezTo>
                  <a:pt x="16235" y="7723"/>
                  <a:pt x="16232" y="7609"/>
                  <a:pt x="16272" y="7516"/>
                </a:cubicBezTo>
                <a:cubicBezTo>
                  <a:pt x="16330" y="7380"/>
                  <a:pt x="16414" y="7241"/>
                  <a:pt x="16495" y="7119"/>
                </a:cubicBezTo>
                <a:cubicBezTo>
                  <a:pt x="16618" y="6934"/>
                  <a:pt x="16746" y="6770"/>
                  <a:pt x="16842" y="6573"/>
                </a:cubicBezTo>
                <a:cubicBezTo>
                  <a:pt x="16905" y="6444"/>
                  <a:pt x="16993" y="6291"/>
                  <a:pt x="17016" y="6152"/>
                </a:cubicBezTo>
                <a:cubicBezTo>
                  <a:pt x="17038" y="6021"/>
                  <a:pt x="17077" y="5780"/>
                  <a:pt x="17016" y="5655"/>
                </a:cubicBezTo>
                <a:cubicBezTo>
                  <a:pt x="16975" y="5570"/>
                  <a:pt x="16908" y="5536"/>
                  <a:pt x="16818" y="5531"/>
                </a:cubicBezTo>
                <a:cubicBezTo>
                  <a:pt x="16750" y="5527"/>
                  <a:pt x="16656" y="5570"/>
                  <a:pt x="16619" y="5631"/>
                </a:cubicBezTo>
                <a:cubicBezTo>
                  <a:pt x="16561" y="5727"/>
                  <a:pt x="16570" y="5821"/>
                  <a:pt x="16570" y="5928"/>
                </a:cubicBezTo>
                <a:cubicBezTo>
                  <a:pt x="16570" y="6151"/>
                  <a:pt x="16641" y="6338"/>
                  <a:pt x="16718" y="6548"/>
                </a:cubicBezTo>
                <a:cubicBezTo>
                  <a:pt x="16765" y="6675"/>
                  <a:pt x="16824" y="6793"/>
                  <a:pt x="16867" y="6921"/>
                </a:cubicBezTo>
                <a:cubicBezTo>
                  <a:pt x="16890" y="6989"/>
                  <a:pt x="16863" y="6989"/>
                  <a:pt x="16867" y="7045"/>
                </a:cubicBezTo>
                <a:cubicBezTo>
                  <a:pt x="16851" y="6965"/>
                  <a:pt x="16832" y="6911"/>
                  <a:pt x="16842" y="6821"/>
                </a:cubicBezTo>
                <a:cubicBezTo>
                  <a:pt x="16858" y="6675"/>
                  <a:pt x="16897" y="6561"/>
                  <a:pt x="16942" y="6424"/>
                </a:cubicBezTo>
                <a:cubicBezTo>
                  <a:pt x="16983" y="6299"/>
                  <a:pt x="17009" y="6251"/>
                  <a:pt x="17115" y="6176"/>
                </a:cubicBezTo>
                <a:cubicBezTo>
                  <a:pt x="17132" y="6168"/>
                  <a:pt x="17148" y="6160"/>
                  <a:pt x="17165" y="6152"/>
                </a:cubicBezTo>
                <a:cubicBezTo>
                  <a:pt x="17204" y="6201"/>
                  <a:pt x="17240" y="6238"/>
                  <a:pt x="17264" y="6300"/>
                </a:cubicBezTo>
                <a:cubicBezTo>
                  <a:pt x="17312" y="6426"/>
                  <a:pt x="17307" y="6569"/>
                  <a:pt x="17338" y="6697"/>
                </a:cubicBezTo>
                <a:cubicBezTo>
                  <a:pt x="17358" y="6738"/>
                  <a:pt x="17367" y="6744"/>
                  <a:pt x="17363" y="6772"/>
                </a:cubicBezTo>
              </a:path>
              <a:path w="10568" h="5507">
                <a:moveTo>
                  <a:pt x="15825" y="6052"/>
                </a:moveTo>
                <a:cubicBezTo>
                  <a:pt x="15842" y="6120"/>
                  <a:pt x="15884" y="6102"/>
                  <a:pt x="15949" y="6102"/>
                </a:cubicBezTo>
              </a:path>
              <a:path w="10568" h="5507">
                <a:moveTo>
                  <a:pt x="17314" y="5432"/>
                </a:moveTo>
                <a:cubicBezTo>
                  <a:pt x="17378" y="5531"/>
                  <a:pt x="17442" y="5661"/>
                  <a:pt x="17587" y="5655"/>
                </a:cubicBezTo>
                <a:cubicBezTo>
                  <a:pt x="17681" y="5651"/>
                  <a:pt x="17757" y="5567"/>
                  <a:pt x="17810" y="5507"/>
                </a:cubicBezTo>
                <a:cubicBezTo>
                  <a:pt x="17886" y="5420"/>
                  <a:pt x="17905" y="5321"/>
                  <a:pt x="17934" y="5209"/>
                </a:cubicBezTo>
                <a:cubicBezTo>
                  <a:pt x="17963" y="5099"/>
                  <a:pt x="17978" y="4976"/>
                  <a:pt x="17983" y="4862"/>
                </a:cubicBezTo>
                <a:cubicBezTo>
                  <a:pt x="17988" y="4762"/>
                  <a:pt x="17968" y="4826"/>
                  <a:pt x="17959" y="4862"/>
                </a:cubicBezTo>
                <a:cubicBezTo>
                  <a:pt x="17936" y="5023"/>
                  <a:pt x="17934" y="5170"/>
                  <a:pt x="17934" y="5333"/>
                </a:cubicBezTo>
                <a:cubicBezTo>
                  <a:pt x="17934" y="5542"/>
                  <a:pt x="17926" y="5746"/>
                  <a:pt x="17959" y="5953"/>
                </a:cubicBezTo>
                <a:cubicBezTo>
                  <a:pt x="17977" y="6068"/>
                  <a:pt x="18002" y="6186"/>
                  <a:pt x="18008" y="6300"/>
                </a:cubicBezTo>
                <a:cubicBezTo>
                  <a:pt x="18008" y="6325"/>
                  <a:pt x="18008" y="6333"/>
                  <a:pt x="18008" y="6350"/>
                </a:cubicBezTo>
                <a:cubicBezTo>
                  <a:pt x="18008" y="6246"/>
                  <a:pt x="17989" y="6155"/>
                  <a:pt x="17983" y="6052"/>
                </a:cubicBezTo>
                <a:cubicBezTo>
                  <a:pt x="17967" y="5784"/>
                  <a:pt x="17931" y="5501"/>
                  <a:pt x="17983" y="5234"/>
                </a:cubicBezTo>
                <a:cubicBezTo>
                  <a:pt x="18021" y="5042"/>
                  <a:pt x="18049" y="4966"/>
                  <a:pt x="18107" y="4812"/>
                </a:cubicBezTo>
                <a:cubicBezTo>
                  <a:pt x="18107" y="4804"/>
                  <a:pt x="18107" y="4795"/>
                  <a:pt x="18107" y="4787"/>
                </a:cubicBezTo>
                <a:cubicBezTo>
                  <a:pt x="18165" y="4836"/>
                  <a:pt x="18157" y="4809"/>
                  <a:pt x="18182" y="4887"/>
                </a:cubicBezTo>
                <a:cubicBezTo>
                  <a:pt x="18226" y="5023"/>
                  <a:pt x="18247" y="5165"/>
                  <a:pt x="18256" y="5308"/>
                </a:cubicBezTo>
                <a:cubicBezTo>
                  <a:pt x="18265" y="5450"/>
                  <a:pt x="18281" y="5587"/>
                  <a:pt x="18281" y="5730"/>
                </a:cubicBezTo>
                <a:cubicBezTo>
                  <a:pt x="18281" y="5763"/>
                  <a:pt x="18281" y="5796"/>
                  <a:pt x="18281" y="5829"/>
                </a:cubicBezTo>
                <a:cubicBezTo>
                  <a:pt x="18259" y="5793"/>
                  <a:pt x="18256" y="5757"/>
                  <a:pt x="18256" y="5680"/>
                </a:cubicBezTo>
                <a:cubicBezTo>
                  <a:pt x="18256" y="5469"/>
                  <a:pt x="18261" y="5294"/>
                  <a:pt x="18306" y="5085"/>
                </a:cubicBezTo>
                <a:cubicBezTo>
                  <a:pt x="18327" y="4988"/>
                  <a:pt x="18353" y="4943"/>
                  <a:pt x="18405" y="4887"/>
                </a:cubicBezTo>
                <a:cubicBezTo>
                  <a:pt x="18413" y="4879"/>
                  <a:pt x="18422" y="4870"/>
                  <a:pt x="18430" y="4862"/>
                </a:cubicBezTo>
                <a:cubicBezTo>
                  <a:pt x="18488" y="4904"/>
                  <a:pt x="18488" y="4910"/>
                  <a:pt x="18504" y="4986"/>
                </a:cubicBezTo>
                <a:cubicBezTo>
                  <a:pt x="18535" y="5127"/>
                  <a:pt x="18529" y="5261"/>
                  <a:pt x="18529" y="5407"/>
                </a:cubicBezTo>
                <a:cubicBezTo>
                  <a:pt x="18529" y="5527"/>
                  <a:pt x="18527" y="5687"/>
                  <a:pt x="18554" y="5804"/>
                </a:cubicBezTo>
                <a:cubicBezTo>
                  <a:pt x="18560" y="5829"/>
                  <a:pt x="18589" y="5960"/>
                  <a:pt x="18604" y="5879"/>
                </a:cubicBezTo>
                <a:cubicBezTo>
                  <a:pt x="18611" y="5841"/>
                  <a:pt x="18604" y="5794"/>
                  <a:pt x="18604" y="5755"/>
                </a:cubicBezTo>
              </a:path>
              <a:path w="10568" h="5507">
                <a:moveTo>
                  <a:pt x="18678" y="5234"/>
                </a:moveTo>
                <a:cubicBezTo>
                  <a:pt x="18678" y="5327"/>
                  <a:pt x="18641" y="5623"/>
                  <a:pt x="18728" y="5730"/>
                </a:cubicBezTo>
                <a:cubicBezTo>
                  <a:pt x="18763" y="5774"/>
                  <a:pt x="18764" y="5736"/>
                  <a:pt x="18802" y="5755"/>
                </a:cubicBezTo>
                <a:cubicBezTo>
                  <a:pt x="18863" y="5686"/>
                  <a:pt x="18894" y="5648"/>
                  <a:pt x="18926" y="5556"/>
                </a:cubicBezTo>
                <a:cubicBezTo>
                  <a:pt x="18963" y="5449"/>
                  <a:pt x="18957" y="5366"/>
                  <a:pt x="18976" y="5259"/>
                </a:cubicBezTo>
                <a:cubicBezTo>
                  <a:pt x="18992" y="5167"/>
                  <a:pt x="18999" y="5114"/>
                  <a:pt x="18976" y="5035"/>
                </a:cubicBezTo>
                <a:cubicBezTo>
                  <a:pt x="18976" y="5203"/>
                  <a:pt x="18989" y="5365"/>
                  <a:pt x="19000" y="5531"/>
                </a:cubicBezTo>
                <a:cubicBezTo>
                  <a:pt x="19013" y="5726"/>
                  <a:pt x="19027" y="5938"/>
                  <a:pt x="19075" y="6127"/>
                </a:cubicBezTo>
                <a:cubicBezTo>
                  <a:pt x="19093" y="6199"/>
                  <a:pt x="19122" y="6298"/>
                  <a:pt x="19100" y="6375"/>
                </a:cubicBezTo>
                <a:cubicBezTo>
                  <a:pt x="19088" y="6419"/>
                  <a:pt x="19045" y="6502"/>
                  <a:pt x="19000" y="6524"/>
                </a:cubicBezTo>
                <a:cubicBezTo>
                  <a:pt x="18947" y="6549"/>
                  <a:pt x="18868" y="6515"/>
                  <a:pt x="18827" y="6499"/>
                </a:cubicBezTo>
                <a:cubicBezTo>
                  <a:pt x="18726" y="6460"/>
                  <a:pt x="18731" y="6399"/>
                  <a:pt x="18728" y="6300"/>
                </a:cubicBezTo>
                <a:cubicBezTo>
                  <a:pt x="18725" y="6210"/>
                  <a:pt x="18759" y="6108"/>
                  <a:pt x="18802" y="6028"/>
                </a:cubicBezTo>
                <a:cubicBezTo>
                  <a:pt x="18854" y="5932"/>
                  <a:pt x="18910" y="5815"/>
                  <a:pt x="18976" y="5730"/>
                </a:cubicBezTo>
                <a:cubicBezTo>
                  <a:pt x="19034" y="5654"/>
                  <a:pt x="19075" y="5568"/>
                  <a:pt x="19124" y="5482"/>
                </a:cubicBezTo>
                <a:cubicBezTo>
                  <a:pt x="19168" y="5405"/>
                  <a:pt x="19190" y="5316"/>
                  <a:pt x="19224" y="5234"/>
                </a:cubicBezTo>
                <a:cubicBezTo>
                  <a:pt x="19254" y="5163"/>
                  <a:pt x="19294" y="5113"/>
                  <a:pt x="19298" y="5035"/>
                </a:cubicBezTo>
                <a:cubicBezTo>
                  <a:pt x="19300" y="5002"/>
                  <a:pt x="19298" y="4969"/>
                  <a:pt x="19298" y="4936"/>
                </a:cubicBezTo>
                <a:cubicBezTo>
                  <a:pt x="19236" y="4963"/>
                  <a:pt x="19229" y="4979"/>
                  <a:pt x="19199" y="5060"/>
                </a:cubicBezTo>
                <a:cubicBezTo>
                  <a:pt x="19169" y="5141"/>
                  <a:pt x="19114" y="5249"/>
                  <a:pt x="19100" y="5333"/>
                </a:cubicBezTo>
                <a:cubicBezTo>
                  <a:pt x="19085" y="5425"/>
                  <a:pt x="19112" y="5459"/>
                  <a:pt x="19149" y="5531"/>
                </a:cubicBezTo>
                <a:cubicBezTo>
                  <a:pt x="19174" y="5579"/>
                  <a:pt x="19238" y="5616"/>
                  <a:pt x="19298" y="5606"/>
                </a:cubicBezTo>
                <a:cubicBezTo>
                  <a:pt x="19355" y="5596"/>
                  <a:pt x="19386" y="5555"/>
                  <a:pt x="19422" y="5507"/>
                </a:cubicBezTo>
                <a:cubicBezTo>
                  <a:pt x="19467" y="5447"/>
                  <a:pt x="19485" y="5384"/>
                  <a:pt x="19496" y="5308"/>
                </a:cubicBezTo>
                <a:cubicBezTo>
                  <a:pt x="19508" y="5224"/>
                  <a:pt x="19521" y="5147"/>
                  <a:pt x="19521" y="5060"/>
                </a:cubicBezTo>
                <a:cubicBezTo>
                  <a:pt x="19521" y="4990"/>
                  <a:pt x="19531" y="4938"/>
                  <a:pt x="19571" y="4887"/>
                </a:cubicBezTo>
                <a:cubicBezTo>
                  <a:pt x="19595" y="4856"/>
                  <a:pt x="19620" y="4853"/>
                  <a:pt x="19645" y="4837"/>
                </a:cubicBezTo>
                <a:cubicBezTo>
                  <a:pt x="19687" y="4868"/>
                  <a:pt x="19722" y="4870"/>
                  <a:pt x="19745" y="4936"/>
                </a:cubicBezTo>
                <a:cubicBezTo>
                  <a:pt x="19764" y="4991"/>
                  <a:pt x="19784" y="5078"/>
                  <a:pt x="19794" y="5135"/>
                </a:cubicBezTo>
                <a:cubicBezTo>
                  <a:pt x="19807" y="5213"/>
                  <a:pt x="19779" y="5265"/>
                  <a:pt x="19769" y="5333"/>
                </a:cubicBezTo>
                <a:cubicBezTo>
                  <a:pt x="19764" y="5364"/>
                  <a:pt x="19769" y="5400"/>
                  <a:pt x="19769" y="5432"/>
                </a:cubicBezTo>
                <a:cubicBezTo>
                  <a:pt x="19822" y="5399"/>
                  <a:pt x="19823" y="5410"/>
                  <a:pt x="19869" y="5358"/>
                </a:cubicBezTo>
                <a:cubicBezTo>
                  <a:pt x="19918" y="5302"/>
                  <a:pt x="19921" y="5276"/>
                  <a:pt x="19943" y="5209"/>
                </a:cubicBezTo>
                <a:cubicBezTo>
                  <a:pt x="19971" y="5154"/>
                  <a:pt x="19979" y="5131"/>
                  <a:pt x="19968" y="5085"/>
                </a:cubicBezTo>
              </a:path>
              <a:path w="10568" h="5507">
                <a:moveTo>
                  <a:pt x="19968" y="4812"/>
                </a:moveTo>
                <a:cubicBezTo>
                  <a:pt x="19929" y="4735"/>
                  <a:pt x="19895" y="4720"/>
                  <a:pt x="19943" y="4688"/>
                </a:cubicBezTo>
              </a:path>
              <a:path w="10568" h="5507">
                <a:moveTo>
                  <a:pt x="20017" y="4663"/>
                </a:moveTo>
                <a:cubicBezTo>
                  <a:pt x="20097" y="4676"/>
                  <a:pt x="20128" y="4678"/>
                  <a:pt x="20191" y="4738"/>
                </a:cubicBezTo>
                <a:cubicBezTo>
                  <a:pt x="20228" y="4773"/>
                  <a:pt x="20271" y="4858"/>
                  <a:pt x="20241" y="4911"/>
                </a:cubicBezTo>
                <a:cubicBezTo>
                  <a:pt x="20217" y="4954"/>
                  <a:pt x="20159" y="5028"/>
                  <a:pt x="20117" y="5060"/>
                </a:cubicBezTo>
                <a:cubicBezTo>
                  <a:pt x="20030" y="5126"/>
                  <a:pt x="20084" y="5077"/>
                  <a:pt x="20067" y="5135"/>
                </a:cubicBezTo>
                <a:cubicBezTo>
                  <a:pt x="20112" y="5131"/>
                  <a:pt x="20179" y="5132"/>
                  <a:pt x="20216" y="5110"/>
                </a:cubicBezTo>
                <a:cubicBezTo>
                  <a:pt x="20269" y="5079"/>
                  <a:pt x="20350" y="5012"/>
                  <a:pt x="20389" y="4961"/>
                </a:cubicBezTo>
                <a:cubicBezTo>
                  <a:pt x="20451" y="4881"/>
                  <a:pt x="20475" y="4808"/>
                  <a:pt x="20513" y="4713"/>
                </a:cubicBezTo>
                <a:cubicBezTo>
                  <a:pt x="20550" y="4623"/>
                  <a:pt x="20542" y="4555"/>
                  <a:pt x="20513" y="4465"/>
                </a:cubicBezTo>
                <a:cubicBezTo>
                  <a:pt x="20474" y="4345"/>
                  <a:pt x="20444" y="4334"/>
                  <a:pt x="20340" y="4266"/>
                </a:cubicBezTo>
                <a:cubicBezTo>
                  <a:pt x="20200" y="4175"/>
                  <a:pt x="20135" y="4156"/>
                  <a:pt x="19968" y="4142"/>
                </a:cubicBezTo>
                <a:cubicBezTo>
                  <a:pt x="19725" y="4121"/>
                  <a:pt x="19591" y="4129"/>
                  <a:pt x="19372" y="4217"/>
                </a:cubicBezTo>
                <a:cubicBezTo>
                  <a:pt x="19203" y="4285"/>
                  <a:pt x="19069" y="4385"/>
                  <a:pt x="19000" y="4564"/>
                </a:cubicBezTo>
                <a:cubicBezTo>
                  <a:pt x="18954" y="4685"/>
                  <a:pt x="18957" y="4863"/>
                  <a:pt x="19050" y="4961"/>
                </a:cubicBezTo>
                <a:cubicBezTo>
                  <a:pt x="19130" y="5015"/>
                  <a:pt x="19161" y="5035"/>
                  <a:pt x="19224" y="50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5000" y="3973680"/>
            <a:ext cx="4867200" cy="1152360"/>
          </a:xfrm>
          <a:custGeom>
            <a:avLst/>
            <a:gdLst/>
            <a:ahLst/>
            <a:rect l="l" t="t" r="r" b="b"/>
            <a:pathLst>
              <a:path w="13519" h="3201">
                <a:moveTo>
                  <a:pt x="7466" y="12129"/>
                </a:moveTo>
                <a:cubicBezTo>
                  <a:pt x="7476" y="12216"/>
                  <a:pt x="7475" y="12316"/>
                  <a:pt x="7491" y="12402"/>
                </a:cubicBezTo>
                <a:cubicBezTo>
                  <a:pt x="7511" y="12511"/>
                  <a:pt x="7514" y="12569"/>
                  <a:pt x="7491" y="12675"/>
                </a:cubicBezTo>
                <a:cubicBezTo>
                  <a:pt x="7491" y="12683"/>
                  <a:pt x="7491" y="12692"/>
                  <a:pt x="7491" y="12700"/>
                </a:cubicBezTo>
                <a:cubicBezTo>
                  <a:pt x="7502" y="12609"/>
                  <a:pt x="7520" y="12520"/>
                  <a:pt x="7541" y="12427"/>
                </a:cubicBezTo>
                <a:cubicBezTo>
                  <a:pt x="7563" y="12331"/>
                  <a:pt x="7583" y="12187"/>
                  <a:pt x="7640" y="12105"/>
                </a:cubicBezTo>
                <a:cubicBezTo>
                  <a:pt x="7664" y="12070"/>
                  <a:pt x="7708" y="12036"/>
                  <a:pt x="7739" y="12005"/>
                </a:cubicBezTo>
                <a:cubicBezTo>
                  <a:pt x="7811" y="12020"/>
                  <a:pt x="7826" y="12055"/>
                  <a:pt x="7838" y="12129"/>
                </a:cubicBezTo>
                <a:cubicBezTo>
                  <a:pt x="7855" y="12229"/>
                  <a:pt x="7863" y="12325"/>
                  <a:pt x="7863" y="12427"/>
                </a:cubicBezTo>
                <a:cubicBezTo>
                  <a:pt x="7863" y="12498"/>
                  <a:pt x="7854" y="12545"/>
                  <a:pt x="7888" y="12601"/>
                </a:cubicBezTo>
              </a:path>
              <a:path w="13519" h="3201">
                <a:moveTo>
                  <a:pt x="8136" y="12055"/>
                </a:moveTo>
                <a:cubicBezTo>
                  <a:pt x="8210" y="12160"/>
                  <a:pt x="8267" y="12269"/>
                  <a:pt x="8334" y="12378"/>
                </a:cubicBezTo>
                <a:cubicBezTo>
                  <a:pt x="8384" y="12459"/>
                  <a:pt x="8441" y="12520"/>
                  <a:pt x="8508" y="12576"/>
                </a:cubicBezTo>
                <a:cubicBezTo>
                  <a:pt x="8539" y="12602"/>
                  <a:pt x="8545" y="12616"/>
                  <a:pt x="8582" y="12626"/>
                </a:cubicBezTo>
              </a:path>
              <a:path w="13519" h="3201">
                <a:moveTo>
                  <a:pt x="8558" y="11881"/>
                </a:moveTo>
                <a:cubicBezTo>
                  <a:pt x="8519" y="12015"/>
                  <a:pt x="8486" y="12173"/>
                  <a:pt x="8434" y="12303"/>
                </a:cubicBezTo>
                <a:cubicBezTo>
                  <a:pt x="8393" y="12404"/>
                  <a:pt x="8329" y="12521"/>
                  <a:pt x="8260" y="12601"/>
                </a:cubicBezTo>
                <a:cubicBezTo>
                  <a:pt x="8234" y="12631"/>
                  <a:pt x="8234" y="12643"/>
                  <a:pt x="8210" y="12675"/>
                </a:cubicBezTo>
              </a:path>
              <a:path w="13519" h="3201">
                <a:moveTo>
                  <a:pt x="6127" y="13196"/>
                </a:moveTo>
                <a:cubicBezTo>
                  <a:pt x="6230" y="13196"/>
                  <a:pt x="6325" y="13180"/>
                  <a:pt x="6424" y="13171"/>
                </a:cubicBezTo>
                <a:cubicBezTo>
                  <a:pt x="6562" y="13158"/>
                  <a:pt x="6708" y="13155"/>
                  <a:pt x="6846" y="13146"/>
                </a:cubicBezTo>
                <a:cubicBezTo>
                  <a:pt x="7102" y="13128"/>
                  <a:pt x="7360" y="13141"/>
                  <a:pt x="7615" y="13122"/>
                </a:cubicBezTo>
                <a:cubicBezTo>
                  <a:pt x="7765" y="13111"/>
                  <a:pt x="7914" y="13083"/>
                  <a:pt x="8062" y="13072"/>
                </a:cubicBezTo>
                <a:cubicBezTo>
                  <a:pt x="8242" y="13059"/>
                  <a:pt x="8427" y="13072"/>
                  <a:pt x="8607" y="13072"/>
                </a:cubicBezTo>
              </a:path>
              <a:path w="13519" h="3201">
                <a:moveTo>
                  <a:pt x="7144" y="13295"/>
                </a:moveTo>
                <a:cubicBezTo>
                  <a:pt x="7069" y="13269"/>
                  <a:pt x="7022" y="13246"/>
                  <a:pt x="6945" y="13246"/>
                </a:cubicBezTo>
                <a:cubicBezTo>
                  <a:pt x="6878" y="13246"/>
                  <a:pt x="6833" y="13315"/>
                  <a:pt x="6796" y="13370"/>
                </a:cubicBezTo>
                <a:cubicBezTo>
                  <a:pt x="6724" y="13476"/>
                  <a:pt x="6725" y="13614"/>
                  <a:pt x="6722" y="13742"/>
                </a:cubicBezTo>
                <a:cubicBezTo>
                  <a:pt x="6719" y="13869"/>
                  <a:pt x="6746" y="13979"/>
                  <a:pt x="6846" y="14064"/>
                </a:cubicBezTo>
                <a:cubicBezTo>
                  <a:pt x="6933" y="14138"/>
                  <a:pt x="7001" y="14071"/>
                  <a:pt x="7069" y="14039"/>
                </a:cubicBezTo>
                <a:cubicBezTo>
                  <a:pt x="7094" y="14031"/>
                  <a:pt x="7119" y="14023"/>
                  <a:pt x="7144" y="14015"/>
                </a:cubicBezTo>
              </a:path>
              <a:path w="13519" h="3201">
                <a:moveTo>
                  <a:pt x="7466" y="13444"/>
                </a:moveTo>
                <a:cubicBezTo>
                  <a:pt x="7429" y="13419"/>
                  <a:pt x="7417" y="13458"/>
                  <a:pt x="7392" y="13519"/>
                </a:cubicBezTo>
                <a:cubicBezTo>
                  <a:pt x="7359" y="13599"/>
                  <a:pt x="7329" y="13754"/>
                  <a:pt x="7342" y="13841"/>
                </a:cubicBezTo>
                <a:cubicBezTo>
                  <a:pt x="7353" y="13918"/>
                  <a:pt x="7381" y="14015"/>
                  <a:pt x="7466" y="14015"/>
                </a:cubicBezTo>
                <a:cubicBezTo>
                  <a:pt x="7523" y="13982"/>
                  <a:pt x="7599" y="13938"/>
                  <a:pt x="7615" y="13866"/>
                </a:cubicBezTo>
                <a:cubicBezTo>
                  <a:pt x="7636" y="13770"/>
                  <a:pt x="7640" y="13668"/>
                  <a:pt x="7640" y="13568"/>
                </a:cubicBezTo>
                <a:cubicBezTo>
                  <a:pt x="7640" y="13481"/>
                  <a:pt x="7624" y="13453"/>
                  <a:pt x="7565" y="13395"/>
                </a:cubicBezTo>
                <a:cubicBezTo>
                  <a:pt x="7523" y="13428"/>
                  <a:pt x="7456" y="13464"/>
                  <a:pt x="7441" y="13519"/>
                </a:cubicBezTo>
                <a:cubicBezTo>
                  <a:pt x="7441" y="13535"/>
                  <a:pt x="7441" y="13552"/>
                  <a:pt x="7441" y="13568"/>
                </a:cubicBezTo>
              </a:path>
              <a:path w="13519" h="3201">
                <a:moveTo>
                  <a:pt x="7888" y="13395"/>
                </a:moveTo>
                <a:cubicBezTo>
                  <a:pt x="7871" y="13344"/>
                  <a:pt x="7834" y="13395"/>
                  <a:pt x="7789" y="13419"/>
                </a:cubicBezTo>
                <a:cubicBezTo>
                  <a:pt x="7722" y="13454"/>
                  <a:pt x="7666" y="13502"/>
                  <a:pt x="7640" y="13568"/>
                </a:cubicBezTo>
                <a:cubicBezTo>
                  <a:pt x="7707" y="13608"/>
                  <a:pt x="7784" y="13600"/>
                  <a:pt x="7863" y="13618"/>
                </a:cubicBezTo>
                <a:cubicBezTo>
                  <a:pt x="7969" y="13642"/>
                  <a:pt x="8085" y="13675"/>
                  <a:pt x="8186" y="13717"/>
                </a:cubicBezTo>
                <a:cubicBezTo>
                  <a:pt x="8238" y="13738"/>
                  <a:pt x="8302" y="13801"/>
                  <a:pt x="8260" y="13866"/>
                </a:cubicBezTo>
                <a:cubicBezTo>
                  <a:pt x="8207" y="13948"/>
                  <a:pt x="8121" y="13997"/>
                  <a:pt x="8037" y="14039"/>
                </a:cubicBezTo>
                <a:cubicBezTo>
                  <a:pt x="7981" y="14067"/>
                  <a:pt x="7906" y="14061"/>
                  <a:pt x="7888" y="13990"/>
                </a:cubicBezTo>
                <a:cubicBezTo>
                  <a:pt x="7888" y="13973"/>
                  <a:pt x="7888" y="13957"/>
                  <a:pt x="7888" y="13940"/>
                </a:cubicBezTo>
              </a:path>
              <a:path w="13519" h="3201">
                <a:moveTo>
                  <a:pt x="8409" y="13494"/>
                </a:moveTo>
                <a:cubicBezTo>
                  <a:pt x="8516" y="13626"/>
                  <a:pt x="8591" y="13750"/>
                  <a:pt x="8682" y="13891"/>
                </a:cubicBezTo>
                <a:cubicBezTo>
                  <a:pt x="8737" y="13977"/>
                  <a:pt x="8777" y="14057"/>
                  <a:pt x="8880" y="14089"/>
                </a:cubicBezTo>
                <a:cubicBezTo>
                  <a:pt x="8914" y="14099"/>
                  <a:pt x="8935" y="14059"/>
                  <a:pt x="8954" y="14039"/>
                </a:cubicBezTo>
              </a:path>
              <a:path w="13519" h="3201">
                <a:moveTo>
                  <a:pt x="8880" y="13543"/>
                </a:moveTo>
                <a:cubicBezTo>
                  <a:pt x="8809" y="13731"/>
                  <a:pt x="8734" y="13909"/>
                  <a:pt x="8657" y="14089"/>
                </a:cubicBezTo>
                <a:cubicBezTo>
                  <a:pt x="8631" y="14150"/>
                  <a:pt x="8622" y="14188"/>
                  <a:pt x="8582" y="14238"/>
                </a:cubicBezTo>
              </a:path>
              <a:path w="13519" h="3201">
                <a:moveTo>
                  <a:pt x="9798" y="12898"/>
                </a:moveTo>
                <a:cubicBezTo>
                  <a:pt x="9798" y="12874"/>
                  <a:pt x="9798" y="12865"/>
                  <a:pt x="9798" y="12849"/>
                </a:cubicBezTo>
              </a:path>
              <a:path w="13519" h="3201">
                <a:moveTo>
                  <a:pt x="9773" y="12750"/>
                </a:moveTo>
                <a:cubicBezTo>
                  <a:pt x="9790" y="12772"/>
                  <a:pt x="9817" y="12815"/>
                  <a:pt x="9798" y="12849"/>
                </a:cubicBezTo>
                <a:cubicBezTo>
                  <a:pt x="9790" y="12857"/>
                  <a:pt x="9781" y="12866"/>
                  <a:pt x="9773" y="12874"/>
                </a:cubicBezTo>
                <a:cubicBezTo>
                  <a:pt x="9735" y="12861"/>
                  <a:pt x="9748" y="12844"/>
                  <a:pt x="9748" y="12799"/>
                </a:cubicBezTo>
                <a:cubicBezTo>
                  <a:pt x="9748" y="12756"/>
                  <a:pt x="9784" y="12729"/>
                  <a:pt x="9823" y="12725"/>
                </a:cubicBezTo>
                <a:cubicBezTo>
                  <a:pt x="9831" y="12725"/>
                  <a:pt x="9839" y="12725"/>
                  <a:pt x="9847" y="12725"/>
                </a:cubicBezTo>
                <a:cubicBezTo>
                  <a:pt x="9870" y="12756"/>
                  <a:pt x="9893" y="12785"/>
                  <a:pt x="9897" y="12824"/>
                </a:cubicBezTo>
                <a:cubicBezTo>
                  <a:pt x="9901" y="12860"/>
                  <a:pt x="9912" y="12928"/>
                  <a:pt x="9872" y="12948"/>
                </a:cubicBezTo>
                <a:cubicBezTo>
                  <a:pt x="9847" y="12948"/>
                  <a:pt x="9839" y="12948"/>
                  <a:pt x="9823" y="12948"/>
                </a:cubicBezTo>
                <a:cubicBezTo>
                  <a:pt x="9823" y="12889"/>
                  <a:pt x="9833" y="12849"/>
                  <a:pt x="9847" y="12799"/>
                </a:cubicBezTo>
                <a:cubicBezTo>
                  <a:pt x="9859" y="12757"/>
                  <a:pt x="9885" y="12756"/>
                  <a:pt x="9922" y="12774"/>
                </a:cubicBezTo>
                <a:cubicBezTo>
                  <a:pt x="9922" y="12824"/>
                  <a:pt x="9922" y="12873"/>
                  <a:pt x="9922" y="12923"/>
                </a:cubicBezTo>
              </a:path>
              <a:path w="13519" h="3201">
                <a:moveTo>
                  <a:pt x="11237" y="12477"/>
                </a:moveTo>
                <a:cubicBezTo>
                  <a:pt x="11228" y="12440"/>
                  <a:pt x="11211" y="12388"/>
                  <a:pt x="11187" y="12353"/>
                </a:cubicBezTo>
                <a:cubicBezTo>
                  <a:pt x="11159" y="12311"/>
                  <a:pt x="11112" y="12281"/>
                  <a:pt x="11063" y="12278"/>
                </a:cubicBezTo>
                <a:cubicBezTo>
                  <a:pt x="10990" y="12273"/>
                  <a:pt x="10943" y="12277"/>
                  <a:pt x="10889" y="12328"/>
                </a:cubicBezTo>
                <a:cubicBezTo>
                  <a:pt x="10818" y="12395"/>
                  <a:pt x="10773" y="12485"/>
                  <a:pt x="10740" y="12576"/>
                </a:cubicBezTo>
                <a:cubicBezTo>
                  <a:pt x="10700" y="12686"/>
                  <a:pt x="10714" y="12788"/>
                  <a:pt x="10740" y="12898"/>
                </a:cubicBezTo>
                <a:cubicBezTo>
                  <a:pt x="10776" y="13047"/>
                  <a:pt x="10870" y="13133"/>
                  <a:pt x="10988" y="13221"/>
                </a:cubicBezTo>
                <a:cubicBezTo>
                  <a:pt x="11053" y="13270"/>
                  <a:pt x="11154" y="13294"/>
                  <a:pt x="11237" y="13271"/>
                </a:cubicBezTo>
                <a:cubicBezTo>
                  <a:pt x="11299" y="13254"/>
                  <a:pt x="11342" y="13189"/>
                  <a:pt x="11385" y="13146"/>
                </a:cubicBezTo>
              </a:path>
              <a:path w="13519" h="3201">
                <a:moveTo>
                  <a:pt x="11857" y="12328"/>
                </a:moveTo>
                <a:cubicBezTo>
                  <a:pt x="11703" y="12410"/>
                  <a:pt x="11658" y="12454"/>
                  <a:pt x="11609" y="12626"/>
                </a:cubicBezTo>
                <a:cubicBezTo>
                  <a:pt x="11573" y="12752"/>
                  <a:pt x="11537" y="12889"/>
                  <a:pt x="11559" y="13022"/>
                </a:cubicBezTo>
                <a:cubicBezTo>
                  <a:pt x="11569" y="13082"/>
                  <a:pt x="11633" y="13175"/>
                  <a:pt x="11708" y="13171"/>
                </a:cubicBezTo>
                <a:cubicBezTo>
                  <a:pt x="11786" y="13166"/>
                  <a:pt x="11890" y="13086"/>
                  <a:pt x="11931" y="13022"/>
                </a:cubicBezTo>
                <a:cubicBezTo>
                  <a:pt x="12010" y="12900"/>
                  <a:pt x="12068" y="12755"/>
                  <a:pt x="12129" y="12626"/>
                </a:cubicBezTo>
                <a:cubicBezTo>
                  <a:pt x="12173" y="12532"/>
                  <a:pt x="12179" y="12549"/>
                  <a:pt x="12179" y="12477"/>
                </a:cubicBezTo>
                <a:cubicBezTo>
                  <a:pt x="12124" y="12440"/>
                  <a:pt x="12053" y="12407"/>
                  <a:pt x="11981" y="12427"/>
                </a:cubicBezTo>
                <a:cubicBezTo>
                  <a:pt x="11940" y="12447"/>
                  <a:pt x="11934" y="12456"/>
                  <a:pt x="11906" y="12452"/>
                </a:cubicBezTo>
              </a:path>
              <a:path w="13519" h="3201">
                <a:moveTo>
                  <a:pt x="12576" y="12254"/>
                </a:moveTo>
                <a:cubicBezTo>
                  <a:pt x="12477" y="12266"/>
                  <a:pt x="12373" y="12299"/>
                  <a:pt x="12303" y="12378"/>
                </a:cubicBezTo>
                <a:cubicBezTo>
                  <a:pt x="12283" y="12418"/>
                  <a:pt x="12285" y="12434"/>
                  <a:pt x="12254" y="12427"/>
                </a:cubicBezTo>
                <a:cubicBezTo>
                  <a:pt x="12297" y="12471"/>
                  <a:pt x="12342" y="12507"/>
                  <a:pt x="12402" y="12526"/>
                </a:cubicBezTo>
                <a:cubicBezTo>
                  <a:pt x="12535" y="12568"/>
                  <a:pt x="12653" y="12600"/>
                  <a:pt x="12774" y="12675"/>
                </a:cubicBezTo>
                <a:cubicBezTo>
                  <a:pt x="12840" y="12716"/>
                  <a:pt x="12944" y="12779"/>
                  <a:pt x="12923" y="12874"/>
                </a:cubicBezTo>
                <a:cubicBezTo>
                  <a:pt x="12907" y="12945"/>
                  <a:pt x="12857" y="13012"/>
                  <a:pt x="12799" y="13047"/>
                </a:cubicBezTo>
                <a:cubicBezTo>
                  <a:pt x="12732" y="13087"/>
                  <a:pt x="12655" y="13118"/>
                  <a:pt x="12576" y="13097"/>
                </a:cubicBezTo>
                <a:cubicBezTo>
                  <a:pt x="12502" y="13077"/>
                  <a:pt x="12456" y="13045"/>
                  <a:pt x="12452" y="12973"/>
                </a:cubicBezTo>
                <a:cubicBezTo>
                  <a:pt x="12452" y="12956"/>
                  <a:pt x="12452" y="12940"/>
                  <a:pt x="12452" y="12923"/>
                </a:cubicBezTo>
              </a:path>
              <a:path w="13519" h="3201">
                <a:moveTo>
                  <a:pt x="13196" y="12477"/>
                </a:moveTo>
                <a:cubicBezTo>
                  <a:pt x="13258" y="12562"/>
                  <a:pt x="13311" y="12642"/>
                  <a:pt x="13370" y="12725"/>
                </a:cubicBezTo>
                <a:cubicBezTo>
                  <a:pt x="13438" y="12821"/>
                  <a:pt x="13531" y="12943"/>
                  <a:pt x="13618" y="13022"/>
                </a:cubicBezTo>
                <a:cubicBezTo>
                  <a:pt x="13655" y="13055"/>
                  <a:pt x="13698" y="13047"/>
                  <a:pt x="13742" y="13047"/>
                </a:cubicBezTo>
              </a:path>
              <a:path w="13519" h="3201">
                <a:moveTo>
                  <a:pt x="13816" y="12477"/>
                </a:moveTo>
                <a:cubicBezTo>
                  <a:pt x="13754" y="12575"/>
                  <a:pt x="13690" y="12636"/>
                  <a:pt x="13618" y="12725"/>
                </a:cubicBezTo>
                <a:cubicBezTo>
                  <a:pt x="13537" y="12825"/>
                  <a:pt x="13464" y="12913"/>
                  <a:pt x="13370" y="12998"/>
                </a:cubicBezTo>
                <a:cubicBezTo>
                  <a:pt x="13303" y="13058"/>
                  <a:pt x="13259" y="13086"/>
                  <a:pt x="13171" y="13097"/>
                </a:cubicBezTo>
              </a:path>
              <a:path w="13519" h="3201">
                <a:moveTo>
                  <a:pt x="13618" y="12303"/>
                </a:moveTo>
                <a:cubicBezTo>
                  <a:pt x="13404" y="12330"/>
                  <a:pt x="13188" y="12366"/>
                  <a:pt x="12973" y="12378"/>
                </a:cubicBezTo>
                <a:cubicBezTo>
                  <a:pt x="12755" y="12390"/>
                  <a:pt x="12565" y="12434"/>
                  <a:pt x="12353" y="12477"/>
                </a:cubicBezTo>
                <a:cubicBezTo>
                  <a:pt x="12141" y="12520"/>
                  <a:pt x="11913" y="12557"/>
                  <a:pt x="11708" y="12626"/>
                </a:cubicBezTo>
                <a:cubicBezTo>
                  <a:pt x="11473" y="12705"/>
                  <a:pt x="11229" y="12799"/>
                  <a:pt x="11013" y="12923"/>
                </a:cubicBezTo>
                <a:cubicBezTo>
                  <a:pt x="10919" y="12977"/>
                  <a:pt x="10799" y="13049"/>
                  <a:pt x="10691" y="13072"/>
                </a:cubicBezTo>
                <a:cubicBezTo>
                  <a:pt x="10641" y="13072"/>
                  <a:pt x="10625" y="13072"/>
                  <a:pt x="10592" y="13072"/>
                </a:cubicBezTo>
              </a:path>
              <a:path w="13519" h="3201">
                <a:moveTo>
                  <a:pt x="8905" y="13271"/>
                </a:moveTo>
                <a:cubicBezTo>
                  <a:pt x="8744" y="13360"/>
                  <a:pt x="8581" y="13429"/>
                  <a:pt x="8409" y="13494"/>
                </a:cubicBezTo>
                <a:cubicBezTo>
                  <a:pt x="8263" y="13549"/>
                  <a:pt x="8126" y="13622"/>
                  <a:pt x="7987" y="13692"/>
                </a:cubicBezTo>
                <a:cubicBezTo>
                  <a:pt x="7861" y="13755"/>
                  <a:pt x="7725" y="13803"/>
                  <a:pt x="7590" y="13841"/>
                </a:cubicBezTo>
                <a:cubicBezTo>
                  <a:pt x="7459" y="13878"/>
                  <a:pt x="7347" y="13947"/>
                  <a:pt x="7218" y="13990"/>
                </a:cubicBezTo>
                <a:cubicBezTo>
                  <a:pt x="7127" y="14021"/>
                  <a:pt x="6974" y="14025"/>
                  <a:pt x="6896" y="14089"/>
                </a:cubicBezTo>
                <a:cubicBezTo>
                  <a:pt x="6873" y="14112"/>
                  <a:pt x="6862" y="14120"/>
                  <a:pt x="6896" y="14114"/>
                </a:cubicBezTo>
              </a:path>
              <a:path w="13519" h="3201">
                <a:moveTo>
                  <a:pt x="14858" y="12452"/>
                </a:moveTo>
                <a:cubicBezTo>
                  <a:pt x="14981" y="12473"/>
                  <a:pt x="15053" y="12462"/>
                  <a:pt x="15180" y="12452"/>
                </a:cubicBezTo>
                <a:cubicBezTo>
                  <a:pt x="15271" y="12452"/>
                  <a:pt x="15296" y="12452"/>
                  <a:pt x="15354" y="12452"/>
                </a:cubicBezTo>
              </a:path>
              <a:path w="13519" h="3201">
                <a:moveTo>
                  <a:pt x="14957" y="12650"/>
                </a:moveTo>
                <a:cubicBezTo>
                  <a:pt x="14899" y="12650"/>
                  <a:pt x="14875" y="12634"/>
                  <a:pt x="14883" y="12675"/>
                </a:cubicBezTo>
                <a:cubicBezTo>
                  <a:pt x="14982" y="12675"/>
                  <a:pt x="15081" y="12675"/>
                  <a:pt x="15180" y="12675"/>
                </a:cubicBezTo>
              </a:path>
              <a:path w="13519" h="3201">
                <a:moveTo>
                  <a:pt x="16545" y="12055"/>
                </a:moveTo>
                <a:cubicBezTo>
                  <a:pt x="16502" y="12017"/>
                  <a:pt x="16474" y="11984"/>
                  <a:pt x="16396" y="11981"/>
                </a:cubicBezTo>
                <a:cubicBezTo>
                  <a:pt x="16283" y="11976"/>
                  <a:pt x="16180" y="11991"/>
                  <a:pt x="16073" y="12030"/>
                </a:cubicBezTo>
                <a:cubicBezTo>
                  <a:pt x="16020" y="12049"/>
                  <a:pt x="15988" y="12091"/>
                  <a:pt x="15949" y="12129"/>
                </a:cubicBezTo>
                <a:cubicBezTo>
                  <a:pt x="16015" y="12217"/>
                  <a:pt x="16086" y="12251"/>
                  <a:pt x="16197" y="12278"/>
                </a:cubicBezTo>
                <a:cubicBezTo>
                  <a:pt x="16366" y="12319"/>
                  <a:pt x="16544" y="12336"/>
                  <a:pt x="16694" y="12427"/>
                </a:cubicBezTo>
                <a:cubicBezTo>
                  <a:pt x="16784" y="12482"/>
                  <a:pt x="16901" y="12553"/>
                  <a:pt x="16867" y="12675"/>
                </a:cubicBezTo>
                <a:cubicBezTo>
                  <a:pt x="16841" y="12767"/>
                  <a:pt x="16772" y="12826"/>
                  <a:pt x="16694" y="12874"/>
                </a:cubicBezTo>
                <a:cubicBezTo>
                  <a:pt x="16610" y="12926"/>
                  <a:pt x="16492" y="12944"/>
                  <a:pt x="16396" y="12948"/>
                </a:cubicBezTo>
                <a:cubicBezTo>
                  <a:pt x="16308" y="12951"/>
                  <a:pt x="16198" y="12924"/>
                  <a:pt x="16123" y="12874"/>
                </a:cubicBezTo>
                <a:cubicBezTo>
                  <a:pt x="16005" y="12797"/>
                  <a:pt x="15982" y="12747"/>
                  <a:pt x="16024" y="12626"/>
                </a:cubicBezTo>
                <a:cubicBezTo>
                  <a:pt x="16050" y="12548"/>
                  <a:pt x="16060" y="12520"/>
                  <a:pt x="16098" y="12477"/>
                </a:cubicBezTo>
              </a:path>
              <a:path w="13519" h="3201">
                <a:moveTo>
                  <a:pt x="17214" y="12179"/>
                </a:moveTo>
                <a:cubicBezTo>
                  <a:pt x="17244" y="12299"/>
                  <a:pt x="17241" y="12380"/>
                  <a:pt x="17214" y="12502"/>
                </a:cubicBezTo>
                <a:cubicBezTo>
                  <a:pt x="17186" y="12627"/>
                  <a:pt x="17155" y="12752"/>
                  <a:pt x="17115" y="12874"/>
                </a:cubicBezTo>
                <a:cubicBezTo>
                  <a:pt x="17093" y="12943"/>
                  <a:pt x="16977" y="13104"/>
                  <a:pt x="17041" y="13072"/>
                </a:cubicBezTo>
                <a:cubicBezTo>
                  <a:pt x="17049" y="13064"/>
                  <a:pt x="17058" y="13055"/>
                  <a:pt x="17066" y="13047"/>
                </a:cubicBezTo>
              </a:path>
              <a:path w="13519" h="3201">
                <a:moveTo>
                  <a:pt x="17388" y="11757"/>
                </a:moveTo>
                <a:cubicBezTo>
                  <a:pt x="17368" y="11804"/>
                  <a:pt x="17358" y="11835"/>
                  <a:pt x="17338" y="11881"/>
                </a:cubicBezTo>
              </a:path>
              <a:path w="13519" h="3201">
                <a:moveTo>
                  <a:pt x="17438" y="12179"/>
                </a:moveTo>
                <a:cubicBezTo>
                  <a:pt x="17408" y="12375"/>
                  <a:pt x="17392" y="12606"/>
                  <a:pt x="17338" y="12799"/>
                </a:cubicBezTo>
                <a:cubicBezTo>
                  <a:pt x="17323" y="12851"/>
                  <a:pt x="17291" y="12908"/>
                  <a:pt x="17264" y="12948"/>
                </a:cubicBezTo>
                <a:cubicBezTo>
                  <a:pt x="17241" y="12971"/>
                  <a:pt x="17237" y="12979"/>
                  <a:pt x="17214" y="12973"/>
                </a:cubicBezTo>
                <a:cubicBezTo>
                  <a:pt x="17214" y="12927"/>
                  <a:pt x="17224" y="12835"/>
                  <a:pt x="17239" y="12799"/>
                </a:cubicBezTo>
                <a:cubicBezTo>
                  <a:pt x="17296" y="12666"/>
                  <a:pt x="17337" y="12506"/>
                  <a:pt x="17413" y="12378"/>
                </a:cubicBezTo>
                <a:cubicBezTo>
                  <a:pt x="17460" y="12299"/>
                  <a:pt x="17615" y="12009"/>
                  <a:pt x="17735" y="11956"/>
                </a:cubicBezTo>
                <a:cubicBezTo>
                  <a:pt x="17777" y="11956"/>
                  <a:pt x="17785" y="11956"/>
                  <a:pt x="17810" y="11956"/>
                </a:cubicBezTo>
                <a:cubicBezTo>
                  <a:pt x="17863" y="12009"/>
                  <a:pt x="17859" y="12029"/>
                  <a:pt x="17859" y="12105"/>
                </a:cubicBezTo>
                <a:cubicBezTo>
                  <a:pt x="17859" y="12213"/>
                  <a:pt x="17853" y="12322"/>
                  <a:pt x="17835" y="12427"/>
                </a:cubicBezTo>
                <a:cubicBezTo>
                  <a:pt x="17815" y="12545"/>
                  <a:pt x="17752" y="12657"/>
                  <a:pt x="17735" y="12774"/>
                </a:cubicBezTo>
                <a:cubicBezTo>
                  <a:pt x="17733" y="12787"/>
                  <a:pt x="17715" y="12914"/>
                  <a:pt x="17760" y="12898"/>
                </a:cubicBezTo>
                <a:cubicBezTo>
                  <a:pt x="17785" y="12874"/>
                  <a:pt x="17794" y="12866"/>
                  <a:pt x="17810" y="12849"/>
                </a:cubicBezTo>
              </a:path>
              <a:path w="13519" h="3201">
                <a:moveTo>
                  <a:pt x="18579" y="12030"/>
                </a:moveTo>
                <a:cubicBezTo>
                  <a:pt x="18711" y="12139"/>
                  <a:pt x="18789" y="12269"/>
                  <a:pt x="18901" y="12402"/>
                </a:cubicBezTo>
                <a:cubicBezTo>
                  <a:pt x="18988" y="12505"/>
                  <a:pt x="19078" y="12604"/>
                  <a:pt x="19174" y="12700"/>
                </a:cubicBezTo>
                <a:cubicBezTo>
                  <a:pt x="19215" y="12741"/>
                  <a:pt x="19240" y="12818"/>
                  <a:pt x="19298" y="12824"/>
                </a:cubicBezTo>
                <a:cubicBezTo>
                  <a:pt x="19338" y="12828"/>
                  <a:pt x="19359" y="12733"/>
                  <a:pt x="19372" y="12700"/>
                </a:cubicBezTo>
              </a:path>
              <a:path w="13519" h="3201">
                <a:moveTo>
                  <a:pt x="19397" y="11981"/>
                </a:moveTo>
                <a:cubicBezTo>
                  <a:pt x="19301" y="12104"/>
                  <a:pt x="19195" y="12239"/>
                  <a:pt x="19124" y="12378"/>
                </a:cubicBezTo>
                <a:cubicBezTo>
                  <a:pt x="19045" y="12532"/>
                  <a:pt x="18957" y="12659"/>
                  <a:pt x="18852" y="12799"/>
                </a:cubicBezTo>
                <a:cubicBezTo>
                  <a:pt x="18766" y="12913"/>
                  <a:pt x="18662" y="12972"/>
                  <a:pt x="18554" y="13047"/>
                </a:cubicBezTo>
                <a:cubicBezTo>
                  <a:pt x="18488" y="13093"/>
                  <a:pt x="18513" y="13062"/>
                  <a:pt x="18504" y="12998"/>
                </a:cubicBezTo>
              </a:path>
              <a:path w="13519" h="3201">
                <a:moveTo>
                  <a:pt x="19422" y="11460"/>
                </a:moveTo>
                <a:cubicBezTo>
                  <a:pt x="19256" y="11371"/>
                  <a:pt x="19084" y="11266"/>
                  <a:pt x="18901" y="11212"/>
                </a:cubicBezTo>
                <a:cubicBezTo>
                  <a:pt x="18720" y="11158"/>
                  <a:pt x="18543" y="11119"/>
                  <a:pt x="18355" y="11088"/>
                </a:cubicBezTo>
                <a:cubicBezTo>
                  <a:pt x="18125" y="11050"/>
                  <a:pt x="17942" y="11052"/>
                  <a:pt x="17711" y="11063"/>
                </a:cubicBezTo>
                <a:cubicBezTo>
                  <a:pt x="17317" y="11082"/>
                  <a:pt x="16912" y="11180"/>
                  <a:pt x="16545" y="11336"/>
                </a:cubicBezTo>
                <a:cubicBezTo>
                  <a:pt x="16361" y="11414"/>
                  <a:pt x="16193" y="11522"/>
                  <a:pt x="16049" y="11658"/>
                </a:cubicBezTo>
                <a:cubicBezTo>
                  <a:pt x="15914" y="11785"/>
                  <a:pt x="15834" y="11865"/>
                  <a:pt x="15751" y="12030"/>
                </a:cubicBezTo>
                <a:cubicBezTo>
                  <a:pt x="15682" y="12167"/>
                  <a:pt x="15672" y="12275"/>
                  <a:pt x="15677" y="12427"/>
                </a:cubicBezTo>
                <a:cubicBezTo>
                  <a:pt x="15682" y="12571"/>
                  <a:pt x="15751" y="12705"/>
                  <a:pt x="15825" y="12824"/>
                </a:cubicBezTo>
                <a:cubicBezTo>
                  <a:pt x="15958" y="13040"/>
                  <a:pt x="16105" y="13300"/>
                  <a:pt x="16297" y="13469"/>
                </a:cubicBezTo>
                <a:cubicBezTo>
                  <a:pt x="16476" y="13626"/>
                  <a:pt x="16675" y="13767"/>
                  <a:pt x="16892" y="13866"/>
                </a:cubicBezTo>
                <a:cubicBezTo>
                  <a:pt x="17060" y="13943"/>
                  <a:pt x="17259" y="14001"/>
                  <a:pt x="17438" y="14039"/>
                </a:cubicBezTo>
                <a:cubicBezTo>
                  <a:pt x="17622" y="14078"/>
                  <a:pt x="17846" y="14081"/>
                  <a:pt x="18033" y="14064"/>
                </a:cubicBezTo>
                <a:cubicBezTo>
                  <a:pt x="18301" y="14039"/>
                  <a:pt x="18616" y="13976"/>
                  <a:pt x="18852" y="13841"/>
                </a:cubicBezTo>
                <a:cubicBezTo>
                  <a:pt x="18998" y="13757"/>
                  <a:pt x="19139" y="13620"/>
                  <a:pt x="19248" y="13494"/>
                </a:cubicBezTo>
                <a:cubicBezTo>
                  <a:pt x="19365" y="13359"/>
                  <a:pt x="19457" y="13240"/>
                  <a:pt x="19521" y="13072"/>
                </a:cubicBezTo>
                <a:cubicBezTo>
                  <a:pt x="19627" y="12795"/>
                  <a:pt x="19679" y="12469"/>
                  <a:pt x="19621" y="12179"/>
                </a:cubicBezTo>
                <a:cubicBezTo>
                  <a:pt x="19583" y="11989"/>
                  <a:pt x="19412" y="11784"/>
                  <a:pt x="19273" y="11658"/>
                </a:cubicBezTo>
                <a:cubicBezTo>
                  <a:pt x="19184" y="11577"/>
                  <a:pt x="19142" y="11531"/>
                  <a:pt x="19075" y="114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3894120"/>
            <a:ext cx="401760" cy="677880"/>
          </a:xfrm>
          <a:custGeom>
            <a:avLst/>
            <a:gdLst/>
            <a:ahLst/>
            <a:rect l="l" t="t" r="r" b="b"/>
            <a:pathLst>
              <a:path w="1117" h="1886">
                <a:moveTo>
                  <a:pt x="7441" y="10815"/>
                </a:moveTo>
                <a:cubicBezTo>
                  <a:pt x="7457" y="10876"/>
                  <a:pt x="7466" y="10912"/>
                  <a:pt x="7466" y="10988"/>
                </a:cubicBezTo>
                <a:cubicBezTo>
                  <a:pt x="7466" y="11115"/>
                  <a:pt x="7538" y="11510"/>
                  <a:pt x="7441" y="11609"/>
                </a:cubicBezTo>
                <a:cubicBezTo>
                  <a:pt x="7433" y="11609"/>
                  <a:pt x="7425" y="11609"/>
                  <a:pt x="7417" y="11609"/>
                </a:cubicBezTo>
                <a:cubicBezTo>
                  <a:pt x="7365" y="11574"/>
                  <a:pt x="7330" y="11421"/>
                  <a:pt x="7293" y="11336"/>
                </a:cubicBezTo>
                <a:cubicBezTo>
                  <a:pt x="7270" y="11283"/>
                  <a:pt x="7271" y="11209"/>
                  <a:pt x="7243" y="11162"/>
                </a:cubicBezTo>
                <a:cubicBezTo>
                  <a:pt x="7201" y="11092"/>
                  <a:pt x="7251" y="11167"/>
                  <a:pt x="7268" y="11187"/>
                </a:cubicBezTo>
                <a:cubicBezTo>
                  <a:pt x="7314" y="11239"/>
                  <a:pt x="7328" y="11305"/>
                  <a:pt x="7367" y="11361"/>
                </a:cubicBezTo>
                <a:cubicBezTo>
                  <a:pt x="7401" y="11409"/>
                  <a:pt x="7460" y="11477"/>
                  <a:pt x="7466" y="11534"/>
                </a:cubicBezTo>
                <a:cubicBezTo>
                  <a:pt x="7471" y="11579"/>
                  <a:pt x="7462" y="11570"/>
                  <a:pt x="7491" y="11609"/>
                </a:cubicBezTo>
                <a:cubicBezTo>
                  <a:pt x="7532" y="11595"/>
                  <a:pt x="7604" y="11415"/>
                  <a:pt x="7615" y="11385"/>
                </a:cubicBezTo>
                <a:cubicBezTo>
                  <a:pt x="7664" y="11255"/>
                  <a:pt x="7697" y="11145"/>
                  <a:pt x="7789" y="11038"/>
                </a:cubicBezTo>
                <a:cubicBezTo>
                  <a:pt x="7811" y="11016"/>
                  <a:pt x="7822" y="11007"/>
                  <a:pt x="7789" y="11013"/>
                </a:cubicBezTo>
              </a:path>
              <a:path w="1117" h="1886">
                <a:moveTo>
                  <a:pt x="7119" y="12055"/>
                </a:moveTo>
                <a:cubicBezTo>
                  <a:pt x="7042" y="12011"/>
                  <a:pt x="7037" y="11985"/>
                  <a:pt x="6945" y="11981"/>
                </a:cubicBezTo>
                <a:cubicBezTo>
                  <a:pt x="6879" y="11978"/>
                  <a:pt x="6823" y="12017"/>
                  <a:pt x="6772" y="12055"/>
                </a:cubicBezTo>
                <a:cubicBezTo>
                  <a:pt x="6735" y="12083"/>
                  <a:pt x="6707" y="12139"/>
                  <a:pt x="6697" y="12179"/>
                </a:cubicBezTo>
                <a:cubicBezTo>
                  <a:pt x="6747" y="12192"/>
                  <a:pt x="6761" y="12204"/>
                  <a:pt x="6821" y="12204"/>
                </a:cubicBezTo>
                <a:cubicBezTo>
                  <a:pt x="6914" y="12204"/>
                  <a:pt x="6949" y="12255"/>
                  <a:pt x="7020" y="12303"/>
                </a:cubicBezTo>
                <a:cubicBezTo>
                  <a:pt x="7101" y="12357"/>
                  <a:pt x="7116" y="12399"/>
                  <a:pt x="7169" y="12477"/>
                </a:cubicBezTo>
                <a:cubicBezTo>
                  <a:pt x="7209" y="12536"/>
                  <a:pt x="7179" y="12543"/>
                  <a:pt x="7144" y="12601"/>
                </a:cubicBezTo>
                <a:cubicBezTo>
                  <a:pt x="7109" y="12658"/>
                  <a:pt x="7055" y="12688"/>
                  <a:pt x="6995" y="12700"/>
                </a:cubicBezTo>
                <a:cubicBezTo>
                  <a:pt x="6968" y="12706"/>
                  <a:pt x="6834" y="12695"/>
                  <a:pt x="6821" y="12675"/>
                </a:cubicBezTo>
                <a:cubicBezTo>
                  <a:pt x="6793" y="12632"/>
                  <a:pt x="6796" y="12530"/>
                  <a:pt x="6796" y="12477"/>
                </a:cubicBezTo>
              </a:path>
              <a:path w="1117" h="1886">
                <a:moveTo>
                  <a:pt x="7193" y="12105"/>
                </a:moveTo>
                <a:cubicBezTo>
                  <a:pt x="7246" y="12210"/>
                  <a:pt x="7243" y="12289"/>
                  <a:pt x="7268" y="12402"/>
                </a:cubicBezTo>
                <a:cubicBezTo>
                  <a:pt x="7289" y="12497"/>
                  <a:pt x="7293" y="12577"/>
                  <a:pt x="7293" y="12675"/>
                </a:cubicBezTo>
                <a:cubicBezTo>
                  <a:pt x="7293" y="12700"/>
                  <a:pt x="7293" y="12708"/>
                  <a:pt x="7293" y="12675"/>
                </a:cubicBezTo>
              </a:path>
              <a:path w="1117" h="1886">
                <a:moveTo>
                  <a:pt x="7293" y="11981"/>
                </a:moveTo>
                <a:cubicBezTo>
                  <a:pt x="7317" y="12005"/>
                  <a:pt x="7326" y="12014"/>
                  <a:pt x="7342" y="120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Lesson 5.1</a:t>
            </a:r>
            <a:br>
              <a:rPr sz="8500"/>
            </a:b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part three</a:t>
            </a:r>
            <a:endParaRPr b="1" lang="en-US" sz="8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54Z</dcterms:created>
  <dc:creator>jnewman</dc:creator>
  <dc:description/>
  <dc:language>en-US</dc:language>
  <cp:lastModifiedBy>abeason</cp:lastModifiedBy>
  <dcterms:modified xsi:type="dcterms:W3CDTF">2008-11-17T18:28:15Z</dcterms:modified>
  <cp:revision>13</cp:revision>
  <dc:subject/>
  <dc:title>Lesson 5.1 part three</dc:title>
</cp:coreProperties>
</file>